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6E22-2296-41A5-BF9C-F495191C0D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F6F4-CADB-4814-A6B6-BC7170E91D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r>
              <a:rPr b="1" i="1" lang="en-US" sz="1200" spc="-1" strike="noStrike">
                <a:solidFill>
                  <a:srgbClr val="f2e104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елают 4 вдоха, за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ет ОДИН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е 15 надавливаний на грудину нужно делать 2 нагнетания воздуха в лег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59AA-8306-4C0E-8C63-662BC95C30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2e104"/>
                </a:solidFill>
                <a:latin typeface="Calibri"/>
              </a:rPr>
              <a:t>Ре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36E2-38AE-47A3-88A5-E7F3F438AE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ой смер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ая смер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9545-812C-4C3C-8A2B-6DE829DFCE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знаки клинической смер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дых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реакции зрачков на св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ульса на сонной ар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0551-B22D-45C9-AE29-849A3FC7E1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945B-788E-4FFD-A014-E37FC5FC07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0512-862E-4996-9C57-BC17DE3A76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BD69-2F0F-4710-9832-681C301C8E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проведения непрямого массажа сердца даже при отсутствии его эффективности не менее 15-20 мин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4F66-7EA5-4ABF-90EC-7C8E31EEE5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2CB9-4EC0-40E8-9AA6-54FA5B931B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49A-4734-4421-9523-09FB5499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707-DBA1-4BC5-BE1D-8C940831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20A-B078-45D4-88EB-EDDACD5B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23D-5EDC-410D-BDE5-673728BE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A641-0481-4899-80C6-CC96AA18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0E7D-7880-42C0-93AE-1786C9C6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9689-27C9-4C53-B336-86F8A0BB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558C-5CC5-4064-906D-E384ADD7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89EA-8ED8-4E05-9428-4F146673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D1E6-682B-4D42-8D4B-02E47D73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EEF5-E342-453E-B7C7-8B10525F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0CF-9CD1-4C34-9314-C90969EC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11F5-FDBA-46E2-BA9C-D971AEE3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C3D5-2BE6-4FF5-8A88-43D94589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F998-2829-4FA6-A5D3-7AD6B380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72FA-BC01-49F5-9753-0A733FB9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E161-3674-4313-903E-D97B249F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2CE1BB-EA65-436A-9EC9-35CD8971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C1675-CDDC-4B5C-95BA-4DB4BD9F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350CF-61B8-4655-919D-CB801AEE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C8D44B-08B1-496E-BD3A-F2B51BA1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27E9E-9572-43CF-90C9-75BF0D8E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AB1-9560-44B7-84D2-04905843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68F45C-D4CE-4AD5-B3D3-4C226D51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821CB-679F-41F4-A050-332D0E0F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E87BE-4F31-42B8-9F8F-3AEA50C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A0ED85-1790-4CE1-A4FA-FD2E674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804C31-271C-4B40-B496-363CD726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B4CA3-B85F-4187-B97D-C3FC68CF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A5F780-EE79-4C12-A6F0-CFB62DE0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F87-62DE-4F4F-ABEF-C1742B6D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28B-E83D-4213-BB12-2C5550A4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836-36F3-4317-8515-C2A6A166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1C2-25EA-4518-971D-E25E4D7E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4A2-2CA4-43EF-9062-5176AAF8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517-A568-4C2B-90D7-DB312620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9C3C-F900-4942-A695-5F8978AF05D3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B75E-D108-493A-9707-4351366D4BC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DBA1-6824-49CC-B46D-2347A1F9A67A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4F64-AA6D-466A-8B76-C04D1C075C1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D3B7-2416-44D5-81D9-9C93370F824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A757-9379-47FF-BC2F-6B864316763C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дзаголовок 2"/>
          <p:cNvSpPr/>
          <p:nvPr/>
        </p:nvSpPr>
        <p:spPr>
          <a:xfrm>
            <a:off x="0" y="177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2276640"/>
            <a:ext cx="42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Arial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24000" y="981000"/>
            <a:ext cx="331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LEGION</cp:lastModifiedBy>
  <dcterms:modified xsi:type="dcterms:W3CDTF">2014-11-06T12:49:12Z</dcterms:modified>
  <cp:revision>58</cp:revision>
  <dc:subject/>
  <dc:title>Остановка сердца</dc:title>
</cp:coreProperties>
</file>