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305-8744-447A-88C1-4BCBB48112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41D-A73D-4833-98C3-CF02F1BE448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r>
              <a:rPr b="1" i="1" lang="en-US" sz="1200" spc="-1" strike="noStrike">
                <a:solidFill>
                  <a:srgbClr val="f2e104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делают 4 вдоха, за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ет ОДИН, 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ые 15 надавливаний на грудину нужно делать 2 нагнетания воздуха в лег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B176-5308-41BB-8A9E-CD5B617DF6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2e104"/>
                </a:solidFill>
                <a:latin typeface="Calibri"/>
              </a:rPr>
              <a:t>Реаним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454E-0B09-4D40-B3B8-8866FE6597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ой смер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Клиническая смер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0CD-2A65-4183-A094-CF6F3FD0FD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знаки клинической смер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дыха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реакции зрачков на св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ульса на сонной ар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2e104"/>
                </a:solidFill>
                <a:latin typeface="Calibri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F52-74D2-4C15-AC10-92EE9D4482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955C-519C-4115-8753-67E742344A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27C7-F1C3-448F-9813-86497F6043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D372-090A-412F-A89D-889FCC23F06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проведения непрямого массажа сердца даже при отсутствии его эффективности не менее 15-20 мин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8D54-36EF-484C-BEFC-42C1110979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A47D-EC01-4919-B157-D455D1BEE1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38DA-518C-4EB2-8033-6589BA63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A23-5F52-4F88-A5B8-F1225DC0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05D-AA6D-4649-B483-1C42392F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48F-B05E-4F48-87F8-322FF4A9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78BE-56F8-44B4-B011-515C269E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414-19DB-4429-A79A-237FED46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B39A-3B4F-4A01-84F0-4742B9B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625A-2EA8-48E0-8DF2-49DA80A3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4204-7BE3-4BD7-A890-6D1BF42F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2738-97D0-4431-8773-6CC4B14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01C-BEF2-4ED3-9674-2DBB2AE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D11-3D1D-4FB8-9E99-F8E7C918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DD7-D578-4839-84E5-BF3A09A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FE2-D16F-4922-8BDA-025D2C21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4F3-184A-48C6-B0D8-B986D5C9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EDEA-3F62-4907-A010-0E2C307F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8B04-8143-4EDF-826B-B1A95C23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D3F23-580A-410D-82EB-9733C059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BE5379-D630-412E-B928-B39E3286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28E5FB-B93B-40B8-BC1B-3486EB4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DA6A2-DA18-4B84-A639-645A3659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FE174-601C-42B6-92D7-CA4A0C9D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FE2-4A80-4821-8DF9-3F7B49D9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57E23-BB50-43DC-9140-6F609669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DB033-3E49-4661-A02F-0751174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AB2CE-EF2C-4F05-A047-56A5ACC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F1F54F-B7A0-4204-B811-04A78180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B6BB73-C307-4C57-9955-0A0D1D5C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3C681-AC07-42BC-A56F-E8790B72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838C3-9B24-400B-A9AA-E1FF87DA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FA14-9169-4570-81CD-0285453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E07-2EB7-4646-9B7A-EC3271E9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F563-F1BB-42C4-8505-1D113E64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4F84-CD73-4A76-873C-6120367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2357-4D31-4DDE-B727-579182BC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920-144D-46CB-B85F-11B9BF7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87EE-D184-4DED-B817-B7CD9D52BE82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6ED-6F86-4B4D-842D-8544ACDD0D07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A774-BEE7-4288-BE29-926C756C35D9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9FFA-93BC-4311-8669-AB54AFD9ACB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B27-F0EF-4B52-8491-FCFA5427E3D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9D0C-92B1-4EA1-8A69-4C0D434E011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дзаголовок 2"/>
          <p:cNvSpPr/>
          <p:nvPr/>
        </p:nvSpPr>
        <p:spPr>
          <a:xfrm>
            <a:off x="0" y="1773360"/>
            <a:ext cx="914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ffffff"/>
                </a:solidFill>
                <a:latin typeface="Constantia"/>
              </a:rPr>
              <a:t>Первая медицинская помощь при остановке сердц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539640" y="2276640"/>
            <a:ext cx="4248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ачале делают 4 вдоха, за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ет ОДИН, 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каждые 15 надавливаний на грудину нужно делать 2 нагнетания воздуха в легк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оживляют ДВОЕ, то один делает массаж сердца, а другой – искусственное дыхание: чередуют 5 надавливаний на грудину и одно вдувание в легк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Последовательность действий при проведении непрямого массажа сердца"/>
          <p:cNvPicPr/>
          <p:nvPr/>
        </p:nvPicPr>
        <p:blipFill>
          <a:blip r:embed="rId1"/>
          <a:stretch/>
        </p:blipFill>
        <p:spPr>
          <a:xfrm>
            <a:off x="4788000" y="1916280"/>
            <a:ext cx="4074840" cy="4503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0" y="189000"/>
            <a:ext cx="914400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Сочетание про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го массажа сердца и искусственной вентиляции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3"/>
          <p:cNvSpPr/>
          <p:nvPr/>
        </p:nvSpPr>
        <p:spPr>
          <a:xfrm>
            <a:off x="468360" y="17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e104"/>
                </a:solidFill>
                <a:latin typeface="Arial"/>
              </a:rPr>
              <a:t>Реанимация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– это восстановление или временное замещение резко нарушенных или утраченных жизненно важных функций организ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341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становке сердца обогащённая кислородом кровь больше не попадает в жизненно важные органы и возникает риск необратимого повреждения мозга, которое может наступить уже через 5-7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короткий период, когда процессы, происходящие в организме, еще обратимы, и человеку ещё можно помочь, называется </a:t>
            </a: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ой смертью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Клиническая смер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пограничное состояние перехода от гаснущей жизни к биологической смерти, которое возникает непосредственно после прекращения кровообращения и дых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Клиническая смер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95280" y="1341360"/>
            <a:ext cx="820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ac9"/>
                </a:solidFill>
                <a:latin typeface="Arial"/>
              </a:rPr>
              <a:t>Признаки клинической смер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теря созн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дыхан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реакции зрачков на све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сутствие пульса на сонной арте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е главное при клинической смерти - добиться, чтобы появился пульс (восстановилось сердцебиение и дыхание) и только потом если нужно останавливать кровотечение, накладывать повязки и ш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e104"/>
                </a:solidFill>
                <a:latin typeface="Arial"/>
              </a:rPr>
              <a:t>При клинической смерти необходимы немедленный массаж сердца и искусственная вентиляция легких (искусственное дыхани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324000" y="981000"/>
            <a:ext cx="33112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кардиальным ударом можно заставить сердце заработать так же синхронно, как и прежд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удара как можно сильнее сотрясти грудную клетку, что станет толчком к запуску остановившегося сердц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дар нанесен в течение первой минуты после остановки сердца, то вероятность оживления превышает 50%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efac9"/>
                </a:solidFill>
                <a:latin typeface="Arial"/>
              </a:rPr>
              <a:t>При нанесении удара в случае наличия пульса на сонной артерии, есть риск спровоцировать остановку сердц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826920" y="333360"/>
            <a:ext cx="748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Прекардиальный уд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image_112"/>
          <p:cNvPicPr/>
          <p:nvPr/>
        </p:nvPicPr>
        <p:blipFill>
          <a:blip r:embed="rId1"/>
          <a:stretch/>
        </p:blipFill>
        <p:spPr>
          <a:xfrm>
            <a:off x="3564000" y="1125360"/>
            <a:ext cx="5208480" cy="532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5940360" y="1197000"/>
            <a:ext cx="259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Прекардиальный удар наносят ребром сжатой в кулак ладони</a:t>
            </a:r>
            <a:r>
              <a:rPr b="0" lang="en-US" sz="1600" spc="-1" strike="noStrike">
                <a:solidFill>
                  <a:srgbClr val="7f6f6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7f6f6f"/>
                </a:solidFill>
                <a:latin typeface="Arial"/>
              </a:rPr>
              <a:t>в точку, расположенную на грудине на 2-3 см выше мечевидного отрост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8"/>
          <p:cNvPicPr/>
          <p:nvPr/>
        </p:nvPicPr>
        <p:blipFill>
          <a:blip r:embed="rId1"/>
          <a:stretch/>
        </p:blipFill>
        <p:spPr>
          <a:xfrm>
            <a:off x="3995640" y="2852640"/>
            <a:ext cx="4762440" cy="267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Непрямой массаж сердца 2"/>
          <p:cNvPicPr/>
          <p:nvPr/>
        </p:nvPicPr>
        <p:blipFill>
          <a:blip r:embed="rId2"/>
          <a:stretch/>
        </p:blipFill>
        <p:spPr>
          <a:xfrm>
            <a:off x="468360" y="2852640"/>
            <a:ext cx="3311640" cy="2649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4"/>
          <p:cNvSpPr/>
          <p:nvPr/>
        </p:nvSpPr>
        <p:spPr>
          <a:xfrm>
            <a:off x="430200" y="1197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выполнении непрямого массажа сердца следует положить ладонь одной руки в точку проекции сердца на грудине, а сверху на нее другую ладонь, пальцы держать приподнятыми, большие пальцы должны смотреть в разные сторо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68360" y="112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и не следует отнимать от груди после каждого надавливания, но перед каждым новым надавливанием необходимо дать грудной клетке подняться в исходное положение, с тем чтобы не препятствовать наполнению полостей сердца кров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Положение рук при проведении непрямого массажа сердца"/>
          <p:cNvPicPr/>
          <p:nvPr/>
        </p:nvPicPr>
        <p:blipFill>
          <a:blip r:embed="rId1"/>
          <a:srcRect l="6470" t="1710" r="6899" b="5206"/>
          <a:stretch/>
        </p:blipFill>
        <p:spPr>
          <a:xfrm>
            <a:off x="2195640" y="2421000"/>
            <a:ext cx="4824360" cy="38876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5724360" y="1197000"/>
            <a:ext cx="3024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тм надавливаний на грудную клетку должен соответствовать частоте сердечных сокращений  в состоянии покоя, примерно 1 раз в секун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нимальное время проведения непрямого массажа сердца даже при отсутствии его эффективности не менее 15-20 мин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Как следует проводить непрямой массаж сердца"/>
          <p:cNvPicPr/>
          <p:nvPr/>
        </p:nvPicPr>
        <p:blipFill>
          <a:blip r:embed="rId1"/>
          <a:stretch/>
        </p:blipFill>
        <p:spPr>
          <a:xfrm>
            <a:off x="755640" y="1197000"/>
            <a:ext cx="4641840" cy="5184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Непрямой массаж серд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4360" y="11253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искусственной вентиляции лёгких необходимо обеспечить проходимость дыхательных путей: зажать нос пострадавшего, запрокинуть голову, делать выдох в лёгк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2e104"/>
                </a:solidFill>
                <a:latin typeface="Times New Roman"/>
              </a:rPr>
              <a:t>Искусственная вентиляция легки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3" descr="Последовательность действий при выполнении искусственной вентиляции лёгких"/>
          <p:cNvPicPr/>
          <p:nvPr/>
        </p:nvPicPr>
        <p:blipFill>
          <a:blip r:embed="rId1"/>
          <a:srcRect l="0" t="13833" r="0" b="0"/>
          <a:stretch/>
        </p:blipFill>
        <p:spPr>
          <a:xfrm>
            <a:off x="468360" y="2781360"/>
            <a:ext cx="5538600" cy="3579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4"/>
          <p:cNvPicPr/>
          <p:nvPr/>
        </p:nvPicPr>
        <p:blipFill>
          <a:blip r:embed="rId2"/>
          <a:stretch/>
        </p:blipFill>
        <p:spPr>
          <a:xfrm>
            <a:off x="6443640" y="5013360"/>
            <a:ext cx="2087640" cy="1305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6372360" y="263700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рот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372360" y="472428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efac9"/>
                </a:solidFill>
                <a:latin typeface="Arial"/>
              </a:rPr>
              <a:t>Способ «изо рта в нос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0" descr="RotvRot150"/>
          <p:cNvPicPr/>
          <p:nvPr/>
        </p:nvPicPr>
        <p:blipFill>
          <a:blip r:embed="rId3"/>
          <a:stretch/>
        </p:blipFill>
        <p:spPr>
          <a:xfrm>
            <a:off x="6443640" y="299736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2:13:54Z</dcterms:created>
  <dc:creator>Разумов В.Н.</dc:creator>
  <dc:description/>
  <dc:language>en-US</dc:language>
  <cp:lastModifiedBy>LEGION</cp:lastModifiedBy>
  <dcterms:modified xsi:type="dcterms:W3CDTF">2014-11-06T12:49:12Z</dcterms:modified>
  <cp:revision>58</cp:revision>
  <dc:subject/>
  <dc:title>Остановка сердца</dc:title>
</cp:coreProperties>
</file>