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122C-0395-48C2-8B6B-5FF4EB979C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-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D6AF-C7EF-4221-AB4E-C205C83DF11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f497d"/>
                </a:solidFill>
                <a:latin typeface="Calibri"/>
              </a:rPr>
              <a:t>Проблемы межличностных отношений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3408-ED77-421F-B64C-164ACC11BF1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озрастно-психологический подх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рекомендация по воспитанию детей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росвещение населения с помощью лекционной и других форм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C5CE-4E22-4774-84A5-F9D47C5E892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онсультирование родител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02DC-3EF4-41AA-ABFE-D90878FAA9E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воды для проведени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3F37-3A93-4607-A606-B2AAE7FED81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сультативная 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7853-9804-4337-A29F-1802818937C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этому и работу свою, в том числе и консультативную, будет провод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-сво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а в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спеха Вам, дорогие коллег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EB84-FE66-4F0D-89A7-5F925AF2F83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9149-C3E1-4705-9CA8-8EB3CFE0996F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Цель деятельности психолога-консульта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CF62-ACDD-48A5-9EB3-773BE72FBAA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45ED-F052-437A-AA09-D18118B6483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сновные направления деятель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 С 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ТРУДНИЧЕСТВО  С ПЕДАГОГАМИ-ПРЕДМЕТНИКАМ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 КЛАССНЫМИ РУКОВОДИТЕЛЯМИ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22D1-9CD0-4100-8AD7-E89D74D29A77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консульт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C730-D4E8-4396-86C2-91807F29B7A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ипич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щений  к школьному 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CE08-7E35-45B7-99C4-BDFA60228F56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libri"/>
              </a:rPr>
              <a:t>Детско-родительские отно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625F-981B-46EE-A9AE-6AB258698AE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Личностные проблем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0975-606E-48D0-B70C-8531513FBFA8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AA7-D9BD-4B98-9088-3F9F9495E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97B-C0FA-4F19-A31E-C55E88B4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3836-5164-487A-8BCA-11BCFEAC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E9B-6051-4D83-AE84-FC883A8F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B327-AAF0-4C75-A755-92F26388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2CFA-868A-4174-A9BB-4B49A035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8C8A-7621-470D-83E5-844DEB52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8249-FA00-471A-B4F9-3A4DD16A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38C8-9FC7-45ED-A49E-E66D9208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AB7B-BB3E-4AD1-9EAF-9B2AF53B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89FB-2CE3-464B-B40E-46D87441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DCFE-B043-40FC-93FB-34DAE06D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E1BD-27C5-4E94-90B6-050CB1B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0508-911D-4FAD-835D-F03A72DD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B211-3EAB-4DD3-8104-EA4EA706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8FD2-47A4-465C-8C3F-31C7AE50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008F-63FD-4C07-9194-BB9B694D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79E-91B4-4590-947D-F2122AD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1ED-E2F0-49F1-982B-6718BF62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68D-AA43-4646-A54C-053C5740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F55-D3A6-4177-AAA6-211A32B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D6A-5B46-4CAB-A1F0-510C56B2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549-7DB9-4AE8-B2B1-FD6D6B12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DF5-9E6C-4A36-8E58-5ABEA099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6C1D-E41A-4FD5-9E39-C30D8ABB5F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991-6EC9-499E-BCE6-CAFA0F85CC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сихолог-консультан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Рисунок 11" descr="Главная"/>
          <p:cNvPicPr/>
          <p:nvPr/>
        </p:nvPicPr>
        <p:blipFill>
          <a:blip r:embed="rId1"/>
          <a:stretch/>
        </p:blipFill>
        <p:spPr>
          <a:xfrm>
            <a:off x="684360" y="3716280"/>
            <a:ext cx="1255680" cy="13683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1" descr="Главная"/>
          <p:cNvPicPr/>
          <p:nvPr/>
        </p:nvPicPr>
        <p:blipFill>
          <a:blip r:embed="rId2"/>
          <a:stretch/>
        </p:blipFill>
        <p:spPr>
          <a:xfrm>
            <a:off x="7648560" y="189000"/>
            <a:ext cx="11890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Проблемы межличностных отношен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Каждый из нас - не остров. Мы живем среди людей и вступаем в различного рода отношения. Эти отношения отличаются различной степенью близости и глубины. Не всегда удается построить их гармонич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Дисгармония в отношениях причиняет боль, может вызывать депрессивные состояния и даже болез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зобраться в причинах  неудач и научиться строить более удовлетворительные и гармоничные отношения и призван помочь психолог как консультан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349280" cy="1700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42920" y="476280"/>
            <a:ext cx="73389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1" descr="Главная"/>
          <p:cNvPicPr/>
          <p:nvPr/>
        </p:nvPicPr>
        <p:blipFill>
          <a:blip r:embed="rId2"/>
          <a:stretch/>
        </p:blipFill>
        <p:spPr>
          <a:xfrm>
            <a:off x="6659640" y="465300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2" descr="скачать Практический психолог в школе: лекции, консультирование, тренинги бесплатно"/>
          <p:cNvPicPr/>
          <p:nvPr/>
        </p:nvPicPr>
        <p:blipFill>
          <a:blip r:embed="rId3"/>
          <a:stretch/>
        </p:blipFill>
        <p:spPr>
          <a:xfrm>
            <a:off x="1116000" y="1052640"/>
            <a:ext cx="2976480" cy="4464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290840" y="1032840"/>
            <a:ext cx="44578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нига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рактический психолог в школе: лекции, консультирование, тренинги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амоукина 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здательство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Н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раниц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19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3920" y="152280"/>
            <a:ext cx="634212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озрастно-психологический подх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213920"/>
            <a:ext cx="80247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риентация родителей, учителей и лиц, участвующих в воспитании, в возрастных и индивидуальных особенностях психического развития ребенк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воевременное выявление детей с различными отклонениями и нарушениями психического развития и направление их в ПМПС –консультации, психологические центр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упреждение вторичных психологических осложнений у детей с ослабленным соматическим и нервно-психическим здоровьем, рекомендации по психогигиене и психопрофилактик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й для учителей, родителей и других лиц по психолого-педагогической коррекции трудностей в школьном обучени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оставление рекомендация по воспитанию детей в семье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ррекционная работа индивидуально или в группах при консультации с детьми и родителям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сихологическое просвещение населения с помощью лекционной и других форм работы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504000" indent="-504000">
              <a:spcBef>
                <a:spcPts val="4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7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28800" cy="117000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1" descr="Главная"/>
          <p:cNvPicPr/>
          <p:nvPr/>
        </p:nvPicPr>
        <p:blipFill>
          <a:blip r:embed="rId2"/>
          <a:stretch/>
        </p:blipFill>
        <p:spPr>
          <a:xfrm>
            <a:off x="7215120" y="5429160"/>
            <a:ext cx="1214640" cy="132408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224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консультирование родителе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85880" y="1828440"/>
            <a:ext cx="75960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жет осуществляться как в групповой, так и в индивидуальной формах. Встреча школьного психолога с родителями ученика происходит по инициативе семьи или по инициативе педагогов, администрации или психолога школ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468360" y="33336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1" descr="Главная"/>
          <p:cNvPicPr/>
          <p:nvPr/>
        </p:nvPicPr>
        <p:blipFill>
          <a:blip r:embed="rId2"/>
          <a:stretch/>
        </p:blipFill>
        <p:spPr>
          <a:xfrm>
            <a:off x="7143840" y="528624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151920"/>
            <a:ext cx="6912000" cy="14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воды для проведени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сихологической консультац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3276720" y="1627920"/>
            <a:ext cx="410364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27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ициатор встреч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11280" y="1989000"/>
          <a:ext cx="7993080" cy="4100760"/>
        </p:xfrm>
        <a:graphic>
          <a:graphicData uri="http://schemas.openxmlformats.org/drawingml/2006/table">
            <a:tbl>
              <a:tblPr/>
              <a:tblGrid>
                <a:gridCol w="2274840"/>
                <a:gridCol w="2811240"/>
                <a:gridCol w="2907000"/>
              </a:tblGrid>
              <a:tr h="95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Характеристик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вод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ля обра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Школ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(психолог, педагог, администр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 CYR"/>
                          <a:ea typeface="Times New Roman"/>
                        </a:rPr>
                        <a:t>Сем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лановая встреч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 возрастных закономерностях развития, о психологических особенностях данного эта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Информация об индивидуальных особенностях развития ребенка на данном этапе, соотношение с возрастными норм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Острая ситу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Какие-либо аспекты в поведении или учебных успехах ребенка вызывают тревогу или недово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Родители не справляются с какой-либо воспитательной задачей, нуждаются в информации, поддержке,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050920" y="5589360"/>
            <a:ext cx="532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dff"/>
                </a:solidFill>
                <a:latin typeface="Comic Sans MS"/>
              </a:rPr>
              <a:t>Консультативная з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IMG_1514"/>
          <p:cNvPicPr/>
          <p:nvPr/>
        </p:nvPicPr>
        <p:blipFill>
          <a:blip r:embed="rId2"/>
          <a:stretch/>
        </p:blipFill>
        <p:spPr>
          <a:xfrm>
            <a:off x="1258920" y="620640"/>
            <a:ext cx="6481800" cy="485928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1" descr="Главная"/>
          <p:cNvPicPr/>
          <p:nvPr/>
        </p:nvPicPr>
        <p:blipFill>
          <a:blip r:embed="rId3"/>
          <a:stretch/>
        </p:blipFill>
        <p:spPr>
          <a:xfrm>
            <a:off x="7572240" y="5643720"/>
            <a:ext cx="1000440" cy="10904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99680" y="356760"/>
            <a:ext cx="7839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рактический психолог всегда стремится реализовать авторскую позицию в своей професси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этому и работу свою, в том числе и консультативную, будет проводи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о-своем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Индивидуализация психологических технологий  в практической работе, как бы «примерка» их на себя, - единственно успешный пу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психолога в проф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Успеха Вам, дорогие коллеги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961920" cy="12114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1" descr="Главная"/>
          <p:cNvPicPr/>
          <p:nvPr/>
        </p:nvPicPr>
        <p:blipFill>
          <a:blip r:embed="rId2"/>
          <a:stretch/>
        </p:blipFill>
        <p:spPr>
          <a:xfrm>
            <a:off x="7786800" y="6000840"/>
            <a:ext cx="785880" cy="8571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9128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бщее описание моде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Психолог-Консультант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99760"/>
            <a:ext cx="792144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ассовых школах имеющих в штатном расписании одну ставку педагога-психолога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еятельность психолога организуется по запросу и на основании плана, утвержденного администрацией школы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Центральным направлением является работа с детьми, имеющими психологические трудности в обучении и развити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сихолог занят профилактической работой и  ориентирован на работу с теми, кому трудно удержаться в рамках общих школьных требований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Частично психолог  самостоятельно оказывает помощь (в рамках своих возможностей и компетенции), частично — организует работу с ребенком и его семьей тех специалистов, которые могут оказать квалифицированную и специализированную помощь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испетчерская деятельность становится очень важным направлением работы психолога-консультант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52280"/>
            <a:ext cx="6224400" cy="20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Цель деятельности психолога-консультант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провождение процесса психологического развития учащихся посредством создания определенных условий в образовательной среде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Рисунок 11" descr="Главная"/>
          <p:cNvPicPr/>
          <p:nvPr/>
        </p:nvPicPr>
        <p:blipFill>
          <a:blip r:embed="rId1"/>
          <a:stretch/>
        </p:blipFill>
        <p:spPr>
          <a:xfrm>
            <a:off x="6929280" y="5072040"/>
            <a:ext cx="1386000" cy="1511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" descr="На главную"/>
          <p:cNvPicPr/>
          <p:nvPr/>
        </p:nvPicPr>
        <p:blipFill>
          <a:blip r:embed="rId2"/>
          <a:stretch/>
        </p:blipFill>
        <p:spPr>
          <a:xfrm>
            <a:off x="216000" y="216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1" descr="Главная"/>
          <p:cNvPicPr/>
          <p:nvPr/>
        </p:nvPicPr>
        <p:blipFill>
          <a:blip r:embed="rId3"/>
          <a:stretch/>
        </p:blipFill>
        <p:spPr>
          <a:xfrm>
            <a:off x="7081920" y="5224320"/>
            <a:ext cx="1385640" cy="151128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643896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дачи деятельност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слеживание результатов психологического развития учащихся на различных этапах обуч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здание условий для оказания психологической помощи учащимся в решении проблем развит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существление психологического анализа внутришкольных образовательных программ и технологий с точки зрения их соответствия индивидуальным и возрастным особенностям учащихся данной школ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нсультативная и информационная психологическая поддержка процессов обучения, воспитания и развития детей в образовательной среде школы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Главная"/>
          <p:cNvPicPr/>
          <p:nvPr/>
        </p:nvPicPr>
        <p:blipFill>
          <a:blip r:embed="rId2"/>
          <a:stretch/>
        </p:blipFill>
        <p:spPr>
          <a:xfrm>
            <a:off x="7000920" y="5214960"/>
            <a:ext cx="1285920" cy="140184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сновные направления деятель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928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УЧАЩИМИСЯ ШКОЛ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РАБОТА С  РОДИТЕЛЯМ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ОТРУДНИЧЕСТВО  С ПЕДАГОГАМИ-ПРЕДМЕТНИКАМ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 КЛАССНЫМИ РУКОВОДИТЕЛЯ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2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1" descr="Главная"/>
          <p:cNvPicPr/>
          <p:nvPr/>
        </p:nvPicPr>
        <p:blipFill>
          <a:blip r:embed="rId2"/>
          <a:stretch/>
        </p:blipFill>
        <p:spPr>
          <a:xfrm>
            <a:off x="6786720" y="4714920"/>
            <a:ext cx="1717560" cy="18730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224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сихологическое консуль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49780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специально организованная беседа психолога с клиентом (представителем администрации, учителем, родителем, учащимся) для разъяснения отдельного вопроса, анализа проблемы и выработки советов или рекомендация  по их решению или регулировани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24000" y="189000"/>
            <a:ext cx="1285560" cy="16192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Главная"/>
          <p:cNvPicPr/>
          <p:nvPr/>
        </p:nvPicPr>
        <p:blipFill>
          <a:blip r:embed="rId2"/>
          <a:stretch/>
        </p:blipFill>
        <p:spPr>
          <a:xfrm>
            <a:off x="7164360" y="5273640"/>
            <a:ext cx="1452600" cy="15843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Типичные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причины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dff"/>
                </a:solidFill>
                <a:latin typeface="Comic Sans MS"/>
              </a:rPr>
              <a:t>обращений  к школьному  психолог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395280" y="0"/>
            <a:ext cx="1200240" cy="1511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11" descr="Главная"/>
          <p:cNvPicPr/>
          <p:nvPr/>
        </p:nvPicPr>
        <p:blipFill>
          <a:blip r:embed="rId2"/>
          <a:stretch/>
        </p:blipFill>
        <p:spPr>
          <a:xfrm>
            <a:off x="7375680" y="5661000"/>
            <a:ext cx="1096920" cy="11970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51920"/>
            <a:ext cx="61531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Детско-родительские отношени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Воспитание - сложный процесс. Быть родителем непросто. Дети не слушаются, грубят, не хотят учиться, проявляют свой характер. У детей могут возникать непонятные страхи, могут не складываться отношения в школе, со сверстниками, с учителями. "Негативизм" подростков - очень распространенная тема обращен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1" descr="На главную"/>
          <p:cNvPicPr/>
          <p:nvPr/>
        </p:nvPicPr>
        <p:blipFill>
          <a:blip r:embed="rId1"/>
          <a:stretch/>
        </p:blipFill>
        <p:spPr>
          <a:xfrm>
            <a:off x="0" y="189000"/>
            <a:ext cx="1314360" cy="16556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1" descr="Главная"/>
          <p:cNvPicPr/>
          <p:nvPr/>
        </p:nvPicPr>
        <p:blipFill>
          <a:blip r:embed="rId2"/>
          <a:stretch/>
        </p:blipFill>
        <p:spPr>
          <a:xfrm>
            <a:off x="7254720" y="5300640"/>
            <a:ext cx="1122480" cy="12254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152280"/>
            <a:ext cx="6153120" cy="13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Личностные проблем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корость современной жизни не всегда позволяет нам найти время для того, чтобы задуматься о своей жизненной ситуации, подумать о своих потребностях, позаботиться о себе. Тем не менее, каждый из нас в течение жизни сталкивается с множеством психологических проблем. Это могут быть проблемы, связанные с поиском себя и своего места в жизни, ведь вопросы "кто я такой?", "куда я иду?", "что для меня в жизни важно?" актуальны в любом возрасте. Это может быть переживание стресса, кризисной ситуации, травмирующего события или потер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Часто бывает важно разобраться с негативными эмоциями, которые препятствуют нормальному течению жизни: переживаниями беспокойства или тревоги, страхами, ощущением подавленности или беспомощ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11" descr="Главная"/>
          <p:cNvPicPr/>
          <p:nvPr/>
        </p:nvPicPr>
        <p:blipFill>
          <a:blip r:embed="rId1"/>
          <a:stretch/>
        </p:blipFill>
        <p:spPr>
          <a:xfrm>
            <a:off x="7054920" y="5084640"/>
            <a:ext cx="13222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1" descr="Главная"/>
          <p:cNvPicPr/>
          <p:nvPr/>
        </p:nvPicPr>
        <p:blipFill>
          <a:blip r:embed="rId2"/>
          <a:stretch/>
        </p:blipFill>
        <p:spPr>
          <a:xfrm>
            <a:off x="450072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1" descr="Главная"/>
          <p:cNvPicPr/>
          <p:nvPr/>
        </p:nvPicPr>
        <p:blipFill>
          <a:blip r:embed="rId3"/>
          <a:stretch/>
        </p:blipFill>
        <p:spPr>
          <a:xfrm>
            <a:off x="2195640" y="4984920"/>
            <a:ext cx="1717560" cy="187308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" descr="На главную"/>
          <p:cNvPicPr/>
          <p:nvPr/>
        </p:nvPicPr>
        <p:blipFill>
          <a:blip r:embed="rId4"/>
          <a:stretch/>
        </p:blipFill>
        <p:spPr>
          <a:xfrm>
            <a:off x="0" y="0"/>
            <a:ext cx="893880" cy="112536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38:25Z</dcterms:created>
  <dc:creator>Admin</dc:creator>
  <dc:description/>
  <dc:language>en-US</dc:language>
  <cp:lastModifiedBy>LEGION</cp:lastModifiedBy>
  <dcterms:modified xsi:type="dcterms:W3CDTF">2014-11-12T09:44:36Z</dcterms:modified>
  <cp:revision>18</cp:revision>
  <dc:subject/>
  <dc:title>Психолог-консультант</dc:title>
</cp:coreProperties>
</file>