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B07E-766F-465F-971B-C1D2EF148A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-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3B4B-874E-4EF9-BEA3-E0FF87DDA77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роблемы межличностных отно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8A44-C4C9-4AEA-A6C3-56C15C7327E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растно-психологически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я по воспитанию детей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росвещение населения с помощью лекционной и других форм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E9CF-C98B-49BD-B881-86A8B9404C4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сультирование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ED9E-87CC-416E-B283-CC4CDA158C4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оды для провед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6BAD-539F-47F6-8697-5395BFA0157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сультативн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07CE-04FB-4AB7-9B88-179EA5C9B07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этому и работу свою, в том числе и консультативную, будет провод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-сво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а в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пеха Вам, дорогие коллег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CCD-BCE1-4050-A2A9-91824787442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F2AF-FE22-42E9-8C93-A516E46A85F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деятельности психолога-консульта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1D7E-15F2-4A29-AFDC-CBC6FDB12F7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3179-7669-46B5-989B-CE0F97E540A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ТРУДНИЧЕСТВО  С ПЕДАГОГАМИ-ПРЕДМЕТНИКА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 КЛАССНЫМИ РУКОВОДИТЕЛЯМИ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F9B7-F10B-4926-A289-7A877ED70E2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консуль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130F-AA07-43EB-A798-D0B168B9FD3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ипич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щений  к школьному 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31E8-E8B2-49D2-A66B-4F16DA7D589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Детско-родительски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DE6-5525-49AE-8572-DE3ACFB43D9B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Личностные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0ED-8E94-4AC2-864C-D76CF137715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176-DD62-4C4F-AC05-602F0D7E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9C0-7F14-4A42-B4DE-EB619FAF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281-42B3-4AE5-AF69-B1226911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A18-DDA1-466F-B6B1-BAF40E94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EF31-7184-4C0E-9A57-4B5B29F2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A6B5-AA13-4954-96ED-25DA6B72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E27-5E35-4BAA-97F2-9FA6D5E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05F1-6B12-48DC-958B-6CE7BC43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4277-1605-4972-8A9A-7E7F1B20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6430-4D22-4F0B-AD78-8F6D2CA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8E70-67B2-43F5-9D95-53C57E3E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8BF-F0B1-4562-B571-3DBCAE1F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8786-7EDB-4FDE-BC78-79EBE873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55FC-BC31-47C7-9B41-84EA817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1D7D-CA9E-41AC-B4F7-CE3200AD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D38E-E94C-4DF8-936B-9065D46C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894B-373A-4223-ACF0-5BD00CF9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F9C-D0C6-4CBC-B431-A7738C20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D2B-7508-4E1F-B206-07D2FFE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376-456A-4446-A589-2D07E97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4E5-A360-4CB2-84FF-04031F7F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B70-9CF2-4531-A147-0512E4E8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804-017D-4724-B13B-1A382CAF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A734-1962-4A7A-BABD-1D6ECB0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78E7-CFB5-4D5E-812D-3100FEFFB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7614-026E-427E-AF31-9814A2BE71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сихолог-консультан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1" descr="Главная"/>
          <p:cNvPicPr/>
          <p:nvPr/>
        </p:nvPicPr>
        <p:blipFill>
          <a:blip r:embed="rId1"/>
          <a:stretch/>
        </p:blipFill>
        <p:spPr>
          <a:xfrm>
            <a:off x="684360" y="3716280"/>
            <a:ext cx="1255680" cy="136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Главная"/>
          <p:cNvPicPr/>
          <p:nvPr/>
        </p:nvPicPr>
        <p:blipFill>
          <a:blip r:embed="rId2"/>
          <a:stretch/>
        </p:blipFill>
        <p:spPr>
          <a:xfrm>
            <a:off x="7648560" y="1890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роблемы межличностных отнош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349280" cy="1700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42920" y="476280"/>
            <a:ext cx="7338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Главная"/>
          <p:cNvPicPr/>
          <p:nvPr/>
        </p:nvPicPr>
        <p:blipFill>
          <a:blip r:embed="rId2"/>
          <a:stretch/>
        </p:blipFill>
        <p:spPr>
          <a:xfrm>
            <a:off x="6659640" y="465300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скачать Практический психолог в школе: лекции, консультирование, тренинги бесплатно"/>
          <p:cNvPicPr/>
          <p:nvPr/>
        </p:nvPicPr>
        <p:blipFill>
          <a:blip r:embed="rId3"/>
          <a:stretch/>
        </p:blipFill>
        <p:spPr>
          <a:xfrm>
            <a:off x="1116000" y="1052640"/>
            <a:ext cx="297648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290840" y="1032840"/>
            <a:ext cx="445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актический психолог в школе: лекции, консультирование, тренинг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амоукина 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д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Н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аниц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9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3920" y="152280"/>
            <a:ext cx="63421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растно-псих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213920"/>
            <a:ext cx="80247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я по воспитанию детей в семь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сихологическое просвещение населения с помощью лекционной и других форм рабо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2880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Главная"/>
          <p:cNvPicPr/>
          <p:nvPr/>
        </p:nvPicPr>
        <p:blipFill>
          <a:blip r:embed="rId2"/>
          <a:stretch/>
        </p:blipFill>
        <p:spPr>
          <a:xfrm>
            <a:off x="7215120" y="5429160"/>
            <a:ext cx="1214640" cy="13240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224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нсультирование роди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5880" y="1828440"/>
            <a:ext cx="7596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468360" y="33336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Главная"/>
          <p:cNvPicPr/>
          <p:nvPr/>
        </p:nvPicPr>
        <p:blipFill>
          <a:blip r:embed="rId2"/>
          <a:stretch/>
        </p:blipFill>
        <p:spPr>
          <a:xfrm>
            <a:off x="7143840" y="528624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69120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ды для про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й консульт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3276720" y="1627920"/>
            <a:ext cx="41036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ор встреч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989000"/>
          <a:ext cx="7993080" cy="4100760"/>
        </p:xfrm>
        <a:graphic>
          <a:graphicData uri="http://schemas.openxmlformats.org/drawingml/2006/table">
            <a:tbl>
              <a:tblPr/>
              <a:tblGrid>
                <a:gridCol w="2274840"/>
                <a:gridCol w="2811240"/>
                <a:gridCol w="2907000"/>
              </a:tblGrid>
              <a:tr h="95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актеристи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вод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я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Школ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психолог, педагог, админи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ая встре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 возрастных закономерностях развития, о психологических особенностях дан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б индивидуальных особенностях развития ребенка на данном этапе, соотношение с возрастными нор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стр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ие-либо аспекты в поведении или учебных успехах ребенка вызывают тревогу или недово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дители не справляются с какой-либо воспитательной задачей, нуждаются в информации, поддержке,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532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нсультативная з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MG_1514"/>
          <p:cNvPicPr/>
          <p:nvPr/>
        </p:nvPicPr>
        <p:blipFill>
          <a:blip r:embed="rId2"/>
          <a:stretch/>
        </p:blipFill>
        <p:spPr>
          <a:xfrm>
            <a:off x="1258920" y="620640"/>
            <a:ext cx="6481800" cy="485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Главная"/>
          <p:cNvPicPr/>
          <p:nvPr/>
        </p:nvPicPr>
        <p:blipFill>
          <a:blip r:embed="rId3"/>
          <a:stretch/>
        </p:blipFill>
        <p:spPr>
          <a:xfrm>
            <a:off x="7572240" y="5643720"/>
            <a:ext cx="1000440" cy="10904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356760"/>
            <a:ext cx="7839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этому и работу свою, в том числе и консультативную, будет провод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-сво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сихолога в проф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Успеха Вам, дорогие коллег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Главная"/>
          <p:cNvPicPr/>
          <p:nvPr/>
        </p:nvPicPr>
        <p:blipFill>
          <a:blip r:embed="rId2"/>
          <a:stretch/>
        </p:blipFill>
        <p:spPr>
          <a:xfrm>
            <a:off x="7786800" y="600084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91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99760"/>
            <a:ext cx="79214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2280"/>
            <a:ext cx="62244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деятельности психолога-консультан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1" descr="Главная"/>
          <p:cNvPicPr/>
          <p:nvPr/>
        </p:nvPicPr>
        <p:blipFill>
          <a:blip r:embed="rId1"/>
          <a:stretch/>
        </p:blipFill>
        <p:spPr>
          <a:xfrm>
            <a:off x="6929280" y="5072040"/>
            <a:ext cx="13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216000" y="216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Главная"/>
          <p:cNvPicPr/>
          <p:nvPr/>
        </p:nvPicPr>
        <p:blipFill>
          <a:blip r:embed="rId3"/>
          <a:stretch/>
        </p:blipFill>
        <p:spPr>
          <a:xfrm>
            <a:off x="7081920" y="5224320"/>
            <a:ext cx="1385640" cy="15112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4389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чи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Главная"/>
          <p:cNvPicPr/>
          <p:nvPr/>
        </p:nvPicPr>
        <p:blipFill>
          <a:blip r:embed="rId2"/>
          <a:stretch/>
        </p:blipFill>
        <p:spPr>
          <a:xfrm>
            <a:off x="7000920" y="521496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ые направления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92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УЧАЩИМИСЯ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 РОДИ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ТРУДНИЧЕСТВО  С ПЕДАГОГАМИ-ПРЕДМЕТНИК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 КЛАССНЫМИ РУКОВ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Главная"/>
          <p:cNvPicPr/>
          <p:nvPr/>
        </p:nvPicPr>
        <p:blipFill>
          <a:blip r:embed="rId2"/>
          <a:stretch/>
        </p:blipFill>
        <p:spPr>
          <a:xfrm>
            <a:off x="6786720" y="4714920"/>
            <a:ext cx="1717560" cy="18730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224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сихологическое консуль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24000" y="189000"/>
            <a:ext cx="12855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Типич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обращений  к школьному  психолог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95280" y="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Главная"/>
          <p:cNvPicPr/>
          <p:nvPr/>
        </p:nvPicPr>
        <p:blipFill>
          <a:blip r:embed="rId2"/>
          <a:stretch/>
        </p:blipFill>
        <p:spPr>
          <a:xfrm>
            <a:off x="7375680" y="5661000"/>
            <a:ext cx="10969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етско-родительские отнош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3143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Главная"/>
          <p:cNvPicPr/>
          <p:nvPr/>
        </p:nvPicPr>
        <p:blipFill>
          <a:blip r:embed="rId2"/>
          <a:stretch/>
        </p:blipFill>
        <p:spPr>
          <a:xfrm>
            <a:off x="7254720" y="530064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61531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Личностные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11" descr="Главная"/>
          <p:cNvPicPr/>
          <p:nvPr/>
        </p:nvPicPr>
        <p:blipFill>
          <a:blip r:embed="rId1"/>
          <a:stretch/>
        </p:blipFill>
        <p:spPr>
          <a:xfrm>
            <a:off x="7054920" y="5084640"/>
            <a:ext cx="1322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Главная"/>
          <p:cNvPicPr/>
          <p:nvPr/>
        </p:nvPicPr>
        <p:blipFill>
          <a:blip r:embed="rId2"/>
          <a:stretch/>
        </p:blipFill>
        <p:spPr>
          <a:xfrm>
            <a:off x="450072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Главная"/>
          <p:cNvPicPr/>
          <p:nvPr/>
        </p:nvPicPr>
        <p:blipFill>
          <a:blip r:embed="rId3"/>
          <a:stretch/>
        </p:blipFill>
        <p:spPr>
          <a:xfrm>
            <a:off x="219564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На главную"/>
          <p:cNvPicPr/>
          <p:nvPr/>
        </p:nvPicPr>
        <p:blipFill>
          <a:blip r:embed="rId4"/>
          <a:stretch/>
        </p:blipFill>
        <p:spPr>
          <a:xfrm>
            <a:off x="0" y="0"/>
            <a:ext cx="893880" cy="112536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8:25Z</dcterms:created>
  <dc:creator>Admin</dc:creator>
  <dc:description/>
  <dc:language>en-US</dc:language>
  <cp:lastModifiedBy>LEGION</cp:lastModifiedBy>
  <dcterms:modified xsi:type="dcterms:W3CDTF">2014-11-12T09:44:36Z</dcterms:modified>
  <cp:revision>18</cp:revision>
  <dc:subject/>
  <dc:title>Психолог-консультант</dc:title>
</cp:coreProperties>
</file>