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BDB2-81DE-42F0-A31D-7F46A985F02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-консуль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EC18-5CFF-4FAA-95E6-7BDFAD69223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Проблемы межличностных отношени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ждый из нас - не остров. Мы живем среди людей и вступаем в различного рода отношения. Эти отношения отличаются различной степенью близости и глубины. Не всегда удается построить их гармон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сгармония в отношениях причиняет боль, может вызывать депрессивные состояния и даже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обраться в причинах  неудач и научиться строить более удовлетворительные и гармоничные отношения и призван помочь психолог как консуль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B605-0512-46F8-B56E-E8942A7FB37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зрастно-психологический под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я родителей, учителей и лиц, участвующих в воспитании, в возрастных и индивидуальных особенностях психическ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выявление детей с различными отклонениями и нарушениями психического развития и направление их в ПМПС –консультации, психологические цент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вторичных психологических осложнений у детей с ослабленным соматическим и нервно-психическим здоровьем, рекомендации по психогигиене и психопрофилак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екомендаций для учителей, родителей и других лиц по психолого-педагогической коррекции трудностей в школьном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екомендация по воспитанию детей в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 индивидуально или в группах при консультации с детьми и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просвещение населения с помощью лекционной и других форм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5EC0-5876-4CC3-BAD4-BA4BA47E903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сультирование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осуществляться как в групповой, так и в индивидуальной формах. Встреча школьного психолога с родителями ученика происходит по инициативе семьи или по инициативе педагогов, администрации или психолога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B265-944A-49EF-A6AB-0A95A91D1D1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оды для проведени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й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13D5-1FF9-4CBF-9A5C-C135B0F489D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онсультативная 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9E4A-2701-41B7-97B8-90CC98D0A08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ктический психолог всегда стремится реализовать авторскую позицию в своей профе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этому и работу свою, в том числе и консультативную, будет провод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-сво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изация психологических технологий  в практической работе, как бы «примерка» их на себя, - единственно успешный пу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а в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пеха Вам, дорогие коллег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8123-035E-4C60-BF3B-F9AC5C673CD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е описание моде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сихолог-Консультан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ссовых школах имеющих в штатном расписании одну ставку педагога-психолога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ятельность психолога организуется по запросу и на основании плана, утвержденного администрацией школ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нтральным направлением является работа с детьми, имеющими психологические трудности в обучении и развит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олог занят профилактической работой и  ориентирован на работу с теми, кому трудно удержаться в рамках общих школьных требован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ично психолог  самостоятельно оказывает помощь (в рамках своих возможностей и компетенции), частично — организует работу с ребенком и его семьей тех специалистов, которые могут оказать квалифицированную и специализированную помощь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спетчерская деятельность становится очень важным направлением работы психолога-консультан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A939-76C9-4A2B-9309-5AD5C5F3921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 деятельности психолога-консульта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вождение процесса психологического развития учащихся посредством создания определенных условий в образовательной сред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74A3-C00F-4D69-A688-A80DC71B175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живание результатов психологического развития учащихся на различных этапах обуч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словий для оказания психологической помощи учащимся в решении проблем развит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психологического анализа внутришкольных образовательных программ и технологий с точки зрения их соответствия индивидуальным и возрастным особенностям учащихся данной школ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и информационная психологическая поддержка процессов обучения, воспитания и развития детей в образовательной сред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9034-F8AE-42B1-946B-7BAA7BE3D4D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С 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ТРУДНИЧЕСТВО  С ПЕДАГОГАМИ-ПРЕДМЕТНИКА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 КЛАССНЫМИ РУКОВОДИТЕЛЯМИ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FAC0-B577-480E-A3BA-01816954947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е консуль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ая беседа психолога с клиентом (представителем администрации, учителем, родителем, учащимся) для разъяснения отдельного вопроса, анализа проблемы и выработки советов или рекомендация  по их решению или регулир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162B-08B9-404B-86DF-006DB5B0569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ипич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бращений  к школьному 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62AA-A830-4D88-ABEC-C5C44B4753A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Детско-родительские отно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питание - сложный процесс. Быть родителем непросто. Дети не слушаются, грубят, не хотят учиться, проявляют свой характер. У детей могут возникать непонятные страхи, могут не складываться отношения в школе, со сверстниками, с учителями. "Негативизм" подростков - очень распространенная тема обра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1092-D25A-4405-83F7-4087BF8621E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Личностные пробле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корость современной жизни не всегда позволяет нам найти время для того, чтобы задуматься о своей жизненной ситуации, подумать о своих потребностях, позаботиться о себе. Тем не менее, каждый из нас в течение жизни сталкивается с множеством психологических проблем. Это могут быть проблемы, связанные с поиском себя и своего места в жизни, ведь вопросы "кто я такой?", "куда я иду?", "что для меня в жизни важно?" актуальны в любом возрасте. Это может быть переживание стресса, кризисной ситуации, травмирующего события или поте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асто бывает важно разобраться с негативными эмоциями, которые препятствуют нормальному течению жизни: переживаниями беспокойства или тревоги, страхами, ощущением подавленности или беспо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1F3B-0F84-405B-AE69-D514E8D931A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45B-36A5-4238-BE9E-9CC46DA8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5D6-689B-4D17-B2AE-342A1D29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AFA-3218-49A3-9BAB-10F6A09F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A16-ED7A-4CF2-A517-BE2ADEC0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5849-37DA-4CD0-9CEA-A7DE4469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9D7B-91D5-44BA-B209-7B5DF425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9BFC-D593-4B89-90B6-63370DCE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F930-50E8-4DE4-AAAA-B0A34809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3619-8374-4239-A0F7-631D9154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101E-8812-4C74-A4E3-D7BC4A6D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53A5-5C6B-447E-8089-9C4B1612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AE44-91C3-49BD-9D59-1183BE08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AAEC-9C22-4BA5-8595-58E91D8B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1D0B-168C-46EE-A12C-3F6A8BAD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9C86-6960-4E8E-A63C-45437870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5540-A05F-4FA2-BA24-9771E858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ECD5-B431-49BC-A197-6D7AC739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5E77-5BD5-4871-8F1B-C241AEB4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981-2956-4C61-B6F6-4039782C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343-AA94-47CD-B6F0-17862AA4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3CA-C87B-45D1-BC21-F75379D4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EAA-B767-4272-8D6D-12DA0378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1F1-EDBE-4B2B-9EAF-6B672451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96D-4682-40B9-87C6-A4363394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B25B-4700-450E-AF69-8BCE2D1A30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156B-4A7B-45D4-B2CA-B25F5CDF6C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сихолог-консультан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Рисунок 11" descr="Главная"/>
          <p:cNvPicPr/>
          <p:nvPr/>
        </p:nvPicPr>
        <p:blipFill>
          <a:blip r:embed="rId1"/>
          <a:stretch/>
        </p:blipFill>
        <p:spPr>
          <a:xfrm>
            <a:off x="684360" y="3716280"/>
            <a:ext cx="1255680" cy="13683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1" descr="Главная"/>
          <p:cNvPicPr/>
          <p:nvPr/>
        </p:nvPicPr>
        <p:blipFill>
          <a:blip r:embed="rId2"/>
          <a:stretch/>
        </p:blipFill>
        <p:spPr>
          <a:xfrm>
            <a:off x="7648560" y="189000"/>
            <a:ext cx="118908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Проблемы межличностных отношен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аждый из нас - не остров. Мы живем среди людей и вступаем в различного рода отношения. Эти отношения отличаются различной степенью близости и глубины. Не всегда удается построить их гармонич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исгармония в отношениях причиняет боль, может вызывать депрессивные состояния и даже боле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азобраться в причинах  неудач и научиться строить более удовлетворительные и гармоничные отношения и призван помочь психолог как консульт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349280" cy="17002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1" descr="Главная"/>
          <p:cNvPicPr/>
          <p:nvPr/>
        </p:nvPicPr>
        <p:blipFill>
          <a:blip r:embed="rId2"/>
          <a:stretch/>
        </p:blipFill>
        <p:spPr>
          <a:xfrm>
            <a:off x="7164360" y="5273640"/>
            <a:ext cx="1452600" cy="15843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42920" y="476280"/>
            <a:ext cx="7338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1" descr="Главная"/>
          <p:cNvPicPr/>
          <p:nvPr/>
        </p:nvPicPr>
        <p:blipFill>
          <a:blip r:embed="rId2"/>
          <a:stretch/>
        </p:blipFill>
        <p:spPr>
          <a:xfrm>
            <a:off x="6659640" y="465300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2" descr="скачать Практический психолог в школе: лекции, консультирование, тренинги бесплатно"/>
          <p:cNvPicPr/>
          <p:nvPr/>
        </p:nvPicPr>
        <p:blipFill>
          <a:blip r:embed="rId3"/>
          <a:stretch/>
        </p:blipFill>
        <p:spPr>
          <a:xfrm>
            <a:off x="1116000" y="1052640"/>
            <a:ext cx="2976480" cy="4464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4290840" y="1032840"/>
            <a:ext cx="44578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нига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рактический психолог в школе: лекции, консультирование, тренинг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амоукина 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дательство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НТ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раниц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19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3920" y="152280"/>
            <a:ext cx="634212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зрастно-психологический подх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213920"/>
            <a:ext cx="80247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риентация родителей, учителей и лиц, участвующих в воспитании, в возрастных и индивидуальных особенностях психического развития ребен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воевременное выявление детей с различными отклонениями и нарушениями психического развития и направление их в ПМПС –консультации, психологические центр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упреждение вторичных психологических осложнений у детей с ослабленным соматическим и нервно-психическим здоровьем, рекомендации по психогигиене и психопрофилактик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ставление рекомендаций для учителей, родителей и других лиц по психолого-педагогической коррекции трудностей в школьном обучен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ставление рекомендация по воспитанию детей в семь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ррекционная работа индивидуально или в группах при консультации с детьми и родителя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сихологическое просвещение населения с помощью лекционной и других форм работ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28800" cy="11700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1" descr="Главная"/>
          <p:cNvPicPr/>
          <p:nvPr/>
        </p:nvPicPr>
        <p:blipFill>
          <a:blip r:embed="rId2"/>
          <a:stretch/>
        </p:blipFill>
        <p:spPr>
          <a:xfrm>
            <a:off x="7215120" y="5429160"/>
            <a:ext cx="1214640" cy="132408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224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онсультирование родите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85880" y="1828440"/>
            <a:ext cx="7596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жет осуществляться как в групповой, так и в индивидуальной формах. Встреча школьного психолога с родителями ученика происходит по инициативе семьи или по инициативе педагогов, администрации или психолога школ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468360" y="333360"/>
            <a:ext cx="1200240" cy="15112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1" descr="Главная"/>
          <p:cNvPicPr/>
          <p:nvPr/>
        </p:nvPicPr>
        <p:blipFill>
          <a:blip r:embed="rId2"/>
          <a:stretch/>
        </p:blipFill>
        <p:spPr>
          <a:xfrm>
            <a:off x="7143840" y="5286240"/>
            <a:ext cx="1285920" cy="14018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00000" y="151920"/>
            <a:ext cx="69120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воды для проведе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сихологической консульт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61920" cy="12114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3276720" y="1627920"/>
            <a:ext cx="410364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7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ициатор встреч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11280" y="1989000"/>
          <a:ext cx="7993080" cy="4100760"/>
        </p:xfrm>
        <a:graphic>
          <a:graphicData uri="http://schemas.openxmlformats.org/drawingml/2006/table">
            <a:tbl>
              <a:tblPr/>
              <a:tblGrid>
                <a:gridCol w="2274840"/>
                <a:gridCol w="2811240"/>
                <a:gridCol w="2907000"/>
              </a:tblGrid>
              <a:tr h="95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Характеристик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вод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ля обра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Школ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(психолог, педагог, администр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лановая встре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нформация о возрастных закономерностях развития, о психологических особенностях данного эт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нформация об индивидуальных особенностях развития ребенка на данном этапе, соотношение с возрастными норм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страя ситу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акие-либо аспекты в поведении или учебных успехах ребенка вызывают тревогу или недоволь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одители не справляются с какой-либо воспитательной задачей, нуждаются в информации, поддержке,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050920" y="5589360"/>
            <a:ext cx="5329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Консультативная зо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IMG_1514"/>
          <p:cNvPicPr/>
          <p:nvPr/>
        </p:nvPicPr>
        <p:blipFill>
          <a:blip r:embed="rId2"/>
          <a:stretch/>
        </p:blipFill>
        <p:spPr>
          <a:xfrm>
            <a:off x="1258920" y="620640"/>
            <a:ext cx="6481800" cy="48592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1" descr="Главная"/>
          <p:cNvPicPr/>
          <p:nvPr/>
        </p:nvPicPr>
        <p:blipFill>
          <a:blip r:embed="rId3"/>
          <a:stretch/>
        </p:blipFill>
        <p:spPr>
          <a:xfrm>
            <a:off x="7572240" y="5643720"/>
            <a:ext cx="1000440" cy="109044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99680" y="356760"/>
            <a:ext cx="7839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рактический психолог всегда стремится реализовать авторскую позицию в своей професси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этому и работу свою, в том числе и консультативную, будет проводи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-свое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Индивидуализация психологических технологий  в практической работе, как бы «примерка» их на себя, - единственно успешный пу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сихолога в проф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Успеха Вам, дорогие коллеги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61920" cy="12114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1" descr="Главная"/>
          <p:cNvPicPr/>
          <p:nvPr/>
        </p:nvPicPr>
        <p:blipFill>
          <a:blip r:embed="rId2"/>
          <a:stretch/>
        </p:blipFill>
        <p:spPr>
          <a:xfrm>
            <a:off x="7786800" y="6000840"/>
            <a:ext cx="785880" cy="8571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912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бщее описание моде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Психолог-Консультант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99760"/>
            <a:ext cx="792144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ассовых школах имеющих в штатном расписании одну ставку педагога-психолог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еятельность психолога организуется по запросу и на основании плана, утвержденного администрацией школы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Центральным направлением является работа с детьми, имеющими психологические трудности в обучении и развити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сихолог занят профилактической работой и  ориентирован на работу с теми, кому трудно удержаться в рамках общих школьных требований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Частично психолог  самостоятельно оказывает помощь (в рамках своих возможностей и компетенции), частично — организует работу с ребенком и его семьей тех специалистов, которые могут оказать квалифицированную и специализированную помощ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испетчерская деятельность становится очень важным направлением работы психолога-консультант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" descr="На главную"/>
          <p:cNvPicPr/>
          <p:nvPr/>
        </p:nvPicPr>
        <p:blipFill>
          <a:blip r:embed="rId2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52280"/>
            <a:ext cx="6224400" cy="20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Цель деятельности психолога-консультан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провождение процесса психологического развития учащихся посредством создания определенных условий в образовательной среде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Рисунок 11" descr="Главная"/>
          <p:cNvPicPr/>
          <p:nvPr/>
        </p:nvPicPr>
        <p:blipFill>
          <a:blip r:embed="rId1"/>
          <a:stretch/>
        </p:blipFill>
        <p:spPr>
          <a:xfrm>
            <a:off x="6929280" y="5072040"/>
            <a:ext cx="1386000" cy="1511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" descr="На главную"/>
          <p:cNvPicPr/>
          <p:nvPr/>
        </p:nvPicPr>
        <p:blipFill>
          <a:blip r:embed="rId2"/>
          <a:stretch/>
        </p:blipFill>
        <p:spPr>
          <a:xfrm>
            <a:off x="216000" y="216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1" descr="Главная"/>
          <p:cNvPicPr/>
          <p:nvPr/>
        </p:nvPicPr>
        <p:blipFill>
          <a:blip r:embed="rId3"/>
          <a:stretch/>
        </p:blipFill>
        <p:spPr>
          <a:xfrm>
            <a:off x="7081920" y="5224320"/>
            <a:ext cx="1385640" cy="151128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643896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дачи деятель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слеживание результатов психологического развития учащихся на различных этапах обуч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здание условий для оказания психологической помощи учащимся в решении проблем развит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уществление психологического анализа внутришкольных образовательных программ и технологий с точки зрения их соответствия индивидуальным и возрастным особенностям учащихся данной школ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сультативная и информационная психологическая поддержка процессов обучения, воспитания и развития детей в образовательной среде школ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5" descr="Главная"/>
          <p:cNvPicPr/>
          <p:nvPr/>
        </p:nvPicPr>
        <p:blipFill>
          <a:blip r:embed="rId2"/>
          <a:stretch/>
        </p:blipFill>
        <p:spPr>
          <a:xfrm>
            <a:off x="7000920" y="5214960"/>
            <a:ext cx="1285920" cy="140184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3280" y="151920"/>
            <a:ext cx="6153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сновные направления деятельност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928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 С УЧАЩИМИСЯ ШКОЛ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 С  РОДИТЕЛЯМ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ТРУДНИЧЕСТВО  С ПЕДАГОГАМИ-ПРЕДМЕТНИКАМ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  КЛАССНЫМИ РУКОВОДИТЕЛЯМ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1" descr="Главная"/>
          <p:cNvPicPr/>
          <p:nvPr/>
        </p:nvPicPr>
        <p:blipFill>
          <a:blip r:embed="rId2"/>
          <a:stretch/>
        </p:blipFill>
        <p:spPr>
          <a:xfrm>
            <a:off x="6786720" y="4714920"/>
            <a:ext cx="1717560" cy="18730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151920"/>
            <a:ext cx="6224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сихологическое консультировани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49780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специально организованная беседа психолога с клиентом (представителем администрации, учителем, родителем, учащимся) для разъяснения отдельного вопроса, анализа проблемы и выработки советов или рекомендация  по их решению или регулирова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324000" y="189000"/>
            <a:ext cx="1285560" cy="1619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1" descr="Главная"/>
          <p:cNvPicPr/>
          <p:nvPr/>
        </p:nvPicPr>
        <p:blipFill>
          <a:blip r:embed="rId2"/>
          <a:stretch/>
        </p:blipFill>
        <p:spPr>
          <a:xfrm>
            <a:off x="7164360" y="5273640"/>
            <a:ext cx="1452600" cy="15843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Типичные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причины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обращений  к школьному  психолог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395280" y="0"/>
            <a:ext cx="1200240" cy="1511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1" descr="Главная"/>
          <p:cNvPicPr/>
          <p:nvPr/>
        </p:nvPicPr>
        <p:blipFill>
          <a:blip r:embed="rId2"/>
          <a:stretch/>
        </p:blipFill>
        <p:spPr>
          <a:xfrm>
            <a:off x="7375680" y="5661000"/>
            <a:ext cx="1096920" cy="11970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151920"/>
            <a:ext cx="6153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Детско-родительские отнош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оспитание - сложный процесс. Быть родителем непросто. Дети не слушаются, грубят, не хотят учиться, проявляют свой характер. У детей могут возникать непонятные страхи, могут не складываться отношения в школе, со сверстниками, с учителями. "Негативизм" подростков - очень распространенная тема обращ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314360" cy="16556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1" descr="Главная"/>
          <p:cNvPicPr/>
          <p:nvPr/>
        </p:nvPicPr>
        <p:blipFill>
          <a:blip r:embed="rId2"/>
          <a:stretch/>
        </p:blipFill>
        <p:spPr>
          <a:xfrm>
            <a:off x="7254720" y="5300640"/>
            <a:ext cx="1122480" cy="12254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3280" y="152280"/>
            <a:ext cx="615312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Личностные пробл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корость современной жизни не всегда позволяет нам найти время для того, чтобы задуматься о своей жизненной ситуации, подумать о своих потребностях, позаботиться о себе. Тем не менее, каждый из нас в течение жизни сталкивается с множеством психологических проблем. Это могут быть проблемы, связанные с поиском себя и своего места в жизни, ведь вопросы "кто я такой?", "куда я иду?", "что для меня в жизни важно?" актуальны в любом возрасте. Это может быть переживание стресса, кризисной ситуации, травмирующего события или потер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Часто бывает важно разобраться с негативными эмоциями, которые препятствуют нормальному течению жизни: переживаниями беспокойства или тревоги, страхами, ощущением подавленности или беспомощ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Рисунок 11" descr="Главная"/>
          <p:cNvPicPr/>
          <p:nvPr/>
        </p:nvPicPr>
        <p:blipFill>
          <a:blip r:embed="rId1"/>
          <a:stretch/>
        </p:blipFill>
        <p:spPr>
          <a:xfrm>
            <a:off x="7054920" y="5084640"/>
            <a:ext cx="132228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1" descr="Главная"/>
          <p:cNvPicPr/>
          <p:nvPr/>
        </p:nvPicPr>
        <p:blipFill>
          <a:blip r:embed="rId2"/>
          <a:stretch/>
        </p:blipFill>
        <p:spPr>
          <a:xfrm>
            <a:off x="4500720" y="498492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1" descr="Главная"/>
          <p:cNvPicPr/>
          <p:nvPr/>
        </p:nvPicPr>
        <p:blipFill>
          <a:blip r:embed="rId3"/>
          <a:stretch/>
        </p:blipFill>
        <p:spPr>
          <a:xfrm>
            <a:off x="2195640" y="498492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" descr="На главную"/>
          <p:cNvPicPr/>
          <p:nvPr/>
        </p:nvPicPr>
        <p:blipFill>
          <a:blip r:embed="rId4"/>
          <a:stretch/>
        </p:blipFill>
        <p:spPr>
          <a:xfrm>
            <a:off x="0" y="0"/>
            <a:ext cx="893880" cy="112536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38:25Z</dcterms:created>
  <dc:creator>Admin</dc:creator>
  <dc:description/>
  <dc:language>en-US</dc:language>
  <cp:lastModifiedBy>LEGION</cp:lastModifiedBy>
  <dcterms:modified xsi:type="dcterms:W3CDTF">2014-11-12T09:44:36Z</dcterms:modified>
  <cp:revision>18</cp:revision>
  <dc:subject/>
  <dc:title>Психолог-консультант</dc:title>
</cp:coreProperties>
</file>