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FA9F-F5EE-4DF2-B3FF-1D748B7730C8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бинет педагога -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1F2F-67D9-44DA-B561-66CD0965BAE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Зона релаксации и снятия эмоционального напря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995A-74F0-4C0F-8C4B-91FB9DFA079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Личная зона психол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5B40-18B5-44DD-9EA2-E8A1AC206F7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Calibri"/>
              </a:rPr>
              <a:t>Информационные ресурсы кабин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о-информационная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ные издания «Школьный психоло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и диагностические компьютер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ообмен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документация, документация педагога-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32C5-E0D1-4679-80A2-F353E3F2C56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Кадров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AF1A-FA8D-46F2-813B-8D02A5C9EFA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Т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аппа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ый це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CB05-6D6C-4128-AEDB-854DBC0705F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аточ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(столы, стулья, стеллаж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AB9F-3B9A-4BA9-BA76-AE21752315B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Calibri"/>
              </a:rPr>
              <a:t>Эффективность использования ресурсов каби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Кадровы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меньшение числа неуспевающих и учащихся «группы риска»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спешная адаптация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эффективность в профессиональном выбор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ff00"/>
                </a:solidFill>
                <a:latin typeface="Calibri"/>
              </a:rPr>
              <a:t>ТСО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кан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Компьютерное тестировани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оздание презентаций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обильность имеющейся мебели для проведения разных форм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Информацион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иск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зработки планов и коррекционно-развивающих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8035-6DEB-4248-87AA-E07EDD95F24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Виды консультативной помощи  педагога-психолога  для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сихологической помощи педаг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 и индивидуальные беседы, сеансы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5A7B-3EF6-44B4-A944-72511D7BACB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овместная работа педагога-психолога и 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сопровождение воспит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сопровождение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сопровождение классных руко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учащихся с проблемами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реабилитация условно осужденных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F505-D086-4CBC-BBC2-DBD99B08474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СПАСИБ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F0B1-AF4C-475C-AF8F-474C82FD9D6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Calibri"/>
              </a:rPr>
              <a:t>КАБИНЕТ ПЕДАГОГА-ПСИХО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CD3F-D7D3-4F25-A8A9-99F5DCBAA6F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ПЕДАГОГ-ПСИХОЛОГ</a:t>
            </a:r>
            <a:br>
              <a:rPr sz="1000"/>
            </a:b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ВЫПОЛНЯЕТ СЛЕДУЮЩИЕ ФУНКЦИ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учащимся в выборе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детям в адаптационны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неуспевающими учащимися и их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4CF7-15F9-469F-8588-C46640ED006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Основные направления рабо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омфортной психологическо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69CA-620D-4009-BEC9-A1E9FF36789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Формы работы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Коррекционно-развивающ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Диагнос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сихологическое сопровождение учащихс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рофориентац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Отслеживание психологического состояния учащихся,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1F1E-083A-4867-BE7F-3DEEA9E5408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труктура кабинета педагога-психол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разделен на несколько рабочих 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Диагностическ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ррекционно-развивающ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3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сультатив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4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елаксации и снятие эмоционального напря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5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Личная зона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53E2-7036-47F3-B1E8-F6601E34C22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Зона диагностической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A2D1-6ACB-417E-8EE7-BFC1B05675D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коррекционно-развивающе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F2D3-8F2F-48BD-852A-C97BF28FDA9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 консультативн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5986-14AE-4B19-B197-0F3CA3C493C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C95F-69D1-4E77-B649-FCD75E2C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97A0-F354-4F7C-896D-7D4B2D41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2EAD-0BFF-4616-AFB0-9603A479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2BA1-3B61-4273-94A7-8EC6E8A0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6673-BA75-4AA4-8D93-527119FB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8D89-2227-43F5-8032-8C80BA2F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B76C-7D95-4B46-9373-6CCA9A81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4157-548A-418E-B2E6-E97E3DC2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D644-5B3A-49AE-B03F-9A4E700A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988F-0C2B-456B-968D-25605F59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71D0-F1F6-47D4-9A4A-506FAA0C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05DD-5806-46B5-A96E-E09F5538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D647-9946-4C5B-8BAC-5900A138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5B4D-5B4E-436F-84AC-99B118DF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47D9-A3B9-42A4-924C-05B94CA8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9986-8D57-40DE-903A-9880242B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9A4D-1B9A-4849-906B-90789D22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9F6A-91A1-4F40-BC22-5BFC1891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0A7C-848B-4942-BCF8-6FD96D4B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0E51-7115-4EE8-867E-B845A54A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271A-EB33-4A2F-95F3-9A82E45F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71E4-17E4-464B-96A8-B99B575A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93DC-054A-4B26-8464-76F3325D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254E-9E38-44E4-B4A4-A298E04D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9769-967E-4947-97FA-1AB417CE3A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8767-342F-4D1A-9117-8DA31C6A5E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784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2984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абинет педагога -психол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86000" y="1792440"/>
            <a:ext cx="4734000" cy="31557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релаксации и снятия эмоционального напряже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DSC01420"/>
          <p:cNvPicPr/>
          <p:nvPr/>
        </p:nvPicPr>
        <p:blipFill>
          <a:blip r:embed="rId1"/>
          <a:stretch/>
        </p:blipFill>
        <p:spPr>
          <a:xfrm>
            <a:off x="762120" y="2971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SC01410"/>
          <p:cNvPicPr/>
          <p:nvPr/>
        </p:nvPicPr>
        <p:blipFill>
          <a:blip r:embed="rId2"/>
          <a:stretch/>
        </p:blipFill>
        <p:spPr>
          <a:xfrm>
            <a:off x="4572000" y="27432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     </a:t>
            </a: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Личная зона 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Информационные ресурсы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равочно-информационная лите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писные издания «Школьный психолог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ые и диагностические компьютерные программ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рн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айлообмен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рмативно-правовая документация, документация педагога-психоло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Кадров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-психол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дминистраци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циальный педаг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блиотекар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ТС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ью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н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тоаппа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зыкальный цент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Материальн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о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даточны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рудование(столы, стулья, стеллаж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Эффективность использования ресурсов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00ff00"/>
                </a:solidFill>
                <a:latin typeface="Garamond"/>
              </a:rPr>
              <a:t>Кадровы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меньшение числа неуспевающих и учащихся «группы риска»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спешная адаптац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эффективность в профессиональном выбор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ff00"/>
                </a:solidFill>
                <a:latin typeface="Garamond"/>
              </a:rPr>
              <a:t>ТСО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канировани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Компьютерное тестировани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оздание презентаций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Материаль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Мобильность имеющейся мебели для проведения разных форм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Информацион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оиск новой информац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Разработки планов и коррекционно-развивающих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Виды консультативной помощи  педагога-психолога  для педагог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сихологической помощи педагога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овые  и индивидуальные беседы, сеансы релакс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овместная работа педагога-психолога и социального педаг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е сопровождение воспитательной сист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-психологическое сопровождение адап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тодическое сопровождение классных руковод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сихолого-педагогическое сопровождение учащихся с проблемами в обуч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дагогическая реабилитация условно осужденных учащих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СПАСИБО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КАБИНЕТ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ПЕДАГОГ-ПСИХОЛОГ</a:t>
            </a:r>
            <a:br>
              <a:rPr sz="2800"/>
            </a:b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ВЫПОЛНЯЕТ СЛЕДУЮЩИЕ ФУНКЦИИ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хран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учащимся в выборе професс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детям в адаптационный пери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абота с неуспевающими учащимися и их родителя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Основные направления работ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Формирование комфортной психологической сред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действие образовательному процесс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беспеч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Формы работы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Коррекционно-развивающ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Диагностическ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сихологическое сопровождение учащихс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рофориентация учащих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Отслеживание психологического состояния учащихся, педагог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труктура кабинета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бинет разделен на несколько рабочих зон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Диагностическ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ррекционно-развивающе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нсультативн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4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Релаксации и снятие эмоционального напря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5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Личная зона психоло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диагностическ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DSC01415"/>
          <p:cNvPicPr/>
          <p:nvPr/>
        </p:nvPicPr>
        <p:blipFill>
          <a:blip r:embed="rId1"/>
          <a:stretch/>
        </p:blipFill>
        <p:spPr>
          <a:xfrm>
            <a:off x="152280" y="2590920"/>
            <a:ext cx="3810240" cy="35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SC01418"/>
          <p:cNvPicPr/>
          <p:nvPr/>
        </p:nvPicPr>
        <p:blipFill>
          <a:blip r:embed="rId2"/>
          <a:stretch/>
        </p:blipFill>
        <p:spPr>
          <a:xfrm>
            <a:off x="3809880" y="2666880"/>
            <a:ext cx="50292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Зона коррекционно-развивающей раб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DSC01409"/>
          <p:cNvPicPr/>
          <p:nvPr/>
        </p:nvPicPr>
        <p:blipFill>
          <a:blip r:embed="rId1"/>
          <a:stretch/>
        </p:blipFill>
        <p:spPr>
          <a:xfrm>
            <a:off x="4419720" y="3505320"/>
            <a:ext cx="4495680" cy="310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01417"/>
          <p:cNvPicPr/>
          <p:nvPr/>
        </p:nvPicPr>
        <p:blipFill>
          <a:blip r:embed="rId2"/>
          <a:stretch/>
        </p:blipFill>
        <p:spPr>
          <a:xfrm>
            <a:off x="304920" y="2895480"/>
            <a:ext cx="3809880" cy="3581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 консультативн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DSC01410"/>
          <p:cNvPicPr/>
          <p:nvPr/>
        </p:nvPicPr>
        <p:blipFill>
          <a:blip r:embed="rId1"/>
          <a:stretch/>
        </p:blipFill>
        <p:spPr>
          <a:xfrm>
            <a:off x="304920" y="2438280"/>
            <a:ext cx="4572000" cy="289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DSC01413"/>
          <p:cNvPicPr/>
          <p:nvPr/>
        </p:nvPicPr>
        <p:blipFill>
          <a:blip r:embed="rId2"/>
          <a:stretch/>
        </p:blipFill>
        <p:spPr>
          <a:xfrm>
            <a:off x="2590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DSC01419"/>
          <p:cNvPicPr/>
          <p:nvPr/>
        </p:nvPicPr>
        <p:blipFill>
          <a:blip r:embed="rId3"/>
          <a:stretch/>
        </p:blipFill>
        <p:spPr>
          <a:xfrm>
            <a:off x="5638680" y="2286000"/>
            <a:ext cx="335304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0:1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