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4210-CD96-481C-8976-6A217416DA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C493-70ED-4439-991A-8DB9C41026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ем похожи педагогическая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держка и психологическая помощ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устойчивого результата требуется время и регуля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достичь результата без сотрудничества с родителям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CC08-3EA3-4EEC-B6FF-5F3AD9ACCE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сихологи, как врачи, могут иметь различный функционал в зависимости от места работы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о-медико-педагогической коми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ическом цент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5736-E70A-4761-98A6-D8BD5EC660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Школьный психолог похож на школьную медсестр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ая медсест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лечит хрон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неотлож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т профилактику и делает приви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нимается длительной глубокой психологической работ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срочную психологическую помощ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психопрофилактику  и психодиагнос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48EB-4FE5-45A3-8657-5D1BE9EF09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то делают другие психо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МПК – помогают определить оптимальный образовательный маршр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сихологических центрах – ведут длительную углублен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ы – помогают взрослым людям справиться с психологическими труд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23B0-8CE1-4479-8D3A-242F6AABDC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Чем может помочь школьный психолог учителю в работе с трудным ребенко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же понять причины поведен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новые приемы взаимодейств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ать, в помощи какого специалиста ребенок нужд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E54B-F5EB-4820-923D-245C960820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ладеет методикой преподавания предмета .. но знает, как справиться со стрес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8E28-50DA-4978-9D9C-F6538FC0A2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Вместе мы можем больш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F89E-0C1F-4233-880B-EF36DB6E93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препятствует взаимодействию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алистические ожид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217D-0264-4E4F-8FDA-352AE192C8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DEA2-4DDF-4D54-9E97-B90EF606ED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едагогам – о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рассказ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специфика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возможности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одержания деятельности школьного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умол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боты с конкретным ребен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и принципы использования  психодиагностических метод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AC81-9DD6-4965-9594-281FAF7620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важаемые коллеги! </a:t>
            </a:r>
            <a:br>
              <a:rPr sz="1200"/>
            </a:b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441C-626F-4673-B109-1E78B23547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B3D3-8D00-48F5-A10E-42B0D5B265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дагогическая поддерж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реальной жизненной ситу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(О.С.Газм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для решения воспитательных и образовательных зада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5968-E0E7-4097-8222-F8AED2DE79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ая помощ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искусственно соз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24EA-5E9A-4171-8514-8E3C01C5AC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ддержка – это беседа, совет, при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AC6B-4C3F-4B68-9BFC-9104AEC9A5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26A-5DAC-465B-A8E1-B7D77F7D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DBA-FDA4-47C2-BA60-87E910DE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66C-2886-469F-8C8A-553162C9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FBA-5359-43FD-9C09-6579C042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0E7-5AED-4DF7-942C-2FDB57E1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83C-27D3-4172-9EB5-CEE5BADA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09D-ADDF-4634-BF5E-61328412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061-9BF5-4C8F-928E-CF198688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9F1-26B8-4A15-BBF7-DCFAD4CC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240-36A7-4A6B-BF14-A1721068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DBA-1DA8-4186-8E77-8A2D87A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F9F-BDB1-4484-BFF6-5E697AC2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BA67-FF4D-4153-97CD-2A6D428BB1C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F30C-1D46-40B3-BF6C-F78A5F8322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95816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57280" y="549000"/>
            <a:ext cx="64627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istr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str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Чем похожи педагогическая </a:t>
            </a:r>
            <a:r>
              <a:rPr b="0" lang="en-US" sz="4000" spc="-1" strike="noStrike">
                <a:solidFill>
                  <a:srgbClr val="0000cc"/>
                </a:solidFill>
                <a:latin typeface="Mistral"/>
              </a:rPr>
              <a:t>     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поддержка и психологическая помощь?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3240" y="2500200"/>
            <a:ext cx="44611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получения устойчивого результата требуется время и регуляр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возможно достичь результата без сотрудничества с родителями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2604960"/>
            <a:ext cx="3888000" cy="2913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7640" y="907560"/>
            <a:ext cx="56707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Mistral"/>
              </a:rPr>
              <a:t>       </a:t>
            </a: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Психологи, как врачи, могут иметь различный функционал в зависимости от места работы   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2428920"/>
            <a:ext cx="8186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Школьный психол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о-медико-педагогической комисс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ическом центр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3160" y="571320"/>
            <a:ext cx="55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Школьный психолог похож на школьную медсестру: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03848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ая медсестр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лечит хронических заболеван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неотложную помощ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дет профилактику и делает привив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14880" y="2285640"/>
            <a:ext cx="49291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ый психолог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занимается длительной глубокой психологической работо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срочную психологическую помощ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водит психопрофилактику  и психодиагности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073240" y="1073160"/>
            <a:ext cx="658332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840" y="2356920"/>
            <a:ext cx="84009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МПК – помогают определить оптимальный образовательный маршру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сихологических центрах – ведут длительную углубленную работ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ы – помогают взрослым людям справиться с психологическими трудностя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14440" y="928440"/>
            <a:ext cx="5443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Чем может помочь школьный психолог учителю в работе с трудным ребенком?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414036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56000" y="2205000"/>
            <a:ext cx="4330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лубже понять причины поведения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йти новые приемы взаимодейств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сказать, в помощи какого специалиста ребенок нуждаетс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250920" y="2685960"/>
            <a:ext cx="381636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4" descr=""/>
          <p:cNvPicPr/>
          <p:nvPr/>
        </p:nvPicPr>
        <p:blipFill>
          <a:blip r:embed="rId1"/>
          <a:stretch/>
        </p:blipFill>
        <p:spPr>
          <a:xfrm>
            <a:off x="1712880" y="774720"/>
            <a:ext cx="6943680" cy="1176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ладеет методикой преподавания предмета .. но знает, как справиться со стрессо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7320" y="642600"/>
            <a:ext cx="58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Вместе мы можем больше!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403280" y="2135160"/>
            <a:ext cx="6769080" cy="3510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096320" cy="19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Mistral"/>
              </a:rPr>
              <a:t>Что препятствует взаимодействию</a:t>
            </a:r>
            <a:r>
              <a:rPr b="0" lang="ru-RU" sz="4000" spc="-1" strike="noStrike">
                <a:solidFill>
                  <a:srgbClr val="000099"/>
                </a:solidFill>
                <a:latin typeface="Mistral"/>
              </a:rPr>
              <a:t>?</a:t>
            </a:r>
            <a:r>
              <a:rPr b="0" lang="ru-RU" sz="40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18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реалистические ожидания педагог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3640" y="620280"/>
            <a:ext cx="509436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673520" y="2205000"/>
            <a:ext cx="322740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2146320" y="847800"/>
            <a:ext cx="6510240" cy="117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рассказыв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ая специфика психологической помощ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ессиональные возможности психолог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содержания деятельности школьного психоло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 чем умолч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работы с конкретным ребенко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и принципы использования  психодиагностических методи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130120"/>
            <a:ext cx="784692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Уважаемые коллеги! </a:t>
            </a: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3600"/>
            </a:br>
            <a:endParaRPr b="0" lang="en-US" sz="48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313704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620640"/>
            <a:ext cx="657216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ая поддержка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в реальной жизненной ситуаци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(О.С.Газман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обходима для решения воспитательных и образовательных задач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0200" y="620640"/>
            <a:ext cx="61581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Психологическая помощь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в искусственно созданных условия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42760" y="620640"/>
            <a:ext cx="6015240" cy="22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81867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едагогическая поддержка – это беседа, совет, пример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19:31Z</dcterms:created>
  <dc:creator>User</dc:creator>
  <dc:description>Корпорация Майкрософт</dc:description>
  <cp:keywords>Корпорация Майкрософт</cp:keywords>
  <dc:language>en-US</dc:language>
  <cp:lastModifiedBy>LEGION</cp:lastModifiedBy>
  <dcterms:modified xsi:type="dcterms:W3CDTF">2014-11-12T10:12:24Z</dcterms:modified>
  <cp:revision>16</cp:revision>
  <dc:subject>Шаблон оформления</dc:subject>
  <dc:title>ПУТИ ОПТИМ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791049</vt:lpwstr>
  </property>
</Properties>
</file>