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22.png" ContentType="image/png"/>
  <Override PartName="/ppt/media/image4.jpeg" ContentType="image/jpeg"/>
  <Override PartName="/ppt/media/image28.png" ContentType="image/png"/>
  <Override PartName="/ppt/media/image29.jpeg" ContentType="image/jpeg"/>
  <Override PartName="/ppt/media/image5.png" ContentType="image/png"/>
  <Override PartName="/ppt/media/image7.png" ContentType="image/png"/>
  <Override PartName="/ppt/media/image32.png" ContentType="image/png"/>
  <Override PartName="/ppt/media/image8.png" ContentType="image/png"/>
  <Override PartName="/ppt/media/image30.gif" ContentType="image/gif"/>
  <Override PartName="/ppt/media/image13.png" ContentType="image/png"/>
  <Override PartName="/ppt/media/image10.gif" ContentType="image/gif"/>
  <Override PartName="/ppt/media/image9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15.png" ContentType="image/png"/>
  <Override PartName="/ppt/media/image3.png" ContentType="image/png"/>
  <Override PartName="/ppt/media/image12.gif" ContentType="image/gif"/>
  <Override PartName="/ppt/media/image17.jpeg" ContentType="image/jpe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gif" ContentType="image/gif"/>
  <Override PartName="/ppt/media/image16.png" ContentType="image/png"/>
  <Override PartName="/ppt/media/image18.png" ContentType="image/png"/>
  <Override PartName="/ppt/media/image20.jpeg" ContentType="image/jpeg"/>
  <Override PartName="/ppt/media/image6.gif" ContentType="image/gif"/>
  <Override PartName="/ppt/media/image2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9F77-F191-46A6-8EDB-4E3DFC9A27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Calibri"/>
              </a:rPr>
              <a:t>Человек – личность</a:t>
            </a:r>
            <a:br>
              <a:rPr sz="40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обществознания в 6 кла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готовила учитель обществ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У СОШ № 4 с.Малые Яг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менко Анжелика Анатол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D6B4-577D-4F65-9CA0-D6D24583A3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 изученного материала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C376-3E05-44C6-9422-96C4DCF355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с.24 №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0319-A99D-4143-BF8B-C9F3DE009F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ая личность должна быть нравственной и иметь положительные  чер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но уважать себя, но к своим поступкам относиться критическ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 это хорошо! Человек должен иметь собственные черты  и отличаться от других, это делает его интересны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8A81-9D5D-4DBF-B071-E44FE03C24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учить § 2. Человек — личность, ответить на вопросы к § 2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ьменно в тетрад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ить на вопросы 1-5, задание на карточ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2706-1593-44BE-ADEF-B8B7F9C615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овать формированию у школьников представлений о человеке как социальном существ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казать, что человек принадлежит обществу, живет и развивается в не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9423-0807-4B8D-8A67-D0D6DA0FC2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прос домашенего материала:</a:t>
            </a:r>
            <a:br>
              <a:rPr sz="1200"/>
            </a:b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Зачем человек рожд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Человеческий ребенок в момент рождения не человек, а только кандидат 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А.Пьеро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2023-EF50-46F4-A462-80D0183AD3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ьте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нужно ребенку для того, чтобы он развивался как челов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м человек отличается от животны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репи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87362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Georgia"/>
              </a:rPr>
              <a:t>Человек обладает мышлением и членораздельной реч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Georgia"/>
              </a:rPr>
              <a:t>Преобразует окружающую действительность, создает необходимые ему материальные и духовные блага и ц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Georgia"/>
              </a:rPr>
              <a:t>Человек воспроизводит не только свою биологическую, но и социальную сущность и поэтому должен удовлетворять не только свои материальные, но и духовные потре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Georgia"/>
              </a:rPr>
              <a:t>Способен изготавливать орудия труда и использовать их как средство производства материальных бл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937A-E476-40C3-A555-C752CDBD73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ьте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такое наследственнос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Можно ли влиять на наследственность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бесцельно прожитая жизнь не приносит человеку счасть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8E2E-2BB6-45EA-A33F-43A3A67CA8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учение нового материа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Личнос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стойчивая систем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циально значимых черт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ющих человека, как члена того или ино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 субъек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ношени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сознательн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7546-075C-4566-9930-744825454C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«Картинная галере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6C72-C5BA-4F5F-88E1-424A78D866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Индивидуальность – плох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ос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еповторимо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оеобраз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тличительны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обен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нутренние и внешние)от друг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A51C-9CA3-40B2-B3B6-B686F2E9BB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ои фильма «Приключения Электроника» мальчик Сережа Сыроежкин и робот Электроник внешне были по­хожи друг на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нужно знать про героев, чтобы определить, чем различаются их личн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482B-2E30-4423-90B8-0270A1E6E9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944B-B05E-4DF3-B368-49EC7251E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27B5-A743-4711-A0EF-E4DC02D7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F86B-980D-4F90-BC66-78DE163B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A844-F366-4AF8-89C6-C7B9CCAEA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56D8-BCF8-486E-B15B-7E15AE23B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609F-0525-4C3C-8244-303E41D5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1558-8DB5-4967-B631-4BED6BA8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5C55-7E22-43D9-A532-C741B003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4FE2-81D9-4D48-927B-366FD791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EBC6-A4B5-4353-805F-9862F26C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9EF7-2DEB-460E-9443-3C5D09E4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46F3-0194-41AB-9F22-A6A484B3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3DAE-FD98-44CC-9264-8BB74FEB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8CE9-1058-48F4-972B-901D4FF7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4D0A-6992-4461-B3D2-2A88FA91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6541-D57B-4927-87AD-05CA3126E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BB9E-5D9C-4BD4-B752-9F6B7D570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BF1A4-6362-49D7-9E56-AF8FD188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A4926-742B-4BE2-B75F-567FB416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2D62C-B2CD-4660-BB7A-B486F8D2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77CCF-D3D6-4025-A967-DB43BBCB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602C8-C000-4CD7-8893-196D2B84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2BF9-81DA-4671-AFB6-D4B32CA9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8A134-0CB9-4405-8784-D8FCC3D9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ED32F-146A-43F0-9FFB-89D57EA8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12C55-BA8D-496A-A18A-78C030C9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E2090-603F-4856-B583-C51A47DA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B5A5E-29D2-450A-8031-CBD9E1D2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75669-2D5E-48E6-BC40-D172334E8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C3955-C3C1-4516-B3F6-7B86CA56B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934B8-46F5-4206-96CC-AFB9FF5F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EBFF5-54A0-4EA8-A4D8-EE81A712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63E95-E656-4EE0-8C41-0662DC9C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994E-5D13-48C3-A856-E11B8C8E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0331A-9CCF-428A-8C71-E26DFDFA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55567-FD80-4BA6-A0E2-75152B78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20C27-441B-4375-B9A1-7A63B83B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EE2F8-5EC7-46D5-824E-8EAD00DC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F8AD2-7F23-4E5B-AD56-4069DFA9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60801-46BC-4443-8B9B-9FACA992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57127-4FCF-40DB-B5AD-4C88EC86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CB543-BE7C-4CF1-80FB-9EE814023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1D7C0-2E40-4D57-95D5-1796AF006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B7A5C-712B-464C-8243-D9A795E17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582D-94E5-4F43-932F-80092968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74A85-FB49-4384-9F88-ECC808A3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A7079-BA9A-4C49-8EA8-4B932F11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C043D-CBD1-4912-AAA3-90DF57B8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A09FE-10BB-4C0D-9531-B58B73EA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B96B6-5148-4358-8C0C-84F79F05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5CC8F-DFEB-45AB-8697-7E2E9B40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B0D17-DC0C-4CF3-9F7A-EDAD89CE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1E2A0-9826-4475-A7B4-D4B5505A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E3CC2-C638-4223-9A8F-CF6469B2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A13F2-3ECF-4DBD-9EE4-07DF5525A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3B62-292A-4F5A-B2D0-94DA68C5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4D713-4F3F-4916-8817-0FD904BCC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82C8-3675-4656-9DC3-F651DAF6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B8C9-9D29-4623-BE34-2E10A3AC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0A8E-6606-4155-A0D1-2CA74BD9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2A96-AA5D-4AC4-A38D-C66C7C93306B}" type="datetime"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7169-2075-45DE-BC4B-AE7F89FB144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45D9-DED8-467C-8B9C-A80A9E3F7426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1411-94F5-4A37-9A0B-EB2C6F07A8AE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CF2C-D841-45A0-8328-EE32E8BA5CDA}" type="datetime"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0C4F-BD2A-4F3E-8353-AF1ED5E1BCCF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5DD3-937E-4390-8409-831695AF3382}" type="datetime"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FB89-CCAA-4D82-A4C9-5ABA82F5B8A8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1FE1-D83B-4522-839C-51AE19C4D8C0}" type="datetime"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F0F1-1CBE-45E0-BE10-E2BE4E31CD23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-1427040" y="706320"/>
            <a:ext cx="8235720" cy="29084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-1357200" y="5000400"/>
            <a:ext cx="10501200" cy="1857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rebuchet MS"/>
              </a:rPr>
              <a:t>      </a:t>
            </a:r>
            <a:r>
              <a:rPr b="1" lang="ru-RU" sz="2200" spc="-1" strike="noStrike">
                <a:solidFill>
                  <a:srgbClr val="ffffff"/>
                </a:solidFill>
                <a:latin typeface="Trebuchet MS"/>
              </a:rPr>
              <a:t>Урок обществознания в 6 классе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rebuchet MS"/>
              </a:rPr>
              <a:t>Подготовила учитель обществознания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rebuchet MS"/>
              </a:rPr>
              <a:t>МОУ СОШ № 4 с.Малые Ягуры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rebuchet MS"/>
              </a:rPr>
              <a:t>Фоменко Анжелика Анатольевн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4" descr="13"/>
          <p:cNvPicPr/>
          <p:nvPr/>
        </p:nvPicPr>
        <p:blipFill>
          <a:blip r:embed="rId2"/>
          <a:stretch/>
        </p:blipFill>
        <p:spPr>
          <a:xfrm>
            <a:off x="5715000" y="1928880"/>
            <a:ext cx="2928960" cy="292896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2"/>
          <p:cNvSpPr/>
          <p:nvPr/>
        </p:nvSpPr>
        <p:spPr>
          <a:xfrm>
            <a:off x="2819520" y="6558120"/>
            <a:ext cx="292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Рисунок 7" descr="image_tmp.jpg"/>
          <p:cNvPicPr/>
          <p:nvPr/>
        </p:nvPicPr>
        <p:blipFill>
          <a:blip r:embed="rId1"/>
          <a:srcRect l="0" t="0" r="129" b="0"/>
          <a:stretch/>
        </p:blipFill>
        <p:spPr>
          <a:xfrm>
            <a:off x="0" y="3898800"/>
            <a:ext cx="2101680" cy="2959200"/>
          </a:xfrm>
          <a:prstGeom prst="rect">
            <a:avLst/>
          </a:prstGeom>
          <a:ln w="0">
            <a:noFill/>
          </a:ln>
        </p:spPr>
      </p:pic>
      <p:pic>
        <p:nvPicPr>
          <p:cNvPr id="268" name="Заголовок 3" descr=""/>
          <p:cNvPicPr/>
          <p:nvPr/>
        </p:nvPicPr>
        <p:blipFill>
          <a:blip r:embed="rId2"/>
          <a:stretch/>
        </p:blipFill>
        <p:spPr>
          <a:xfrm>
            <a:off x="360360" y="-109440"/>
            <a:ext cx="8143920" cy="1895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9" name=""/>
          <p:cNvGraphicFramePr/>
          <p:nvPr/>
        </p:nvGraphicFramePr>
        <p:xfrm>
          <a:off x="428760" y="2071800"/>
          <a:ext cx="7238880" cy="1662120"/>
        </p:xfrm>
        <a:graphic>
          <a:graphicData uri="http://schemas.openxmlformats.org/drawingml/2006/table">
            <a:tbl>
              <a:tblPr/>
              <a:tblGrid>
                <a:gridCol w="3619440"/>
                <a:gridCol w="3619440"/>
              </a:tblGrid>
              <a:tr h="714960">
                <a:tc>
                  <a:txBody>
                    <a:bodyPr lIns="80280" rIns="802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  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достоин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80280" rIns="802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      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оро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947160">
                <a:tc>
                  <a:txBody>
                    <a:bodyPr lIns="80280" rIns="802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80280" rIns="802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pic>
        <p:nvPicPr>
          <p:cNvPr id="270" name="Picture 2" descr=""/>
          <p:cNvPicPr/>
          <p:nvPr/>
        </p:nvPicPr>
        <p:blipFill>
          <a:blip r:embed="rId3"/>
          <a:stretch/>
        </p:blipFill>
        <p:spPr>
          <a:xfrm>
            <a:off x="6357960" y="3998880"/>
            <a:ext cx="1944720" cy="264636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6" descr="1214322368_00.jpg"/>
          <p:cNvPicPr/>
          <p:nvPr/>
        </p:nvPicPr>
        <p:blipFill>
          <a:blip r:embed="rId4"/>
          <a:stretch/>
        </p:blipFill>
        <p:spPr>
          <a:xfrm>
            <a:off x="3143160" y="4460760"/>
            <a:ext cx="2062080" cy="2397240"/>
          </a:xfrm>
          <a:prstGeom prst="rect">
            <a:avLst/>
          </a:prstGeom>
          <a:ln w="0">
            <a:noFill/>
          </a:ln>
        </p:spPr>
      </p:pic>
      <p:pic>
        <p:nvPicPr>
          <p:cNvPr id="272" name="Заголовок 3" descr=""/>
          <p:cNvPicPr/>
          <p:nvPr/>
        </p:nvPicPr>
        <p:blipFill>
          <a:blip r:embed="rId5"/>
          <a:stretch/>
        </p:blipFill>
        <p:spPr>
          <a:xfrm>
            <a:off x="-291960" y="0"/>
            <a:ext cx="9009000" cy="202392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C:\Documents and Settings\Admin\Мои документы\Мои рисунки\картинки Леры\8.jpeg"/>
          <p:cNvPicPr/>
          <p:nvPr/>
        </p:nvPicPr>
        <p:blipFill>
          <a:blip r:embed="rId2"/>
          <a:stretch/>
        </p:blipFill>
        <p:spPr>
          <a:xfrm>
            <a:off x="2571840" y="2857680"/>
            <a:ext cx="3948120" cy="337968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2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5" descr="C:\Documents and Settings\Admin\Мои документы\Мои рисунки\Картинки ЛЕТО\солнце.gif"/>
          <p:cNvPicPr/>
          <p:nvPr/>
        </p:nvPicPr>
        <p:blipFill>
          <a:blip r:embed="rId1"/>
          <a:stretch/>
        </p:blipFill>
        <p:spPr>
          <a:xfrm>
            <a:off x="0" y="0"/>
            <a:ext cx="4762440" cy="3895560"/>
          </a:xfrm>
          <a:prstGeom prst="rect">
            <a:avLst/>
          </a:prstGeom>
          <a:ln w="0">
            <a:noFill/>
          </a:ln>
        </p:spPr>
      </p:pic>
      <p:pic>
        <p:nvPicPr>
          <p:cNvPr id="278" name="Заголовок 3" descr=""/>
          <p:cNvPicPr/>
          <p:nvPr/>
        </p:nvPicPr>
        <p:blipFill>
          <a:blip r:embed="rId2"/>
          <a:stretch/>
        </p:blipFill>
        <p:spPr>
          <a:xfrm>
            <a:off x="4468680" y="324000"/>
            <a:ext cx="3230640" cy="14317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457200" y="3000240"/>
            <a:ext cx="72388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ильная личность должна быть нравственной и иметь положительные  черты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ужно уважать себя, но к своим поступкам относиться критически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ндивидуальность это хорошо! Человек должен иметь собственные черты  и отличаться от других, это делает его интересным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Місце для нижнього колонтитула 2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8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457200" y="2000160"/>
            <a:ext cx="72388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ыучить § 2. Человек — личность, ответить на вопросы к § 2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исьменно в тетради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тветить на вопросы 1-5, задание на карточке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Місце для нижнього колонтитула 2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2" descr=""/>
          <p:cNvPicPr/>
          <p:nvPr/>
        </p:nvPicPr>
        <p:blipFill>
          <a:blip r:embed="rId1"/>
          <a:stretch/>
        </p:blipFill>
        <p:spPr>
          <a:xfrm>
            <a:off x="285840" y="3645000"/>
            <a:ext cx="8229600" cy="1439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000080"/>
            <a:ext cx="804384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способствовать формированию у школьников представлений о человеке как социальном существе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рассказать, что человек принадлежит обществу, живет и развивается в не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Содержимое 1"/>
          <p:cNvSpPr/>
          <p:nvPr/>
        </p:nvSpPr>
        <p:spPr>
          <a:xfrm>
            <a:off x="214200" y="5000760"/>
            <a:ext cx="83584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rebuchet MS"/>
              </a:rPr>
              <a:t>расширить знания учащихся о влиянии социальной среды на человек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Заголовок 2" descr=""/>
          <p:cNvPicPr/>
          <p:nvPr/>
        </p:nvPicPr>
        <p:blipFill>
          <a:blip r:embed="rId2"/>
          <a:stretch/>
        </p:blipFill>
        <p:spPr>
          <a:xfrm>
            <a:off x="639720" y="-49320"/>
            <a:ext cx="8229600" cy="115884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985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Человеческий ребенок в момент рождения не человек, а только кандидат в человек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А.Пьерон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Picture 3" descr="C:\Documents and Settings\Спиридонова Наталья\Мои документы\Мои рисунки\Ангел.gif"/>
          <p:cNvPicPr/>
          <p:nvPr/>
        </p:nvPicPr>
        <p:blipFill>
          <a:blip r:embed="rId2"/>
          <a:stretch/>
        </p:blipFill>
        <p:spPr>
          <a:xfrm>
            <a:off x="3000240" y="3500280"/>
            <a:ext cx="2872080" cy="298800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212760" y="0"/>
            <a:ext cx="7486560" cy="12985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142920" y="1213920"/>
            <a:ext cx="82152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Что нужно ребенку для того, чтобы он развивался как человек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Чем человек отличается от животных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Закрепим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873624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c66bb"/>
                </a:solidFill>
                <a:latin typeface="Georgia"/>
              </a:rPr>
              <a:t>Человек обладает мышлением и членораздельной речью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c66bb"/>
                </a:solidFill>
                <a:latin typeface="Georgia"/>
              </a:rPr>
              <a:t>Преобразует окружающую действительность, создает необходимые ему материальные и духовные блага и ценност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c66bb"/>
                </a:solidFill>
                <a:latin typeface="Georgia"/>
              </a:rPr>
              <a:t>Человек воспроизводит не только свою биологическую, но и социальную сущность и поэтому должен удовлетворять не только свои материальные, но и духовные потребност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c66bb"/>
                </a:solidFill>
                <a:latin typeface="Georgia"/>
              </a:rPr>
              <a:t>Способен изготавливать орудия труда и использовать их как средство производства материальных благ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Місце для нижнього колонтитула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212760" y="0"/>
            <a:ext cx="7486560" cy="1298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142920" y="1928880"/>
            <a:ext cx="82152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Что такое наследственность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Можно ли влиять на наследственность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Почему бесцельно прожитая жизнь не приносит человеку счастья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Picture 2" descr="C:\Documents and Settings\Admin\Мои документы\Мои рисунки\Картинки ЛЕТО\54d3bf71906a.gif"/>
          <p:cNvPicPr/>
          <p:nvPr/>
        </p:nvPicPr>
        <p:blipFill>
          <a:blip r:embed="rId2"/>
          <a:stretch/>
        </p:blipFill>
        <p:spPr>
          <a:xfrm>
            <a:off x="5692680" y="3357720"/>
            <a:ext cx="2743200" cy="321444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3" descr=""/>
          <p:cNvPicPr/>
          <p:nvPr/>
        </p:nvPicPr>
        <p:blipFill>
          <a:blip r:embed="rId1"/>
          <a:stretch/>
        </p:blipFill>
        <p:spPr>
          <a:xfrm>
            <a:off x="-291960" y="139680"/>
            <a:ext cx="9435960" cy="12682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214200" y="2071800"/>
            <a:ext cx="814392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Лич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стойчивая систем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циально значимых черт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ющих человека, как члена того или иного обществ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 субъект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ношен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сознательной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ятельност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TextBox 5"/>
          <p:cNvSpPr/>
          <p:nvPr/>
        </p:nvSpPr>
        <p:spPr>
          <a:xfrm>
            <a:off x="214200" y="178596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Познакомьтесь с текстом «Что такое личнос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C:\Documents and Settings\Admin\Мои документы\Мои рисунки\Картинки ЛЕТО\022.gif"/>
          <p:cNvPicPr/>
          <p:nvPr/>
        </p:nvPicPr>
        <p:blipFill>
          <a:blip r:embed="rId2"/>
          <a:stretch/>
        </p:blipFill>
        <p:spPr>
          <a:xfrm>
            <a:off x="5357880" y="3214800"/>
            <a:ext cx="2452680" cy="3429000"/>
          </a:xfrm>
          <a:prstGeom prst="rect">
            <a:avLst/>
          </a:prstGeom>
          <a:ln w="0">
            <a:noFill/>
          </a:ln>
        </p:spPr>
      </p:pic>
      <p:pic>
        <p:nvPicPr>
          <p:cNvPr id="251" name="Заголовок 3" descr=""/>
          <p:cNvPicPr/>
          <p:nvPr/>
        </p:nvPicPr>
        <p:blipFill>
          <a:blip r:embed="rId3"/>
          <a:stretch/>
        </p:blipFill>
        <p:spPr>
          <a:xfrm>
            <a:off x="-371520" y="0"/>
            <a:ext cx="9515520" cy="163368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2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3" dur="3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9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3" descr=""/>
          <p:cNvPicPr/>
          <p:nvPr/>
        </p:nvPicPr>
        <p:blipFill>
          <a:blip r:embed="rId1"/>
          <a:stretch/>
        </p:blipFill>
        <p:spPr>
          <a:xfrm>
            <a:off x="128520" y="-208080"/>
            <a:ext cx="7570800" cy="2049480"/>
          </a:xfrm>
          <a:prstGeom prst="rect">
            <a:avLst/>
          </a:prstGeom>
          <a:ln w="0">
            <a:noFill/>
          </a:ln>
        </p:spPr>
      </p:pic>
      <p:sp>
        <p:nvSpPr>
          <p:cNvPr id="254" name="TextBox 5"/>
          <p:cNvSpPr/>
          <p:nvPr/>
        </p:nvSpPr>
        <p:spPr>
          <a:xfrm>
            <a:off x="500040" y="2571840"/>
            <a:ext cx="3929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Составьте словесный портрет девушек, изображенных на полотнах В.А.Серова и З.Е.Серебряко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Работа с учебник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С.18-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357120" y="1428840"/>
            <a:ext cx="4214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34b73"/>
                </a:solidFill>
                <a:latin typeface="Trebuchet MS"/>
              </a:rPr>
              <a:t>РАЗВИВАЕМ ПСИХОЛОГИЧЕСКУЮ ЗОРКОСТЬ И СЛОВАРНЫЙ ЗАП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6" descr="C:\Documents and Settings\Admin\Мои документы\Мои рисунки\Лица\13432.jpg"/>
          <p:cNvPicPr/>
          <p:nvPr/>
        </p:nvPicPr>
        <p:blipFill>
          <a:blip r:embed="rId2"/>
          <a:stretch/>
        </p:blipFill>
        <p:spPr>
          <a:xfrm>
            <a:off x="4572000" y="1285920"/>
            <a:ext cx="4416480" cy="407196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3" descr=""/>
          <p:cNvPicPr/>
          <p:nvPr/>
        </p:nvPicPr>
        <p:blipFill>
          <a:blip r:embed="rId1"/>
          <a:stretch/>
        </p:blipFill>
        <p:spPr>
          <a:xfrm>
            <a:off x="542880" y="274680"/>
            <a:ext cx="8143920" cy="14382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457200" y="148104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еповторимо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оеобраз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тличительны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обен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нутренние и внешние)от других людей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5929200" y="3214800"/>
            <a:ext cx="2327400" cy="164304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5" descr="Tegos_glam_13.jpg"/>
          <p:cNvPicPr/>
          <p:nvPr/>
        </p:nvPicPr>
        <p:blipFill>
          <a:blip r:embed="rId3"/>
          <a:stretch/>
        </p:blipFill>
        <p:spPr>
          <a:xfrm>
            <a:off x="857160" y="3286080"/>
            <a:ext cx="2605320" cy="150012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6" descr="Ангел30(1).jpg"/>
          <p:cNvPicPr/>
          <p:nvPr/>
        </p:nvPicPr>
        <p:blipFill>
          <a:blip r:embed="rId4"/>
          <a:stretch/>
        </p:blipFill>
        <p:spPr>
          <a:xfrm>
            <a:off x="3357720" y="3857760"/>
            <a:ext cx="2523960" cy="233028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212760" y="0"/>
            <a:ext cx="7486560" cy="1438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Герои фильма «Приключения Электроника» мальчик Сережа Сыроежкин и робот Электроник внешне были по­хожи друг на друг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то нужно знать про героев, чтобы определить, чем различаются их личности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Місце для нижнього колонтитула 2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7T20:07:22Z</dcterms:created>
  <dc:creator>Спиридонова Наталья Николаевна</dc:creator>
  <dc:description/>
  <dc:language>en-US</dc:language>
  <cp:lastModifiedBy>LEGION</cp:lastModifiedBy>
  <dcterms:modified xsi:type="dcterms:W3CDTF">2014-11-12T11:19:29Z</dcterms:modified>
  <cp:revision>23</cp:revision>
  <dc:subject/>
  <dc:title>Человек – личност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218233</vt:lpwstr>
  </property>
  <property fmtid="{D5CDD505-2E9C-101B-9397-08002B2CF9AE}" pid="3" name="NXPowerLiteSettings">
    <vt:lpwstr>F6000400038000</vt:lpwstr>
  </property>
  <property fmtid="{D5CDD505-2E9C-101B-9397-08002B2CF9AE}" pid="4" name="NXPowerLiteVersion">
    <vt:lpwstr>D4.3.1</vt:lpwstr>
  </property>
</Properties>
</file>