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22.png" ContentType="image/png"/>
  <Override PartName="/ppt/media/image4.jpeg" ContentType="image/jpeg"/>
  <Override PartName="/ppt/media/image28.png" ContentType="image/png"/>
  <Override PartName="/ppt/media/image29.jpeg" ContentType="image/jpeg"/>
  <Override PartName="/ppt/media/image5.png" ContentType="image/png"/>
  <Override PartName="/ppt/media/image7.png" ContentType="image/png"/>
  <Override PartName="/ppt/media/image32.png" ContentType="image/png"/>
  <Override PartName="/ppt/media/image8.png" ContentType="image/png"/>
  <Override PartName="/ppt/media/image30.gif" ContentType="image/gif"/>
  <Override PartName="/ppt/media/image13.png" ContentType="image/png"/>
  <Override PartName="/ppt/media/image10.gif" ContentType="image/gif"/>
  <Override PartName="/ppt/media/image9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15.png" ContentType="image/png"/>
  <Override PartName="/ppt/media/image3.png" ContentType="image/png"/>
  <Override PartName="/ppt/media/image12.gif" ContentType="image/gif"/>
  <Override PartName="/ppt/media/image17.jpeg" ContentType="image/jpe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gif" ContentType="image/gif"/>
  <Override PartName="/ppt/media/image16.png" ContentType="image/png"/>
  <Override PartName="/ppt/media/image18.png" ContentType="image/png"/>
  <Override PartName="/ppt/media/image20.jpeg" ContentType="image/jpeg"/>
  <Override PartName="/ppt/media/image6.gif" ContentType="image/gif"/>
  <Override PartName="/ppt/media/image2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268C-2665-4031-BD2D-94B1717B81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Calibri"/>
              </a:rPr>
              <a:t>Человек – личность</a:t>
            </a:r>
            <a:br>
              <a:rPr sz="40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обществознания в 6 кла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готовила учитель обществ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У СОШ № 4 с.Малые Яг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менко Анжелика Анато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0CEA-D93E-4E60-90B7-534040EC20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изученного материала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8F78-CFBE-4BFA-BF71-74F5E04C41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с.24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E53B-2297-443F-A0A8-E1B1868041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ая личность должна быть нравственной и иметь положительные  чер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о уважать себя, но к своим поступкам относиться критическ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 это хорошо! Человек должен иметь собственные черты  и отличаться от других, это делает его интересны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3EB2-CA65-4816-9006-89283A84D4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учить § 2. Человек — личность, ответить на вопросы к § 2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енно в тетрад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ить на вопросы 1-5, задание на карточ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8C84-8DBD-4D42-84CE-DB1D3EB559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овать формированию у школьников представлений о человеке как социальном существ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зать, что человек принадлежит обществу, живет и развивается в не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DC41-4D04-4CE2-A40D-4F664B15F8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прос домашенего материала:</a:t>
            </a:r>
            <a:br>
              <a:rPr sz="1200"/>
            </a:b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Зачем человек рожд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Человеческий ребенок в момент рождения не человек, а только кандидат 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А.Пьеро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0C7B-9A56-4690-A57E-29E14FAB9C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нужно ребенку для того, чтобы он развивался как челов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м человек отличается от животны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епи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87362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Georgia"/>
              </a:rPr>
              <a:t>Человек обладает мышлением и членораздельной реч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Georgia"/>
              </a:rPr>
              <a:t>Преобразует окружающую действительность, создает необходимые ему материальные и духовные блага и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Georgia"/>
              </a:rPr>
              <a:t>Человек воспроизводит не только свою биологическую, но и социальную сущность и поэтому должен удовлетворять не только свои материальные, но и духовные потре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Georgia"/>
              </a:rPr>
              <a:t>Способен изготавливать орудия труда и использовать их как средство производства материальных бл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C249-A6C0-412E-BF3E-917F55FB8A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такое наследствен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Можно ли влиять на наследственность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бесцельно прожитая жизнь не приносит человеку счасть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4F95-475F-4ED3-A0C6-AFD1871475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учение нового материа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Личнос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стойчивая систем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иально значимых черт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ющих человека, как члена того или ино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 субъек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ношен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ознательн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CC2E-5AB6-4683-8459-B7C6429BC0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«Картинная галере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1679-6356-4460-AA49-32FA246AFE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48a54"/>
                </a:solidFill>
                <a:latin typeface="Calibri"/>
              </a:rPr>
              <a:t>Индивидуальность – плох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ос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повторимо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оеобраз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тличительны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обен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нутренние и внешние)от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BD6C-0620-46F4-A268-E9E333D1B3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ои фильма «Приключения Электроника» мальчик Сережа Сыроежкин и робот Электроник внешне были по­хожи друг на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ужно знать про героев, чтобы определить, чем различаются их личн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DE5F-E545-4AAA-B27A-4BAE4FBF36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7486-26E9-48C7-BAB2-FC062BAD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F4C3-F9E8-4530-9405-45DEA0A7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6B93-AD24-4BD6-81FF-DC283B9F7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6B57-428B-42D6-AC39-8CAF1E0D5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0584-E3DB-42CC-B9A9-C9627896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AA19-B399-4907-8521-96B34AE6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DF74-C0ED-4CAC-9CA5-FFE5FFF3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6E38-B0F9-40B6-8D79-615830D5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C273-3527-4BFA-BF81-4F5649AC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883C-9580-42D7-98C7-F4152148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D5C7-4E4E-47C5-A0C7-E0C80A08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FD4C-5478-4390-8D0C-EFE40D80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C933-1C5B-4B1E-9068-CD6402AD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2A13-F351-452A-9424-872F0B61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FCEE-B2CA-4305-BFEA-EE5A32A1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CF82-7FA5-4739-8EEA-BF2ABE3D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5331-0E3E-45B1-9BC7-1BFCABE4A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E5EE0-5854-4C17-A9FC-50ABCE4D3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C82C4-7174-4F44-BF9C-40070FD8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80C21-F639-47F5-9326-4F707573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F6085-EB53-4411-B7A8-EBA517E6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8857A-376D-463F-B191-33F32AF3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F530-1F09-4B20-B70D-79B32E57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B5685-BD91-4B03-A592-C6A9E4E1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3BA25-7258-458F-8E31-D6615348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A2418-159F-432A-A2EC-F8C69B76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1F5F5-5344-42B1-8BAB-CFC555B1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90D06-F535-455D-8D54-981A3FCC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AF03C-DAAB-48C6-81E3-10CC15BBF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9E790-E2EE-43B2-959C-23AB2723E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F4A47-3EBD-4A7E-A0CE-AAFB1783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DFD1A-D07F-440C-BBFD-37F0D787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83E03-F364-4C72-AB81-17EA707C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38AA-E9A9-47D6-B41C-6E944B37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945DA-D664-4E9D-881E-DBB41E31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0B1F8-1393-4C8B-AA5C-CDC4DEFB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3E733-9588-4FD3-B200-D4AA5223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0DFA8-C95B-4822-98D7-D97F2F19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F63AC-51B5-4984-956B-4418C05F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A1E67-08C9-45A6-A46B-AAEBF725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2B32F-E58E-439E-9DB2-195F4587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DB7D7-7428-47D0-8FA9-B6429E813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9ADE9-062C-4471-B866-518926E8B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3A7AA-BEE1-419E-8DD3-42D69878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C600-C9CB-46EA-9DB7-0652F5A7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E9230-B15A-4AEC-AA15-61D351FC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C810F-5E1E-44A0-B054-D46168AD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C8D0E-D6A4-4301-914B-C0AF2879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19D5A-A61C-44D3-87C5-9F9C78FE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0917F-D432-4D41-B2C7-93A25F12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94824-650D-491F-8A7E-6F6BF23F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F2281-BACA-49DE-8C23-5F71DA99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B743F-2E0E-4FCE-822E-84212C21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632DF-4C3B-4286-BF4A-943A3C80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7DA0D-8F3E-452F-9383-71FFC7521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DCAA-6423-4299-A34A-FFF0B713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D6A92-2F61-4009-93C0-9C3EFA782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D285-3271-4531-8EA6-460E8E0E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502F-2DBE-47D4-B40C-FA50996E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E79D-6D25-461D-9C31-AF441C40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0D67-8179-40D1-B749-1D8648AC7AEE}" type="datetime"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00E4-868B-439C-B6C3-D4CC282C183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84E9-6BA8-4461-8A6D-220098DA4843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66AA-630D-49A2-B330-58728080E2DB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2CCD-3579-4286-8A70-E54898E21611}" type="datetime"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8549-589E-4C5E-9B28-523EC22B014C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E668-6200-47DA-913B-E19D771CC432}" type="datetime"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6431-F228-4DD2-B05C-9EB7D7CA11A9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4F1A-2DFB-4029-ACBC-AC68BB43DF19}" type="datetime"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FDA5-2BC9-4486-B85C-0FC3ECA2E55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-1427040" y="706320"/>
            <a:ext cx="8235720" cy="29084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-1357200" y="5000400"/>
            <a:ext cx="10501200" cy="1857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      </a:t>
            </a: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Урок обществознания в 6 классе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Подготовила учитель обществознания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МОУ СОШ № 4 с.Малые Ягуры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Фоменко Анжелика Анатольевн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4" descr="13"/>
          <p:cNvPicPr/>
          <p:nvPr/>
        </p:nvPicPr>
        <p:blipFill>
          <a:blip r:embed="rId2"/>
          <a:stretch/>
        </p:blipFill>
        <p:spPr>
          <a:xfrm>
            <a:off x="5715000" y="1928880"/>
            <a:ext cx="2928960" cy="292896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2"/>
          <p:cNvSpPr/>
          <p:nvPr/>
        </p:nvSpPr>
        <p:spPr>
          <a:xfrm>
            <a:off x="2819520" y="6558120"/>
            <a:ext cx="292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Рисунок 7" descr="image_tmp.jpg"/>
          <p:cNvPicPr/>
          <p:nvPr/>
        </p:nvPicPr>
        <p:blipFill>
          <a:blip r:embed="rId1"/>
          <a:srcRect l="0" t="0" r="129" b="0"/>
          <a:stretch/>
        </p:blipFill>
        <p:spPr>
          <a:xfrm>
            <a:off x="0" y="3898800"/>
            <a:ext cx="2101680" cy="2959200"/>
          </a:xfrm>
          <a:prstGeom prst="rect">
            <a:avLst/>
          </a:prstGeom>
          <a:ln w="0">
            <a:noFill/>
          </a:ln>
        </p:spPr>
      </p:pic>
      <p:pic>
        <p:nvPicPr>
          <p:cNvPr id="268" name="Заголовок 3" descr=""/>
          <p:cNvPicPr/>
          <p:nvPr/>
        </p:nvPicPr>
        <p:blipFill>
          <a:blip r:embed="rId2"/>
          <a:stretch/>
        </p:blipFill>
        <p:spPr>
          <a:xfrm>
            <a:off x="360360" y="-109440"/>
            <a:ext cx="8143920" cy="189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9" name=""/>
          <p:cNvGraphicFramePr/>
          <p:nvPr/>
        </p:nvGraphicFramePr>
        <p:xfrm>
          <a:off x="428760" y="2071800"/>
          <a:ext cx="7238880" cy="166212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714960"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 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достоин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     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оро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947160"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80280" rIns="802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0280" marR="80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pic>
        <p:nvPicPr>
          <p:cNvPr id="270" name="Picture 2" descr=""/>
          <p:cNvPicPr/>
          <p:nvPr/>
        </p:nvPicPr>
        <p:blipFill>
          <a:blip r:embed="rId3"/>
          <a:stretch/>
        </p:blipFill>
        <p:spPr>
          <a:xfrm>
            <a:off x="6357960" y="3998880"/>
            <a:ext cx="1944720" cy="264636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6" descr="1214322368_00.jpg"/>
          <p:cNvPicPr/>
          <p:nvPr/>
        </p:nvPicPr>
        <p:blipFill>
          <a:blip r:embed="rId4"/>
          <a:stretch/>
        </p:blipFill>
        <p:spPr>
          <a:xfrm>
            <a:off x="3143160" y="4460760"/>
            <a:ext cx="2062080" cy="2397240"/>
          </a:xfrm>
          <a:prstGeom prst="rect">
            <a:avLst/>
          </a:prstGeom>
          <a:ln w="0">
            <a:noFill/>
          </a:ln>
        </p:spPr>
      </p:pic>
      <p:pic>
        <p:nvPicPr>
          <p:cNvPr id="272" name="Заголовок 3" descr=""/>
          <p:cNvPicPr/>
          <p:nvPr/>
        </p:nvPicPr>
        <p:blipFill>
          <a:blip r:embed="rId5"/>
          <a:stretch/>
        </p:blipFill>
        <p:spPr>
          <a:xfrm>
            <a:off x="-291960" y="0"/>
            <a:ext cx="9009000" cy="202392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C:\Documents and Settings\Admin\Мои документы\Мои рисунки\картинки Леры\8.jpeg"/>
          <p:cNvPicPr/>
          <p:nvPr/>
        </p:nvPicPr>
        <p:blipFill>
          <a:blip r:embed="rId2"/>
          <a:stretch/>
        </p:blipFill>
        <p:spPr>
          <a:xfrm>
            <a:off x="2571840" y="2857680"/>
            <a:ext cx="3948120" cy="337968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5" descr="C:\Documents and Settings\Admin\Мои документы\Мои рисунки\Картинки ЛЕТО\солнце.gif"/>
          <p:cNvPicPr/>
          <p:nvPr/>
        </p:nvPicPr>
        <p:blipFill>
          <a:blip r:embed="rId1"/>
          <a:stretch/>
        </p:blipFill>
        <p:spPr>
          <a:xfrm>
            <a:off x="0" y="0"/>
            <a:ext cx="4762440" cy="3895560"/>
          </a:xfrm>
          <a:prstGeom prst="rect">
            <a:avLst/>
          </a:prstGeom>
          <a:ln w="0">
            <a:noFill/>
          </a:ln>
        </p:spPr>
      </p:pic>
      <p:pic>
        <p:nvPicPr>
          <p:cNvPr id="278" name="Заголовок 3" descr=""/>
          <p:cNvPicPr/>
          <p:nvPr/>
        </p:nvPicPr>
        <p:blipFill>
          <a:blip r:embed="rId2"/>
          <a:stretch/>
        </p:blipFill>
        <p:spPr>
          <a:xfrm>
            <a:off x="4468680" y="324000"/>
            <a:ext cx="3230640" cy="14317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457200" y="3000240"/>
            <a:ext cx="72388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ильная личность должна быть нравственной и иметь положительные  черты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ужно уважать себя, но к своим поступкам относиться критически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ндивидуальность это хорошо! Человек должен иметь собственные черты  и отличаться от других, это делает его интересным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Місце для нижнього колонтитула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457200" y="2000160"/>
            <a:ext cx="72388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ыучить § 2. Человек — личность, ответить на вопросы к § 2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исьменно в тетради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тветить на вопросы 1-5, задание на карточке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Місце для нижнього колонтитула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2" descr=""/>
          <p:cNvPicPr/>
          <p:nvPr/>
        </p:nvPicPr>
        <p:blipFill>
          <a:blip r:embed="rId1"/>
          <a:stretch/>
        </p:blipFill>
        <p:spPr>
          <a:xfrm>
            <a:off x="285840" y="3645000"/>
            <a:ext cx="8229600" cy="1439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000080"/>
            <a:ext cx="804384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пособствовать формированию у школьников представлений о человеке как социальном существе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рассказать, что человек принадлежит обществу, живет и развивается в не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Содержимое 1"/>
          <p:cNvSpPr/>
          <p:nvPr/>
        </p:nvSpPr>
        <p:spPr>
          <a:xfrm>
            <a:off x="214200" y="5000760"/>
            <a:ext cx="83584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rebuchet MS"/>
              </a:rPr>
              <a:t>расширить знания учащихся о влиянии социальной среды на человек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Заголовок 2" descr=""/>
          <p:cNvPicPr/>
          <p:nvPr/>
        </p:nvPicPr>
        <p:blipFill>
          <a:blip r:embed="rId2"/>
          <a:stretch/>
        </p:blipFill>
        <p:spPr>
          <a:xfrm>
            <a:off x="639720" y="-49320"/>
            <a:ext cx="8229600" cy="115884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985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Человеческий ребенок в момент рождения не человек, а только кандидат в человек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А.Пьерон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3" descr="C:\Documents and Settings\Спиридонова Наталья\Мои документы\Мои рисунки\Ангел.gif"/>
          <p:cNvPicPr/>
          <p:nvPr/>
        </p:nvPicPr>
        <p:blipFill>
          <a:blip r:embed="rId2"/>
          <a:stretch/>
        </p:blipFill>
        <p:spPr>
          <a:xfrm>
            <a:off x="3000240" y="3500280"/>
            <a:ext cx="2872080" cy="298800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212760" y="0"/>
            <a:ext cx="7486560" cy="12985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142920" y="1213920"/>
            <a:ext cx="82152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Что нужно ребенку для того, чтобы он развивался как человек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Чем человек отличается от животных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Закрепим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873624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c66bb"/>
                </a:solidFill>
                <a:latin typeface="Georgia"/>
              </a:rPr>
              <a:t>Человек обладает мышлением и членораздельной речь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c66bb"/>
                </a:solidFill>
                <a:latin typeface="Georgia"/>
              </a:rPr>
              <a:t>Преобразует окружающую действительность, создает необходимые ему материальные и духовные блага и ценност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c66bb"/>
                </a:solidFill>
                <a:latin typeface="Georgia"/>
              </a:rPr>
              <a:t>Человек воспроизводит не только свою биологическую, но и социальную сущность и поэтому должен удовлетворять не только свои материальные, но и духовные потребност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c66bb"/>
                </a:solidFill>
                <a:latin typeface="Georgia"/>
              </a:rPr>
              <a:t>Способен изготавливать орудия труда и использовать их как средство производства материальных благ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Місце для нижнього колонтитула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212760" y="0"/>
            <a:ext cx="7486560" cy="1298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142920" y="1928880"/>
            <a:ext cx="82152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Что такое наследственность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Можно ли влиять на наследственность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Почему бесцельно прожитая жизнь не приносит человеку счастья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Picture 2" descr="C:\Documents and Settings\Admin\Мои документы\Мои рисунки\Картинки ЛЕТО\54d3bf71906a.gif"/>
          <p:cNvPicPr/>
          <p:nvPr/>
        </p:nvPicPr>
        <p:blipFill>
          <a:blip r:embed="rId2"/>
          <a:stretch/>
        </p:blipFill>
        <p:spPr>
          <a:xfrm>
            <a:off x="5692680" y="3357720"/>
            <a:ext cx="2743200" cy="321444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3" descr=""/>
          <p:cNvPicPr/>
          <p:nvPr/>
        </p:nvPicPr>
        <p:blipFill>
          <a:blip r:embed="rId1"/>
          <a:stretch/>
        </p:blipFill>
        <p:spPr>
          <a:xfrm>
            <a:off x="-291960" y="139680"/>
            <a:ext cx="9435960" cy="12682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214200" y="2071800"/>
            <a:ext cx="814392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Лич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стойчивая систем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иально значимых черт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ющих человека, как члена того или иного обществ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 субъект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ношен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ознательной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ятельност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TextBox 5"/>
          <p:cNvSpPr/>
          <p:nvPr/>
        </p:nvSpPr>
        <p:spPr>
          <a:xfrm>
            <a:off x="214200" y="178596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Lucida Sans Unicode"/>
              </a:rPr>
              <a:t>Познакомьтесь с текстом «Что такое личнос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C:\Documents and Settings\Admin\Мои документы\Мои рисунки\Картинки ЛЕТО\022.gif"/>
          <p:cNvPicPr/>
          <p:nvPr/>
        </p:nvPicPr>
        <p:blipFill>
          <a:blip r:embed="rId2"/>
          <a:stretch/>
        </p:blipFill>
        <p:spPr>
          <a:xfrm>
            <a:off x="5357880" y="3214800"/>
            <a:ext cx="2452680" cy="3429000"/>
          </a:xfrm>
          <a:prstGeom prst="rect">
            <a:avLst/>
          </a:prstGeom>
          <a:ln w="0">
            <a:noFill/>
          </a:ln>
        </p:spPr>
      </p:pic>
      <p:pic>
        <p:nvPicPr>
          <p:cNvPr id="251" name="Заголовок 3" descr=""/>
          <p:cNvPicPr/>
          <p:nvPr/>
        </p:nvPicPr>
        <p:blipFill>
          <a:blip r:embed="rId3"/>
          <a:stretch/>
        </p:blipFill>
        <p:spPr>
          <a:xfrm>
            <a:off x="-371520" y="0"/>
            <a:ext cx="9515520" cy="163368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3" dur="3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3" descr=""/>
          <p:cNvPicPr/>
          <p:nvPr/>
        </p:nvPicPr>
        <p:blipFill>
          <a:blip r:embed="rId1"/>
          <a:stretch/>
        </p:blipFill>
        <p:spPr>
          <a:xfrm>
            <a:off x="128520" y="-208080"/>
            <a:ext cx="7570800" cy="20494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5"/>
          <p:cNvSpPr/>
          <p:nvPr/>
        </p:nvSpPr>
        <p:spPr>
          <a:xfrm>
            <a:off x="500040" y="2571840"/>
            <a:ext cx="3929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Составьте словесный портрет девушек, изображенных на полотнах В.А.Серова и З.Е.Серебряк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Работа с учебник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С.18-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357120" y="1428840"/>
            <a:ext cx="4214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34b73"/>
                </a:solidFill>
                <a:latin typeface="Trebuchet MS"/>
              </a:rPr>
              <a:t>РАЗВИВАЕМ ПСИХОЛОГИЧЕСКУЮ ЗОРКОСТЬ И СЛОВАРНЫЙ ЗАП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6" descr="C:\Documents and Settings\Admin\Мои документы\Мои рисунки\Лица\13432.jpg"/>
          <p:cNvPicPr/>
          <p:nvPr/>
        </p:nvPicPr>
        <p:blipFill>
          <a:blip r:embed="rId2"/>
          <a:stretch/>
        </p:blipFill>
        <p:spPr>
          <a:xfrm>
            <a:off x="4572000" y="1285920"/>
            <a:ext cx="4416480" cy="407196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3" descr=""/>
          <p:cNvPicPr/>
          <p:nvPr/>
        </p:nvPicPr>
        <p:blipFill>
          <a:blip r:embed="rId1"/>
          <a:stretch/>
        </p:blipFill>
        <p:spPr>
          <a:xfrm>
            <a:off x="542880" y="274680"/>
            <a:ext cx="8143920" cy="14382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57200" y="148104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повторимо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оеобраз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тличительны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обен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нутренние и внешние)от других людей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5929200" y="3214800"/>
            <a:ext cx="2327400" cy="164304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5" descr="Tegos_glam_13.jpg"/>
          <p:cNvPicPr/>
          <p:nvPr/>
        </p:nvPicPr>
        <p:blipFill>
          <a:blip r:embed="rId3"/>
          <a:stretch/>
        </p:blipFill>
        <p:spPr>
          <a:xfrm>
            <a:off x="857160" y="3286080"/>
            <a:ext cx="2605320" cy="150012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6" descr="Ангел30(1).jpg"/>
          <p:cNvPicPr/>
          <p:nvPr/>
        </p:nvPicPr>
        <p:blipFill>
          <a:blip r:embed="rId4"/>
          <a:stretch/>
        </p:blipFill>
        <p:spPr>
          <a:xfrm>
            <a:off x="3357720" y="3857760"/>
            <a:ext cx="2523960" cy="233028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212760" y="0"/>
            <a:ext cx="7486560" cy="1438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ерои фильма «Приключения Электроника» мальчик Сережа Сыроежкин и робот Электроник внешне были по­хожи друг на друг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то нужно знать про героев, чтобы определить, чем различаются их личности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Місце для нижнього колонтитула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20:07:22Z</dcterms:created>
  <dc:creator>Спиридонова Наталья Николаевна</dc:creator>
  <dc:description/>
  <dc:language>en-US</dc:language>
  <cp:lastModifiedBy>LEGION</cp:lastModifiedBy>
  <dcterms:modified xsi:type="dcterms:W3CDTF">2014-11-12T11:19:29Z</dcterms:modified>
  <cp:revision>23</cp:revision>
  <dc:subject/>
  <dc:title>Человек – личност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218233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</Properties>
</file>