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6C90-A67B-429C-BFC5-138C9788D4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Понятия «личность» и «индивидуальность»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дивидуальные свойства личности – это не одно и тоже, что личностные свойства индивида, то есть свойства, характеризующие его как лич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Рубиншт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95DE-F24F-4D52-819E-BBCF8522E1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авления исследования самоактуализац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клиническое К. Роджер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мотивационное А. Масло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развитие личности – врожденные тенденции к самоакту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«самоактуализирующая тенден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«организмический отслеживающий процес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АЛЬНОЕ Я                  РЕАЛЬНОЕ 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развития личност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ефицитарные» потребности и «ростовые»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ирамида Масло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изиологически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надле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амооц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амоактуал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Группы самоактуализирующихся люде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«весьма определенные случаи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«весьма вероятные случаи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«возможные случаи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B7CC-B28F-4E9B-969D-B7A22E379A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синквейн (это особая краткая запись основных обсуждаемых проблем с учетом ряда требован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понятию «самоактуализа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агательные (2 сло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голы (3 слов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за (предложение, смысловой характ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BD4E-DCB0-43A5-AF11-D5E3E096A1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В «Кратком психологическом словаре» (1985, под ред. А. В. Петровского и М. Г. Ярошевского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чность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«системное качество, приобретаемо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о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едметной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ени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ющее его со стороны включенности в общественные отнош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арактеризу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с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тремление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бъекта расширить сферу свое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действовать за границами требований;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правленностью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й доминирующей системой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тив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интересов, убеждений и т. д., глубинными смысловыми образованиями... формирующими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совместной деятельност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 и коллективов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о для индивида личность выступает как его Я («образ Я», «Я-концепция»). Личность обнаруживается в самооценке, самоуважении. «Развитие личности осуществляется в деятельности в условия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циализ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а и целенаправленного воспита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«Большом психологическом словаре» (2003, под ред. Б. Г. Мещерякова и В. П. Зинченко) указывается, что «в общественных науках Личность рассматривается как особо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честв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,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обретаемо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 в социокультурной среде в процессе совместной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ятельности и общения»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уманистических и психологических концепциях Личность - это ценность, ради которой осуществляется развитие обществ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08DA-2ECB-4D48-A98B-31FA989867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личность» - «индивидуаль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психосоматическая организация личности, делающая ее представителем человеческого 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своеобразное сочетание особенностей, отличающих одного человека от другого (это индивидуально неповторимые особенности организма, и те, которые следует отнести к уникальным свойствам лич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системное качество, которое приобретает индивид во  взаимодействии с социальным окружением. Это взаимодействие протекает в трех ведущих формах: общении, познании и совместной 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1A2D-9751-408A-A002-B116ECD374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формация индивиду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всех сфер в интерес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1047-149A-47B4-9D4D-C5F8ABEB93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спитание» - «развит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ллектуальная, мотивационная, эмоциональная, волевая, предметно-практическая, экзистенциальная. саморегу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DC2D-08D9-41BA-9B12-C302CD1E8E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дание: проработать содержание текста, внести дополнения, изменени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кст «Личность и индивидуальность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личности и индивидуальност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 совпада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о имеют общую область — индивидуальность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особенности человека до известного времени никак не проявляются, пока они не станут необходимыми в системе межличностных отношений, субъектом которых выступит данный человек как личность. Поэтому, индивидуальность — лишь одна из сторон личности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D78F-C26E-444B-9EC6-A89B81015F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Научные концепции самоактуализации личност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1954-56F9-44EA-A196-D0EBF4C89F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дель выпускн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едметная грамот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пособность принимать решения (ключевые компетентност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пешность во взаимодействии с окружающими (социальный опы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ь самостоятельная, самореализующаяся, самоопределяющаяся, самоактуализирующая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3A4B-D01D-45A8-8C47-983FB8A69E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арактеристика (по Маслоу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лее эффективное восприятие реа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нятие себя, других и природ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посредственность, простота и естестве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центрированность на проблем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зависимость, потребность в уединен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втономия: независимость от культуры и окруж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вежесть восприят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ершинные или мистические пережи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ественный интерес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лубинные межличностные отнош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мократический характе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граничение средств и це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лософское чувство юмо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еатив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противление окультуриванию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B5E0-EA85-4CE2-9A45-A1C0D0C046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D66-B6F4-4379-AA6D-49F1F659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E525-AECB-4925-B9DB-71E74C6F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54C2-D303-468F-A9E1-045FFBB1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A00A-59E6-4AD4-90EF-7AA238D9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6248-7D3B-4F5D-8885-EF1EC380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5C22-98F3-4B8A-A63A-08525F16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1CA3-A138-46FB-916E-3F1288A7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2C52-CFF6-44C0-9861-9F9372A8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B6E9-DF69-4C8C-B98A-164CC9E9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1D30-C9D7-451A-85F7-90C7021F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A794-8916-46F0-A049-74D45C26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8E59-76F8-4C40-AF56-1DE688DB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370A-9705-4B7F-B238-820E8F70DF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99"/>
                </a:solidFill>
                <a:latin typeface="Arial"/>
              </a:rPr>
              <a:t>Понятия «личность» и «индивидуальность»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ндивидуальные свойства личности – это не одно и тоже, что личностные свойства индивида, то есть свойства, характеризующие его как личнос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Л. Рубинштей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авления исследования самоактуализац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клиническое К. Роджерс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мотивационное А. Масл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 развитие личности – врожденные тенденции к самоакту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«самоактуализирующая тенден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«организмический отслеживающий процес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ЕАЛЬНОЕ Я                  РЕАЛЬНОЕ 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 развития личност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ефицитарные» потребности и «ростовые» потре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ирамида Масл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физиологические потре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без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ринадле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амо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амоакту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руппы самоактуализирующихся люд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есьма определенные случа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есьма вероятные случа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озможные случа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2362320" y="2209680"/>
            <a:ext cx="11430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1143000" y="3505320"/>
            <a:ext cx="2286000" cy="1523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чност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1981080" y="5486400"/>
            <a:ext cx="762120" cy="76320"/>
          </a:xfrm>
          <a:prstGeom prst="leftRightArrow">
            <a:avLst>
              <a:gd name="adj1" fmla="val 50000"/>
              <a:gd name="adj2" fmla="val 1987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4724280" y="4038480"/>
            <a:ext cx="419112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ние человека стать тем, к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может с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ть синквейн (это особая краткая запись основных обсуждаемых проблем с учетом ряда требова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понятию «самоактуализац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агательные (2 сл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голы (3 слов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за (предложение, смысловой характ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 В «Кратком психологическом словаре» (1985, под ред. А. В. Петровского и М. Г. Ярошевского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 «системное качество, приобретаемо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ндивидом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едметной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бщении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арактеризующее его со стороны включенности в общественные отношения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характеризу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ктивностью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стремлением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убъекта расширить сферу своей деятель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действовать за границами требований;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аправленностью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ойчивой доминирующей системой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мотивов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 интересов, убеждений и т. д., глубинными смысловыми образованиями... формирующими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 совместной деятельности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упп и коллективов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бъективно для индивида личность выступает как его Я («образ Я», «Я-концепция»). Личность обнаруживается в самооценке, самоуважении. «Развитие личности осуществляется в деятельности в условиях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оциализаци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дивида и целенаправленного воспитания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«Большом психологическом словаре» (2003, под ред. Б. Г. Мещерякова и В. П. Зинченко) указывается, что «в общественных науках Личность рассматривается как особо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ачество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еловека,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иобретаемое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 в социокультурной среде в процессе совместной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деятельности и общения»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гуманистических и психологических концепциях Личность - это ценность, ради которой осуществляется развитие общества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личность» - «индивидуально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диви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сихосоматическая организация личности, делающая ее представителем человеческого 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воеобразное сочетание особенностей, отличающих одного человека от другого (это индивидуально неповторимые особенности организма, и те, которые следует отнести к уникальным свойствам лич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истемное качество, которое приобретает индивид во  взаимодействии с социальным окружением. Это взаимодействие протекает в трех ведущих формах: общении, познании и совместн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формация индивиду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всех сфер в интере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990720" y="2133720"/>
            <a:ext cx="3886200" cy="609480"/>
          </a:xfrm>
          <a:prstGeom prst="rightArrow">
            <a:avLst>
              <a:gd name="adj1" fmla="val 50000"/>
              <a:gd name="adj2" fmla="val 1594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990720" y="2819520"/>
            <a:ext cx="3886200" cy="609480"/>
          </a:xfrm>
          <a:prstGeom prst="rightArrow">
            <a:avLst>
              <a:gd name="adj1" fmla="val 50000"/>
              <a:gd name="adj2" fmla="val 1594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а и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066680" y="3962520"/>
            <a:ext cx="3886200" cy="609480"/>
          </a:xfrm>
          <a:prstGeom prst="rightArrow">
            <a:avLst>
              <a:gd name="adj1" fmla="val 50000"/>
              <a:gd name="adj2" fmla="val 1594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общества, но не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1066680" y="4724280"/>
            <a:ext cx="3886200" cy="609840"/>
          </a:xfrm>
          <a:prstGeom prst="rightArrow">
            <a:avLst>
              <a:gd name="adj1" fmla="val 50000"/>
              <a:gd name="adj2" fmla="val 1593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ных груп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5029200" y="2133720"/>
            <a:ext cx="76320" cy="1371600"/>
          </a:xfrm>
          <a:custGeom>
            <a:avLst/>
            <a:gdLst>
              <a:gd name="textAreaLeft" fmla="*/ 0 w 76320"/>
              <a:gd name="textAreaRight" fmla="*/ 2736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5410080" y="2133720"/>
            <a:ext cx="2971800" cy="5331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ает задачи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5410080" y="2971800"/>
            <a:ext cx="2971800" cy="6094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н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оспитание» - «развит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ллектуальная, мотивационная, эмоциональная, волевая, предметно-практическая, экзистенциальная. саморегуля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514600" y="914400"/>
            <a:ext cx="403848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фер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н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идеи гум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ль современной шко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дать каждому ребенку общее образовани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ить условия для гармоничного развития и совершенствования вс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рон индивиду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ализац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процессе воспитания на основе формир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х кач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6019920" y="2971800"/>
            <a:ext cx="2666880" cy="1981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Экзистенциаль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рмония чув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поступков, слова и дел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увств и общен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ражают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зненной пози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>
            <a:off x="3048120" y="2819520"/>
            <a:ext cx="2666880" cy="2133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едметно-практ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ности, поступ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ния в различ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дах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бщ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8"/>
          <p:cNvSpPr/>
          <p:nvPr/>
        </p:nvSpPr>
        <p:spPr>
          <a:xfrm>
            <a:off x="228600" y="2971800"/>
            <a:ext cx="2666880" cy="19810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аморегуля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бода выбора це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критич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бропорядоч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ведени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ест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: проработать содержание текста, внести дополнения, измене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ст «Личность и индивидуаль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личности и индивидуальност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совпадаю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о имеют общую область — индивидуальность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ые особенности человека до известного времени никак не проявляются, пока они не станут необходимыми в системе межличностных отношений, субъектом которых выступит данный человек как личность. Поэтому, индивидуальность — лишь одна из сторон личности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95280" y="1523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Научные концепции самоактуализации личност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одель выпускн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редметная грамот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пособность принимать решения (ключевые компетентност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спешность во взаимодействии с окружающими (социальный опы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ость самостоятельная, самореализующаяся, самоопределяющаяся, самоактуализиру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685800" y="3505320"/>
            <a:ext cx="8001000" cy="1295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о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нательный акт выявления и утверждения собственной поз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блемных ситуа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рмы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лективистское и профессион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685800" y="5029200"/>
            <a:ext cx="8001000" cy="1523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оре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алансированное и гармоничное раскрытие всех аспектов лич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генетических и личностных возможностей, осущест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ей развития «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4"/>
          <p:cNvSpPr/>
          <p:nvPr/>
        </p:nvSpPr>
        <p:spPr>
          <a:xfrm>
            <a:off x="533520" y="380880"/>
            <a:ext cx="769608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актуализ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тремление человека к возможно бо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му выявлению и развитию своих личностных возможнос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арактеристика (по Маслоу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лее эффективное восприятие реаль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нятие себя, других и природ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посредственность, простота и естествен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нтрированность на проблем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зависимость, потребность в уединен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тономия: независимость от культуры и окруж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вежесть восприят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ершинные или мистические пережи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щественный интерес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лубинные межличностные отнош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мократический характер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граничение средств и цел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лософское чувство юмор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еати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противление окультуривани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11:21:5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