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AF3-5718-40E4-B37A-7CC3FECA1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нятия «личность» и «индивидуальность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772-816D-45A9-B9C4-61BDAD5CA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ия исследования самоактуализ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клиническое К. Роджер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мотивационное А. Масл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е личности – врожденные тенденции к самоакту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самоактуализирующая тенден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организмический отслеживающ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ОЕ Я                  РЕАЛЬНОЕ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я личност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фицитарные» потребности и «ростовые»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ологически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адле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акту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Группы самоактуализирующихся люд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определен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вероят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озмож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1EB-2D56-46E2-982E-21F821C48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онятию «самоактуализ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ые (2 сл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ы (3 сло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 (предложение, смысловой харак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1BB8-E556-4516-9FF8-94EB8AD5C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системное качество, приобретаем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метно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ее его со стороны включенности в общественные отнош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арактеризу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ремление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бъекта расширить сферу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ействовать за границами требований;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й доминирующей систем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тив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овместной 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 и коллектив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а и целенаправленного воспит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обретаемо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 в социокультурной среде в процессе совместн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и и общения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4D1-2EE6-4862-9BBE-C0547ED2C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личность» - «индивидуа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70E5-CC68-4A95-BDCC-09F1CA030B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формация индивиду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всех сфер в интере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C17-A43D-4574-B0CE-21ABB9C2F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» - «разви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B3F1-F3EA-4873-89B2-CA0304BA42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: проработать содержание текста, внести дополнения, изме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«Личность и индивидуаль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чности и индивидуаль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совпа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имеют общую область — индивидуальность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6740-D496-4A1E-A5CE-AB515D9159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Научные концепции самоактуализации личност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165-AC56-4763-9FBF-B753E601D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метная грамо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особность принимать решения (ключевые компетен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пешность во взаимодействии с окружающими (социальный опы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EE99-AFE9-420E-9A43-5EA0FC226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(по Масло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восприятие реа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ие себя, других 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, простота и есте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нтрированность на пробле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зависимость, потребность в уедин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тономия: независимость от культуры и окруж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жесть вос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шинные или мистические пережи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ственный интере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инные межличностные отно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мократический харак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аничение средств и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лософское чувство юмо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а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отивление окультури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431-DA0B-4D2D-9824-866C2F3201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DC9-6E9C-479C-98A9-35853E2F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8E6-563D-4519-A426-73B1F42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FE2-25A7-48E5-9BB7-34EC1F03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B92-A436-4647-8F15-525863FC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827-F0C4-4CA6-961A-F1B18BA7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8E0-80C7-4969-9C8A-8D94460A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597-224B-4DAD-914F-96BBD82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41E-2991-4D04-BFA3-B0631F18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4FE-B873-4464-B478-9FA8824C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A05-64B5-4D86-BA34-6559111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888-CF15-45B4-875B-32E1921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A3C-4E8F-4E1C-8585-44544F3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2F1-6805-4F4A-8912-900FC5C53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Понятия «личность» и «индивидуальность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 Руби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исследования самоакту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иническое К. Роджер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отивационное А. 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е личности – врожденные тенденции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самоактуализирующая тенден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организмический отслеживающий проц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Е Я                  РЕАЛЬНОЕ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я лич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фицитарные» потребности и «ростовые»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изиологические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надл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ак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уппы самоактуализирующихся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определен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вероят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змож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362320" y="22096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143000" y="3505320"/>
            <a:ext cx="2286000" cy="1523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981080" y="548640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724280" y="4038480"/>
            <a:ext cx="41911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 человека стать тем, к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с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нятию «самоакту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 (2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(3 сло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а (предложение, смысловой харак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системное качество, приобретаем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дивид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метно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ее его со стороны включенности в общественные отноше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ив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тремле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убъекта расширить сферу свое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действовать за границами требований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правленностью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й доминирующей систем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тив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совместной 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 и коллективов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из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а и целенаправленного воспита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обретаемо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 в социокультурной среде в процессе совместн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ятельности и общения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чность» - «индивидуа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рмация индивиду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сфер в интер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21337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2819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 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066680" y="3962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общества, но н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066680" y="4724280"/>
            <a:ext cx="3886200" cy="609840"/>
          </a:xfrm>
          <a:prstGeom prst="rightArrow">
            <a:avLst>
              <a:gd name="adj1" fmla="val 50000"/>
              <a:gd name="adj2" fmla="val 1593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029200" y="213372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10080" y="2133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 задач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10080" y="29718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ание» - «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14600" y="914400"/>
            <a:ext cx="40384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ф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идеи гум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современной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ать каждому ребенку общее образо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ить условия для гармоничного развития и совершенствовани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роцессе воспитания на основе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6019920" y="2971800"/>
            <a:ext cx="2666880" cy="19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зистенц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рмония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ступков, слова и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и общ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нно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048120" y="2819520"/>
            <a:ext cx="2666880" cy="2133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прак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и, поступ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28600" y="2971800"/>
            <a:ext cx="2666880" cy="19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а выбора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кри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поряд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вед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роработать содержание текста, внести дополнения, изме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«Личность и 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личности и индивидуа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впад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ют общую область — индивидуальность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Научные концепции самоактуализации лич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ная грамо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пособность принимать решения (ключевые компетент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пешность во взаимодействии с окружающими (социальный опы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85800" y="350532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ый акт выявления и утверждения собственн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истское и 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85800" y="5029200"/>
            <a:ext cx="8001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е и гармоничное раскрытие всех аспектов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енетических и личностных возможностей, осущест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ей развития «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533520" y="380880"/>
            <a:ext cx="76960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акт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емление человека к возможно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у выявлению и развитию своих личностных возмож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(по Масло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эффективное восприятие реа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ятие себя, других и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осредственность, простота и есте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нтрированность на пробл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зависимость, потребность в уеди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номия: независимость от культуры и окру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жесть воспри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ные или мистические пере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ый интер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убинные межличностные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атический характ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аничение средств и ц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ское чувство юм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ат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противление окультури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2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