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3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B31B-9798-44E3-9602-DBE3B1EDB69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36845"/>
                </a:solidFill>
                <a:latin typeface="Times New Roman"/>
                <a:ea typeface="Times New Roman"/>
              </a:rPr>
              <a:t>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1D21-C053-48CA-B2ED-4A2E4BB701F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6BDB-C0BC-4D59-B200-24CAE3678C2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0E46-31A2-4369-81DB-C17F636B73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 и 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6AE5-AF3A-4530-9454-ECE0BD06D6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10FB-A878-436B-BCCD-5CF3282D227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22C1-1C6C-4928-B7A8-1614B1B976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и презентац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шина По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снутдинова Ал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нева А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ова Ма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злякова Наст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ова М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2971-808D-4F1D-B8C4-5A0394C695F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ЧЕЛОВЕК С ТОЧКИ ЗР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3CFB-E402-4291-B1BE-AA1FFF9E7CB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EF06-D32B-4351-81DE-6F35123676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21F7-B5F8-4390-A41B-FD0F056002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CB8C-6092-4B54-A63E-FE05FF769E8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CC11-83A9-4F68-8AF8-ABB5B1023E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D967-4B09-4D6D-A661-481DEE66EE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4E2A-AD73-4FD1-9E14-CFAB21AB8A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EF2-C8E9-4441-BC1B-A33678CA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397-8253-438B-B144-0F3A4929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96E-664E-4ADE-AA57-E32446FF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9425-6869-4894-99F2-D17B854D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47A7-C98D-4CD2-8092-2EF12399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A932-36E1-403B-90DB-DB2E4875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0E6B-E0F6-4811-A485-9E78DF79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AFA8-0204-465B-A27F-EBB35D67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7484-8B52-4805-8825-5219ED3B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50BB-EFE5-4E8D-BF83-7866E909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E2EC-0ADF-4B80-97EE-595A2FF9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35B-EFB5-4341-840C-B4010DC3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3A9F-C0EA-4F86-8B13-B496FA80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2526-6A58-4EBC-BB2D-4B63E525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1165-D69D-47A7-B766-36771FED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3A6D-4C93-4098-9464-0A3FA715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BD59-548E-4982-9320-455E56FD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819D-5107-4090-99D2-7E90A7E8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AA7-B7EE-49DE-9A1A-5E3B0225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C54-BE25-451E-B135-779B0B60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50EA-C2AA-45D6-8983-CE6EB47A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861F-A45C-47C1-997A-8B342CDD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B765-5C27-49A4-B687-E88DD130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03E1-5FB0-45D1-A978-4E50D2FE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3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4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1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7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0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6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F395-BD41-4622-8106-C4F9D66EA73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DA15-2EBB-47D8-A617-EB88706D542D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1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5341680"/>
            <a:ext cx="772164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050920" y="2478240"/>
            <a:ext cx="511344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836845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</a:t>
            </a:r>
            <a:endParaRPr b="0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836845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4" name="Object 3" descr=""/>
          <p:cNvPicPr/>
          <p:nvPr/>
        </p:nvPicPr>
        <p:blipFill>
          <a:blip r:embed="rId1"/>
          <a:stretch/>
        </p:blipFill>
        <p:spPr>
          <a:xfrm>
            <a:off x="1143000" y="22082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15" name="Object 4" descr=""/>
          <p:cNvPicPr/>
          <p:nvPr/>
        </p:nvPicPr>
        <p:blipFill>
          <a:blip r:embed="rId2"/>
          <a:stretch/>
        </p:blipFill>
        <p:spPr>
          <a:xfrm>
            <a:off x="7878600" y="23828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916720" y="1413000"/>
            <a:ext cx="40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ЫЕ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273480" y="2470320"/>
            <a:ext cx="336852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отнош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 собств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место в соц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ьно-классов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ук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133720" y="33256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"/>
          <p:cNvSpPr/>
          <p:nvPr/>
        </p:nvSpPr>
        <p:spPr>
          <a:xfrm flipH="1">
            <a:off x="6796080" y="33256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2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23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2763360" y="1413000"/>
            <a:ext cx="44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ЛОСОФ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273480" y="2743200"/>
            <a:ext cx="3368520" cy="10688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овторимое своеобраз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213372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8"/>
          <p:cNvSpPr/>
          <p:nvPr/>
        </p:nvSpPr>
        <p:spPr>
          <a:xfrm flipH="1">
            <a:off x="6796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9400" y="5181480"/>
            <a:ext cx="77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повторимое своеобразие какого-либо явления, включая природные и обществ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 и 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1" name="Object 3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830240" cy="373392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4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2932200" cy="3581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3668760" y="1120680"/>
            <a:ext cx="24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Times New Roman"/>
              </a:rPr>
              <a:t>СРАВНИ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78720" y="5527800"/>
            <a:ext cx="470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НГАЧУК-БОЛЬШОЙ ЗМ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259600" y="5562720"/>
            <a:ext cx="380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ОРДЖ ВАШИНГТ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2437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21304"/>
                </a:solidFill>
                <a:uFillTx/>
                <a:latin typeface="Times New Roman"/>
              </a:rPr>
              <a:t>ЛИЧ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257480" y="1249200"/>
            <a:ext cx="1909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л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3276720" y="914400"/>
            <a:ext cx="5140440" cy="1191240"/>
            <a:chOff x="3276720" y="914400"/>
            <a:chExt cx="5140440" cy="1191240"/>
          </a:xfrm>
        </p:grpSpPr>
        <p:sp>
          <p:nvSpPr>
            <p:cNvPr id="241" name="Text Box 4"/>
            <p:cNvSpPr/>
            <p:nvPr/>
          </p:nvSpPr>
          <p:spPr>
            <a:xfrm>
              <a:off x="4365360" y="914400"/>
              <a:ext cx="4051800" cy="11912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еловеческий индивид,ка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убъект отношений и созна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льной деятельно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5"/>
            <p:cNvSpPr/>
            <p:nvPr/>
          </p:nvSpPr>
          <p:spPr>
            <a:xfrm>
              <a:off x="3276720" y="12952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6"/>
          <p:cNvGrpSpPr/>
          <p:nvPr/>
        </p:nvGrpSpPr>
        <p:grpSpPr>
          <a:xfrm>
            <a:off x="1184400" y="1919160"/>
            <a:ext cx="4642920" cy="2609640"/>
            <a:chOff x="1184400" y="1919160"/>
            <a:chExt cx="4642920" cy="2609640"/>
          </a:xfrm>
        </p:grpSpPr>
        <p:sp>
          <p:nvSpPr>
            <p:cNvPr id="244" name="AutoShape 7"/>
            <p:cNvSpPr/>
            <p:nvPr/>
          </p:nvSpPr>
          <p:spPr>
            <a:xfrm>
              <a:off x="1952640" y="191916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8"/>
            <p:cNvSpPr/>
            <p:nvPr/>
          </p:nvSpPr>
          <p:spPr>
            <a:xfrm>
              <a:off x="1184400" y="2971800"/>
              <a:ext cx="4642920" cy="1557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стойчивая система социально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начимых черт,характеризую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щих индивида, как члена тог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ли иного обществ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Object 9" descr=""/>
          <p:cNvPicPr/>
          <p:nvPr/>
        </p:nvPicPr>
        <p:blipFill>
          <a:blip r:embed="rId1"/>
          <a:stretch/>
        </p:blipFill>
        <p:spPr>
          <a:xfrm>
            <a:off x="1981080" y="4800600"/>
            <a:ext cx="424080" cy="15559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0"/>
          <p:cNvSpPr/>
          <p:nvPr/>
        </p:nvSpPr>
        <p:spPr>
          <a:xfrm>
            <a:off x="3200400" y="5181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05240" y="4854600"/>
            <a:ext cx="3295800" cy="91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Обществ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3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229280" y="1905120"/>
            <a:ext cx="1909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л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одходы к изучении личн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14400" y="762120"/>
            <a:ext cx="79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5"/>
          <p:cNvGrpSpPr/>
          <p:nvPr/>
        </p:nvGrpSpPr>
        <p:grpSpPr>
          <a:xfrm>
            <a:off x="6400800" y="1066680"/>
            <a:ext cx="2314440" cy="1716120"/>
            <a:chOff x="6400800" y="1066680"/>
            <a:chExt cx="2314440" cy="1716120"/>
          </a:xfrm>
        </p:grpSpPr>
        <p:pic>
          <p:nvPicPr>
            <p:cNvPr id="254" name="Object 6" descr=""/>
            <p:cNvPicPr/>
            <p:nvPr/>
          </p:nvPicPr>
          <p:blipFill>
            <a:blip r:embed="rId1"/>
            <a:stretch/>
          </p:blipFill>
          <p:spPr>
            <a:xfrm>
              <a:off x="6934320" y="1066680"/>
              <a:ext cx="178092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AutoShape 7"/>
            <p:cNvSpPr/>
            <p:nvPr/>
          </p:nvSpPr>
          <p:spPr>
            <a:xfrm>
              <a:off x="6400800" y="20574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828800" y="1066680"/>
            <a:ext cx="2133720" cy="2057400"/>
            <a:chOff x="1828800" y="1066680"/>
            <a:chExt cx="2133720" cy="2057400"/>
          </a:xfrm>
        </p:grpSpPr>
        <p:pic>
          <p:nvPicPr>
            <p:cNvPr id="257" name="Object 9" descr=""/>
            <p:cNvPicPr/>
            <p:nvPr/>
          </p:nvPicPr>
          <p:blipFill>
            <a:blip r:embed="rId2"/>
            <a:stretch/>
          </p:blipFill>
          <p:spPr>
            <a:xfrm>
              <a:off x="1828800" y="1066680"/>
              <a:ext cx="1440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AutoShape 10"/>
            <p:cNvSpPr/>
            <p:nvPr/>
          </p:nvSpPr>
          <p:spPr>
            <a:xfrm flipH="1">
              <a:off x="3505320" y="20574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1"/>
          <p:cNvGrpSpPr/>
          <p:nvPr/>
        </p:nvGrpSpPr>
        <p:grpSpPr>
          <a:xfrm>
            <a:off x="4495680" y="2666880"/>
            <a:ext cx="1765440" cy="2286000"/>
            <a:chOff x="4495680" y="2666880"/>
            <a:chExt cx="1765440" cy="2286000"/>
          </a:xfrm>
        </p:grpSpPr>
        <p:pic>
          <p:nvPicPr>
            <p:cNvPr id="260" name="Object 12" descr=""/>
            <p:cNvPicPr/>
            <p:nvPr/>
          </p:nvPicPr>
          <p:blipFill>
            <a:blip r:embed="rId3"/>
            <a:stretch/>
          </p:blipFill>
          <p:spPr>
            <a:xfrm>
              <a:off x="4495680" y="3173400"/>
              <a:ext cx="176544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AutoShape 13"/>
            <p:cNvSpPr/>
            <p:nvPr/>
          </p:nvSpPr>
          <p:spPr>
            <a:xfrm rot="5400000">
              <a:off x="4991040" y="270504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4"/>
          <p:cNvGrpSpPr/>
          <p:nvPr/>
        </p:nvGrpSpPr>
        <p:grpSpPr>
          <a:xfrm>
            <a:off x="6486840" y="2650680"/>
            <a:ext cx="2314440" cy="2286360"/>
            <a:chOff x="6486840" y="2650680"/>
            <a:chExt cx="2314440" cy="2286360"/>
          </a:xfrm>
        </p:grpSpPr>
        <p:pic>
          <p:nvPicPr>
            <p:cNvPr id="263" name="Object 15" descr=""/>
            <p:cNvPicPr/>
            <p:nvPr/>
          </p:nvPicPr>
          <p:blipFill>
            <a:blip r:embed="rId4"/>
            <a:stretch/>
          </p:blipFill>
          <p:spPr>
            <a:xfrm>
              <a:off x="7238880" y="2895480"/>
              <a:ext cx="15624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AutoShape 16"/>
            <p:cNvSpPr/>
            <p:nvPr/>
          </p:nvSpPr>
          <p:spPr>
            <a:xfrm rot="1928400">
              <a:off x="6553080" y="274284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17"/>
          <p:cNvGrpSpPr/>
          <p:nvPr/>
        </p:nvGrpSpPr>
        <p:grpSpPr>
          <a:xfrm>
            <a:off x="1219320" y="2716560"/>
            <a:ext cx="2964240" cy="2231640"/>
            <a:chOff x="1219320" y="2716560"/>
            <a:chExt cx="2964240" cy="2231640"/>
          </a:xfrm>
        </p:grpSpPr>
        <p:pic>
          <p:nvPicPr>
            <p:cNvPr id="266" name="Object 18" descr=""/>
            <p:cNvPicPr/>
            <p:nvPr/>
          </p:nvPicPr>
          <p:blipFill>
            <a:blip r:embed="rId5"/>
            <a:stretch/>
          </p:blipFill>
          <p:spPr>
            <a:xfrm>
              <a:off x="1219320" y="3200400"/>
              <a:ext cx="244296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AutoShape 19"/>
            <p:cNvSpPr/>
            <p:nvPr/>
          </p:nvSpPr>
          <p:spPr>
            <a:xfrm rot="8380200">
              <a:off x="3657240" y="281916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Text Box 20"/>
          <p:cNvSpPr/>
          <p:nvPr/>
        </p:nvSpPr>
        <p:spPr>
          <a:xfrm>
            <a:off x="1082160" y="5054760"/>
            <a:ext cx="770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чность проявляется  через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сущностн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наибол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имые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характеристик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оценивается относ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льно принятых в обществе н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6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2828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и презентац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шина Пол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уснутдинова Алс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днева А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ова Ма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рзлякова Наст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трова Маш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5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5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5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5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804680" y="362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1024"/>
          <p:cNvGraphicFramePr/>
          <p:nvPr/>
        </p:nvGraphicFramePr>
        <p:xfrm>
          <a:off x="1371600" y="2438280"/>
          <a:ext cx="1857240" cy="39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185724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AutoShape 5"/>
          <p:cNvSpPr/>
          <p:nvPr/>
        </p:nvSpPr>
        <p:spPr>
          <a:xfrm>
            <a:off x="4114800" y="294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025"/>
          <p:cNvGraphicFramePr/>
          <p:nvPr/>
        </p:nvGraphicFramePr>
        <p:xfrm>
          <a:off x="6019920" y="2209680"/>
          <a:ext cx="274320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209680"/>
                    <a:ext cx="2743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7"/>
          <p:cNvSpPr/>
          <p:nvPr/>
        </p:nvSpPr>
        <p:spPr>
          <a:xfrm>
            <a:off x="1284120" y="404640"/>
            <a:ext cx="7336080" cy="520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ЧЕЛОВЕК С ТОЧКИ ЗРЕНИЯ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371600" y="1219320"/>
            <a:ext cx="7035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о из специфических свойств человека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ализ самого себ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493440" y="4292640"/>
            <a:ext cx="2323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Почему?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4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3025800" cy="3252600"/>
          </a:xfrm>
          <a:prstGeom prst="rect">
            <a:avLst/>
          </a:prstGeom>
          <a:ln w="9360">
            <a:solidFill>
              <a:srgbClr val="221304"/>
            </a:solidFill>
            <a:miter/>
          </a:ln>
        </p:spPr>
      </p:pic>
      <p:sp>
        <p:nvSpPr>
          <p:cNvPr id="136" name="Text Box 3"/>
          <p:cNvSpPr/>
          <p:nvPr/>
        </p:nvSpPr>
        <p:spPr>
          <a:xfrm>
            <a:off x="1984320" y="3276720"/>
            <a:ext cx="16621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КАК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ject 5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914400" cy="1063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1253880" y="414360"/>
            <a:ext cx="7336080" cy="5205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ЧЕЛОВЕК С ТОЧКИ ЗРЕНИЯ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419112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Object 7" descr=""/>
          <p:cNvPicPr/>
          <p:nvPr/>
        </p:nvPicPr>
        <p:blipFill>
          <a:blip r:embed="rId3"/>
          <a:stretch/>
        </p:blipFill>
        <p:spPr>
          <a:xfrm>
            <a:off x="5181480" y="1752480"/>
            <a:ext cx="830520" cy="11430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8"/>
          <p:cNvSpPr/>
          <p:nvPr/>
        </p:nvSpPr>
        <p:spPr>
          <a:xfrm>
            <a:off x="594360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7043400" y="1590840"/>
            <a:ext cx="1690920" cy="9471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неш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0"/>
          <p:cNvSpPr/>
          <p:nvPr/>
        </p:nvSpPr>
        <p:spPr>
          <a:xfrm rot="5400000">
            <a:off x="2490480" y="4929120"/>
            <a:ext cx="1219320" cy="961920"/>
          </a:xfrm>
          <a:custGeom>
            <a:avLst/>
            <a:gdLst>
              <a:gd name="textAreaLeft" fmla="*/ 0 w 1219320"/>
              <a:gd name="textAreaRight" fmla="*/ 1045080 w 1219320"/>
              <a:gd name="textAreaTop" fmla="*/ 641520 h 961920"/>
              <a:gd name="textAreaBottom" fmla="*/ 962280 h 9619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585480" y="5092560"/>
            <a:ext cx="2145240" cy="9471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нутрен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5410080" y="5410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7"/>
          <p:cNvSpPr/>
          <p:nvPr/>
        </p:nvSpPr>
        <p:spPr>
          <a:xfrm rot="1713600">
            <a:off x="4510080" y="30193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7696080" y="3505320"/>
            <a:ext cx="914400" cy="914400"/>
          </a:xfrm>
          <a:prstGeom prst="plus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468040" y="3505320"/>
            <a:ext cx="2044440" cy="947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Идеаль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7620120" y="4495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8077320" y="2666880"/>
            <a:ext cx="75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Object 23" descr=""/>
          <p:cNvPicPr/>
          <p:nvPr/>
        </p:nvPicPr>
        <p:blipFill>
          <a:blip r:embed="rId4"/>
          <a:stretch/>
        </p:blipFill>
        <p:spPr>
          <a:xfrm>
            <a:off x="3886200" y="4648320"/>
            <a:ext cx="1219320" cy="17874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2666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ИВИД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Object 3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824200" cy="2587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630360" y="1257480"/>
            <a:ext cx="258408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ревнегрече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726960" y="1295280"/>
            <a:ext cx="128412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аты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752480" y="19051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7238880" y="19810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011240" y="2666880"/>
            <a:ext cx="185544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АТО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122160" y="2666880"/>
            <a:ext cx="268920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ИНДИВИ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Object 10" descr=""/>
          <p:cNvPicPr/>
          <p:nvPr/>
        </p:nvPicPr>
        <p:blipFill>
          <a:blip r:embed="rId2"/>
          <a:stretch/>
        </p:blipFill>
        <p:spPr>
          <a:xfrm>
            <a:off x="4051440" y="3809880"/>
            <a:ext cx="1206360" cy="1798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4029840" y="5299200"/>
            <a:ext cx="1401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Цицер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1053000" y="3699000"/>
            <a:ext cx="27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делимая осн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6023880" y="3673440"/>
            <a:ext cx="20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-од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4"/>
          <p:cNvSpPr/>
          <p:nvPr/>
        </p:nvSpPr>
        <p:spPr>
          <a:xfrm rot="5400000">
            <a:off x="2210040" y="4723560"/>
            <a:ext cx="852480" cy="733320"/>
          </a:xfrm>
          <a:custGeom>
            <a:avLst/>
            <a:gdLst>
              <a:gd name="textAreaLeft" fmla="*/ 0 w 852480"/>
              <a:gd name="textAreaRight" fmla="*/ 730800 w 852480"/>
              <a:gd name="textAreaTop" fmla="*/ 48888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6416640" y="4708440"/>
            <a:ext cx="852480" cy="733680"/>
          </a:xfrm>
          <a:custGeom>
            <a:avLst/>
            <a:gdLst>
              <a:gd name="textAreaLeft" fmla="*/ 0 w 852480"/>
              <a:gd name="textAreaRight" fmla="*/ 730800 w 852480"/>
              <a:gd name="textAreaTop" fmla="*/ 48924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1" name="Object 3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4" descr=""/>
          <p:cNvPicPr/>
          <p:nvPr/>
        </p:nvPicPr>
        <p:blipFill>
          <a:blip r:embed="rId2"/>
          <a:stretch/>
        </p:blipFill>
        <p:spPr>
          <a:xfrm>
            <a:off x="2057400" y="3352680"/>
            <a:ext cx="631800" cy="14511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/>
          <p:cNvSpPr/>
          <p:nvPr/>
        </p:nvSpPr>
        <p:spPr>
          <a:xfrm>
            <a:off x="2286000" y="27432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Object 6" descr=""/>
          <p:cNvPicPr/>
          <p:nvPr/>
        </p:nvPicPr>
        <p:blipFill>
          <a:blip r:embed="rId3"/>
          <a:stretch/>
        </p:blipFill>
        <p:spPr>
          <a:xfrm>
            <a:off x="4724280" y="1403280"/>
            <a:ext cx="604800" cy="1011240"/>
          </a:xfrm>
          <a:prstGeom prst="rect">
            <a:avLst/>
          </a:prstGeom>
          <a:ln w="0">
            <a:noFill/>
          </a:ln>
        </p:spPr>
      </p:pic>
      <p:pic>
        <p:nvPicPr>
          <p:cNvPr id="175" name="Object 7" descr=""/>
          <p:cNvPicPr/>
          <p:nvPr/>
        </p:nvPicPr>
        <p:blipFill>
          <a:blip r:embed="rId4"/>
          <a:stretch/>
        </p:blipFill>
        <p:spPr>
          <a:xfrm>
            <a:off x="5638680" y="3352680"/>
            <a:ext cx="1981440" cy="1524240"/>
          </a:xfrm>
          <a:prstGeom prst="rect">
            <a:avLst/>
          </a:prstGeom>
          <a:ln w="0">
            <a:noFill/>
          </a:ln>
        </p:spPr>
      </p:pic>
      <p:pic>
        <p:nvPicPr>
          <p:cNvPr id="176" name="Object 8" descr=""/>
          <p:cNvPicPr/>
          <p:nvPr/>
        </p:nvPicPr>
        <p:blipFill>
          <a:blip r:embed="rId5"/>
          <a:stretch/>
        </p:blipFill>
        <p:spPr>
          <a:xfrm>
            <a:off x="5943600" y="1371600"/>
            <a:ext cx="528480" cy="104292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9" descr=""/>
          <p:cNvPicPr/>
          <p:nvPr/>
        </p:nvPicPr>
        <p:blipFill>
          <a:blip r:embed="rId6"/>
          <a:stretch/>
        </p:blipFill>
        <p:spPr>
          <a:xfrm>
            <a:off x="7010280" y="1454040"/>
            <a:ext cx="519120" cy="96048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10" descr=""/>
          <p:cNvPicPr/>
          <p:nvPr/>
        </p:nvPicPr>
        <p:blipFill>
          <a:blip r:embed="rId7"/>
          <a:stretch/>
        </p:blipFill>
        <p:spPr>
          <a:xfrm>
            <a:off x="8077320" y="1355760"/>
            <a:ext cx="519120" cy="105876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1"/>
          <p:cNvSpPr/>
          <p:nvPr/>
        </p:nvSpPr>
        <p:spPr>
          <a:xfrm rot="20412000">
            <a:off x="5257800" y="266652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04512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713736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4"/>
          <p:cNvSpPr/>
          <p:nvPr/>
        </p:nvSpPr>
        <p:spPr>
          <a:xfrm rot="1147800">
            <a:off x="792432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1634400" y="5486400"/>
            <a:ext cx="66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начения термина «ИНДИВИ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через взаимоотношения человека и общест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1065960" y="4952880"/>
            <a:ext cx="325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общего к частно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5261760" y="4952880"/>
            <a:ext cx="325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частного к обще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8" name="Object 3" descr=""/>
          <p:cNvPicPr/>
          <p:nvPr/>
        </p:nvPicPr>
        <p:blipFill>
          <a:blip r:embed="rId1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4039920" y="1401840"/>
            <a:ext cx="1732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21304"/>
                </a:solidFill>
                <a:uFillTx/>
                <a:latin typeface="Times New Roman"/>
              </a:rPr>
              <a:t>отлич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390480" y="2484360"/>
            <a:ext cx="312660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внеш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психологичес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соци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духовн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ультур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Object 8" descr=""/>
          <p:cNvPicPr/>
          <p:nvPr/>
        </p:nvPicPr>
        <p:blipFill>
          <a:blip r:embed="rId2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589480" y="1413000"/>
            <a:ext cx="47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ВНЕШ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444120" y="2484360"/>
            <a:ext cx="2995560" cy="2531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цвет кож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антроп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р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группа кр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8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049400" y="518148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фические черты, присущие определенной особ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му в силу сочетания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следственных и приоб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тенных св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5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06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2355120" y="141300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469680" y="2013120"/>
            <a:ext cx="289332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темпера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харак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интеллек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потреб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способ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интерес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8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049400" y="518148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остная характеристика определенного человека через его темперамент, характер,интересы, интеллект, потребности и способ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5T01:00:02Z</dcterms:created>
  <dc:creator>Чернов Алексей</dc:creator>
  <dc:description/>
  <dc:language>en-US</dc:language>
  <cp:lastModifiedBy>LEGION</cp:lastModifiedBy>
  <dcterms:modified xsi:type="dcterms:W3CDTF">2014-11-12T10:38:37Z</dcterms:modified>
  <cp:revision>21</cp:revision>
  <dc:subject/>
  <dc:title>Человек, индивид, личность.</dc:title>
</cp:coreProperties>
</file>