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1294-25A2-4549-9D58-A38269E23FC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й 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тодология создания психологического портрета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Психологический портрет можно создать по 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сылки практической мудр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756E-CA87-46E6-BD91-5FB302B30B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казаться от риска - значит отказаться от творчества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А. С. Макар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мотрят все, а видят немно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арел Чапек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меняются только самые мудрые, и самые глупые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Жалеть о сказанном мне приходилось, о несказанном никог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сен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3E65-F474-4012-A777-EC16AD69A6C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ология создания психологического портр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cc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E3B1-793A-40E2-8CF2-EB026FDF11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кажи мне свой автомобиль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я скажу: кто 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Размер и цв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Calibri"/>
              </a:rPr>
              <a:t>Красн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указывает на инстинктивность натуры, желание двигаться, заявить о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ранже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ксуальной энергии и стремления к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солнца. Владелец желтого авто - человек солн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Calibri"/>
              </a:rPr>
              <a:t>Зеленый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рдечности, теплоты, споко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ccff"/>
                </a:solidFill>
                <a:latin typeface="Calibri"/>
              </a:rPr>
              <a:t>Голуб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выбирают люди любящие или желающие поговорить и пообщ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99ff"/>
                </a:solidFill>
                <a:latin typeface="Calibri"/>
              </a:rPr>
              <a:t>С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99"/>
                </a:solidFill>
                <a:latin typeface="Calibri"/>
              </a:rPr>
              <a:t>Фиолетовый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итают люди творческие, достаточно утонч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л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80808"/>
                </a:solidFill>
                <a:latin typeface="Calibri"/>
              </a:rPr>
              <a:t>Черный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b2b2b2"/>
                </a:solidFill>
                <a:latin typeface="Calibri"/>
              </a:rPr>
              <a:t>серый</a:t>
            </a:r>
            <a:r>
              <a:rPr b="1" lang="ru-RU" sz="1200" spc="-1" strike="noStrike">
                <a:solidFill>
                  <a:srgbClr val="b2b2b2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ADBD-6BA0-4FD3-B774-C0569C023A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какой кофе ты предпочитаешь, и я скажу какой твой характ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без сах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ильный характер, ты не боишься ответственности и не стесняешься своих оши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с сахаро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пен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творимый коф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предпочитаешь кратчайший путь ко всему и в жизни и считаешь себя преуспеваю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добавлением молока и сах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без кофеин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26D0-D847-4FFB-8C9B-FC05710769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Вы спи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живот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едовольны, как правило, своей професс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спин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сильные личности и вдобавок вполне удовлетворены своим образом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тот, кто спит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, согнувшись или прижав к себе подушк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склонен к тоскливым настроениям и нуждается в неж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мрачные пессимисты чаще других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укрываются одеялом с голово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545D-0129-468E-B0A3-2DF300173E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й портрет можн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по ... конфе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омантики предпочитают клубничную начи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ди решительные и резкие выбирают конфеты с вишней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Застенчивые любят конфеты с фунду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Если вы предпочитаете начинку из кокосовой стружки, в вас есть творческая жил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ыбор конфеты с мятной начинкой означает, что ваше воображение чрезвычайно бога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9443-892A-4795-9B40-CAB06109B6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где у тебя родинка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Убийца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личественная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менчи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актична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B057-BC5A-41D3-89D9-334041FCF1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можно узнать о человеке по его улыб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 смехе вы обычно касаетесь мизинцем своих гу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крываете при смехе рот ру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Часто при смехе запрокидываете голов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меетесь громко, с раскрытым рт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Держитесь при смехе за подбород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802F-8415-45EB-A2B1-BCE979B5E9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ессиональная непригодность - отсутствие чуткости и бестак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Визитная карточка руководителя - умение расположить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работе, ориентированной на людей, есть только один ключ к успеху - ДОВЕ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гда невозможно уже работать напряженнее, начни работать ум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Мы все чувствительны к комплимен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А. Линколь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 день надо смотреть, как на маленькую жизнь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А. 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DA6B-AC9D-48B8-88F1-4E233BF9A5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AB6-46AF-462D-B4AC-0781334B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098-51DE-4073-A79D-F8466685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FF1-5E9F-444A-81CE-D441B367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E2F-2504-45F7-8678-5FEC4E18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F5D2-1C10-4C1A-8401-33BB0669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117A-C849-469C-A4DB-021A26AE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B66F-83BE-4009-B588-FE413C08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BE05-FEF6-477A-90C8-23434B28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D625-64B9-4604-90E4-08DA26F9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5640-8E6F-481A-ABF0-4A9A162B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F70F-6FB5-4EBA-BAD6-A1D764CD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216-DDDC-4F9D-97FF-B337F523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018C-0D11-4C26-9016-7C0ECC84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74D0-8002-4C42-9F89-2C439292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F761-C995-4590-8600-C75FF3A3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ECA2-2CC5-4394-A09C-69883720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011C-44B9-4999-A3C5-BF8678A4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B2C-0C45-43DD-9D57-6BF4A301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A4A-F6BF-4E7C-8734-4702F1CA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92C-AE68-45C1-8BCD-9495399E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9EA-94D6-4C76-8CAC-871DC7D6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DF25-B91A-4BC5-85E5-144178A4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C92-6A8A-48F3-B7DB-77477755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A31-5F57-430F-A85C-29A48B4A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36EF-1172-4DCF-AF11-A6C6D17E150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0682-8349-4E0A-9DEE-FDD58C82BDE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сихологический 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Методология создания психологического портрета ли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Tahoma"/>
              </a:rPr>
              <a:t>Психологический портрет можно создать по 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ссылки практической мудр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6" descr="28"/>
          <p:cNvPicPr/>
          <p:nvPr/>
        </p:nvPicPr>
        <p:blipFill>
          <a:blip r:embed="rId1"/>
          <a:stretch/>
        </p:blipFill>
        <p:spPr>
          <a:xfrm>
            <a:off x="5076720" y="2262240"/>
            <a:ext cx="3849840" cy="29941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12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тказаться от риска - значит отказаться от творчества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А. С. Макарен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мотрят все, а видят немног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арел Чапек, писа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 меняются только самые мудрые, и самые глупые. </a:t>
            </a:r>
            <a:r>
              <a:rPr b="1" i="1" lang="ru-RU" sz="2000" spc="-1" strike="noStrike">
                <a:solidFill>
                  <a:srgbClr val="ff9900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Жалеть о сказанном мне приходилось, о несказанном никог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сенокр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273"/>
          <p:cNvPicPr/>
          <p:nvPr/>
        </p:nvPicPr>
        <p:blipFill>
          <a:blip r:embed="rId1"/>
          <a:stretch/>
        </p:blipFill>
        <p:spPr>
          <a:xfrm>
            <a:off x="5757840" y="1989000"/>
            <a:ext cx="2568600" cy="2592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етодология создания психологического портре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ич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кажи мне свой автомобиль,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я скажу: кто ты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змер и цвет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ahoma"/>
              </a:rPr>
              <a:t>Красный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указывает на инстинктивность натуры, желание двигаться, заявить о себ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Оранжев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ксуальной энергии и стремления к н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Желт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солнца. Владелец желтого авто - человек солнечн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Зеленый</a:t>
            </a: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рдечности, теплоты, спокойств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Tahoma"/>
              </a:rPr>
              <a:t>Голуб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ще всего выбирают люди любящие или желающие поговорить и пообщатьс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Tahoma"/>
              </a:rPr>
              <a:t>Сини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99"/>
                </a:solidFill>
                <a:latin typeface="Tahoma"/>
              </a:rPr>
              <a:t>Фиолетовый</a:t>
            </a: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читают люди творческие, достаточно утонченны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ел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Tahoma"/>
              </a:rPr>
              <a:t>Черный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i="1" lang="ru-RU" sz="1800" spc="-1" strike="noStrike">
                <a:solidFill>
                  <a:srgbClr val="b2b2b2"/>
                </a:solidFill>
                <a:latin typeface="Tahoma"/>
              </a:rPr>
              <a:t>серый</a:t>
            </a:r>
            <a:r>
              <a:rPr b="1" lang="ru-RU" sz="18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какой кофе ты предпочитаешь, и я скажу какой твой характер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без сахар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ильный характер, ты не боишься ответственности и не стесняешься своих ошиб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с сахар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пен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Растворимый коф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предпочитаешь кратчайший путь ко всему и в жизни и считаешь себя преуспевающ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добавлением молока и сахар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без кофеин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ак Вы спит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живот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недовольны, как правило, своей профессие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спин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сильные личности и вдобавок вполне удовлетворены своим образом жизн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тот, кто спит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, согнувшись или прижав к себе подушку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, склонен к тоскливым настроениям и нуждается в нежност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мрачные пессимисты чаще других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укрываются одеялом с головой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0" descr="Как Вы спите?"/>
          <p:cNvPicPr/>
          <p:nvPr/>
        </p:nvPicPr>
        <p:blipFill>
          <a:blip r:embed="rId1"/>
          <a:stretch/>
        </p:blipFill>
        <p:spPr>
          <a:xfrm>
            <a:off x="5148360" y="2324160"/>
            <a:ext cx="338436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сихологический портрет можно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здать по ... конфет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Романтики предпочитают клубничную начин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ди решительные и резкие выбирают конфеты с вишней внут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Застенчивые любят конфеты с фундук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Если вы предпочитаете начинку из кокосовой стружки, в вас есть творческая жил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Выбор конфеты с мятной начинкой означает, что ваше воображение чрезвычайно богат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где у тебя родинка..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Убийца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Величественная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Изменчив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актичная</a:t>
            </a: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Что можно узнать о человеке по его улыбк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 смехе вы обычно касаетесь мизинцем своих губ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крываете при смехе рот ру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Часто при смехе запрокидываете голову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Смеетесь громко, с раскрытым рто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Держитесь при смехе за подбородок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рофессиональная непригодность - отсутствие чуткости и бестакт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Визитная карточка руководителя - умение расположить к себ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В работе, ориентированной на людей, есть только один ключ к успеху - ДОВЕР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огда невозможно уже работать напряженнее, начни работать умн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Мы все чувствительны к комплимент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А. Линколь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а день надо смотреть, как на маленькую жизнь. </a:t>
            </a:r>
            <a:r>
              <a:rPr b="1" i="1" lang="ru-RU" sz="2400" spc="-1" strike="noStrike">
                <a:solidFill>
                  <a:srgbClr val="ff9900"/>
                </a:solidFill>
                <a:latin typeface="Tahoma"/>
              </a:rPr>
              <a:t>А. М. Горь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9:13:07Z</dcterms:created>
  <dc:creator>OEM</dc:creator>
  <dc:description/>
  <dc:language>en-US</dc:language>
  <cp:lastModifiedBy>LEGION</cp:lastModifiedBy>
  <dcterms:modified xsi:type="dcterms:W3CDTF">2014-11-12T11:31:35Z</dcterms:modified>
  <cp:revision>7</cp:revision>
  <dc:subject/>
  <dc:title>Покажи мне свой автомобиль, и я скажу: кто 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