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810-4319-477D-829B-804C5E608E0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й 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етодология создания психологического портрета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Психологический портрет можно создать по 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сылки практической мудр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B3D9-4044-414A-B665-CA37EE1339A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казаться от риска - значит отказаться от творчества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А. С. Макарен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мотрят все, а видят немно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арел Чапек, пис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 меняются только самые мудрые, и самые глупые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Конфу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Жалеть о сказанном мне приходилось, о несказанном никог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Ксенок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E19F-A0F6-4EBC-8467-BDA72FC000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ология создания психологического портрет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чн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cc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9299-A0E9-4E5F-BC5B-E5CD1137677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кажи мне свой автомобиль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я скажу: кто 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Размер и цвет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Calibri"/>
              </a:rPr>
              <a:t>Красн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указывает на инстинктивность натуры, желание двигаться, заявить о себ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Оранжев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ксуальной энергии и стремления к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Желт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солнца. Владелец желтого авто - человек солн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cc33"/>
                </a:solidFill>
                <a:latin typeface="Calibri"/>
              </a:rPr>
              <a:t>Зеленый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 - цвет сердечности, теплоты, спокойст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ccff"/>
                </a:solidFill>
                <a:latin typeface="Calibri"/>
              </a:rPr>
              <a:t>Голуб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ще всего выбирают люди любящие или желающие поговорить и пообща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99ff"/>
                </a:solidFill>
                <a:latin typeface="Calibri"/>
              </a:rPr>
              <a:t>Сини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99"/>
                </a:solidFill>
                <a:latin typeface="Calibri"/>
              </a:rPr>
              <a:t>Фиолетовый</a:t>
            </a: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читают люди творческие, достаточно утонч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елы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80808"/>
                </a:solidFill>
                <a:latin typeface="Calibri"/>
              </a:rPr>
              <a:t>Черный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i="1" lang="ru-RU" sz="1200" spc="-1" strike="noStrike">
                <a:solidFill>
                  <a:srgbClr val="b2b2b2"/>
                </a:solidFill>
                <a:latin typeface="Calibri"/>
              </a:rPr>
              <a:t>серый</a:t>
            </a:r>
            <a:r>
              <a:rPr b="1" lang="ru-RU" sz="1200" spc="-1" strike="noStrike">
                <a:solidFill>
                  <a:srgbClr val="b2b2b2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A9F7-F617-47B9-9AE5-9E160D1B4B1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какой кофе ты предпочитаешь, и я скажу какой твой характ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без сахар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ильный характер, ты не боишься ответственности и не стесняешься своих ошиб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Молотый кофе с сахаром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пен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астворимый коф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ы предпочитаешь кратчайший путь ко всему и в жизни и считаешь себя преуспевающ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с добавлением молока и саха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Кофе без кофеин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9BC-6981-497F-BA5C-868FF64D02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Вы спи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живот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едовольны, как правило, своей професс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пящие на спине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сильные личности и вдобавок вполне удовлетворены своим образом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тот, кто спит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, согнувшись или прижав к себе подушку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, склонен к тоскливым настроениям и нуждается в неж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- мрачные пессимисты чаще других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укрываются одеялом с головой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4FA4-90C9-44CC-AC92-53BEA4CA871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й портрет мож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здать по ... конфет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омантики предпочитают клубничную начин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ди решительные и резкие выбирают конфеты с вишней внутр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Застенчивые любят конфеты с фунду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Если вы предпочитаете начинку из кокосовой стружки, в вас есть творческая жил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ыбор конфеты с мятной начинкой означает, что ваше воображение чрезвычайно богат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05AE3-C589-403F-9AA2-2BA5E186322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жи, где у тебя родинк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бийца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личественная- роди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чив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актичная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74EE-81E4-4263-AC35-001B77F5821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можно узнать о человеке по его улыб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 смехе вы обычно касаетесь мизинцем своих гу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крываете при смехе рот рукой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 при смехе запрокидываете голов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меетесь громко, с раскрытым рт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ржитесь при смехе за подбородо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4D78-7231-4B18-AF93-7E889441E7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ссылки практической мудрост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офессиональная непригодность - отсутствие чуткости и бестак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Визитная карточка руководителя - умение расположить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 работе, ориентированной на людей, есть только один ключ к успеху - ДОВЕР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гда невозможно уже работать напряженнее, начни работать ум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99"/>
                </a:solidFill>
                <a:latin typeface="Calibri"/>
              </a:rPr>
              <a:t>Мы все чувствительны к комплимент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cc99"/>
                </a:solidFill>
                <a:latin typeface="Calibri"/>
              </a:rPr>
              <a:t>А. Линколь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На день надо смотреть, как на маленькую жизнь. </a:t>
            </a:r>
            <a:r>
              <a:rPr b="1" i="1" lang="ru-RU" sz="1200" spc="-1" strike="noStrike">
                <a:solidFill>
                  <a:srgbClr val="800080"/>
                </a:solidFill>
                <a:latin typeface="Calibri"/>
              </a:rPr>
              <a:t>А. М. Горь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843E-3F92-4EA3-881F-DBD1E6DCC2C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DA86-0C8B-4412-ABC5-CFD3B83D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EE98-C33A-4725-88E2-5E8E5C0C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691E-CF96-4944-A936-3CFC0681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CBBB-9467-4750-9FA4-38CFE670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BCAD-72F2-4AF7-B4E2-AF86AABEC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D64B-1E9C-41EE-8087-C51E27B3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8A77-D6CA-46DD-9907-C0EFF127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1289-E76C-4106-95F0-70947484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6DFE-00B4-469E-B256-E7E527F7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0AC-BFF1-4968-A9A2-0ECBC0ED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A032-71C9-4A78-8A48-22EFC4E5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CAB-C464-4DF3-B7AD-0D98BA55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DEC1-E19E-4219-BD3B-C7B51278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60C9-0E86-4694-B33A-A5F9754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1B58-0078-4BF6-B6D4-66693289F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4D4B-5CDC-4B2D-84DB-9B92277F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F552-B3F2-4AB6-8CEF-DC0FF09E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8ED1-AD21-4731-852C-D976D0E5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0B96-1DD4-4F8C-94F7-5B6B5192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1B3-B9FA-44B3-8AD3-F78BF978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1AAD-E93B-4CE7-B06E-1BE13092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DDB-5117-4089-9321-CE872F22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2DC-2038-4FA1-8826-2027D313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1FB9-3B79-469D-AFED-3A256555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A636-65EA-43C0-955E-3EBAE504980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745-2F44-4452-8A5F-32393C300FD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сихологический портрет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968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Методология создания психологического портрета лич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Tahoma"/>
              </a:rPr>
              <a:t>Психологический портрет можно создать по 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ссылки практической мудр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6" descr="28"/>
          <p:cNvPicPr/>
          <p:nvPr/>
        </p:nvPicPr>
        <p:blipFill>
          <a:blip r:embed="rId1"/>
          <a:stretch/>
        </p:blipFill>
        <p:spPr>
          <a:xfrm>
            <a:off x="5076720" y="2262240"/>
            <a:ext cx="3849840" cy="29941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122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Отказаться от риска - значит отказаться от творчества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А. С. Макаренк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мотрят все, а видят немноги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арел Чапек, писател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 меняются только самые мудрые, и самые глупые. </a:t>
            </a:r>
            <a:r>
              <a:rPr b="1" i="1" lang="ru-RU" sz="2000" spc="-1" strike="noStrike">
                <a:solidFill>
                  <a:srgbClr val="ff9900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Середина есть точка, ближайшая к мудрости; не дойти до нее - то же самое, что ее перейти. </a:t>
            </a:r>
            <a:r>
              <a:rPr b="1" i="1" lang="ru-RU" sz="2000" spc="-1" strike="noStrike">
                <a:solidFill>
                  <a:srgbClr val="ffcc66"/>
                </a:solidFill>
                <a:latin typeface="Tahoma"/>
              </a:rPr>
              <a:t>Конфуц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Жалеть о сказанном мне приходилось, о несказанном никог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000" spc="-1" strike="noStrike">
                <a:solidFill>
                  <a:srgbClr val="ffcc99"/>
                </a:solidFill>
                <a:latin typeface="Tahoma"/>
              </a:rPr>
              <a:t>Ксенокра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8" descr="273"/>
          <p:cNvPicPr/>
          <p:nvPr/>
        </p:nvPicPr>
        <p:blipFill>
          <a:blip r:embed="rId1"/>
          <a:stretch/>
        </p:blipFill>
        <p:spPr>
          <a:xfrm>
            <a:off x="5757840" y="1989000"/>
            <a:ext cx="2568600" cy="25923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Методология создания психологического портре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лич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66"/>
                </a:solidFill>
                <a:latin typeface="Tahoma"/>
              </a:rPr>
              <a:t>Важно принять во внимание все известные существенные и, на первый взгляд, малосущественные факты жизни человека, и на этой основе воссоздать его психологический облик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Tahoma"/>
              </a:rPr>
              <a:t>Систематизацию черт личности лучше проводить исходя из модели успешной личности. Необходимо иметь реальную, экспериментальную, лучше психодиагностическую модель успешной личности в тех условиях, в которых действует или предстоит действовать человеку, на которого составляется психологический портр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6320" indent="-34632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обходимо психологический портрет анализируемой личности  сопоставить с той моделью личности, которая наиболее эффективна для предстоящего вида деятельности, для большинства ситуаций, которые чаще всего будут возникать в процессе деятельности данного индивид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окажи мне свой автомобиль,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и я скажу: кто ты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Tahoma"/>
              </a:rPr>
              <a:t>Размер и цвет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Tahoma"/>
              </a:rPr>
              <a:t>Красный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указывает на инстинктивность натуры, желание двигаться, заявить о себ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Оранжев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ксуальной энергии и стремления к н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Желт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солнца. Владелец желтого авто - человек солнечны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Зеленый</a:t>
            </a:r>
            <a:r>
              <a:rPr b="1" lang="ru-RU" sz="1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 - цвет сердечности, теплоты, спокойств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ccff"/>
                </a:solidFill>
                <a:latin typeface="Tahoma"/>
              </a:rPr>
              <a:t>Голуб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ще всего выбирают люди любящие или желающие поговорить и пообщатьс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99ff"/>
                </a:solidFill>
                <a:latin typeface="Tahoma"/>
              </a:rPr>
              <a:t>Сини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читается цветом ума. То есть автомобили подобной расцветки могут выбрать люди, которые воспринимают мир через голов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99"/>
                </a:solidFill>
                <a:latin typeface="Tahoma"/>
              </a:rPr>
              <a:t>Фиолетовый</a:t>
            </a:r>
            <a:r>
              <a:rPr b="1" lang="ru-RU" sz="1800" spc="-1" strike="noStrike">
                <a:solidFill>
                  <a:srgbClr val="990099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едпочитают люди творческие, достаточно утонченные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елы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цвет объединяющий. Людям, его выбирающим, присущи в равной мере все качества и пристраст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10000"/>
              </a:lnSpc>
              <a:spcBef>
                <a:spcPts val="3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ahoma"/>
              </a:rPr>
              <a:t>Черный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1" i="1" lang="ru-RU" sz="1800" spc="-1" strike="noStrike">
                <a:solidFill>
                  <a:srgbClr val="b2b2b2"/>
                </a:solidFill>
                <a:latin typeface="Tahoma"/>
              </a:rPr>
              <a:t>серый</a:t>
            </a:r>
            <a:r>
              <a:rPr b="1" lang="ru-RU" sz="18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вета выбирают водители, которые не любят высовываться, предпочитают незаметность. При этом они стремятся к управлению ситуацие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какой кофе ты предпочитаешь, и я скажу какой твой характер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без сахар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ильный характер, ты не боишься ответственности и не стесняешься своих ошибок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Молотый кофе с сахаром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очень долго принимаешь решения, нуждаешься в поддержке. Очень часто, ты готов пожертвовать своими интересами ради других, однако потом долго жалеешь об эт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пен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над разумом преобладают чувства, ты имеешь доброе сердце и открытую душу, а также ценишь в людях честнос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Растворимый коф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ы предпочитаешь кратчайший путь ко всему и в жизни и считаешь себя преуспевающ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с добавлением молока и сахар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сложный характер. Ты легко психически возбудим, отличаешься частыми перепадами настроения и "двойной бухгалтерией" в принятии сужд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Кофе без кофеин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У тебя уравновешенный характер. Ты много чем интересуешься, однако знания твои чаще всего поверхностны. Также ты отличаешься отсутствием стремления к "завоеванию" новых верши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Как Вы спит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живот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недовольны, как правило, своей профессией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спящие на спине 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сильные личности и вдобавок вполне удовлетворены своим образом жизн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тот, кто спит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, согнувшись или прижав к себе подушку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, склонен к тоскливым настроениям и нуждается в нежности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- мрачные пессимисты чаще других </a:t>
            </a: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укрываются одеялом с головой</a:t>
            </a:r>
            <a:r>
              <a:rPr b="0" lang="ru-RU" sz="1800" spc="-1" strike="noStrike">
                <a:solidFill>
                  <a:srgbClr val="ffcc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Как Вы спите?"/>
          <p:cNvPicPr/>
          <p:nvPr/>
        </p:nvPicPr>
        <p:blipFill>
          <a:blip r:embed="rId1"/>
          <a:stretch/>
        </p:blipFill>
        <p:spPr>
          <a:xfrm>
            <a:off x="5148360" y="2324160"/>
            <a:ext cx="338436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сихологический портрет можно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оздать по ... конфет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Немецкие психологи утверждают, что по тому, какие шоколадные конфеты вы выбираете из коробки ассорти, можно сделать некоторые выводы о вашем характер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Романтики предпочитают клубничную начинк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ди решительные и резкие выбирают конфеты с вишней внут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Застенчивые любят конфеты с фундуко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Если вы предпочитаете начинку из кокосовой стружки, в вас есть творческая жилк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Кофейная начинка нравится активным, вечно занятым деловым людям, которые в то же время любят сюрпризы и неожидан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Любители марципана и миндаля склонны себя баловать и ежедневно устраивать маленькие праздник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Выбор конфеты с мятной начинкой означает, что ваше воображение чрезвычайно богат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Скажи, где у тебя родинка..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Убийца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озле глаза. Она обычно бывает у роковых женщин и как бы сигнализирует:"Берегись, в любви я опасна!"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Величественная- родин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расположенная в центральной области лба. Она свидетельствует о целеустремленности ее хозяина, стремлении достичь власти."Вы недооцениваете меня, я еще покажу, на что способна!"- говорит о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Изменчив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- родинка, расположенная на виске. Ее обладателю свойственны непостоянство, частые смены настроения, изменчивость во взгл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актичная</a:t>
            </a:r>
            <a:r>
              <a:rPr b="0" lang="ru-RU" sz="1800" spc="-1" strike="noStrike">
                <a:solidFill>
                  <a:srgbClr val="ff99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динка посередине шеи. Ее хозяйка или хозяин хорошо разбираются в любовных делах, часто меняют партнеров, оставаясь с последними в дружеских отношения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Что можно узнать о человеке по его улыбке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 смехе вы обычно касаетесь мизинцем своих губ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Это значит, что у вас имеются свои представления о хорошем тоне, грации и женственности и что вы твердо следуете этим представлениям всегда и везде. Вам нравится быть в центре внима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Прикрываете при смехе рот рукой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несколько робки и не слишком уверены в себе. Часто смущаетесь, предпочитаете оставаться в тени и, как говорят, "не раскрываться". Наш совет: не перегибайте палку с самоанализом и чрезмерной самокритико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Часто при смехе запрокидываете голову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, очевидно, доверчивы и легковерны, но в то же время у вас широкая натура. Иногда совершаете неожиданные поступки, согласуясь лишь со своими чувствами. А стоит, пожалуй, полагаться на раз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Смеетесь громко, с раскрытым рто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 принадлежите к людям темпераментным, подвижным. Немного сдержанности, умеренности приобрести бы вам не помешало! Вы умеете говорить, но умейте и послушать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ahoma"/>
              </a:rPr>
              <a:t>Держитесь при смехе за подбородок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ой бы ни был ваш возраст, совершенно очевидно, что в своем характере вы сохранили черты ю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Рассылки практической мудр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Профессиональная непригодность - отсутствие чуткости и бестактн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Визитная карточка руководителя - умение расположить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В работе, ориентированной на людей, есть только один ключ к успеху - ДОВЕР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огда невозможно уже работать напряженнее, начни работать умн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99"/>
                </a:solidFill>
                <a:latin typeface="Tahoma"/>
              </a:rPr>
              <a:t>Мы все чувствительны к комплимента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   </a:t>
            </a:r>
            <a:r>
              <a:rPr b="1" i="1" lang="ru-RU" sz="2400" spc="-1" strike="noStrike">
                <a:solidFill>
                  <a:srgbClr val="ffcc99"/>
                </a:solidFill>
                <a:latin typeface="Tahoma"/>
              </a:rPr>
              <a:t>А. Линколь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Tahoma"/>
              </a:rPr>
              <a:t>На день надо смотреть, как на маленькую жизнь. </a:t>
            </a:r>
            <a:r>
              <a:rPr b="1" i="1" lang="ru-RU" sz="2400" spc="-1" strike="noStrike">
                <a:solidFill>
                  <a:srgbClr val="ff9900"/>
                </a:solidFill>
                <a:latin typeface="Tahoma"/>
              </a:rPr>
              <a:t>А. М. Горьк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9:13:07Z</dcterms:created>
  <dc:creator>OEM</dc:creator>
  <dc:description/>
  <dc:language>en-US</dc:language>
  <cp:lastModifiedBy>LEGION</cp:lastModifiedBy>
  <dcterms:modified xsi:type="dcterms:W3CDTF">2014-11-12T11:31:35Z</dcterms:modified>
  <cp:revision>7</cp:revision>
  <dc:subject/>
  <dc:title>Покажи мне свой автомобиль, и я скажу: кто 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