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7CF0-3F60-403E-8FB2-C2DEBE96F3B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й 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етодология создания психологического портрета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Психологический портрет можно создать по 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ассылки практической мудр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1E78-228F-4571-B46C-3B91C1316D6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сылки практической мудр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казаться от риска - значит отказаться от творчества.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А. С. Макар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Смотрят все, а видят немног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Карел Чапек, п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 меняются только самые мудрые, и самые глупые. 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Конфу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ередина есть точка, ближайшая к мудрости; не дойти до нее - то же самое, что ее перейти.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Конфу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Жалеть о сказанном мне приходилось, о несказанном никог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Ксенок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992B-2914-4624-8CCC-BF5AF90A35A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ология создания психологического портре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ажно принять во внимание все известные существенные и, на первый взгляд, малосущественные факты жизни человека, и на этой основе воссоздать его психологический обл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cc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Систематизацию черт личности лучше проводить исходя из модели успешной личности. Необходимо иметь реальную, экспериментальную, лучше психодиагностическую модель успешной личности в тех условиях, в которых действует или предстоит действовать человеку, на которого составляется психологический портр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обходимо психологический портрет анализируемой личности  сопоставить с той моделью личности, которая наиболее эффективна для предстоящего вида деятельности, для большинства ситуаций, которые чаще всего будут возникать в процессе деятельности данного индиви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F076-DEC7-438D-9FA0-9A6863EBD50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кажи мне свой автомобиль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я скажу: кто 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libri"/>
              </a:rPr>
              <a:t>Размер и цвет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Calibri"/>
              </a:rPr>
              <a:t>Красны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указывает на инстинктивность натуры, желание двигаться, заявить о себ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ранжев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- цвет сексуальной энергии и стремления к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Желт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цвет солнца. Владелец желтого авто - человек солнеч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cc33"/>
                </a:solidFill>
                <a:latin typeface="Calibri"/>
              </a:rPr>
              <a:t>Зеленый</a:t>
            </a: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- цвет сердечности, теплоты, споко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ccff"/>
                </a:solidFill>
                <a:latin typeface="Calibri"/>
              </a:rPr>
              <a:t>Голуб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выбирают люди любящие или желающие поговорить и пообща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99ff"/>
                </a:solidFill>
                <a:latin typeface="Calibri"/>
              </a:rPr>
              <a:t>Си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ется цветом ума. То есть автомобили подобной расцветки могут выбрать люди, которые воспринимают мир через голо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99"/>
                </a:solidFill>
                <a:latin typeface="Calibri"/>
              </a:rPr>
              <a:t>Фиолетовый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итают люди творческие, достаточно утонч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ел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цвет объединяющий. Людям, его выбирающим, присущи в равной мере все качества и пристрас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80808"/>
                </a:solidFill>
                <a:latin typeface="Calibri"/>
              </a:rPr>
              <a:t>Черный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1200" spc="-1" strike="noStrike">
                <a:solidFill>
                  <a:srgbClr val="b2b2b2"/>
                </a:solidFill>
                <a:latin typeface="Calibri"/>
              </a:rPr>
              <a:t>серый</a:t>
            </a:r>
            <a:r>
              <a:rPr b="1" lang="ru-RU" sz="1200" spc="-1" strike="noStrike">
                <a:solidFill>
                  <a:srgbClr val="b2b2b2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а выбирают водители, которые не любят высовываться, предпочитают незаметность. При этом они стремятся к управлению ситуацие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7505-2EDB-41D6-98F1-CD7BD62B285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жи, какой кофе ты предпочитаешь, и я скажу какой твой характ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олотый кофе без саха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сильный характер, ты не боишься ответственности и не стесняешься своих ошиб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олотый кофе с сахаро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 очень долго принимаешь решения, нуждаешься в поддержке. Очень часто, ты готов пожертвовать своими интересами ради других, однако потом долго жалеешь об э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офе с пенк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над разумом преобладают чувства, ты имеешь доброе сердце и открытую душу, а также ценишь в людях чес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астворимый коф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 предпочитаешь кратчайший путь ко всему и в жизни и считаешь себя преуспевающ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офе с добавлением молока и саха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сложный характер. Ты легко психически возбудим, отличаешься частыми перепадами настроения и "двойной бухгалтерией" в принятии су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офе без кофеин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уравновешенный характер. Ты много чем интересуешься, однако знания твои чаще всего поверхностны. Также ты отличаешься отсутствием стремления к "завоеванию" новых верш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7DF8-17FE-446A-83EB-227D003A533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Вы спит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пящие на животе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едовольны, как правило, своей професси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пящие на спине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сильные личности и вдобавок вполне удовлетворены своим образом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тот, кто спит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, согнувшись или прижав к себе подушку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склонен к тоскливым настроениям и нуждается в неж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мрачные пессимисты чаще других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укрываются одеялом с голово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265D-FFD8-4A02-92A0-FE4C47ED67E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ический портрет можн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ть по ... конфет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мецкие психологи утверждают, что по тому, какие шоколадные конфеты вы выбираете из коробки ассорти, можно сделать некоторые выводы о вашем харак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омантики предпочитают клубничную начин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юди решительные и резкие выбирают конфеты с вишней внут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Застенчивые любят конфеты с фунду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Если вы предпочитаете начинку из кокосовой стружки, в вас есть творческая жил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офейная начинка нравится активным, вечно занятым деловым людям, которые в то же время любят сюрпризы и неожида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юбители марципана и миндаля склонны себя баловать и ежедневно устраивать маленькие празд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ыбор конфеты с мятной начинкой означает, что ваше воображение чрезвычайно бога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CBB4-2A78-4E79-9B1D-B3F245C956B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жи, где у тебя родинка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Убийца- роди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положенная возле глаза. Она обычно бывает у роковых женщин и как бы сигнализирует:"Берегись, в любви я опасна!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еличественная- роди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положенная в центральной области лба. Она свидетельствует о целеустремленности ее хозяина, стремлении достичь власти."Вы недооцениваете меня, я еще покажу, на что способна!"- говорит 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зменчив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одинка, расположенная на виске. Ее обладателю свойственны непостоянство, частые смены настроения, изменчивость во взгляд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актичная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нка посередине шеи. Ее хозяйка или хозяин хорошо разбираются в любовных делах, часто меняют партнеров, оставаясь с последними в дружеских отношен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8BCB-9AA4-4791-9DD2-C39D3154193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можно узнать о человеке по его улыб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 смехе вы обычно касаетесь мизинцем своих губ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начит, что у вас имеются свои представления о хорошем тоне, грации и женственности и что вы твердо следуете этим представлениям всегда и везде. Вам нравится быть в центре вни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крываете при смехе рот рук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несколько робки и не слишком уверены в себе. Часто смущаетесь, предпочитаете оставаться в тени и, как говорят, "не раскрываться". Наш совет: не перегибайте палку с самоанализом и чрезмерной самокри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Часто при смехе запрокидываете голов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, очевидно, доверчивы и легковерны, но в то же время у вас широкая натура. Иногда совершаете неожиданные поступки, согласуясь лишь со своими чувствами. А стоит, пожалуй, полагаться на разу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меетесь громко, с раскрытым рт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принадлежите к людям темпераментным, подвижным. Немного сдержанности, умеренности приобрести бы вам не помешало! Вы умеете говорить, но умейте и послуша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Держитесь при смехе за подбородо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бы ни был ваш возраст, совершенно очевидно, что в своем характере вы сохранили черты ю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B133-844B-4F00-ADD4-9A75A0A9E6C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сылки практической мудр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ессиональная непригодность - отсутствие чуткости и бестак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Визитная карточка руководителя - умение расположить к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 работе, ориентированной на людей, есть только один ключ к успеху - ДОВЕР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огда невозможно уже работать напряженнее, начни работать ум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Мы все чувствительны к комплимен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А. Линколь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а день надо смотреть, как на маленькую жизнь. 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А. М. Горь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694C-1085-4BC3-9DD5-61E4E47605D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C7FA-58D6-4491-A965-002A3C72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BBE-ADBF-42EC-BA9E-23B7B910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4635-76FA-4352-8576-312E3A39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987A-C4E6-49F3-AF65-0673B623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DF83-8908-49E9-93FD-4ACDABA0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0433-6909-4FEC-9594-5EEE3038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6F1B-A956-47C6-8659-BF4D3AC2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C909-F708-4004-A799-C8781C08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EF90-87D3-4417-A003-FD3CBD81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0527-A043-4A83-9111-0A0BB731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7920-978D-4C60-9070-5EC04BB6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A6D3-2B98-4DCB-A0F7-A5A3F47D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684A-3632-46BD-B5E3-CAE4632B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C63E-CF64-4B2E-9087-F81430DB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C355-845C-4E93-B297-97FEC5FB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6817-850A-4C3C-A14C-10073D76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8397-85FA-493E-809A-3227279D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DD08-7DE6-4609-B628-6CE4CC47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B962-315A-4454-9761-EEB1F2B2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A388-E1E3-45A7-91C4-F20A21C7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77BE-0D66-498B-91BD-90CD3B89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6247-7200-41CB-A778-100F0A7D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5EE-D867-49EA-A969-29EB7A4A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199C-330E-4602-A785-E074F06A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EDEC-E186-48CB-906A-5D0FF370AEB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4258-C7AB-446C-AB30-0D1BC03DE71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сихологический портре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496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Методология создания психологического портрета лич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Tahoma"/>
              </a:rPr>
              <a:t>Психологический портрет можно создать по .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Рассылки практической мудр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6" descr="28"/>
          <p:cNvPicPr/>
          <p:nvPr/>
        </p:nvPicPr>
        <p:blipFill>
          <a:blip r:embed="rId1"/>
          <a:stretch/>
        </p:blipFill>
        <p:spPr>
          <a:xfrm>
            <a:off x="5076720" y="2262240"/>
            <a:ext cx="3849840" cy="29941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сылки практической мудр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5122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Отказаться от риска - значит отказаться от творчества. </a:t>
            </a:r>
            <a:r>
              <a:rPr b="1" i="1" lang="ru-RU" sz="2000" spc="-1" strike="noStrike">
                <a:solidFill>
                  <a:srgbClr val="ffcc66"/>
                </a:solidFill>
                <a:latin typeface="Tahoma"/>
              </a:rPr>
              <a:t>А. С. Макаренк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Смотрят все, а видят немног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Карел Чапек, писат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Не меняются только самые мудрые, и самые глупые. </a:t>
            </a:r>
            <a:r>
              <a:rPr b="1" i="1" lang="ru-RU" sz="2000" spc="-1" strike="noStrike">
                <a:solidFill>
                  <a:srgbClr val="ff9900"/>
                </a:solidFill>
                <a:latin typeface="Tahoma"/>
              </a:rPr>
              <a:t>Конфуц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Середина есть точка, ближайшая к мудрости; не дойти до нее - то же самое, что ее перейти. </a:t>
            </a:r>
            <a:r>
              <a:rPr b="1" i="1" lang="ru-RU" sz="2000" spc="-1" strike="noStrike">
                <a:solidFill>
                  <a:srgbClr val="ffcc66"/>
                </a:solidFill>
                <a:latin typeface="Tahoma"/>
              </a:rPr>
              <a:t>Конфуц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Жалеть о сказанном мне приходилось, о несказанном никог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Ксенокра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8" descr="273"/>
          <p:cNvPicPr/>
          <p:nvPr/>
        </p:nvPicPr>
        <p:blipFill>
          <a:blip r:embed="rId1"/>
          <a:stretch/>
        </p:blipFill>
        <p:spPr>
          <a:xfrm>
            <a:off x="5757840" y="1989000"/>
            <a:ext cx="2568600" cy="25923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етодология создания психологического портрет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личн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-34632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Важно принять во внимание все известные существенные и, на первый взгляд, малосущественные факты жизни человека, и на этой основе воссоздать его психологический обли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6320" indent="-34632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Систематизацию черт личности лучше проводить исходя из модели успешной личности. Необходимо иметь реальную, экспериментальную, лучше психодиагностическую модель успешной личности в тех условиях, в которых действует или предстоит действовать человеку, на которого составляется психологический портре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6320" indent="-34632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Необходимо психологический портрет анализируемой личности  сопоставить с той моделью личности, которая наиболее эффективна для предстоящего вида деятельности, для большинства ситуаций, которые чаще всего будут возникать в процессе деятельности данного индиви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окажи мне свой автомобиль,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я скажу: кто ты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Размер и цвет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Tahoma"/>
              </a:rPr>
              <a:t>Красный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указывает на инстинктивность натуры, желание двигаться, заявить о себ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Оранжев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- цвет сексуальной энергии и стремления к н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Желт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цвет солнца. Владелец желтого авто - человек солнечны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cc33"/>
                </a:solidFill>
                <a:latin typeface="Tahoma"/>
              </a:rPr>
              <a:t>Зеленый</a:t>
            </a:r>
            <a:r>
              <a:rPr b="1" lang="ru-RU" sz="18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- цвет сердечности, теплоты, спокойств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ff"/>
                </a:solidFill>
                <a:latin typeface="Tahoma"/>
              </a:rPr>
              <a:t>Голуб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ще всего выбирают люди любящие или желающие поговорить и пообщатьс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ff"/>
                </a:solidFill>
                <a:latin typeface="Tahoma"/>
              </a:rPr>
              <a:t>Сини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читается цветом ума. То есть автомобили подобной расцветки могут выбрать люди, которые воспринимают мир через голов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99"/>
                </a:solidFill>
                <a:latin typeface="Tahoma"/>
              </a:rPr>
              <a:t>Фиолетовый</a:t>
            </a:r>
            <a:r>
              <a:rPr b="1" lang="ru-RU" sz="1800" spc="-1" strike="noStrike">
                <a:solidFill>
                  <a:srgbClr val="9900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очитают люди творческие, достаточно утонченны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Бел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цвет объединяющий. Людям, его выбирающим, присущи в равной мере все качества и пристраст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0808"/>
                </a:solidFill>
                <a:latin typeface="Tahoma"/>
              </a:rPr>
              <a:t>Черный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1" i="1" lang="ru-RU" sz="1800" spc="-1" strike="noStrike">
                <a:solidFill>
                  <a:srgbClr val="b2b2b2"/>
                </a:solidFill>
                <a:latin typeface="Tahoma"/>
              </a:rPr>
              <a:t>серый</a:t>
            </a:r>
            <a:r>
              <a:rPr b="1" lang="ru-RU" sz="18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а выбирают водители, которые не любят высовываться, предпочитают незаметность. При этом они стремятся к управлению ситуацией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кажи, какой кофе ты предпочитаешь, и я скажу какой твой характер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Молотый кофе без сахар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сильный характер, ты не боишься ответственности и не стесняешься своих ошиб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Молотый кофе с сахаром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ы очень долго принимаешь решения, нуждаешься в поддержке. Очень часто, ты готов пожертвовать своими интересами ради других, однако потом долго жалеешь об эт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Кофе с пенк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над разумом преобладают чувства, ты имеешь доброе сердце и открытую душу, а также ценишь в людях чест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Растворимый кофе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ы предпочитаешь кратчайший путь ко всему и в жизни и считаешь себя преуспевающи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Кофе с добавлением молока и сахар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сложный характер. Ты легко психически возбудим, отличаешься частыми перепадами настроения и "двойной бухгалтерией" в принятии сужд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Кофе без кофеин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уравновешенный характер. Ты много чем интересуешься, однако знания твои чаще всего поверхностны. Также ты отличаешься отсутствием стремления к "завоеванию" новых верш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ак Вы спите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спящие на животе 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недовольны, как правило, своей профессией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спящие на спине 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сильные личности и вдобавок вполне удовлетворены своим образом жизн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тот, кто спит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, согнувшись или прижав к себе подушку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, склонен к тоскливым настроениям и нуждается в нежност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мрачные пессимисты чаще других 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укрываются одеялом с головой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0" descr="Как Вы спите?"/>
          <p:cNvPicPr/>
          <p:nvPr/>
        </p:nvPicPr>
        <p:blipFill>
          <a:blip r:embed="rId1"/>
          <a:stretch/>
        </p:blipFill>
        <p:spPr>
          <a:xfrm>
            <a:off x="5148360" y="2324160"/>
            <a:ext cx="3384360" cy="2765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сихологический портрет можно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оздать по ... конфет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Немецкие психологи утверждают, что по тому, какие шоколадные конфеты вы выбираете из коробки ассорти, можно сделать некоторые выводы о вашем характер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Романтики предпочитают клубничную начинк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Люди решительные и резкие выбирают конфеты с вишней внут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Застенчивые любят конфеты с фундук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Если вы предпочитаете начинку из кокосовой стружки, в вас есть творческая жил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Кофейная начинка нравится активным, вечно занятым деловым людям, которые в то же время любят сюрпризы и неожидан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Любители марципана и миндаля склонны себя баловать и ежедневно устраивать маленькие праздни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Выбор конфеты с мятной начинкой означает, что ваше воображение чрезвычайно богат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кажи, где у тебя родинка..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Убийца- родин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расположенная возле глаза. Она обычно бывает у роковых женщин и как бы сигнализирует:"Берегись, в любви я опасна!"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Величественная- родин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расположенная в центральной области лба. Она свидетельствует о целеустремленности ее хозяина, стремлении достичь власти."Вы недооцениваете меня, я еще покажу, на что способна!"- говорит о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Изменчив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родинка, расположенная на виске. Ее обладателю свойственны непостоянство, частые смены настроения, изменчивость во взгляд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Практичная</a:t>
            </a:r>
            <a:r>
              <a:rPr b="0" lang="ru-RU" sz="1800" spc="-1" strike="noStrike">
                <a:solidFill>
                  <a:srgbClr val="ff9900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динка посередине шеи. Ее хозяйка или хозяин хорошо разбираются в любовных делах, часто меняют партнеров, оставаясь с последними в дружеских отношения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Что можно узнать о человеке по его улыбке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При смехе вы обычно касаетесь мизинцем своих губ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 значит, что у вас имеются свои представления о хорошем тоне, грации и женственности и что вы твердо следуете этим представлениям всегда и везде. Вам нравится быть в центре вним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Прикрываете при смехе рот рук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 несколько робки и не слишком уверены в себе. Часто смущаетесь, предпочитаете оставаться в тени и, как говорят, "не раскрываться". Наш совет: не перегибайте палку с самоанализом и чрезмерной самокритик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Часто при смехе запрокидываете голову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, очевидно, доверчивы и легковерны, но в то же время у вас широкая натура. Иногда совершаете неожиданные поступки, согласуясь лишь со своими чувствами. А стоит, пожалуй, полагаться на разу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Смеетесь громко, с раскрытым ртом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 принадлежите к людям темпераментным, подвижным. Немного сдержанности, умеренности приобрести бы вам не помешало! Вы умеете говорить, но умейте и послушать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Держитесь при смехе за подбородок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ой бы ни был ваш возраст, совершенно очевидно, что в своем характере вы сохранили черты юно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сылки практической мудр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Профессиональная непригодность - отсутствие чуткости и бестакт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Tahoma"/>
              </a:rPr>
              <a:t>Визитная карточка руководителя - умение расположить к себ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В работе, ориентированной на людей, есть только один ключ к успеху - ДОВЕР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огда невозможно уже работать напряженнее, начни работать умне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Tahoma"/>
              </a:rPr>
              <a:t>Мы все чувствительны к комплимента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cc99"/>
                </a:solidFill>
                <a:latin typeface="Tahoma"/>
              </a:rPr>
              <a:t>А. Линколь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а день надо смотреть, как на маленькую жизнь. </a:t>
            </a:r>
            <a:r>
              <a:rPr b="1" i="1" lang="ru-RU" sz="2400" spc="-1" strike="noStrike">
                <a:solidFill>
                  <a:srgbClr val="ff9900"/>
                </a:solidFill>
                <a:latin typeface="Tahoma"/>
              </a:rPr>
              <a:t>А. М. Горь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9:13:07Z</dcterms:created>
  <dc:creator>OEM</dc:creator>
  <dc:description/>
  <dc:language>en-US</dc:language>
  <cp:lastModifiedBy>LEGION</cp:lastModifiedBy>
  <dcterms:modified xsi:type="dcterms:W3CDTF">2014-11-12T11:31:35Z</dcterms:modified>
  <cp:revision>7</cp:revision>
  <dc:subject/>
  <dc:title>Покажи мне свой автомобиль, и я скажу: кто 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