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jpeg" ContentType="image/jpeg"/>
  <Override PartName="/ppt/media/image23.wmf" ContentType="image/x-wmf"/>
  <Override PartName="/ppt/media/image26.wmf" ContentType="image/x-wmf"/>
  <Override PartName="/ppt/media/image25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8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30.wmf" ContentType="image/x-wmf"/>
  <Override PartName="/ppt/media/image31.wmf" ContentType="image/x-wmf"/>
  <Override PartName="/ppt/media/image34.png" ContentType="image/png"/>
  <Override PartName="/ppt/media/image17.wmf" ContentType="image/x-wmf"/>
  <Override PartName="/ppt/media/image10.wmf" ContentType="image/x-wmf"/>
  <Override PartName="/ppt/media/image35.png" ContentType="image/png"/>
  <Override PartName="/ppt/media/image2.png" ContentType="image/png"/>
  <Override PartName="/ppt/media/image32.png" ContentType="image/png"/>
  <Override PartName="/ppt/media/image14.jpeg" ContentType="image/jpeg"/>
  <Override PartName="/ppt/media/image15.wmf" ContentType="image/x-wmf"/>
  <Override PartName="/ppt/media/image6.png" ContentType="image/png"/>
  <Override PartName="/ppt/media/image4.wmf" ContentType="image/x-wmf"/>
  <Override PartName="/ppt/media/image27.wmf" ContentType="image/x-wmf"/>
  <Override PartName="/ppt/media/image24.png" ContentType="image/png"/>
  <Override PartName="/ppt/media/image5.wmf" ContentType="image/x-wmf"/>
  <Override PartName="/ppt/media/image16.jpeg" ContentType="image/jpeg"/>
  <Override PartName="/ppt/media/image18.jpeg" ContentType="image/jpeg"/>
  <Override PartName="/ppt/media/image19.wmf" ContentType="image/x-wmf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2D1C-6D56-4E0A-98AE-83CDB2EE08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CFC1-105C-4D06-A353-C70CFE03B602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озмож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4851-D73F-412C-AB06-25C37628DCA8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EAEA-CEF0-4AB3-B6D7-FDB795EAF6A0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BC1F-5D4B-4C14-9F19-FF03B4E4C16C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5679-40AC-4569-8583-1BD8BB6DADFD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7E83-1DB7-4797-9F8B-04FCB5B9175D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6371-C2CB-4E4D-85A0-0BF04FB6A1E5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8A3D-9B47-484A-97C5-45E39EFED8E6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335-96C7-49F2-BF4E-F48D392F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C3E-EFBD-4954-AB83-5D5D0A45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B97-0279-417D-97AB-9CD088CB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DCC-F0B6-48DF-AF00-59C5B73F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C7F0-1EB7-4A81-BF96-6ED53363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1177-D8CD-45C8-9E2A-F41C1967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34B5-FA18-4BBE-B4AF-D7E481CE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8611-53AC-484F-9034-89066134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4759-1AAF-4F7E-93B3-F4E2E376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2B45-3B60-4A30-8CDD-BF2CCF3C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13CB-CA80-4DA3-95D1-77A59E75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497-5694-476F-A866-245AB16C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D107-DAB2-411B-B123-40193790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EB12-7428-40F8-B1B1-B21A7E5D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7219-C3CC-4A3D-9827-3D0F063D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65E4-0FA3-4CB0-84B9-1A2E1BBD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4EA3-CB70-4D13-9373-D21F5391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E1A-E1F6-4AEE-8AFB-9D5560EB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E96-A745-4D22-B520-FB53851D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798-B872-4517-8693-71349629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FCF-E8C0-405B-8BCA-A3AAF613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03A-A11F-4997-96E8-D4C9770B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08C-147B-468B-9BB9-F44E8F47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054-736C-4BA8-B95C-6BB770B5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5257-0DC0-4D20-ACE4-33F28AC89C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B1A7-870C-4C6F-AB0B-BC4D9298880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8.jpe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10920" y="333000"/>
            <a:ext cx="4419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Обществознание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51280" y="907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ласс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1981080" y="2057400"/>
            <a:ext cx="5505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н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ловек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86080" y="5732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озможности человека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41" name="Group 40"/>
          <p:cNvGrpSpPr/>
          <p:nvPr/>
        </p:nvGrpSpPr>
        <p:grpSpPr>
          <a:xfrm>
            <a:off x="6858000" y="1212840"/>
            <a:ext cx="1819440" cy="2370960"/>
            <a:chOff x="6858000" y="1212840"/>
            <a:chExt cx="1819440" cy="2370960"/>
          </a:xfrm>
        </p:grpSpPr>
        <p:pic>
          <p:nvPicPr>
            <p:cNvPr id="142" name="Picture 34" descr="C:\Program Files\Common Files\Microsoft Shared\Clipart\cagcat50\BD06784_.WMF"/>
            <p:cNvPicPr/>
            <p:nvPr/>
          </p:nvPicPr>
          <p:blipFill>
            <a:blip r:embed="rId1"/>
            <a:stretch/>
          </p:blipFill>
          <p:spPr>
            <a:xfrm>
              <a:off x="6858000" y="1212840"/>
              <a:ext cx="1819440" cy="1682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3" name="Text Box 36"/>
            <p:cNvSpPr/>
            <p:nvPr/>
          </p:nvSpPr>
          <p:spPr>
            <a:xfrm>
              <a:off x="7117200" y="312408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елове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4" name="Group 37"/>
          <p:cNvGrpSpPr/>
          <p:nvPr/>
        </p:nvGrpSpPr>
        <p:grpSpPr>
          <a:xfrm>
            <a:off x="685800" y="1066680"/>
            <a:ext cx="1741320" cy="2558520"/>
            <a:chOff x="685800" y="1066680"/>
            <a:chExt cx="1741320" cy="2558520"/>
          </a:xfrm>
        </p:grpSpPr>
        <p:pic>
          <p:nvPicPr>
            <p:cNvPr id="145" name="Picture 38" descr="D:\Program_Files\Office\Clipart\corpbas\j0078920.wmf"/>
            <p:cNvPicPr/>
            <p:nvPr/>
          </p:nvPicPr>
          <p:blipFill>
            <a:blip r:embed="rId2"/>
            <a:stretch/>
          </p:blipFill>
          <p:spPr>
            <a:xfrm>
              <a:off x="685800" y="1066680"/>
              <a:ext cx="1741320" cy="19306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6" name="Text Box 39"/>
            <p:cNvSpPr/>
            <p:nvPr/>
          </p:nvSpPr>
          <p:spPr>
            <a:xfrm>
              <a:off x="748800" y="316548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вотно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47" name="WordArt 41"/>
          <p:cNvSpPr txBox="1"/>
          <p:nvPr/>
        </p:nvSpPr>
        <p:spPr>
          <a:xfrm>
            <a:off x="3429000" y="1371600"/>
            <a:ext cx="2409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59008e"/>
                  </a:outerShdw>
                </a:effectLst>
                <a:latin typeface="Arial"/>
              </a:rPr>
              <a:t>Эволюция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59008e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42"/>
          <p:cNvSpPr txBox="1"/>
          <p:nvPr/>
        </p:nvSpPr>
        <p:spPr>
          <a:xfrm>
            <a:off x="3276720" y="3139920"/>
            <a:ext cx="285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особности?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9" name="Group 49"/>
          <p:cNvGrpSpPr/>
          <p:nvPr/>
        </p:nvGrpSpPr>
        <p:grpSpPr>
          <a:xfrm>
            <a:off x="457200" y="4419720"/>
            <a:ext cx="2133000" cy="2136600"/>
            <a:chOff x="457200" y="4419720"/>
            <a:chExt cx="2133000" cy="2136600"/>
          </a:xfrm>
        </p:grpSpPr>
        <p:pic>
          <p:nvPicPr>
            <p:cNvPr id="150" name="Picture 43" descr="D:\Program_Files\Office\Clipart\standard\stddir1\bd05494_.wmf"/>
            <p:cNvPicPr/>
            <p:nvPr/>
          </p:nvPicPr>
          <p:blipFill>
            <a:blip r:embed="rId5"/>
            <a:stretch/>
          </p:blipFill>
          <p:spPr>
            <a:xfrm>
              <a:off x="766800" y="4419720"/>
              <a:ext cx="1523880" cy="13064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1" name="Text Box 44"/>
            <p:cNvSpPr/>
            <p:nvPr/>
          </p:nvSpPr>
          <p:spPr>
            <a:xfrm>
              <a:off x="457200" y="5730840"/>
              <a:ext cx="213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«Дерзайте-вы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талантливы!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2" name="Group 50"/>
          <p:cNvGrpSpPr/>
          <p:nvPr/>
        </p:nvGrpSpPr>
        <p:grpSpPr>
          <a:xfrm>
            <a:off x="2519280" y="4343400"/>
            <a:ext cx="6506280" cy="2057400"/>
            <a:chOff x="2519280" y="4343400"/>
            <a:chExt cx="6506280" cy="2057400"/>
          </a:xfrm>
        </p:grpSpPr>
        <p:sp>
          <p:nvSpPr>
            <p:cNvPr id="153" name="AutoShape 47"/>
            <p:cNvSpPr/>
            <p:nvPr/>
          </p:nvSpPr>
          <p:spPr>
            <a:xfrm>
              <a:off x="2519280" y="4343400"/>
              <a:ext cx="304920" cy="2057400"/>
            </a:xfrm>
            <a:prstGeom prst="rightArrowCallout">
              <a:avLst>
                <a:gd name="adj1" fmla="val 67667"/>
                <a:gd name="adj2" fmla="val 71847"/>
                <a:gd name="adj3" fmla="val 37500"/>
                <a:gd name="adj4" fmla="val 36981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4" name="Text Box 48"/>
            <p:cNvSpPr/>
            <p:nvPr/>
          </p:nvSpPr>
          <p:spPr>
            <a:xfrm>
              <a:off x="2942280" y="4419720"/>
              <a:ext cx="6083280" cy="1922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Бесталанных людей нет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пособности в виде задатков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Мозг использует 0,0000000001 потенциал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зможности мозга неограниченны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асто люди занимаются не своим делом.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7" name="Group 43"/>
          <p:cNvGrpSpPr/>
          <p:nvPr/>
        </p:nvGrpSpPr>
        <p:grpSpPr>
          <a:xfrm>
            <a:off x="914400" y="990720"/>
            <a:ext cx="7696080" cy="1218960"/>
            <a:chOff x="914400" y="990720"/>
            <a:chExt cx="7696080" cy="1218960"/>
          </a:xfrm>
        </p:grpSpPr>
        <p:pic>
          <p:nvPicPr>
            <p:cNvPr id="158" name="Picture 17" descr="D:\Program_Files\Office\Clipart\standard\stddir1\bd06876_.wmf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1219320" cy="1092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9" name="AutoShape 18"/>
            <p:cNvSpPr/>
            <p:nvPr/>
          </p:nvSpPr>
          <p:spPr>
            <a:xfrm>
              <a:off x="2286000" y="9907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0" name="WordArt 19"/>
            <p:cNvSpPr txBox="1"/>
            <p:nvPr/>
          </p:nvSpPr>
          <p:spPr>
            <a:xfrm>
              <a:off x="3048120" y="1371600"/>
              <a:ext cx="5562360" cy="5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Э.Гаон-2500 книг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4083120" y="1600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62" name="Group 28"/>
          <p:cNvGrpSpPr/>
          <p:nvPr/>
        </p:nvGrpSpPr>
        <p:grpSpPr>
          <a:xfrm>
            <a:off x="914400" y="2438280"/>
            <a:ext cx="7696080" cy="1295640"/>
            <a:chOff x="914400" y="2438280"/>
            <a:chExt cx="7696080" cy="1295640"/>
          </a:xfrm>
        </p:grpSpPr>
        <p:pic>
          <p:nvPicPr>
            <p:cNvPr id="163" name="Picture 22" descr="D:\Program_Files\Office\Clipart\standard\stddir4\sy01061_.wmf"/>
            <p:cNvPicPr/>
            <p:nvPr/>
          </p:nvPicPr>
          <p:blipFill>
            <a:blip r:embed="rId2"/>
            <a:stretch/>
          </p:blipFill>
          <p:spPr>
            <a:xfrm>
              <a:off x="914400" y="2438280"/>
              <a:ext cx="1238400" cy="1295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4" name="AutoShape 25"/>
            <p:cNvSpPr/>
            <p:nvPr/>
          </p:nvSpPr>
          <p:spPr>
            <a:xfrm>
              <a:off x="2286000" y="24382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5" name="WordArt 26"/>
            <p:cNvSpPr txBox="1"/>
            <p:nvPr/>
          </p:nvSpPr>
          <p:spPr>
            <a:xfrm>
              <a:off x="3048120" y="2514600"/>
              <a:ext cx="556236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Македонский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омнил 30000 солда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66" name="Group 35"/>
          <p:cNvGrpSpPr/>
          <p:nvPr/>
        </p:nvGrpSpPr>
        <p:grpSpPr>
          <a:xfrm>
            <a:off x="914400" y="3962520"/>
            <a:ext cx="7696080" cy="1218960"/>
            <a:chOff x="914400" y="3962520"/>
            <a:chExt cx="7696080" cy="1218960"/>
          </a:xfrm>
        </p:grpSpPr>
        <p:pic>
          <p:nvPicPr>
            <p:cNvPr id="167" name="Picture 29" descr="D:\Program_Files\Office\Clipart\standard\stddir1\bd06983_.wmf"/>
            <p:cNvPicPr/>
            <p:nvPr/>
          </p:nvPicPr>
          <p:blipFill>
            <a:blip r:embed="rId3"/>
            <a:stretch/>
          </p:blipFill>
          <p:spPr>
            <a:xfrm>
              <a:off x="914400" y="4240080"/>
              <a:ext cx="1219320" cy="636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8" name="AutoShape 32"/>
            <p:cNvSpPr/>
            <p:nvPr/>
          </p:nvSpPr>
          <p:spPr>
            <a:xfrm>
              <a:off x="2286000" y="39625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9" name="WordArt 33"/>
            <p:cNvSpPr txBox="1"/>
            <p:nvPr/>
          </p:nvSpPr>
          <p:spPr>
            <a:xfrm>
              <a:off x="3048120" y="4038480"/>
              <a:ext cx="55623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Алехин-"вслепую"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на 40 досках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838080" y="5410080"/>
            <a:ext cx="7772400" cy="1219320"/>
            <a:chOff x="838080" y="5410080"/>
            <a:chExt cx="7772400" cy="1219320"/>
          </a:xfrm>
        </p:grpSpPr>
        <p:pic>
          <p:nvPicPr>
            <p:cNvPr id="171" name="Picture 36" descr="C:\Program Files\Common Files\Microsoft Shared\Clipart\cagcat50\EN00354_.wmf"/>
            <p:cNvPicPr/>
            <p:nvPr/>
          </p:nvPicPr>
          <p:blipFill>
            <a:blip r:embed="rId4"/>
            <a:stretch/>
          </p:blipFill>
          <p:spPr>
            <a:xfrm>
              <a:off x="838080" y="5486400"/>
              <a:ext cx="1295640" cy="1014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2" name="AutoShape 39"/>
            <p:cNvSpPr/>
            <p:nvPr/>
          </p:nvSpPr>
          <p:spPr>
            <a:xfrm>
              <a:off x="2286000" y="54100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3" name="WordArt 40"/>
            <p:cNvSpPr txBox="1"/>
            <p:nvPr/>
          </p:nvSpPr>
          <p:spPr>
            <a:xfrm>
              <a:off x="3048120" y="5562360"/>
              <a:ext cx="556236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Моцарт-хорал п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амяти(4 часа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174" name="Місце для нижнього колонтитула 5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WordArt 20"/>
          <p:cNvSpPr txBox="1"/>
          <p:nvPr/>
        </p:nvSpPr>
        <p:spPr>
          <a:xfrm>
            <a:off x="1790640" y="1638360"/>
            <a:ext cx="952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ак?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3383280" y="892080"/>
            <a:ext cx="4504320" cy="2043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Способы запоминания: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зрительны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путешестви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Алгоритмы и т.д.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78" name="Group 26"/>
          <p:cNvGrpSpPr/>
          <p:nvPr/>
        </p:nvGrpSpPr>
        <p:grpSpPr>
          <a:xfrm>
            <a:off x="915480" y="3521160"/>
            <a:ext cx="7837920" cy="2502000"/>
            <a:chOff x="915480" y="3521160"/>
            <a:chExt cx="7837920" cy="2502000"/>
          </a:xfrm>
        </p:grpSpPr>
        <p:grpSp>
          <p:nvGrpSpPr>
            <p:cNvPr id="179" name="Group 24"/>
            <p:cNvGrpSpPr/>
            <p:nvPr/>
          </p:nvGrpSpPr>
          <p:grpSpPr>
            <a:xfrm>
              <a:off x="915480" y="3521160"/>
              <a:ext cx="2334240" cy="2502000"/>
              <a:chOff x="915480" y="3521160"/>
              <a:chExt cx="2334240" cy="2502000"/>
            </a:xfrm>
          </p:grpSpPr>
          <p:pic>
            <p:nvPicPr>
              <p:cNvPr id="180" name="Picture 22" descr="D:\Program_Files\Office\Clipart\standard\stddir1\bd07205_.wmf"/>
              <p:cNvPicPr/>
              <p:nvPr/>
            </p:nvPicPr>
            <p:blipFill>
              <a:blip r:embed="rId4"/>
              <a:stretch/>
            </p:blipFill>
            <p:spPr>
              <a:xfrm>
                <a:off x="1219320" y="3521160"/>
                <a:ext cx="1820880" cy="150984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915480" y="519768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Б.Гаджански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(СФРЮ)-11 лет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82" name="WordArt 25"/>
            <p:cNvSpPr txBox="1"/>
            <p:nvPr/>
          </p:nvSpPr>
          <p:spPr>
            <a:xfrm>
              <a:off x="3352680" y="3619440"/>
              <a:ext cx="5400720" cy="209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Корень 22 степени из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348517368454361458882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=8(за 1 минуту)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83" name="Text Box 27"/>
          <p:cNvSpPr/>
          <p:nvPr/>
        </p:nvSpPr>
        <p:spPr>
          <a:xfrm>
            <a:off x="3543480" y="5973840"/>
            <a:ext cx="29725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?-Не знаю?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Місце для нижнього колонтитула 2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6" name="Picture 11" descr="D:\Program_Files\Office\Clipart\standard\stddir1\bd06214_.wmf"/>
          <p:cNvPicPr/>
          <p:nvPr/>
        </p:nvPicPr>
        <p:blipFill>
          <a:blip r:embed="rId1"/>
          <a:stretch/>
        </p:blipFill>
        <p:spPr>
          <a:xfrm>
            <a:off x="1355760" y="1600200"/>
            <a:ext cx="1006560" cy="108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7" name="Text Box 12"/>
          <p:cNvSpPr/>
          <p:nvPr/>
        </p:nvSpPr>
        <p:spPr>
          <a:xfrm>
            <a:off x="2935440" y="987480"/>
            <a:ext cx="53287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Прогноз(30-е гг.20 века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10,0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2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0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8" name="Picture 13" descr="D:\Program_Files\Office\Clipart\corpbas\j0078752.wmf"/>
          <p:cNvPicPr/>
          <p:nvPr/>
        </p:nvPicPr>
        <p:blipFill>
          <a:blip r:embed="rId3"/>
          <a:stretch/>
        </p:blipFill>
        <p:spPr>
          <a:xfrm>
            <a:off x="1371600" y="4691160"/>
            <a:ext cx="990720" cy="947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9" name="Text Box 14"/>
          <p:cNvSpPr/>
          <p:nvPr/>
        </p:nvSpPr>
        <p:spPr>
          <a:xfrm>
            <a:off x="2880720" y="3962520"/>
            <a:ext cx="544320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Мировые рекорды(2000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9,81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4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8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876320" y="914400"/>
            <a:ext cx="589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одолжительность жизни: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533520" y="1447920"/>
            <a:ext cx="2894760" cy="2133360"/>
            <a:chOff x="533520" y="1447920"/>
            <a:chExt cx="2894760" cy="2133360"/>
          </a:xfrm>
        </p:grpSpPr>
        <p:pic>
          <p:nvPicPr>
            <p:cNvPr id="194" name="Picture 9" descr="D:\Program_Files\Office\Clipart\standard\stddir2\bd07706_.wmf"/>
            <p:cNvPicPr/>
            <p:nvPr/>
          </p:nvPicPr>
          <p:blipFill>
            <a:blip r:embed="rId1"/>
            <a:stretch/>
          </p:blipFill>
          <p:spPr>
            <a:xfrm>
              <a:off x="533520" y="1447920"/>
              <a:ext cx="1112760" cy="21333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5" name="Text Box 12"/>
            <p:cNvSpPr/>
            <p:nvPr/>
          </p:nvSpPr>
          <p:spPr>
            <a:xfrm>
              <a:off x="1732680" y="1981080"/>
              <a:ext cx="1695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Моисей-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980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3365640" y="1600200"/>
            <a:ext cx="2732040" cy="1983240"/>
            <a:chOff x="3365640" y="1600200"/>
            <a:chExt cx="2732040" cy="1983240"/>
          </a:xfrm>
        </p:grpSpPr>
        <p:pic>
          <p:nvPicPr>
            <p:cNvPr id="197" name="Picture 7" descr="D:\Program_Files\Office\Clipart\standard\stddir1\bd04955_.wmf"/>
            <p:cNvPicPr/>
            <p:nvPr/>
          </p:nvPicPr>
          <p:blipFill>
            <a:blip r:embed="rId2"/>
            <a:stretch/>
          </p:blipFill>
          <p:spPr>
            <a:xfrm>
              <a:off x="4062240" y="1600200"/>
              <a:ext cx="1337760" cy="901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8" name="Text Box 14"/>
            <p:cNvSpPr/>
            <p:nvPr/>
          </p:nvSpPr>
          <p:spPr>
            <a:xfrm>
              <a:off x="3365640" y="2514600"/>
              <a:ext cx="273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Ф.Карр(17 век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Англия)-209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9" name="Group 19"/>
          <p:cNvGrpSpPr/>
          <p:nvPr/>
        </p:nvGrpSpPr>
        <p:grpSpPr>
          <a:xfrm>
            <a:off x="6269040" y="1600200"/>
            <a:ext cx="2800440" cy="1983240"/>
            <a:chOff x="6269040" y="1600200"/>
            <a:chExt cx="2800440" cy="1983240"/>
          </a:xfrm>
        </p:grpSpPr>
        <p:pic>
          <p:nvPicPr>
            <p:cNvPr id="200" name="Picture 11" descr="D:\Program_Files\Office\Clipart\standard\stddir2\bd07699_.wmf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6983280" y="1600200"/>
              <a:ext cx="1371600" cy="900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01" name="Text Box 17"/>
            <p:cNvSpPr/>
            <p:nvPr/>
          </p:nvSpPr>
          <p:spPr>
            <a:xfrm>
              <a:off x="6269040" y="2514600"/>
              <a:ext cx="2800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Ш.Мислимов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ССР-167 лет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2" name="WordArt 22"/>
          <p:cNvSpPr txBox="1"/>
          <p:nvPr/>
        </p:nvSpPr>
        <p:spPr>
          <a:xfrm>
            <a:off x="1676520" y="3733920"/>
            <a:ext cx="6543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овая эпоха-новые способност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3" name="Group 25"/>
          <p:cNvGrpSpPr/>
          <p:nvPr/>
        </p:nvGrpSpPr>
        <p:grpSpPr>
          <a:xfrm>
            <a:off x="685800" y="4876920"/>
            <a:ext cx="3381480" cy="1143000"/>
            <a:chOff x="685800" y="4876920"/>
            <a:chExt cx="3381480" cy="1143000"/>
          </a:xfrm>
        </p:grpSpPr>
        <p:pic>
          <p:nvPicPr>
            <p:cNvPr id="204" name="Picture 21" descr="D:\Program_Files\Office\Clipart\standard\stddir3\pe01729_.wmf"/>
            <p:cNvPicPr/>
            <p:nvPr/>
          </p:nvPicPr>
          <p:blipFill>
            <a:blip r:embed="rId6"/>
            <a:stretch/>
          </p:blipFill>
          <p:spPr>
            <a:xfrm>
              <a:off x="685800" y="4917960"/>
              <a:ext cx="1676520" cy="110196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5" name="WordArt 23"/>
            <p:cNvSpPr txBox="1"/>
            <p:nvPr/>
          </p:nvSpPr>
          <p:spPr>
            <a:xfrm>
              <a:off x="2895480" y="4876920"/>
              <a:ext cx="11718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Билл 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ейтс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6" name="Group 26"/>
          <p:cNvGrpSpPr/>
          <p:nvPr/>
        </p:nvGrpSpPr>
        <p:grpSpPr>
          <a:xfrm>
            <a:off x="4957920" y="4876920"/>
            <a:ext cx="3757320" cy="1295280"/>
            <a:chOff x="4957920" y="4876920"/>
            <a:chExt cx="3757320" cy="1295280"/>
          </a:xfrm>
        </p:grpSpPr>
        <p:pic>
          <p:nvPicPr>
            <p:cNvPr id="207" name="Picture 20" descr="D:\Program_Files\Office\Clipart\smbusbas\bd20088_.wmf"/>
            <p:cNvPicPr/>
            <p:nvPr/>
          </p:nvPicPr>
          <p:blipFill>
            <a:blip r:embed="rId7"/>
            <a:stretch/>
          </p:blipFill>
          <p:spPr>
            <a:xfrm>
              <a:off x="4957920" y="4876920"/>
              <a:ext cx="1214280" cy="129528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8" name="WordArt 24"/>
            <p:cNvSpPr txBox="1"/>
            <p:nvPr/>
          </p:nvSpPr>
          <p:spPr>
            <a:xfrm>
              <a:off x="6629400" y="4952880"/>
              <a:ext cx="208584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Николай 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Вавилов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09" name="Місце для нижнього колонтитула 6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WordArt 23"/>
          <p:cNvSpPr txBox="1"/>
          <p:nvPr/>
        </p:nvSpPr>
        <p:spPr>
          <a:xfrm>
            <a:off x="3467160" y="914400"/>
            <a:ext cx="270504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о мешает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12" name="Group 28"/>
          <p:cNvGrpSpPr/>
          <p:nvPr/>
        </p:nvGrpSpPr>
        <p:grpSpPr>
          <a:xfrm>
            <a:off x="762120" y="1981080"/>
            <a:ext cx="3919320" cy="2286000"/>
            <a:chOff x="762120" y="1981080"/>
            <a:chExt cx="3919320" cy="2286000"/>
          </a:xfrm>
        </p:grpSpPr>
        <p:pic>
          <p:nvPicPr>
            <p:cNvPr id="213" name="Picture 20" descr="D:\Program_Files\Office\Clipart\smbusbas\bd07091_.wmf"/>
            <p:cNvPicPr/>
            <p:nvPr/>
          </p:nvPicPr>
          <p:blipFill>
            <a:blip r:embed="rId1"/>
            <a:stretch/>
          </p:blipFill>
          <p:spPr>
            <a:xfrm>
              <a:off x="762120" y="1981080"/>
              <a:ext cx="1150920" cy="2286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14" name="Text Box 27"/>
            <p:cNvSpPr/>
            <p:nvPr/>
          </p:nvSpPr>
          <p:spPr>
            <a:xfrm>
              <a:off x="2021040" y="2492280"/>
              <a:ext cx="26604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Гипноз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груз в 10 кг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течении 2 час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4952880" y="1995480"/>
            <a:ext cx="3769560" cy="2347920"/>
            <a:chOff x="4952880" y="1995480"/>
            <a:chExt cx="3769560" cy="2347920"/>
          </a:xfrm>
        </p:grpSpPr>
        <p:grpSp>
          <p:nvGrpSpPr>
            <p:cNvPr id="216" name="Group 29"/>
            <p:cNvGrpSpPr/>
            <p:nvPr/>
          </p:nvGrpSpPr>
          <p:grpSpPr>
            <a:xfrm>
              <a:off x="4952880" y="1995480"/>
              <a:ext cx="1809720" cy="2347920"/>
              <a:chOff x="4952880" y="1995480"/>
              <a:chExt cx="1809720" cy="2347920"/>
            </a:xfrm>
          </p:grpSpPr>
          <p:pic>
            <p:nvPicPr>
              <p:cNvPr id="217" name="Picture 21" descr="D:\Program_Files\Office\Clipart\standard\stddir2\bd08128_.wmf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1995480"/>
                <a:ext cx="1809720" cy="152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pic>
            <p:nvPicPr>
              <p:cNvPr id="218" name="Picture 26" descr="D:\Program_Files\Office\Clipart\standard\stddir1\an02168_.wmf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3595680"/>
                <a:ext cx="1604880" cy="74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30"/>
            <p:cNvSpPr/>
            <p:nvPr/>
          </p:nvSpPr>
          <p:spPr>
            <a:xfrm>
              <a:off x="6903360" y="2470320"/>
              <a:ext cx="1819080" cy="1191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Страх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ыжо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14 метр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0" name="Group 34"/>
          <p:cNvGrpSpPr/>
          <p:nvPr/>
        </p:nvGrpSpPr>
        <p:grpSpPr>
          <a:xfrm>
            <a:off x="685800" y="4495680"/>
            <a:ext cx="8229600" cy="1143000"/>
            <a:chOff x="685800" y="4495680"/>
            <a:chExt cx="8229600" cy="1143000"/>
          </a:xfrm>
        </p:grpSpPr>
        <p:sp>
          <p:nvSpPr>
            <p:cNvPr id="221" name="AutoShape 32"/>
            <p:cNvSpPr/>
            <p:nvPr/>
          </p:nvSpPr>
          <p:spPr>
            <a:xfrm>
              <a:off x="685800" y="4495680"/>
              <a:ext cx="8229600" cy="609840"/>
            </a:xfrm>
            <a:prstGeom prst="downArrowCallout">
              <a:avLst>
                <a:gd name="adj1" fmla="val -26027"/>
                <a:gd name="adj2" fmla="val 90089"/>
                <a:gd name="adj3" fmla="val 28125"/>
                <a:gd name="adj4" fmla="val 37500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WordArt 33"/>
            <p:cNvSpPr txBox="1"/>
            <p:nvPr/>
          </p:nvSpPr>
          <p:spPr>
            <a:xfrm>
              <a:off x="914400" y="5105520"/>
              <a:ext cx="7772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граничительные механизмы организма!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3" name="Group 40"/>
          <p:cNvGrpSpPr/>
          <p:nvPr/>
        </p:nvGrpSpPr>
        <p:grpSpPr>
          <a:xfrm>
            <a:off x="609480" y="5638680"/>
            <a:ext cx="4267440" cy="1062000"/>
            <a:chOff x="609480" y="5638680"/>
            <a:chExt cx="4267440" cy="1062000"/>
          </a:xfrm>
        </p:grpSpPr>
        <p:pic>
          <p:nvPicPr>
            <p:cNvPr id="224" name="Picture 35" descr="D:\Program_Files\Office\Clipart\standard\stddir1\bd06988_.wmf"/>
            <p:cNvPicPr/>
            <p:nvPr/>
          </p:nvPicPr>
          <p:blipFill>
            <a:blip r:embed="rId6"/>
            <a:stretch/>
          </p:blipFill>
          <p:spPr>
            <a:xfrm>
              <a:off x="4033800" y="5638680"/>
              <a:ext cx="843120" cy="1062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5" name="WordArt 36"/>
            <p:cNvSpPr txBox="1"/>
            <p:nvPr/>
          </p:nvSpPr>
          <p:spPr>
            <a:xfrm>
              <a:off x="609480" y="5791320"/>
              <a:ext cx="2133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Снятие</a:t>
              </a:r>
              <a:endParaRPr b="1" lang="en-US" sz="2400" spc="1" strike="noStrike">
                <a:ln w="2844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2895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7" name="Group 41"/>
          <p:cNvGrpSpPr/>
          <p:nvPr/>
        </p:nvGrpSpPr>
        <p:grpSpPr>
          <a:xfrm>
            <a:off x="5181480" y="5638680"/>
            <a:ext cx="3429000" cy="1143000"/>
            <a:chOff x="5181480" y="5638680"/>
            <a:chExt cx="3429000" cy="1143000"/>
          </a:xfrm>
        </p:grpSpPr>
        <p:sp>
          <p:nvSpPr>
            <p:cNvPr id="228" name="Line 38"/>
            <p:cNvSpPr/>
            <p:nvPr/>
          </p:nvSpPr>
          <p:spPr>
            <a:xfrm>
              <a:off x="5181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9" name="WordArt 39"/>
            <p:cNvSpPr txBox="1"/>
            <p:nvPr/>
          </p:nvSpPr>
          <p:spPr>
            <a:xfrm>
              <a:off x="6400800" y="5638680"/>
              <a:ext cx="22096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ровка,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нг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0" name="Місце для нижнього колонтитула 3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2" name="WordArt 22"/>
          <p:cNvSpPr txBox="1"/>
          <p:nvPr/>
        </p:nvSpPr>
        <p:spPr>
          <a:xfrm>
            <a:off x="3200400" y="15238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патия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23"/>
          <p:cNvSpPr txBox="1"/>
          <p:nvPr/>
        </p:nvSpPr>
        <p:spPr>
          <a:xfrm>
            <a:off x="762120" y="91440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кинез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24"/>
          <p:cNvSpPr txBox="1"/>
          <p:nvPr/>
        </p:nvSpPr>
        <p:spPr>
          <a:xfrm>
            <a:off x="5638680" y="4495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еодоление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лы тяжести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25"/>
          <p:cNvSpPr txBox="1"/>
          <p:nvPr/>
        </p:nvSpPr>
        <p:spPr>
          <a:xfrm>
            <a:off x="5715000" y="914400"/>
            <a:ext cx="274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пламенение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26"/>
          <p:cNvSpPr txBox="1"/>
          <p:nvPr/>
        </p:nvSpPr>
        <p:spPr>
          <a:xfrm>
            <a:off x="2743200" y="251460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Необъяснимые 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озможности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7" name="WordArt 27"/>
          <p:cNvSpPr txBox="1"/>
          <p:nvPr/>
        </p:nvSpPr>
        <p:spPr>
          <a:xfrm>
            <a:off x="762120" y="4495680"/>
            <a:ext cx="2895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точная</a:t>
            </a:r>
            <a:endParaRPr b="1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дицина</a:t>
            </a:r>
            <a:endParaRPr b="1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28"/>
          <p:cNvSpPr txBox="1"/>
          <p:nvPr/>
        </p:nvSpPr>
        <p:spPr>
          <a:xfrm>
            <a:off x="2971800" y="3733920"/>
            <a:ext cx="2743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увство поля</a:t>
            </a:r>
            <a:endParaRPr b="1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Line 29"/>
          <p:cNvSpPr/>
          <p:nvPr/>
        </p:nvSpPr>
        <p:spPr>
          <a:xfrm>
            <a:off x="762120" y="5486400"/>
            <a:ext cx="8229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WordArt 30"/>
          <p:cNvSpPr txBox="1"/>
          <p:nvPr/>
        </p:nvSpPr>
        <p:spPr>
          <a:xfrm>
            <a:off x="2305080" y="5638680"/>
            <a:ext cx="5391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Остатки знаний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древних цивилизаций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LEGION</cp:lastModifiedBy>
  <dcterms:modified xsi:type="dcterms:W3CDTF">2014-11-12T10:43:50Z</dcterms:modified>
  <cp:revision>55</cp:revision>
  <dc:subject/>
  <dc:title>Презентация PowerPoint</dc:title>
</cp:coreProperties>
</file>