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1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2.jpeg" ContentType="image/jpeg"/>
  <Override PartName="/ppt/media/image34.jpeg" ContentType="image/jpeg"/>
  <Override PartName="/ppt/media/image40.wmf" ContentType="image/x-wmf"/>
  <Override PartName="/ppt/media/image31.jpeg" ContentType="image/jpeg"/>
  <Override PartName="/ppt/media/image25.jpeg" ContentType="image/jpeg"/>
  <Override PartName="/ppt/media/image36.jpeg" ContentType="image/jpeg"/>
  <Override PartName="/ppt/media/image38.png" ContentType="image/png"/>
  <Override PartName="/ppt/media/image37.jpeg" ContentType="image/jpeg"/>
  <Override PartName="/ppt/media/image4.jpeg" ContentType="image/jpeg"/>
  <Override PartName="/ppt/media/image8.wmf" ContentType="image/x-wmf"/>
  <Override PartName="/ppt/media/image33.jpeg" ContentType="image/jpeg"/>
  <Override PartName="/ppt/media/image10.jpeg" ContentType="image/jpeg"/>
  <Override PartName="/ppt/media/image3.wmf" ContentType="image/x-wmf"/>
  <Override PartName="/ppt/media/image29.jpeg" ContentType="image/jpeg"/>
  <Override PartName="/ppt/media/image43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4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41.gif" ContentType="image/gif"/>
  <Override PartName="/ppt/media/image5.gif" ContentType="image/gif"/>
  <Override PartName="/ppt/media/image16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E6C3-40E0-43A9-B650-6767E4A292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0AE6-AC1D-402B-8D31-472200DE92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вершинный уровень развития челове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его глубинное измерение» (А.Г.Асмо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учайно говорят (А.Г.Асмолов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ом рожда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ю станов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род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социаль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духов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интегр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т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90A9-E2CF-42B3-AD91-0DD798D085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1059-926C-44EF-9611-9B3EE3DA5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один из наиболее сложных объектов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05D7-CB32-44AA-83F4-0605B431C5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руктура личности и подходы к вопросу о сочетании биологического и соци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.И. Енике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пределяет структуру личности как систему психических качеств лич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C06F-C596-44B2-B106-3A01B5AC22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 Фрей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Юн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Олпор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К. Платон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.C. Мерлин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5A25-1CC6-46EF-A1FD-9CCC71CAA8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12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.Л. Рубинштейна и В.Н. Мясищ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9067-BC77-4CD3-8973-7ACA8C4384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B98E-4E94-4A11-8F2D-C5AD6B503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истема социаль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черкивая, что при изучении лич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 биологические и конституционально -индивид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личности динамикой нервнопсихической ре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B55A-6B7C-4F92-9A2B-4030399281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D92E-7C43-438D-B8E6-E8AD3C0372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ытки структуировать личность предприним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ё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Н.Леонтье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E1C4-99B6-4B5A-8434-DBF94CA0FE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язываются в соответств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тверждал А.Г.Ковалёв, с требованиями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ев выделяет следующие компоненты структуры ли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стема потребностей, интересов, идеал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самбль интеллектуальных, волевых и эмоциональных свой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нтез отношений и способов поведения), темперамент (система природных свойст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AFBA-641B-496F-A626-F26F48FC91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Мер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исы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е группы индивидуальных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ключает две 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качественные особенности псих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уальност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имеет три подструктуры: мотивы и отношения; характер; 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3F34-0610-4E7A-AD95-77627D6FCF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.Г. Анан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человека как индивида включ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о-половые свой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-тип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физиологические фун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5670-C336-402B-8CD5-BB5BE4C10D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023C-142A-4EB2-A0D5-2E23646941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вестнике психолог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ГУ № 4 1996  Д.А. Леонтьев пишет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68FB-D6BF-4866-9EB6-5F545F9A47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личности 3. Фре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бессознательное и его комплек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бессознательное и его архетипы, персона, анима, анимус и т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онструкци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чности, созданной Фрейдом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се эти компоненты в основном подчиняются биологическим зако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B70C-E576-47AA-A374-B892384CF7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ученики Фрейд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фрейд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азывают значимость не только биологических, но и социаль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формировании человеческого сам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062D-F1BF-4CFD-9B65-32E4FF5C76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92DB-4D19-437B-A127-A12EFCE8A1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группа зарубежных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труктурных единиц личности рассматривает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обозначает некую общую тенденцию поведения и ожид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пример, «Я впечатлительный» означает устойчивую характеристик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является количественным измер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может иметь иерархическую орган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5044-47AD-4A65-8E9D-DB9F6CC1D5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E62B-A93D-418D-8F7B-D375376D71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первых в этом направлении рабо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. Олпо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еория которого так и называетс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ория че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ыделил следующие виды че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ы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 в себя люб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сущие какому-то количеству людей в пределах данно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ые дис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5D7B-CFDB-4C1F-9E78-0AB8A58E13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50BE-1E57-4B21-B516-84F1907F3C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Е (экстраверсия — интроверс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N (нейротицизм — эмоциональная стабиль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 (психопатия или эмоциональная независим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E5B6-37EC-43BF-B8EC-9A164C4E18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ституционально-антропометрическая стратегия изучения строения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23D9-38D8-4D05-98D2-8018C618F6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Факторная» стратегия изучения черт лич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1834-4511-4F60-8B7D-9A52ED2783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очная» стратегия изучения струк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B501-68B7-4358-97DE-897FAA11C5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. Мотивационно-динамическая стратегия изучения организации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Асмолов отмечает, ч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ватыв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акую ре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у структуры личности, как ее динам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рав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63C4-37FB-45A2-B39E-A860B752B1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Поведенческо-интеракционистская стратегия изучения организации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5861-D3D5-49A9-8548-D6A3C577E5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2FAF-FDDA-44E4-8285-2178F606AB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колько неопознанного таится в этом необыкновенном су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4355-5BEC-44E4-875D-9C1D67F81E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 биологическую организацию человека в понятие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C8BC-8DF8-4FD4-8749-D5513DEE5C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иологическое и социальное в структуре личност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анализировать специфику соотношения биологического и социального в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личность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теор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7E94-84E2-43D8-8D99-8E46EA7D63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оретическое значени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изн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37AF-30A1-4BCD-A584-4C5D355D8B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ая знач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FC3F-6216-4439-BB57-58CD57E33A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Б.Г. Анан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(1907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биологического и социального в челове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еспечивается посредством единства таких его макрохарактеристик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0D41-7509-4087-AB40-17B70BA9D3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иосоциальный феномен имеет два вектора разви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ий и социальный 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BCFE-376C-415D-B733-730B64E685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4B6-6D10-4C1E-ABA4-00B6DD24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272-3EF4-4C48-941C-19A11BE7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EE1-FC1D-4FD4-B283-D28E8443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A13-83FB-4DA9-990F-3B900451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0708-364C-41C5-9117-1B0185B7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5B43-DA3E-4121-BE5F-A3974DBC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5AE0-3C6A-4C2F-9158-65084D39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9AFA-FFBB-4746-9416-01F95B85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1DC9-2844-4DDD-852F-050182DA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F7F4-77AC-40D9-9474-0CCFA1E5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61BB-DF4B-42E5-9366-694EDBC9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93F-BBBF-40FB-9944-7D9E4520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5529-8CAE-45CD-A1F9-8E462FCB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D70D-DD92-4116-98D7-79E95750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63D1-C6C1-4A22-AEBA-BB9F4975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019C-3837-4407-A5D8-663BDE06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8E22-D94B-4746-8427-49FF9FDD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5A7-ADF0-4980-9440-A18A0264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B7C-3955-4198-9897-6A02DA71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8E3-1B6F-41BE-AE1D-1F8B906D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BE9-0490-4680-BD3B-F2520EDE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97A-B176-4454-9F6F-ADBF9AB9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9A5-E489-4B6B-B046-1B972F80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1AE-CED9-4B0B-BD34-AB89D404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F876-8220-4DD6-86BC-9A7259B660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291F-0242-4300-ADE7-E4188AC2BB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50x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2558880"/>
            <a:ext cx="6858000" cy="39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75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вершинный уровень развития человек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го глубинное измерение» (А.Г.Асм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лучайно говорят (А.Г.Асмолов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ом рожд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ю станов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социаль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духов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интегральн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таи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5113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4-2"/>
          <p:cNvPicPr/>
          <p:nvPr/>
        </p:nvPicPr>
        <p:blipFill>
          <a:blip r:embed="rId1"/>
          <a:stretch/>
        </p:blipFill>
        <p:spPr>
          <a:xfrm>
            <a:off x="5940360" y="1844640"/>
            <a:ext cx="295272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3573000"/>
            <a:ext cx="4255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человек может рассматрива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едставитель живой природы, биологический объе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убъект созн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циальное с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0720" y="260280"/>
            <a:ext cx="4186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человек - это биосоциальное существо, наделенное сознанием и способностью к деятельности. Объединение этих трех уровней в одно целое формирует интегральную характеристику человека - его 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186002"/>
          <p:cNvPicPr/>
          <p:nvPr/>
        </p:nvPicPr>
        <p:blipFill>
          <a:blip r:embed="rId1"/>
          <a:stretch/>
        </p:blipFill>
        <p:spPr>
          <a:xfrm>
            <a:off x="4643280" y="479736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4-1"/>
          <p:cNvPicPr/>
          <p:nvPr/>
        </p:nvPicPr>
        <p:blipFill>
          <a:blip r:embed="rId2"/>
          <a:stretch/>
        </p:blipFill>
        <p:spPr>
          <a:xfrm>
            <a:off x="68436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s00554_"/>
          <p:cNvPicPr/>
          <p:nvPr/>
        </p:nvPicPr>
        <p:blipFill>
          <a:blip r:embed="rId3"/>
          <a:stretch/>
        </p:blipFill>
        <p:spPr>
          <a:xfrm>
            <a:off x="6877080" y="4941720"/>
            <a:ext cx="1828800" cy="15973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7834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один из наиболее сложных объектов реаль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Z45TLCABAH5Y9CAH9M9KTCAPPENCSCA2R7U3ECAKEAAXPCAAALXJHCAE31P2ECAEUSK2LCA75UCC0CALZTHCOCA98HSIUCAOGC08XC~1"/>
          <p:cNvPicPr/>
          <p:nvPr/>
        </p:nvPicPr>
        <p:blipFill>
          <a:blip r:embed="rId1"/>
          <a:stretch/>
        </p:blipFill>
        <p:spPr>
          <a:xfrm>
            <a:off x="684360" y="4005360"/>
            <a:ext cx="287964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ICT0098"/>
          <p:cNvPicPr/>
          <p:nvPr/>
        </p:nvPicPr>
        <p:blipFill>
          <a:blip r:embed="rId2"/>
          <a:stretch/>
        </p:blipFill>
        <p:spPr>
          <a:xfrm>
            <a:off x="5292720" y="4005360"/>
            <a:ext cx="37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4C94OCAVDQT42CAVJT9X5CAMALD08CAF3Z6CCCAVP08TCCANGV2RVCAI1YUTGCAYIREEFCA7ZH339CA5JABTOCAJ28ZIQCAE47WPLC~1"/>
          <p:cNvPicPr/>
          <p:nvPr/>
        </p:nvPicPr>
        <p:blipFill>
          <a:blip r:embed="rId3"/>
          <a:stretch/>
        </p:blipFill>
        <p:spPr>
          <a:xfrm>
            <a:off x="3132000" y="3068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труктура личности и подходы к вопросу о сочетании биологического и социальног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И. Енике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пределяет структуру личности как систему психических качеств лич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42-2"/>
          <p:cNvPicPr/>
          <p:nvPr/>
        </p:nvPicPr>
        <p:blipFill>
          <a:blip r:embed="rId1"/>
          <a:stretch/>
        </p:blipFill>
        <p:spPr>
          <a:xfrm>
            <a:off x="1258920" y="1628640"/>
            <a:ext cx="2801880" cy="4680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8764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. Фрей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Юн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лпор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К. Плат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C. Мерлин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http://yanko.lib.ru/books/psycho/jdan=ist_pscihologii=ann.files/image041.jpg"/>
          <p:cNvPicPr/>
          <p:nvPr/>
        </p:nvPicPr>
        <p:blipFill>
          <a:blip r:embed="rId1"/>
          <a:stretch/>
        </p:blipFill>
        <p:spPr>
          <a:xfrm>
            <a:off x="826920" y="69228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614160" y="26028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Г. Юнг (1875-1961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917080" y="1916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Фре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Sigmund_Freud"/>
          <p:cNvPicPr/>
          <p:nvPr/>
        </p:nvPicPr>
        <p:blipFill>
          <a:blip r:embed="rId2"/>
          <a:stretch/>
        </p:blipFill>
        <p:spPr>
          <a:xfrm>
            <a:off x="2268360" y="242100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олпорт"/>
          <p:cNvPicPr/>
          <p:nvPr/>
        </p:nvPicPr>
        <p:blipFill>
          <a:blip r:embed="rId3"/>
          <a:stretch/>
        </p:blipFill>
        <p:spPr>
          <a:xfrm>
            <a:off x="684360" y="3789360"/>
            <a:ext cx="1800000" cy="2735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9"/>
          <p:cNvSpPr/>
          <p:nvPr/>
        </p:nvSpPr>
        <p:spPr>
          <a:xfrm>
            <a:off x="61128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2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.Л. Рубинштейна и В.Н. Мясище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338472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мясищев в"/>
          <p:cNvPicPr/>
          <p:nvPr/>
        </p:nvPicPr>
        <p:blipFill>
          <a:blip r:embed="rId3"/>
          <a:stretch/>
        </p:blipFill>
        <p:spPr>
          <a:xfrm>
            <a:off x="5003640" y="1844640"/>
            <a:ext cx="360072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2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55640" y="260280"/>
            <a:ext cx="4319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социаль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черкивая, что при изучении лич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 биологические и конституционально -индивидн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зуе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о личности динамикой нервнопсихической ре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мясищев в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608472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105264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0BYJ0CAQCTAU8CAAJO210CAJI84MACA7UOJH5CAL0GE1ICAXED839CAR93X6MCA0CP560CAO90FYXCAN22UL3CAHMTD1UCAGYCBCIC~1"/>
          <p:cNvPicPr/>
          <p:nvPr/>
        </p:nvPicPr>
        <p:blipFill>
          <a:blip r:embed="rId1"/>
          <a:stretch/>
        </p:blipFill>
        <p:spPr>
          <a:xfrm>
            <a:off x="4788000" y="3645000"/>
            <a:ext cx="4103640" cy="292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av-625_0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876920" y="404640"/>
            <a:ext cx="401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и структуировать личность предприним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ё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Леонтье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А.Н. Леонтьев. Фото 192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ананьев б г"/>
          <p:cNvPicPr/>
          <p:nvPr/>
        </p:nvPicPr>
        <p:blipFill>
          <a:blip r:embed="rId3"/>
          <a:stretch/>
        </p:blipFill>
        <p:spPr>
          <a:xfrm>
            <a:off x="2050920" y="3384720"/>
            <a:ext cx="259236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700360" y="61657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Ана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68000" y="3860280"/>
            <a:ext cx="38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связываются в соответст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тверждал А.Г.Ковалёв, с требованиями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11640" y="333360"/>
            <a:ext cx="4681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ев выделяет следующие компоненты структуры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стема потребностей, интересов, идеа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самбль интеллектуальных, волевых и эмоциональных свой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нтез отношений и способов поведения), темперамент (система природных свойст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4005000"/>
            <a:ext cx="8002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р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исы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группы индивидуальных особен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ключает две 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ачественные особен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уальност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меет три подструктуры: мотивы и отношения; характер;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мерлин"/>
          <p:cNvPicPr/>
          <p:nvPr/>
        </p:nvPicPr>
        <p:blipFill>
          <a:blip r:embed="rId1"/>
          <a:stretch/>
        </p:blipFill>
        <p:spPr>
          <a:xfrm>
            <a:off x="2411280" y="33336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360" y="259920"/>
            <a:ext cx="472428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876560" y="404640"/>
            <a:ext cx="3809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уктуру человека как индивида включ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-половые свой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-тип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физиологические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ананьев в г"/>
          <p:cNvPicPr/>
          <p:nvPr/>
        </p:nvPicPr>
        <p:blipFill>
          <a:blip r:embed="rId1"/>
          <a:stretch/>
        </p:blipFill>
        <p:spPr>
          <a:xfrm>
            <a:off x="2340000" y="2852640"/>
            <a:ext cx="2768400" cy="37688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ананьев"/>
          <p:cNvPicPr/>
          <p:nvPr/>
        </p:nvPicPr>
        <p:blipFill>
          <a:blip r:embed="rId1"/>
          <a:stretch/>
        </p:blipFill>
        <p:spPr>
          <a:xfrm>
            <a:off x="5435640" y="177336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6228720" y="6164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400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стнике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ГУ № 4 1996  Д.А. Леонтьев пиш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6000" y="404640"/>
            <a:ext cx="46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А.Н. Леонтьев. Фото 195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2305080" cy="338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250920" y="59500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А. Леон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teplov"/>
          <p:cNvPicPr/>
          <p:nvPr/>
        </p:nvPicPr>
        <p:blipFill>
          <a:blip r:embed="rId3"/>
          <a:stretch/>
        </p:blipFill>
        <p:spPr>
          <a:xfrm>
            <a:off x="2556000" y="3429000"/>
            <a:ext cx="2160360" cy="2952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00360" y="6400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М.Теп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личности 3. Фрей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бессознательное и его комплек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ое бессознательное и его архетипы, персона, анима, анимус и т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55640" y="1599840"/>
            <a:ext cx="45370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конструк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и, созданной Фрейдо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се эти компоненты в основном подчиняются биологическим зако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Sigmund_Freud"/>
          <p:cNvPicPr/>
          <p:nvPr/>
        </p:nvPicPr>
        <p:blipFill>
          <a:blip r:embed="rId1"/>
          <a:stretch/>
        </p:blipFill>
        <p:spPr>
          <a:xfrm>
            <a:off x="6227640" y="3933720"/>
            <a:ext cx="2219400" cy="2739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4788000" y="6067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3. Фре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329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ученики Фрейда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фрейди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ывают значимость не только биологических, но и социаль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формировании человеческого само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76560" y="3428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адлер"/>
          <p:cNvPicPr/>
          <p:nvPr/>
        </p:nvPicPr>
        <p:blipFill>
          <a:blip r:embed="rId1"/>
          <a:stretch/>
        </p:blipFill>
        <p:spPr>
          <a:xfrm>
            <a:off x="5508720" y="404640"/>
            <a:ext cx="2087640" cy="2664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6372360" y="29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Ад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10-1"/>
          <p:cNvPicPr/>
          <p:nvPr/>
        </p:nvPicPr>
        <p:blipFill>
          <a:blip r:embed="rId2"/>
          <a:stretch/>
        </p:blipFill>
        <p:spPr>
          <a:xfrm>
            <a:off x="179280" y="3716280"/>
            <a:ext cx="2678400" cy="230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11-1"/>
          <p:cNvPicPr/>
          <p:nvPr/>
        </p:nvPicPr>
        <p:blipFill>
          <a:blip r:embed="rId3"/>
          <a:stretch/>
        </p:blipFill>
        <p:spPr>
          <a:xfrm>
            <a:off x="2627280" y="4005360"/>
            <a:ext cx="2571840" cy="2638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9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3-1"/>
          <p:cNvPicPr/>
          <p:nvPr/>
        </p:nvPicPr>
        <p:blipFill>
          <a:blip r:embed="rId1"/>
          <a:stretch/>
        </p:blipFill>
        <p:spPr>
          <a:xfrm>
            <a:off x="4932360" y="476280"/>
            <a:ext cx="3887640" cy="58323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8281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группа зарубежны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структурных единиц личности рассматривает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обозначает некую общую тенденцию поведения и ожид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, «Я впечатлительный» означает устойчивую характеристик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является количественным измер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может иметь иерархическую организ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404640"/>
            <a:ext cx="4897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00840"/>
          <p:cNvPicPr/>
          <p:nvPr/>
        </p:nvPicPr>
        <p:blipFill>
          <a:blip r:embed="rId1"/>
          <a:stretch/>
        </p:blipFill>
        <p:spPr>
          <a:xfrm>
            <a:off x="5148360" y="170028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30-1"/>
          <p:cNvPicPr/>
          <p:nvPr/>
        </p:nvPicPr>
        <p:blipFill>
          <a:blip r:embed="rId2"/>
          <a:stretch/>
        </p:blipFill>
        <p:spPr>
          <a:xfrm>
            <a:off x="4788000" y="4724280"/>
            <a:ext cx="364788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4535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первых в этом направлении рабо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еория которого так и называется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еория ч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ыделил следующие виды че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ы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ют в себя любые характерис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сущие какому-то количеству людей в пределах дан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диспози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олпорт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6659640" y="98100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40399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Raymond_Cattell"/>
          <p:cNvPicPr/>
          <p:nvPr/>
        </p:nvPicPr>
        <p:blipFill>
          <a:blip r:embed="rId1"/>
          <a:stretch/>
        </p:blipFill>
        <p:spPr>
          <a:xfrm>
            <a:off x="5364000" y="1628640"/>
            <a:ext cx="3456000" cy="4896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579600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. Кэт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255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Е (экстраверсия — интроверс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N (нейротицизм — эмоциональная стаби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Р (психопатия или эмоциональная независимо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ans_Eysenk"/>
          <p:cNvPicPr/>
          <p:nvPr/>
        </p:nvPicPr>
        <p:blipFill>
          <a:blip r:embed="rId1"/>
          <a:stretch/>
        </p:blipFill>
        <p:spPr>
          <a:xfrm>
            <a:off x="5508720" y="476280"/>
            <a:ext cx="3240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594036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Айзе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-антропометрическая стратегия изучения строения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2. 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Факторная» стратегия изучения черт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3" descr="j0195534"/>
          <p:cNvPicPr/>
          <p:nvPr/>
        </p:nvPicPr>
        <p:blipFill>
          <a:blip r:embed="rId1"/>
          <a:stretch/>
        </p:blipFill>
        <p:spPr>
          <a:xfrm>
            <a:off x="611280" y="1773360"/>
            <a:ext cx="3636720" cy="4608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3.  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«Блочная» стратегия изучения структуры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48" name="Diagram 6"/>
          <p:cNvGrpSpPr/>
          <p:nvPr/>
        </p:nvGrpSpPr>
        <p:grpSpPr>
          <a:xfrm>
            <a:off x="3131640" y="2204280"/>
            <a:ext cx="1553400" cy="3583800"/>
            <a:chOff x="3131640" y="2204280"/>
            <a:chExt cx="1553400" cy="3583800"/>
          </a:xfrm>
        </p:grpSpPr>
        <p:sp>
          <p:nvSpPr>
            <p:cNvPr id="249" name="AutoShape 19"/>
            <p:cNvSpPr/>
            <p:nvPr/>
          </p:nvSpPr>
          <p:spPr>
            <a:xfrm>
              <a:off x="3131640" y="2204280"/>
              <a:ext cx="977400" cy="486720"/>
            </a:xfrm>
            <a:prstGeom prst="rightArrow">
              <a:avLst>
                <a:gd name="adj1" fmla="val 50000"/>
                <a:gd name="adj2" fmla="val 5020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3707640" y="5299920"/>
              <a:ext cx="977400" cy="48816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0"/>
            <p:cNvSpPr/>
            <p:nvPr/>
          </p:nvSpPr>
          <p:spPr>
            <a:xfrm>
              <a:off x="3564000" y="4364640"/>
              <a:ext cx="975960" cy="484920"/>
            </a:xfrm>
            <a:prstGeom prst="rightArrow">
              <a:avLst>
                <a:gd name="adj1" fmla="val 50000"/>
                <a:gd name="adj2" fmla="val 5031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4"/>
          <p:cNvSpPr/>
          <p:nvPr/>
        </p:nvSpPr>
        <p:spPr>
          <a:xfrm>
            <a:off x="3995640" y="2060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11640" y="27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шлого опы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включающий память, навыки, знания, которые приобретены в ход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572000" y="400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ических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хватывающих индивидуальные особенности восприятия, мышления и т.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859280" y="53737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ные свойст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темперамент, половозрастные особен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3203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 rot="17641200">
            <a:off x="7560" y="27370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4. Мотивационно-динамиче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Асмолов отмечает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ватыв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ую ре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у структуры личности, как ее динам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прав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5. Поведенческо-интеракционист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j0234687"/>
          <p:cNvPicPr/>
          <p:nvPr/>
        </p:nvPicPr>
        <p:blipFill>
          <a:blip r:embed="rId1"/>
          <a:stretch/>
        </p:blipFill>
        <p:spPr>
          <a:xfrm>
            <a:off x="3059280" y="443700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неопознанного таится в этом необыкновенном су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Untitled-8"/>
          <p:cNvPicPr/>
          <p:nvPr/>
        </p:nvPicPr>
        <p:blipFill>
          <a:blip r:embed="rId2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040" y="333360"/>
            <a:ext cx="3809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259920"/>
            <a:ext cx="40161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ют биологическую организацию человека в понятие личност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F:\урок\Требования к современному уроку.files\160.gif"/>
          <p:cNvPicPr/>
          <p:nvPr/>
        </p:nvPicPr>
        <p:blipFill>
          <a:blip r:embed="rId1"/>
          <a:stretch/>
        </p:blipFill>
        <p:spPr>
          <a:xfrm>
            <a:off x="5076720" y="5013360"/>
            <a:ext cx="2286000" cy="16858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Биологическое и социальное в структуре личности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анализировать специфику соотношения биологического и социального в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ичнос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ор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Теоретическое значение и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новизна исслед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92360" y="4581360"/>
            <a:ext cx="2958840" cy="198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217698"/>
          <p:cNvPicPr/>
          <p:nvPr/>
        </p:nvPicPr>
        <p:blipFill>
          <a:blip r:embed="rId2"/>
          <a:stretch/>
        </p:blipFill>
        <p:spPr>
          <a:xfrm>
            <a:off x="5435640" y="4357800"/>
            <a:ext cx="32400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404640"/>
            <a:ext cx="40399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j0293844"/>
          <p:cNvPicPr/>
          <p:nvPr/>
        </p:nvPicPr>
        <p:blipFill>
          <a:blip r:embed="rId1"/>
          <a:stretch/>
        </p:blipFill>
        <p:spPr>
          <a:xfrm>
            <a:off x="2050920" y="479736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olorpsy"/>
          <p:cNvPicPr/>
          <p:nvPr/>
        </p:nvPicPr>
        <p:blipFill>
          <a:blip r:embed="rId2"/>
          <a:stretch/>
        </p:blipFill>
        <p:spPr>
          <a:xfrm>
            <a:off x="4859280" y="1413000"/>
            <a:ext cx="403380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040" y="475920"/>
            <a:ext cx="38098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(1907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3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ство биологического и социального в челов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еспечивается посредством единства таких его макрохарактеристик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yanko.lib.ru/books/psycho/jdan=ist_pscihologii=ann.files/image049.jpg"/>
          <p:cNvPicPr/>
          <p:nvPr/>
        </p:nvPicPr>
        <p:blipFill>
          <a:blip r:embed="rId1"/>
          <a:stretch/>
        </p:blipFill>
        <p:spPr>
          <a:xfrm>
            <a:off x="900000" y="1773360"/>
            <a:ext cx="360072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85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иосоциальный феномен имеет два вектора разви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й и социальный 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Untitled-10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Untitled-9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17:59Z</dcterms:created>
  <dc:creator>Любовь</dc:creator>
  <dc:description/>
  <dc:language>en-US</dc:language>
  <cp:lastModifiedBy>LEGION</cp:lastModifiedBy>
  <dcterms:modified xsi:type="dcterms:W3CDTF">2014-11-12T10:44:57Z</dcterms:modified>
  <cp:revision>94</cp:revision>
  <dc:subject/>
  <dc:title>«Биологическое и социальное в структуре личности»</dc:title>
</cp:coreProperties>
</file>