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7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image18.jpeg" ContentType="image/jpeg"/>
  <Override PartName="/ppt/media/image17.jpeg" ContentType="image/jpeg"/>
  <Override PartName="/ppt/media/image14.wmf" ContentType="image/x-wmf"/>
  <Override PartName="/ppt/media/image1.jpeg" ContentType="image/jpeg"/>
  <Override PartName="/ppt/media/image35.jpeg" ContentType="image/jpeg"/>
  <Override PartName="/ppt/media/image15.jpeg" ContentType="image/jpeg"/>
  <Override PartName="/ppt/media/image20.jpeg" ContentType="image/jpeg"/>
  <Override PartName="/ppt/media/image7.wmf" ContentType="image/x-wmf"/>
  <Override PartName="/ppt/media/image30.jpeg" ContentType="image/jpeg"/>
  <Override PartName="/ppt/media/image32.jpeg" ContentType="image/jpeg"/>
  <Override PartName="/ppt/media/image34.jpeg" ContentType="image/jpeg"/>
  <Override PartName="/ppt/media/image40.wmf" ContentType="image/x-wmf"/>
  <Override PartName="/ppt/media/image31.jpeg" ContentType="image/jpeg"/>
  <Override PartName="/ppt/media/image25.jpeg" ContentType="image/jpeg"/>
  <Override PartName="/ppt/media/image36.jpeg" ContentType="image/jpeg"/>
  <Override PartName="/ppt/media/image38.png" ContentType="image/png"/>
  <Override PartName="/ppt/media/image37.jpeg" ContentType="image/jpeg"/>
  <Override PartName="/ppt/media/image4.jpeg" ContentType="image/jpeg"/>
  <Override PartName="/ppt/media/image8.wmf" ContentType="image/x-wmf"/>
  <Override PartName="/ppt/media/image33.jpeg" ContentType="image/jpeg"/>
  <Override PartName="/ppt/media/image10.jpeg" ContentType="image/jpeg"/>
  <Override PartName="/ppt/media/image3.wmf" ContentType="image/x-wmf"/>
  <Override PartName="/ppt/media/image29.jpeg" ContentType="image/jpeg"/>
  <Override PartName="/ppt/media/image43.jpeg" ContentType="image/jpeg"/>
  <Override PartName="/ppt/media/image6.wmf" ContentType="image/x-wmf"/>
  <Override PartName="/ppt/media/image2.gif" ContentType="image/gif"/>
  <Override PartName="/ppt/media/image19.jpeg" ContentType="image/jpeg"/>
  <Override PartName="/ppt/media/image42.jpeg" ContentType="image/jpeg"/>
  <Override PartName="/ppt/media/image39.png" ContentType="image/png"/>
  <Override PartName="/ppt/media/image9.png" ContentType="image/png"/>
  <Override PartName="/ppt/media/image12.jpeg" ContentType="image/jpeg"/>
  <Override PartName="/ppt/media/image41.gif" ContentType="image/gif"/>
  <Override PartName="/ppt/media/image5.gif" ContentType="image/gif"/>
  <Override PartName="/ppt/media/image16.wmf" ContentType="image/x-wmf"/>
  <Override PartName="/ppt/media/image13.jpeg" ContentType="image/jpe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D439A-BB06-4FED-9C91-6EB858DDE2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979F-3872-4B33-B581-D2F9C5B0DA9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есть вершинный уровень развития человека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это его глубинное измерение» (А.Г.Асмол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случайно говорят (А.Г.Асмолов)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ом рождаю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остью станов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уаль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род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социаль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духов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 интегр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тстаиваю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27DD5-D3DC-49AD-81E1-73DE90F1DFA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7F928-751E-45AB-B3F4-6F6990500C9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ловек – один из наиболее сложных объектов реального ми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ADFDC-60D5-4F59-AC7A-46C81228D7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Calibri"/>
              </a:rPr>
              <a:t>Структура личности и подходы к вопросу о сочетании биологического и социальног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.И. Енике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определяет структуру личности как систему психических качеств личност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особност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3E514-4D91-4E5F-80D3-2C5E98BC2E9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3. Фрей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 Юнг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Олпор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К. Платон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B.C. Мерлин и др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DB36-6E0A-4A94-97F7-FB96D48F454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1200"/>
            </a:b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С.Л. Рубинштейна и В.Н. Мясищева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7452D-F5E3-4F5A-8045-E805A8D2AA3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3406A-79AC-4BE7-81CD-5E5EDCD81C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система социальных отноше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дчеркивая, что при изучении личност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ходимо учитывать  биологические и конституционально -индивид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.Н.Мясищев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изует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личности динамикой нервнопсихической реактив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370E4-B324-4D95-BF21-4A3BC54DD5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119C7-474A-4D21-A94B-799FA0B7BEF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пытки структуировать личность предпринима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ё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Н.Леонтьевым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3B760-DF1B-4E09-8DD7-F3125B714A2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ойства связываются в соответств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утверждал А.Г.Ковалёв, с требованиями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Ковалев выделяет следующие компоненты структуры личност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правленность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стема потребностей, интересов, идеал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особност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ансамбль интеллектуальных, волевых и эмоциональных свойст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характер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синтез отношений и способов поведения), темперамент (система природных свойств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A7118-ADBB-4489-A598-6C080D3F36D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. Мерл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писывает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ве группы индивидуальных особенно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а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включает две 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перамен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ые качественные особенности психических процесс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свойства индивидуальности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имеет три подструктуры: мотивы и отношения; характер; способ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1239-54AE-420C-AB3F-BF24A7F4077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.Г. Ананье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труктуру человека как индивида включ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растно-половые свой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-типически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сихофизиологические функци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E69F-5624-44D3-A3C4-F437B01CE4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744C9-D7F1-46B8-BBD0-19609AF67DA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вестнике психологии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МГУ № 4 1996  Д.А. Леонтьев пишет </a:t>
            </a: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514A4-0D93-46D0-AF4E-B9464E71CE7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личности 3. Фрей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дструктур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г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е бессознательное и его комплекс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ллективное бессознательное и его архетипы, персона, анима, анимус и тен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этой конструкции </a:t>
            </a: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личности, созданной Фрейдом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1200" spc="-1" strike="noStrike">
                <a:solidFill>
                  <a:srgbClr val="c0504d"/>
                </a:solidFill>
                <a:latin typeface="Calibri"/>
              </a:rPr>
              <a:t>все эти компоненты в основном подчиняются биологическим закона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31D7A-BAD9-4C81-A0F5-4EC649419B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вою очередь, ученики Фрейда,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еофрейдисты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оказывают значимость не только биологических, но и социальных фактор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формировании человеческого самосозна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6E4A5-7FBB-447A-B53B-1DCF7C10986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443FD-1578-4B92-96E2-B2E91B00585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ая группа зарубежных исследователей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качестве структурных единиц личности рассматривает чер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обозначает некую общую тенденцию поведения и ожидани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например, «Я впечатлительный» означает устойчивую характеристику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является количественным измерение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а может иметь иерархическую организацию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F943-13A0-4F2D-BACC-D228D64E1E1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6D8EA-001A-47FE-B646-69C2D7D35E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им из первых в этом направлении работа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Г. Олпо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теория которого так и называется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«теория чер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»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н выделил следующие виды чер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черты лич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ключают в себя любые характерист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присущие какому-то количеству людей в пределах данной куль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личные диспоз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CB49D-6E8C-4F3B-A0FA-96FEB00977D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D748E-4749-41D4-AE00-593D38187B0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Е (экстраверсия — интроверси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N (нейротицизм — эмоциональная стабильн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•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Р (психопатия или эмоциональная независимость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9482D-7BCC-40B7-AB5C-5403FFE2BB9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Конституционально-антропометрическая стратегия изучения строения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Calibri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6E704-D461-48FE-BA6B-6541286A654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2. 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«Факторная» стратегия изучения черт личност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6F64-76EE-4868-AA70-87E8B909B5B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Блочная» стратегия изучения струк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8388D-2A11-4614-AF06-2E7626585D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Calibri"/>
              </a:rPr>
              <a:t>4. Мотивационно-динамическая стратегия изучения организации личности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Г. Асмолов отмечает, что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анный подхо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хватыва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акую реальную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характеристику структуры личности, как ее динам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направлен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4D73-7586-4F7D-BE7C-438A934FCE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5. Поведенческо-интеракционистская стратегия изучения организации личности.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684B9-C488-4375-9AB5-62E01600520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CAA2-0BC0-4480-813A-EC8B51D36A5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сколько неопознанного таится в этом необыкновенном суще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FE592-C688-4320-B996-327A6BE0D44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дн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включают биологическую организацию человека в понятие личности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Други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3A32-C788-4DD0-BAEB-6D456418F2E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Биологическое и социальное в структуре личности»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проанализировать специфику соотношения биологического и социального в челове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Объек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личность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 теории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3819C-116E-4264-86DB-8CBC5E7DE7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Теоретическое значение и 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новизна исследования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5EAF-154E-4A1C-A79A-1964D744EA2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рактическая значим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061C-07AD-46E3-AE80-F998E5B37EA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Б.Г. Анан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003300"/>
                </a:solidFill>
                <a:latin typeface="Calibri"/>
              </a:rPr>
              <a:t>(1907-197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динство биологического и социального в человек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беспечивается посредством единства таких его макрохарактеристик, ка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чность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бъект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дивидуаль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9EB6B-8F26-4AE7-8B7E-29D9B7078DF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дивид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биосоциальный феномен имеет два вектора развития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биологический и социальный индивид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B240E-FECF-4591-AD3F-2E4EAA8331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A7BA-05D4-409C-BC55-217882D7A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C82C-D7AE-4311-A7E7-E7573E8C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7F6A7-4B3E-4488-9FA2-B72175306C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994C-BC49-4464-8891-A6E0F83D0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3BB2F-9659-4E20-9D34-B799E2A6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BE46F-C1C3-4DA6-992F-731D9DF3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08B06-9645-46C4-AA87-4010462F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FE96-5DB0-4B48-A979-5A6D99133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2869-94DC-4D87-84C7-884C9F88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1540-B7F9-4730-B8B4-2324BF96E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154A9-2CD2-44D4-9A2B-5FA89D3BF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88C-62AB-4820-A108-012A80A8C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2D5F-EA02-4521-BB77-EE5451F86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324D0-2381-4625-A1ED-17BC581E7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C50E-9FDD-4E96-8ADF-C4A2ACFFF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24AA0-9A84-422C-B9EE-9AE7EC27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41AF-2F00-45E4-840F-E9DB80C51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D109-F679-457E-8511-CF0F77AA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B20D-12E1-4C39-84FD-E5537F6A3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64A0-4C27-4B95-AB4C-64FE351B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E06F-56F4-4DDE-87CB-7307DE4B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582E-CD77-4484-A0C2-483EEE3A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78BB-7996-47EB-A114-467A14D4D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853C-87FD-4B62-B55E-C6312E527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CEF34-7E93-4191-9561-00A9B212905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7E4E3-CB00-41CD-AD14-846D090AC7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rubinstain.jpg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2.jpg" TargetMode="External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psy.msu.ru/people/leontiev/images/leontiev50x.jpg" TargetMode="External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371600" y="2558880"/>
            <a:ext cx="6858000" cy="391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«Биологическое и социальное</a:t>
            </a:r>
            <a:br>
              <a:rPr sz="4400"/>
            </a:b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в структуре личност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611280" y="259920"/>
            <a:ext cx="807552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есть вершинный уровень развития человек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 это его глубинное измерение» (А.Г.Асмолов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случайно говорят (А.Г.Асмолов)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ом рождаю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ичностью становятся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ндивидуальн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природ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социаль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духовн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 интегральную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стаиваю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5113440" cy="551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ждый человек предстает в виде некоторой целостности - как индивид, личность и субъект - обусловленной единством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индивид он развивается в онтогенезе, а как личность он проходит свой жизненный путь, в ходе которого осуществляется социализация индиви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8" descr="4-2"/>
          <p:cNvPicPr/>
          <p:nvPr/>
        </p:nvPicPr>
        <p:blipFill>
          <a:blip r:embed="rId1"/>
          <a:stretch/>
        </p:blipFill>
        <p:spPr>
          <a:xfrm>
            <a:off x="5940360" y="1844640"/>
            <a:ext cx="2952720" cy="38894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468360" y="3573000"/>
            <a:ext cx="42559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ак, человек может рассматривать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едставитель живой природы, биологический объект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убъект сознательной деятельно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социальное существ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00720" y="260280"/>
            <a:ext cx="418608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ледовательно, человек - это биосоциальное существо, наделенное сознанием и способностью к деятельности. Объединение этих трех уровней в одно целое формирует интегральную характеристику человека - его индивидуа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37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0" descr="j0186002"/>
          <p:cNvPicPr/>
          <p:nvPr/>
        </p:nvPicPr>
        <p:blipFill>
          <a:blip r:embed="rId1"/>
          <a:stretch/>
        </p:blipFill>
        <p:spPr>
          <a:xfrm>
            <a:off x="4643280" y="4797360"/>
            <a:ext cx="1776600" cy="1825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1" descr="4-1"/>
          <p:cNvPicPr/>
          <p:nvPr/>
        </p:nvPicPr>
        <p:blipFill>
          <a:blip r:embed="rId2"/>
          <a:stretch/>
        </p:blipFill>
        <p:spPr>
          <a:xfrm>
            <a:off x="684360" y="189000"/>
            <a:ext cx="3816360" cy="3311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bs00554_"/>
          <p:cNvPicPr/>
          <p:nvPr/>
        </p:nvPicPr>
        <p:blipFill>
          <a:blip r:embed="rId3"/>
          <a:stretch/>
        </p:blipFill>
        <p:spPr>
          <a:xfrm>
            <a:off x="6877080" y="4941720"/>
            <a:ext cx="1828800" cy="159732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914400" y="692280"/>
            <a:ext cx="7834320" cy="32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ловек – один из наиболее сложных объектов реального ми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руктурная организация человека носит многоуровневый характер и отражает его природную и социальную сущ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9" descr="Z45TLCABAH5Y9CAH9M9KTCAPPENCSCA2R7U3ECAKEAAXPCAAALXJHCAE31P2ECAEUSK2LCA75UCC0CALZTHCOCA98HSIUCAOGC08XC~1"/>
          <p:cNvPicPr/>
          <p:nvPr/>
        </p:nvPicPr>
        <p:blipFill>
          <a:blip r:embed="rId1"/>
          <a:stretch/>
        </p:blipFill>
        <p:spPr>
          <a:xfrm>
            <a:off x="684360" y="4005360"/>
            <a:ext cx="2879640" cy="26636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3" descr="PICT0098"/>
          <p:cNvPicPr/>
          <p:nvPr/>
        </p:nvPicPr>
        <p:blipFill>
          <a:blip r:embed="rId2"/>
          <a:stretch/>
        </p:blipFill>
        <p:spPr>
          <a:xfrm>
            <a:off x="5292720" y="4005360"/>
            <a:ext cx="3703680" cy="26161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4C94OCAVDQT42CAVJT9X5CAMALD08CAF3Z6CCCAVP08TCCANGV2RVCAI1YUTGCAYIREEFCA7ZH339CA5JABTOCAJ28ZIQCAE47WPLC~1"/>
          <p:cNvPicPr/>
          <p:nvPr/>
        </p:nvPicPr>
        <p:blipFill>
          <a:blip r:embed="rId3"/>
          <a:stretch/>
        </p:blipFill>
        <p:spPr>
          <a:xfrm>
            <a:off x="3132000" y="3068640"/>
            <a:ext cx="2952720" cy="2521080"/>
          </a:xfrm>
          <a:prstGeom prst="rect">
            <a:avLst/>
          </a:prstGeom>
          <a:ln w="0">
            <a:noFill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труктура личности и подходы к вопросу о сочетании биологического и социального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.И. Енике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определяет структуру личности как систему психических качеств личности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авленнос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но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аракт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лементами психологической структуры личности являются ее психологические свойства и особенности, обычно называемые «чертами личности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10" descr="42-2"/>
          <p:cNvPicPr/>
          <p:nvPr/>
        </p:nvPicPr>
        <p:blipFill>
          <a:blip r:embed="rId1"/>
          <a:stretch/>
        </p:blipFill>
        <p:spPr>
          <a:xfrm>
            <a:off x="1258920" y="1628640"/>
            <a:ext cx="2801880" cy="4680000"/>
          </a:xfrm>
          <a:prstGeom prst="rect">
            <a:avLst/>
          </a:prstGeom>
          <a:ln w="0">
            <a:noFill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787640" y="1628640"/>
            <a:ext cx="380988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зарубежной и отечественной психологии самых разных направлений мы можем встретить множество конкретных разработок структур лич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3. Фрейд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 Юнг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 Олпорт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.К. Платонов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B.C. Мерлин и др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10" descr="http://yanko.lib.ru/books/psycho/jdan=ist_pscihologii=ann.files/image041.jpg"/>
          <p:cNvPicPr/>
          <p:nvPr/>
        </p:nvPicPr>
        <p:blipFill>
          <a:blip r:embed="rId1"/>
          <a:stretch/>
        </p:blipFill>
        <p:spPr>
          <a:xfrm>
            <a:off x="826920" y="692280"/>
            <a:ext cx="1944720" cy="2016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13"/>
          <p:cNvSpPr/>
          <p:nvPr/>
        </p:nvSpPr>
        <p:spPr>
          <a:xfrm>
            <a:off x="614160" y="260280"/>
            <a:ext cx="24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К.Г. Юнг (1875-1961</a:t>
            </a:r>
            <a:r>
              <a:rPr b="1" lang="ru-RU" sz="1800" spc="-1" strike="noStrike">
                <a:solidFill>
                  <a:srgbClr val="0033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6"/>
          <p:cNvSpPr/>
          <p:nvPr/>
        </p:nvSpPr>
        <p:spPr>
          <a:xfrm>
            <a:off x="2917080" y="19162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3. Фрей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7" descr="Sigmund_Freud"/>
          <p:cNvPicPr/>
          <p:nvPr/>
        </p:nvPicPr>
        <p:blipFill>
          <a:blip r:embed="rId2"/>
          <a:stretch/>
        </p:blipFill>
        <p:spPr>
          <a:xfrm>
            <a:off x="2268360" y="2421000"/>
            <a:ext cx="201636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8" descr="олпорт"/>
          <p:cNvPicPr/>
          <p:nvPr/>
        </p:nvPicPr>
        <p:blipFill>
          <a:blip r:embed="rId3"/>
          <a:stretch/>
        </p:blipFill>
        <p:spPr>
          <a:xfrm>
            <a:off x="684360" y="3789360"/>
            <a:ext cx="1800000" cy="273528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19"/>
          <p:cNvSpPr/>
          <p:nvPr/>
        </p:nvSpPr>
        <p:spPr>
          <a:xfrm>
            <a:off x="611280" y="3357720"/>
            <a:ext cx="16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4360" y="277560"/>
            <a:ext cx="79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Важное значение для разработки проблемы структуры личности в отечественной психологии имели идеи </a:t>
            </a:r>
            <a:br>
              <a:rPr sz="2400"/>
            </a:b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С.Л. Рубинштейна и В.Н. Мясищева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900000" y="1628640"/>
            <a:ext cx="38102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844640"/>
            <a:ext cx="3384720" cy="4680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9" descr="мясищев в"/>
          <p:cNvPicPr/>
          <p:nvPr/>
        </p:nvPicPr>
        <p:blipFill>
          <a:blip r:embed="rId3"/>
          <a:stretch/>
        </p:blipFill>
        <p:spPr>
          <a:xfrm>
            <a:off x="5003640" y="1844640"/>
            <a:ext cx="3600720" cy="468000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40320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С.Л.Рубинштейн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, вопреки распространенным в отечественной психологии тенденциям к нивелировке индивидных свойств с избыточным акцентом внимания на модели социально желательной личности,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</a:rPr>
              <a:t>не сбрасывал со счетов значимость   врожденных, переданных по наследству от родителей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и прародителей особенностей человека в формировании лич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355640" y="260280"/>
            <a:ext cx="431964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Воздействие средовых явлений на психику человека  рассматривалось им не как пассивный процесс, а как субъективно-предпочтительный, избирательный, во многом неосознаваемый выбор. С.Л.Рубинштейн считал, что индивидуально очерченные свойства опосредованно преломляют (у каждого человека по-своему) информацию об окружающей сред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7" descr="С.Л. Рубинштейн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651640" y="3860640"/>
            <a:ext cx="2305080" cy="280836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95280" y="259920"/>
            <a:ext cx="5113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утверждал, что личность есть то субъективное и объективное, которое, реализуясь в действиях, характеризует подлинное лицо человека, представленное как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истема социальных отноше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дчеркивая, что при изучении личност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необходимо учитывать  биологические и конституционально -индивидные свойств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Н.Мясищев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изует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единство личности динамикой нервнопсихической реактив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7" descr="мясищев в"/>
          <p:cNvPicPr/>
          <p:nvPr/>
        </p:nvPicPr>
        <p:blipFill>
          <a:blip r:embed="rId1"/>
          <a:stretch/>
        </p:blipFill>
        <p:spPr>
          <a:xfrm>
            <a:off x="5724360" y="1773360"/>
            <a:ext cx="3168720" cy="4319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8"/>
          <p:cNvSpPr/>
          <p:nvPr/>
        </p:nvSpPr>
        <p:spPr>
          <a:xfrm>
            <a:off x="6084720" y="6165720"/>
            <a:ext cx="26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.Н.Мясище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11280" y="1052640"/>
            <a:ext cx="374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еловек представляет собой сложную биосоциальную структуру,  охватывающую широкую гамму сторон жизнедеятельности  человека - от  физиологической  до социально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0BYJ0CAQCTAU8CAAJO210CAJI84MACA7UOJH5CAL0GE1ICAXED839CAR93X6MCA0CP560CAO90FYXCAN22UL3CAHMTD1UCAGYCBCIC~1"/>
          <p:cNvPicPr/>
          <p:nvPr/>
        </p:nvPicPr>
        <p:blipFill>
          <a:blip r:embed="rId1"/>
          <a:stretch/>
        </p:blipFill>
        <p:spPr>
          <a:xfrm>
            <a:off x="4788000" y="3645000"/>
            <a:ext cx="4103640" cy="2925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av-625_02"/>
          <p:cNvPicPr/>
          <p:nvPr/>
        </p:nvPicPr>
        <p:blipFill>
          <a:blip r:embed="rId2"/>
          <a:stretch/>
        </p:blipFill>
        <p:spPr>
          <a:xfrm>
            <a:off x="5435640" y="333360"/>
            <a:ext cx="2808360" cy="30243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876920" y="404640"/>
            <a:ext cx="4016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пытки структуировать личность предпринимал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ё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Н.Леонтьевы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.Г.Ананьевым и др., говорилось о совмещении таких структур, как темперамент, направленность способностей и др., обуславливающих эффект устойчивости, обеспечение приспособления к воздействиям среды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8" descr="А.Н. Леонтьев. Фото 192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3240360" cy="3529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9" descr="ананьев б г"/>
          <p:cNvPicPr/>
          <p:nvPr/>
        </p:nvPicPr>
        <p:blipFill>
          <a:blip r:embed="rId3"/>
          <a:stretch/>
        </p:blipFill>
        <p:spPr>
          <a:xfrm>
            <a:off x="2050920" y="3384720"/>
            <a:ext cx="259236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0"/>
          <p:cNvSpPr/>
          <p:nvPr/>
        </p:nvSpPr>
        <p:spPr>
          <a:xfrm>
            <a:off x="2700360" y="6165720"/>
            <a:ext cx="23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.Г.Ананье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 txBox="1"/>
          <p:nvPr/>
        </p:nvSpPr>
        <p:spPr>
          <a:xfrm>
            <a:off x="468000" y="3860280"/>
            <a:ext cx="381636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йства связываются в соответстви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утверждал А.Г.Ковалёв, с требованиями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11640" y="333360"/>
            <a:ext cx="468144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Ковалев выделяет следующие компоненты структуры личнос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направленность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стема потребностей, интересов, идеало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пособност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ансамбль интеллектуальных, волевых и эмоциональных свойств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синтез отношений и способов поведения), темперамент (система природных свойств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684000" y="4005000"/>
            <a:ext cx="800244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Мерлин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писывает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ве группы индивидуальных особеннос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а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включает две 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емперамент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ые качественные особенности психических процессов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свойства индивидуальности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имеет три подструктуры: мотивы и отношения; характер; способно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7" descr="мерлин"/>
          <p:cNvPicPr/>
          <p:nvPr/>
        </p:nvPicPr>
        <p:blipFill>
          <a:blip r:embed="rId1"/>
          <a:stretch/>
        </p:blipFill>
        <p:spPr>
          <a:xfrm>
            <a:off x="2411280" y="333360"/>
            <a:ext cx="5256360" cy="345600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-360" y="259920"/>
            <a:ext cx="4724280" cy="60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се подструктуры личности взаимосвязаны благодаря опосредующему звену -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спользовал более широкую категорию «человек», включающую весь спектр частных категорий, таких, как индивид, личность, индивидуальность, субъект деятель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4876560" y="404640"/>
            <a:ext cx="380988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труктуру человека как индивида включен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зрастно-половые свойств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ндивидуально-типические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сихофизиологические функц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рганические потребности, задатки, темперамент. Собственно личность организована не менее сложно: статус, роли, ценностные ориентации - это первичный класс личностных свойств; мотивация поведения, структура общественного поведения, сознание и др. - вторичные личностные свой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7" descr="ананьев в г"/>
          <p:cNvPicPr/>
          <p:nvPr/>
        </p:nvPicPr>
        <p:blipFill>
          <a:blip r:embed="rId1"/>
          <a:stretch/>
        </p:blipFill>
        <p:spPr>
          <a:xfrm>
            <a:off x="2340000" y="2852640"/>
            <a:ext cx="2768400" cy="3768840"/>
          </a:xfrm>
          <a:prstGeom prst="rect">
            <a:avLst/>
          </a:prstGeom>
          <a:ln w="0">
            <a:noFill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539640" y="333000"/>
            <a:ext cx="44640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по Б.Г. Ананьеву не все психофизиологические функции, процессы, состояния сохраняет в структуре личности. Так же и не все социальные роли, установки, ценностные ориентации входят в структуру личности. Входят те свойства индивида, которые опосредованы социальными свойствами личности и актуальны для повед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7" descr="ананьев"/>
          <p:cNvPicPr/>
          <p:nvPr/>
        </p:nvPicPr>
        <p:blipFill>
          <a:blip r:embed="rId1"/>
          <a:stretch/>
        </p:blipFill>
        <p:spPr>
          <a:xfrm>
            <a:off x="5435640" y="1773360"/>
            <a:ext cx="3384360" cy="439236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8"/>
          <p:cNvSpPr/>
          <p:nvPr/>
        </p:nvSpPr>
        <p:spPr>
          <a:xfrm>
            <a:off x="6228720" y="6164280"/>
            <a:ext cx="21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323640" y="260280"/>
            <a:ext cx="44002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вестнике психолог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ГУ № 4 1996  Д.А. Леонтьев пишет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о соотношении личного и социального в современной психологии как о трудной дороге от непримиримости этих двух категорий к их неразрыв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56000" y="404640"/>
            <a:ext cx="460872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оль биологического фактор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в развитии личности подтверждают многочисленные работы  известных  психофизиологов  -  Б.М.Теплова,  В.Д.Небылицына,  В.С.Мерлина, Э.А.Голубевой, В.М.Русалова и др. В их трудах находит свое развит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дея о величайшей значимости врожденных свойств центральной нервной систем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- человеческого мозга и его физиологических особенностей -  для формирования интеллектуальных и творческих способност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8" descr="А.Н. Леонтьев. Фото 1950-х годов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2565360"/>
            <a:ext cx="2305080" cy="338472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9"/>
          <p:cNvSpPr/>
          <p:nvPr/>
        </p:nvSpPr>
        <p:spPr>
          <a:xfrm>
            <a:off x="250920" y="5950080"/>
            <a:ext cx="33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.А. Леонт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" descr="teplov"/>
          <p:cNvPicPr/>
          <p:nvPr/>
        </p:nvPicPr>
        <p:blipFill>
          <a:blip r:embed="rId3"/>
          <a:stretch/>
        </p:blipFill>
        <p:spPr>
          <a:xfrm>
            <a:off x="2556000" y="3429000"/>
            <a:ext cx="2160360" cy="295272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11"/>
          <p:cNvSpPr/>
          <p:nvPr/>
        </p:nvSpPr>
        <p:spPr>
          <a:xfrm>
            <a:off x="2700360" y="640080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.М.Теп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структура личности 3. Фрейда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10920" y="1599840"/>
            <a:ext cx="4113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концепции К. Юнга, в которой личность так же, как и у Фрейда, предстает как система, выделяются следующие важные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дструктур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г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чное бессознательное и его комплексы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ллективное бессознательное и его архетипы, персона, анима, анимус и тень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355640" y="1599840"/>
            <a:ext cx="453708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этой конструкции 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</a:rPr>
              <a:t>личности, созданной Фрейдом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содержится предположение о сложности, многоплановости структур человеческого поведения, и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се эти компоненты в основном подчиняются биологическим закона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Sigmund_Freud"/>
          <p:cNvPicPr/>
          <p:nvPr/>
        </p:nvPicPr>
        <p:blipFill>
          <a:blip r:embed="rId1"/>
          <a:stretch/>
        </p:blipFill>
        <p:spPr>
          <a:xfrm>
            <a:off x="6227640" y="3933720"/>
            <a:ext cx="2219400" cy="27399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4788000" y="606744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0033"/>
                </a:solidFill>
                <a:latin typeface="Arial"/>
              </a:rPr>
              <a:t>3. Фрей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394920" y="333360"/>
            <a:ext cx="43290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свою очередь, ученики Фрейда,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офрейдисты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.Адлер, Г.Салливен, К.Хорни, Э.Фромм в противовес избыточной акцентуации Фрейдом внимания на детских сексуальных проблемах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показывают значимость не только биологических, но и социальных фактор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ри формировании человеческого самосозн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876560" y="3428640"/>
            <a:ext cx="380988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их работах подчеркивалось взаимное влияние человека на общество и общества на человека как непременные слагаемые общественной жизни, которые одновременно формируют личность и определяют пути движения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7" descr="адлер"/>
          <p:cNvPicPr/>
          <p:nvPr/>
        </p:nvPicPr>
        <p:blipFill>
          <a:blip r:embed="rId1"/>
          <a:stretch/>
        </p:blipFill>
        <p:spPr>
          <a:xfrm>
            <a:off x="5508720" y="404640"/>
            <a:ext cx="2087640" cy="266400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8"/>
          <p:cNvSpPr/>
          <p:nvPr/>
        </p:nvSpPr>
        <p:spPr>
          <a:xfrm>
            <a:off x="6372360" y="29242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Адл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9" descr="10-1"/>
          <p:cNvPicPr/>
          <p:nvPr/>
        </p:nvPicPr>
        <p:blipFill>
          <a:blip r:embed="rId2"/>
          <a:stretch/>
        </p:blipFill>
        <p:spPr>
          <a:xfrm>
            <a:off x="179280" y="3716280"/>
            <a:ext cx="2678400" cy="23050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10" descr="11-1"/>
          <p:cNvPicPr/>
          <p:nvPr/>
        </p:nvPicPr>
        <p:blipFill>
          <a:blip r:embed="rId3"/>
          <a:stretch/>
        </p:blipFill>
        <p:spPr>
          <a:xfrm>
            <a:off x="2627280" y="4005360"/>
            <a:ext cx="2571840" cy="263844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394920" y="260280"/>
            <a:ext cx="432900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оретический подход таких известных ученых как Маслоу, Г.Салливен, Г. Адлер, К. Роджерс, Э. Фромм, К. Хорни рассматривают индивидуально-личностный паттерн как процесс взаимодействия индивидных, врожденных свойств и среды, определяемой значимыми други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7" descr="3-1"/>
          <p:cNvPicPr/>
          <p:nvPr/>
        </p:nvPicPr>
        <p:blipFill>
          <a:blip r:embed="rId1"/>
          <a:stretch/>
        </p:blipFill>
        <p:spPr>
          <a:xfrm>
            <a:off x="4932360" y="476280"/>
            <a:ext cx="3887640" cy="5832360"/>
          </a:xfrm>
          <a:prstGeom prst="rect">
            <a:avLst/>
          </a:prstGeom>
          <a:ln w="0">
            <a:noFill/>
          </a:ln>
        </p:spPr>
      </p:pic>
      <p:sp>
        <p:nvSpPr>
          <p:cNvPr id="2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610920" y="188640"/>
            <a:ext cx="828180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ольшая группа зарубежных исследователе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качестве структурных единиц личности рассматривает черт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овременных теориях выделяется несколько базовых признаков черты как психологического конструк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обозначает некую общую тенденцию поведения и ожиданий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например, «Я впечатлительный» означает устойчивую характеристику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является количественным измерение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зволяющим сравнивать степень выраженности конкретной характеристики у разных люд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ерта может иметь иерархическую организацию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 е. более широкая черта включает в себя несколько специфических черт, т. е. позволяет описывать личность через множество уровн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5280" y="404640"/>
            <a:ext cx="489744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Биологическое  и  социальное - это  два   класса   устойчивых компонентов (подструктур), составляющих  структуру  человека  как  целостной систем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 этом соотношение биологического и социального следует  понимать не как рядоположение, а как  соподчин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8" descr="j0300840"/>
          <p:cNvPicPr/>
          <p:nvPr/>
        </p:nvPicPr>
        <p:blipFill>
          <a:blip r:embed="rId1"/>
          <a:stretch/>
        </p:blipFill>
        <p:spPr>
          <a:xfrm>
            <a:off x="5148360" y="1700280"/>
            <a:ext cx="3384360" cy="2449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" descr="30-1"/>
          <p:cNvPicPr/>
          <p:nvPr/>
        </p:nvPicPr>
        <p:blipFill>
          <a:blip r:embed="rId2"/>
          <a:stretch/>
        </p:blipFill>
        <p:spPr>
          <a:xfrm>
            <a:off x="4788000" y="4724280"/>
            <a:ext cx="3647880" cy="187344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453528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дним из первых в этом направлении работ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теория которого так и называется -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«теория черт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»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н выделил следующие виды черт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ерты личност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ключают в себя любые характеристи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присущие какому-то количеству людей в пределах данной культуры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•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ичные диспозиц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— такие характеристики индивида, которые не допускают сравнения с другими людьми, делают человека уникальны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7" descr="олпорт"/>
          <p:cNvPicPr/>
          <p:nvPr/>
        </p:nvPicPr>
        <p:blipFill>
          <a:blip r:embed="rId1"/>
          <a:stretch/>
        </p:blipFill>
        <p:spPr>
          <a:xfrm>
            <a:off x="5292720" y="1700280"/>
            <a:ext cx="3456000" cy="4897440"/>
          </a:xfrm>
          <a:prstGeom prst="rect">
            <a:avLst/>
          </a:prstGeom>
          <a:ln w="0">
            <a:noFill/>
          </a:ln>
        </p:spPr>
      </p:pic>
      <p:sp>
        <p:nvSpPr>
          <p:cNvPr id="230" name="Rectangle 8"/>
          <p:cNvSpPr/>
          <p:nvPr/>
        </p:nvSpPr>
        <p:spPr>
          <a:xfrm>
            <a:off x="6659640" y="981000"/>
            <a:ext cx="199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. Олпор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4360" y="260280"/>
            <a:ext cx="4039920" cy="633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. Кэттел в теории личностных черт выделяет поверхностные (вторичные) и порождающие (первичные) черты, которые в свою очередь разделяются на конституциональные, имеющие генетическую обусловленность, и характерологические, развивающиеся под влиянием опыта и обучения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7" descr="Raymond_Cattell"/>
          <p:cNvPicPr/>
          <p:nvPr/>
        </p:nvPicPr>
        <p:blipFill>
          <a:blip r:embed="rId1"/>
          <a:stretch/>
        </p:blipFill>
        <p:spPr>
          <a:xfrm>
            <a:off x="5364000" y="1628640"/>
            <a:ext cx="3456000" cy="4896000"/>
          </a:xfrm>
          <a:prstGeom prst="rect">
            <a:avLst/>
          </a:prstGeom>
          <a:ln w="0">
            <a:noFill/>
          </a:ln>
        </p:spPr>
      </p:pic>
      <p:sp>
        <p:nvSpPr>
          <p:cNvPr id="234" name="Rectangle 8"/>
          <p:cNvSpPr/>
          <p:nvPr/>
        </p:nvSpPr>
        <p:spPr>
          <a:xfrm>
            <a:off x="5796000" y="90792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Р. Кэтт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42559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теории Г. Айзенка личность также представлена в виде иерархически организованной структуры черт (трехфакторная модель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Е (экстраверсия — интроверсия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N (нейротицизм — эмоциональная стабильность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•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актор Р (психопатия или эмоциональная независимость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7" descr="Hans_Eysenk"/>
          <p:cNvPicPr/>
          <p:nvPr/>
        </p:nvPicPr>
        <p:blipFill>
          <a:blip r:embed="rId1"/>
          <a:stretch/>
        </p:blipFill>
        <p:spPr>
          <a:xfrm>
            <a:off x="5508720" y="476280"/>
            <a:ext cx="3240000" cy="504036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8"/>
          <p:cNvSpPr/>
          <p:nvPr/>
        </p:nvSpPr>
        <p:spPr>
          <a:xfrm>
            <a:off x="5940360" y="551664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Г. Айзен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А.Г. Асмолов выделяет основные стратегии изучения структуры личности в рамках антропоцентрической парадигмы: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76124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Конституционально-антропометрическая стратегия изучения строения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анная стратегия изучения организации личности в психологии представлена прежде всего исследованиями       Э. Кречмера, У. Шелдона, К. Конрад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ъектом анализа являются врожденные предрасположенности к реагированию, чаще всего отождествляемые с темпераментом как базой, ядром личност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Вопрос о соотношении биологического и социального, среды и наследственности в развитии личности решается с позиции концепций «наследственности»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рганизация личности сводится к выявлению типов характера, причем характер и темперамент нередко отождествляются между соб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2.  </a:t>
            </a: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«Факторная» стратегия изучения черт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анная стратегия представлена прежде всего исследованиями Р. Кэттела, Г. Айзенка и Дж. Гилфор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ктом анализа являются черты личности, зафиксированные в языке, по выбору которых судят о структуре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Вопрос о соотношении биологического и социального, среды и наследственности в развитии личности решается с позиции двойной детерминации, т. е. признание «доделки» базовых врожденных предрасположенностей под влиянием научения, или под влиянием сре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3" descr="j0195534"/>
          <p:cNvPicPr/>
          <p:nvPr/>
        </p:nvPicPr>
        <p:blipFill>
          <a:blip r:embed="rId1"/>
          <a:stretch/>
        </p:blipFill>
        <p:spPr>
          <a:xfrm>
            <a:off x="611280" y="1773360"/>
            <a:ext cx="3636720" cy="46083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3.  </a:t>
            </a:r>
            <a:r>
              <a:rPr b="0" i="1" lang="ru-RU" sz="3800" spc="-1" strike="noStrike">
                <a:solidFill>
                  <a:srgbClr val="330033"/>
                </a:solidFill>
                <a:latin typeface="Times New Roman"/>
              </a:rPr>
              <a:t>«Блочная» стратегия изучения структуры личности.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248" name="Diagram 6"/>
          <p:cNvGrpSpPr/>
          <p:nvPr/>
        </p:nvGrpSpPr>
        <p:grpSpPr>
          <a:xfrm>
            <a:off x="3131640" y="2204280"/>
            <a:ext cx="1553400" cy="3583800"/>
            <a:chOff x="3131640" y="2204280"/>
            <a:chExt cx="1553400" cy="3583800"/>
          </a:xfrm>
        </p:grpSpPr>
        <p:sp>
          <p:nvSpPr>
            <p:cNvPr id="249" name="AutoShape 19"/>
            <p:cNvSpPr/>
            <p:nvPr/>
          </p:nvSpPr>
          <p:spPr>
            <a:xfrm>
              <a:off x="3131640" y="2204280"/>
              <a:ext cx="977400" cy="486720"/>
            </a:xfrm>
            <a:prstGeom prst="rightArrow">
              <a:avLst>
                <a:gd name="adj1" fmla="val 50000"/>
                <a:gd name="adj2" fmla="val 50203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AutoShape 21"/>
            <p:cNvSpPr/>
            <p:nvPr/>
          </p:nvSpPr>
          <p:spPr>
            <a:xfrm>
              <a:off x="3707640" y="5299920"/>
              <a:ext cx="977400" cy="488160"/>
            </a:xfrm>
            <a:prstGeom prst="rightArrow">
              <a:avLst>
                <a:gd name="adj1" fmla="val 50000"/>
                <a:gd name="adj2" fmla="val 50055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20"/>
            <p:cNvSpPr/>
            <p:nvPr/>
          </p:nvSpPr>
          <p:spPr>
            <a:xfrm>
              <a:off x="3564000" y="4364640"/>
              <a:ext cx="975960" cy="484920"/>
            </a:xfrm>
            <a:prstGeom prst="rightArrow">
              <a:avLst>
                <a:gd name="adj1" fmla="val 50000"/>
                <a:gd name="adj2" fmla="val 50316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Rectangle 14"/>
          <p:cNvSpPr/>
          <p:nvPr/>
        </p:nvSpPr>
        <p:spPr>
          <a:xfrm>
            <a:off x="3995640" y="2060640"/>
            <a:ext cx="28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2000" spc="-1" strike="noStrike" u="sng">
                <a:solidFill>
                  <a:srgbClr val="000000"/>
                </a:solidFill>
                <a:uFillTx/>
                <a:latin typeface="Times New Roman"/>
              </a:rPr>
              <a:t>направлен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15"/>
          <p:cNvSpPr/>
          <p:nvPr/>
        </p:nvSpPr>
        <p:spPr>
          <a:xfrm>
            <a:off x="4211640" y="27813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рошлого опыт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включающий память, навыки, знания, которые приобретены в ходе обуч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572000" y="400536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</a:rPr>
              <a:t>блок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сихических процессов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 охватывающих индивидуальные особенности восприятия, мышления и т. 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17"/>
          <p:cNvSpPr/>
          <p:nvPr/>
        </p:nvSpPr>
        <p:spPr>
          <a:xfrm>
            <a:off x="4859280" y="537372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индивидные свойств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- темперамент, половозрастные особенности организ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8"/>
          <p:cNvSpPr/>
          <p:nvPr/>
        </p:nvSpPr>
        <p:spPr>
          <a:xfrm>
            <a:off x="3203640" y="3213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22"/>
          <p:cNvSpPr/>
          <p:nvPr/>
        </p:nvSpPr>
        <p:spPr>
          <a:xfrm rot="17641200">
            <a:off x="7560" y="2737080"/>
            <a:ext cx="224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лично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330033"/>
                </a:solidFill>
                <a:latin typeface="Times New Roman"/>
              </a:rPr>
              <a:t>4. Мотивационно-динамиче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8002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.Г. Асмолов отмечает, чт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анный подхо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ораздо эвристичнее трех предшествующих стратегий исследования организации личности, так как он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хватывае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акую реальную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арактеристику структуры личности, как ее динамич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способствует разработке отражающего реальные особенности структуры личности взгляда на личность как на динамическую развивающуюся систему. Перспективность этого подхода состоит в том, что во главу угла изучения структуры личности ставится такая центральная характеристика личности, как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направленность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5. Поведенческо-интеракционистская стратегия изучения организации личности.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0503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соответствии с этой стратегией «элементами» организации личности являются те или иные компоненты взаимодействия между организмом и средой, личностью и обществом. Для основных характеристик организации личности в бихевиоризме предлагаются реакции, навыки; в интеракционистских социально-психологических подходах - роли, социальные установки, поступ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ализ структурных построений личности показывает, что по мере движения от низшего к высшему уровню организации личности повышается влияние социальных факторов и снижается регулятивная роль биологическ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8" descr="j0234687"/>
          <p:cNvPicPr/>
          <p:nvPr/>
        </p:nvPicPr>
        <p:blipFill>
          <a:blip r:embed="rId1"/>
          <a:stretch/>
        </p:blipFill>
        <p:spPr>
          <a:xfrm>
            <a:off x="3059280" y="4437000"/>
            <a:ext cx="3457440" cy="1944720"/>
          </a:xfrm>
          <a:prstGeom prst="rect">
            <a:avLst/>
          </a:prstGeom>
          <a:ln w="0">
            <a:noFill/>
          </a:ln>
        </p:spPr>
      </p:pic>
      <p:sp>
        <p:nvSpPr>
          <p:cNvPr id="26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/>
          </p:nvPr>
        </p:nvSpPr>
        <p:spPr>
          <a:xfrm>
            <a:off x="914400" y="1988640"/>
            <a:ext cx="77724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ким образом, человек имеет три структуры: биологическую, психологическую и социальную. Все они переплетаются в нем и взаимодействуют. Поэтому человека называют биопсихосоциальным существ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о сколько неопознанного таится в этом необыкновенном сущест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4" descr="Untitled-6"/>
          <p:cNvPicPr/>
          <p:nvPr/>
        </p:nvPicPr>
        <p:blipFill>
          <a:blip r:embed="rId1"/>
          <a:stretch/>
        </p:blipFill>
        <p:spPr>
          <a:xfrm>
            <a:off x="0" y="0"/>
            <a:ext cx="9144000" cy="190512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5" descr="Untitled-8"/>
          <p:cNvPicPr/>
          <p:nvPr/>
        </p:nvPicPr>
        <p:blipFill>
          <a:blip r:embed="rId2"/>
          <a:stretch/>
        </p:blipFill>
        <p:spPr>
          <a:xfrm>
            <a:off x="0" y="4952880"/>
            <a:ext cx="9144000" cy="1905120"/>
          </a:xfrm>
          <a:prstGeom prst="rect">
            <a:avLst/>
          </a:prstGeom>
          <a:ln w="0">
            <a:noFill/>
          </a:ln>
        </p:spPr>
      </p:pic>
      <p:sp>
        <p:nvSpPr>
          <p:cNvPr id="2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914040" y="333360"/>
            <a:ext cx="3809880" cy="57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проблемой сущности и существования личности связан и вопрос о соотношении биологического и социального в человек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т разные точки зрения на соотношение биологического и социального развития в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76920" y="259920"/>
            <a:ext cx="401616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д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ключают биологическую организацию человека в понятие личности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руг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ссматривают биологическое как заданные условия развития личности, которые не определяют ее психологические черты, а выступают лишь как формы и способы их проявле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" descr="F:\урок\Требования к современному уроку.files\160.gif"/>
          <p:cNvPicPr/>
          <p:nvPr/>
        </p:nvPicPr>
        <p:blipFill>
          <a:blip r:embed="rId1"/>
          <a:stretch/>
        </p:blipFill>
        <p:spPr>
          <a:xfrm>
            <a:off x="5076720" y="5013360"/>
            <a:ext cx="2286000" cy="168588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«Биологическое и социальное в структуре личности»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теоретическое изучение проблемы соотношения биологического и социального в структуре личности человека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дачи: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осуществить теоретический анализ литературы в области  соотношения биологического и социального в структуре личности;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изучить основные подходы к проблеме соотношения биологического и социального в структуре личност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роанализировать специфику соотношения биологического и социального в челове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бъек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- личность.</a:t>
            </a:r>
            <a:br>
              <a:rPr sz="2400"/>
            </a:b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едмет исследования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теории лич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Теоретическое значение и </a:t>
            </a:r>
            <a:br>
              <a:rPr sz="3800"/>
            </a:br>
            <a:r>
              <a:rPr b="1" i="1" lang="ru-RU" sz="3800" spc="-1" strike="noStrike">
                <a:solidFill>
                  <a:srgbClr val="330033"/>
                </a:solidFill>
                <a:latin typeface="Times New Roman"/>
              </a:rPr>
              <a:t>новизна исследования</a:t>
            </a: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условлена тем, что в современной литературе в достаточной мере описаны основные подходы , объясняющие развитие и структуру личности, но во многих работах проявляется нечёткость разведения соотношения биологического и социального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1692360" y="4581360"/>
            <a:ext cx="2958840" cy="19893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j0217698"/>
          <p:cNvPicPr/>
          <p:nvPr/>
        </p:nvPicPr>
        <p:blipFill>
          <a:blip r:embed="rId2"/>
          <a:stretch/>
        </p:blipFill>
        <p:spPr>
          <a:xfrm>
            <a:off x="5435640" y="4357800"/>
            <a:ext cx="3240000" cy="20955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684360" y="404640"/>
            <a:ext cx="4039920" cy="572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Практическая значимост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астоящей курсовой работы заключается в систематизации подходов к изучению структуры с учётом соотношения биологического и социально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0" descr="j0293844"/>
          <p:cNvPicPr/>
          <p:nvPr/>
        </p:nvPicPr>
        <p:blipFill>
          <a:blip r:embed="rId1"/>
          <a:stretch/>
        </p:blipFill>
        <p:spPr>
          <a:xfrm>
            <a:off x="2050920" y="4797360"/>
            <a:ext cx="1738440" cy="18273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colorpsy"/>
          <p:cNvPicPr/>
          <p:nvPr/>
        </p:nvPicPr>
        <p:blipFill>
          <a:blip r:embed="rId2"/>
          <a:stretch/>
        </p:blipFill>
        <p:spPr>
          <a:xfrm>
            <a:off x="4859280" y="1413000"/>
            <a:ext cx="4033800" cy="431964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914040" y="475920"/>
            <a:ext cx="380988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Б.Г. Анан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00"/>
                </a:solidFill>
                <a:latin typeface="Arial"/>
              </a:rPr>
              <a:t>(1907-197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284360" y="189000"/>
            <a:ext cx="460836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Единство биологического и социального в челове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беспечивается посредством единства таких его макрохарактеристик, ка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ичность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убъект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дивидуальнос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http://yanko.lib.ru/books/psycho/jdan=ist_pscihologii=ann.files/image049.jpg"/>
          <p:cNvPicPr/>
          <p:nvPr/>
        </p:nvPicPr>
        <p:blipFill>
          <a:blip r:embed="rId1"/>
          <a:stretch/>
        </p:blipFill>
        <p:spPr>
          <a:xfrm>
            <a:off x="900000" y="1773360"/>
            <a:ext cx="3600720" cy="441324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349360"/>
            <a:ext cx="785988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ндивид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биосоциальный феномен имеет два вектора развития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биологический и социальный индив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единичный представитель человеческого рода в биологическом плане и единица общества в социальном плане (отдельный человек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Untitled-10"/>
          <p:cNvPicPr/>
          <p:nvPr/>
        </p:nvPicPr>
        <p:blipFill>
          <a:blip r:embed="rId1"/>
          <a:stretch/>
        </p:blipFill>
        <p:spPr>
          <a:xfrm>
            <a:off x="611280" y="333360"/>
            <a:ext cx="8208720" cy="1800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8" descr="Untitled-9"/>
          <p:cNvPicPr/>
          <p:nvPr/>
        </p:nvPicPr>
        <p:blipFill>
          <a:blip r:embed="rId2"/>
          <a:stretch/>
        </p:blipFill>
        <p:spPr>
          <a:xfrm>
            <a:off x="0" y="4581360"/>
            <a:ext cx="9144000" cy="227664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0T15:17:59Z</dcterms:created>
  <dc:creator>Любовь</dc:creator>
  <dc:description/>
  <dc:language>en-US</dc:language>
  <cp:lastModifiedBy>LEGION</cp:lastModifiedBy>
  <dcterms:modified xsi:type="dcterms:W3CDTF">2014-11-12T10:44:57Z</dcterms:modified>
  <cp:revision>94</cp:revision>
  <dc:subject/>
  <dc:title>«Биологическое и социальное в структуре личности»</dc:title>
</cp:coreProperties>
</file>