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519F-9F09-4123-B2CF-73F27EC569E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200" spc="-1" strike="noStrike" u="sng">
                <a:solidFill>
                  <a:srgbClr val="ff9999"/>
                </a:solidFill>
                <a:uFillTx/>
                <a:latin typeface="Calibri"/>
              </a:rPr>
              <a:t>Психология творческого саморазви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5CF9-70D7-4165-9D4D-02DA4AAAA2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 u="sng">
                <a:solidFill>
                  <a:srgbClr val="ff3300"/>
                </a:solidFill>
                <a:uFillTx/>
                <a:latin typeface="Calibri"/>
              </a:rPr>
              <a:t>Черты творческой личности </a:t>
            </a:r>
            <a:r>
              <a:rPr b="1" i="1" lang="ru-RU" sz="1100" spc="-1" strike="noStrike" u="sng">
                <a:solidFill>
                  <a:srgbClr val="ff3300"/>
                </a:solidFill>
                <a:uFillTx/>
                <a:latin typeface="Calibri"/>
              </a:rPr>
              <a:t>(по А.Н.Луку)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к рис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пульсивность, порывистость и независимость сужд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успехов в учебных предм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юмора и склонность к шу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бытность, но без оригинальнич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дотош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лость воображения и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7152-D929-4541-87EA-E865E5C275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99"/>
                </a:solidFill>
                <a:uFillTx/>
                <a:latin typeface="Calibri"/>
              </a:rPr>
              <a:t>Кредо творческой личности</a:t>
            </a:r>
            <a:r>
              <a:rPr b="0" lang="ru-RU" sz="1200" spc="-1" strike="noStrike">
                <a:solidFill>
                  <a:srgbClr val="ff6699"/>
                </a:solidFill>
                <a:latin typeface="Calibri"/>
              </a:rPr>
              <a:t> 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ера в себ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и творческие 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ые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творческую иде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0D54-0DDA-4EC6-B312-35CD46ECA8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ff99"/>
                </a:solidFill>
                <a:latin typeface="Calibri"/>
              </a:rPr>
              <a:t>Творческая 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0CC3-F06C-47A6-BC06-A730517C61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ипы творческих личносте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B3AF-7092-48EF-A607-F40AD25004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cc00"/>
                </a:solidFill>
                <a:uFillTx/>
                <a:latin typeface="Calibri"/>
              </a:rPr>
              <a:t>Конкурентоспособная творческая 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1200" spc="-1" strike="noStrike">
                <a:solidFill>
                  <a:srgbClr val="ffff99"/>
                </a:solidFill>
                <a:latin typeface="Calibri"/>
              </a:rPr>
              <a:t>обладает следующими кач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окой верой в свои сил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ю принимать творческие ответственные, рискованные ре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стремящаяся к самосовершенствованию и развит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чаивающаяся в случае временных неудач и трудност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много и упорно трудить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ая начатое дело доводить до ко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D0DB-8EF4-4230-8CFA-C8ACCBCB24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емь стадий саморазвития творческой лич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ерв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F732-4BB7-4830-9F75-A99FC654F8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Втор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начального творческого само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тадия наиболее характерна для учащихся среднего и старшего школьного возра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C12F-8F07-4A26-970E-4D64077567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Треть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профессионально-творческого стано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A14E-29C3-4CEB-AF85-C383677676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Четвер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первых значительных творческих достижени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7B46-A9BD-4F31-8201-E1B5649218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Пя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высокой, устойчивой творческой продуктивностью лич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76DD-6889-4846-95D0-975DCDF2AE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Психологические законы творческого само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1. ЗАКОН НЕРАВНОМЕРНОСТИ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6C7A-0FC2-4012-8EE5-B5C5216F9B8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Шест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ffccff"/>
                </a:solidFill>
                <a:latin typeface="Calibri"/>
              </a:rPr>
              <a:t>стадия расцвета тал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B14E-6282-422A-B58C-3484A0E045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99"/>
                </a:solidFill>
                <a:latin typeface="Calibri"/>
              </a:rPr>
              <a:t>Седьмая стад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как гениальност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D014-3498-44BE-9DFE-0B2B7EAA6B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2. ЗАКОН ЦЕЛОСТНОГО ТВОРЧЕСКОГО САМО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7EF1-14BD-464B-BF5C-4A3BC88F4B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3. ЗАКОН СВОБОДЫ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5A48-D47A-4DED-BB61-739BCE4EFE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4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. ЗАКОН САМОУСЛОЖНЕНИЯ ТВОРЧЕСКИХ ЗАДАЧ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</a:t>
            </a:r>
            <a:r>
              <a:rPr b="1" lang="ru-RU" sz="1200" spc="-1" strike="noStrike">
                <a:solidFill>
                  <a:srgbClr val="ff9900"/>
                </a:solidFill>
                <a:latin typeface="Calibri"/>
              </a:rPr>
              <a:t>4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F43D-9B19-40B0-9185-BD0518F093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5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ПЕРИОДИЧЕСКОЙ МОБИЛИЗАЦИИ И РЕЛА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5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владевайте наиболее эффективными приемами периодической мобилизации и релакс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6DA7-9918-4305-BE2E-49E5695CFB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6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ED6C-EF1D-41BC-87A4-857661DAE3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7. 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ЗАКОН С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9933"/>
                </a:solidFill>
                <a:latin typeface="Calibri"/>
              </a:rPr>
              <a:t>Правило 7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357-3D10-437B-AF32-88A9953B56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ворческая лич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Творческая личность представляет собой прогрессивный элемент, дающий все ново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К.Энгельмей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F4C0-A468-4D8C-BADD-41E077B027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BD2-9A76-4BA9-A806-A2A80510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4BE-F358-44EB-8A3F-B2885418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807-D1CF-4A6D-9238-7BECB1CC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3FC-5215-4B22-9B6B-B1425BBA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D018-A5D6-4371-A5CB-9FACD404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5C13-B1C1-4001-A4EB-07136CEE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8C3E-BF95-4455-BE78-2C5ED411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AE06-DABB-470C-932E-DDAA708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650D-DD1D-47A9-ADB7-B59F668F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6BEA-2D38-4B42-B619-41BEF0FF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6C02-27A2-4952-8FB2-718C7D1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CA2-C4BB-4F98-972F-453704BF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5CDB-1F3F-4AFD-8EA2-E13BAAD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4154-C4D0-4ED5-B404-DF075BE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3DA7-4E00-457D-B515-4BE80651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9BC9-F904-4EE1-BA99-E509C40E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31A4-7421-4083-A9C6-7D93AEE6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35D-D0C4-47D0-B346-7BF8A208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BC1-D1F0-431D-9FBC-C157567B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304-99E5-40CA-896B-CE48FE5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9C7-30BB-488A-8055-32DF63C9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FB9-EAC4-432F-AF25-AA9FC6B6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EFE5-7505-459B-BF48-7F118D62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424-1CDC-4F50-8854-A0B4B65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AD95-11F5-4525-B9AD-553CA3EB32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7D52-D823-4AED-A105-FC6A387C4C4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ru-RU" sz="6000" spc="-1" strike="noStrike" u="sng">
                <a:solidFill>
                  <a:srgbClr val="ff9999"/>
                </a:solidFill>
                <a:uFillTx/>
                <a:latin typeface="Arial"/>
              </a:rPr>
              <a:t>Психология творческого саморазвития.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Черты творческой личност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(по А.Н.Луку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Готовность к риску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пульсивность, порывистость и независимость суждений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равномерность успехов в учебных предметах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Чувство юмора и склонность к шутке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амобытность, но без оригинальничания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знавательная дотошность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ежелание принять на веру критический взгляд на такие вещи, которые якобы должны стать священными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мелость воображения и мысли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99"/>
                </a:solidFill>
                <a:uFillTx/>
                <a:latin typeface="Arial"/>
              </a:rPr>
              <a:t>Кредо творческой личности</a:t>
            </a:r>
            <a:r>
              <a:rPr b="0" lang="ru-RU" sz="2800" spc="-1" strike="noStrike">
                <a:solidFill>
                  <a:srgbClr val="ff6699"/>
                </a:solidFill>
                <a:latin typeface="Arial"/>
              </a:rPr>
              <a:t> —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вера в себ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и творческие способ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идательные сил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ою творческую иде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2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ff99"/>
                </a:solidFill>
                <a:latin typeface="Arial"/>
              </a:rPr>
              <a:t>Творческая лич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— это такой тип личности, для которой характерна устойчивая, высокого уровня направленность на творчество, мотивационно-творческая активность, которая проявляется в органическом единстве с высоким уровнем творческих способностей и которые позволяют ей достигнуть прогрессивных, социально и лично значимых творческих результатов в одном или нескольких видах деятельн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Типы творческих личност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0" y="841320"/>
          <a:ext cx="9144000" cy="58784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355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знаки для классификаци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творческих личност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По соотношению развития интуиции (фантазии, воображения) и логик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туитивист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врист); художественный тип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лог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мыслительный тип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По соотношению развития способностей к решению теоретических или практически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теоретик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лоток-теоретик), теоретик-интуитивист 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рак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экспериментатор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По соотношению развития способностей к коллективному решению творческих задач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организато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б) инициатор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сполн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3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По соотношению развития способностей в зависимости от способа перекодирования информации (идея этой классификации принадлежит А.Н.Луку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художн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скульптор (зрительно-пространственный способ перекодирования информац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исатель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журналист (словесно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атематик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кибернетик (абстрактно-цифровая информация) г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музыкант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звуковая-образ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инженер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изобретатель (конструктивно-техническая информация) е) </a:t>
                      </a:r>
                      <a:r>
                        <a:rPr b="1" lang="ru-RU" sz="16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педагог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организатор предприятия (социально- коммуникативная информация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cc00"/>
                </a:solidFill>
                <a:uFillTx/>
                <a:latin typeface="Arial"/>
              </a:rPr>
              <a:t>Конкурентоспособная творческая лично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творческая личность, которая наряду с высоким уровнем развития творческого потенциала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бладает следующими качеств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убокой верой в свои сил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ю принимать творческие ответственные, рискованные реш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оянно стремящаяся к самосовершенствованию и развит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отчаивающаяся в случае временных неудач и трудност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много и упорно труди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к прогнозированию развития событий; способная сосредоточиться на решении главных приоритетных задач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ая начатое дело доводить до кон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Семь стадий саморазвития творческой лич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Перв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устойчиво проявляющимся интересом, ясно выраженной мотивационной направленностью личности на определенный вид творческой деятельност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избирательной мотивационно - творческой направленности личности на определенный вид деятельности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этой стадии личность как бы интуитивно чувствует, в какой сфере творческой деятельности она может проявить себя наилучшим образ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Втора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интеллектуальной чувствительностью личности к усмотрению противоречий и проблем в определенной сфере творческой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начального творческого само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стадия наиболее характерна для учащихся среднего и старшего школьного возрас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99"/>
                </a:solidFill>
                <a:latin typeface="Arial"/>
              </a:rPr>
              <a:t>Третья стадия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изуется повышенной профессионально-творческой активностью личности в определенном виде деятельности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Стадия профессионально-творческого стано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этой стадии характерно интенсивное творческое овладение профессиональными приемами, методами, средствами соответствующего вида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Четвер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дия первых значительных творческих достижени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Пя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высокой, устойчивой творческой продуктивностью личности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ля этой стадии характерно формирование индивидуального творческого стиля деятельности и мастер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ff99"/>
                </a:solidFill>
                <a:latin typeface="Arial"/>
              </a:rPr>
              <a:t>Психологические законы творческого саморазви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1. ЗАКОН НЕРАВНОМЕРНОСТИ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еравномерность творческого саморазвития отдельных способностей и качеств личности порождает противоречия, разрешение которых и создает внутренние условия для становления творческой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1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Там, где это возможно, опирайтесь на ваши наиболее развитые творческие способности и другие личностные качества, но постоянно активизируйте развитие слабы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Шест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3600" spc="-1" strike="noStrike">
                <a:solidFill>
                  <a:srgbClr val="ffccff"/>
                </a:solidFill>
                <a:latin typeface="Arial"/>
              </a:rPr>
              <a:t>стадия расцвета талант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чность не просто имеет устойчивые творческие достижения, а далеко превосходит достижения современников в определенной сфере творческой деятель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6699"/>
                </a:solidFill>
                <a:latin typeface="Arial"/>
              </a:rPr>
              <a:t>Седьмая стадия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арактеризуется как гениальность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ниальность характеризует собой вершину развития творческих способностей лич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2. ЗАКОН ЦЕЛОСТНОГО ТВОРЧЕСКОГО САМОРАЗВИТИЯ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грессивные изменения в одном из компонентов самости (самопознании, творческом самоопределении,  самоуправлении, творческой самореализации, самосовершенствовании) с неизбежностью ускоряет процесс творческого саморазвития личности в цело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2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Каждый день хоть в чем-то, но стремитесь изменить себя к лучшему. Пройдет неделя, месяц, год и вы поймете, что вы в целом стали умнее, сильнее, добре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3. ЗАКОН СВОБОДЫ 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Чем большей свободы добивается личность в творчестве, тем большей эффективности она достигает в этом виде деятельности и в творческом саморазвит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3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давайте загнать себя в угол! Всякий раз отстаивайте свое право на творчество, право выбора в принятии реш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. ЗАКОН САМОУСЛОЖНЕНИЯ ТВОРЧЕСКИХ ЗАДАЧ И ПРОБ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личности осуществляется тем эффективнее, чем более сложные, трудные и вместе с тем посильные для себя творческие задачи личность выбирает и решае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</a:t>
            </a:r>
            <a:r>
              <a:rPr b="1" lang="ru-RU" sz="26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Не ищите для себя слишком легких задач; постепенно усложняйте для себя творческие задачи проблемы, соизмеряя их со своими силами и способностям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ПЕРИОДИЧЕСКОЙ МОБИЛИЗАЦИИ И РЕЛАКС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ериодическая мобилизация и релаксация создают благоприятные условия и для творческого саморазвития лич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5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Овладевайте наиболее эффективными приемами периодической мобилизации и релаксац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6. ЗАКОН УСКОРЕНИЯ ТВОРЧЕСКОГО САМОРАЗВИТИЯ В УСЛОВИЯХ КОНКУРЕНЦИИ И СТРЕМЛЕНИЯ К ЛИДЕРСТ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цесс творческого саморазвития существенно ускоряется, если личность достаточно мотивирована к лидерству в конкурентной борьбе с сильным и достойным сопернико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6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Стремясь к лидерству, не бойтесь конкурентно борьбы, но при этом ищите не только слабые места конкурента та, но и учитесь у него. Настоящий лидер побеждает своего конкурента дважды: вначале интеллектуально и морально, затем реально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АКОН СОТВОР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Творческое саморазвитие личности осуществляется тем эффективнее, чем большей продуктивности она достигает в процессе сотворчества и кооперации в решении творческих задач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9933"/>
                </a:solidFill>
                <a:latin typeface="Arial"/>
              </a:rPr>
              <a:t>Правило 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cc99"/>
                </a:solidFill>
                <a:latin typeface="Arial"/>
              </a:rPr>
              <a:t>Ищите себе Учителя — творческую личность! Ваше творческое саморазвитие и становление как творческой личности возможно не иначе, как через сотворчество с талантливой, творческой личность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Творческая личность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"Творческая личность представляет собой прогрессивный элемент, дающий все новое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.К.Энгельмей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64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65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68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171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72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75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2:02:34Z</dcterms:created>
  <dc:creator>Valerik</dc:creator>
  <dc:description/>
  <dc:language>en-US</dc:language>
  <cp:lastModifiedBy>LEGION</cp:lastModifiedBy>
  <dcterms:modified xsi:type="dcterms:W3CDTF">2014-11-12T10:47:21Z</dcterms:modified>
  <cp:revision>7</cp:revision>
  <dc:subject/>
  <dc:title>Психология творческого саморазвития Психологические законы творческого саморазвития</dc:title>
</cp:coreProperties>
</file>