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DAEE-6A30-4B5A-8F33-59668868E4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200" spc="-1" strike="noStrike" u="sng">
                <a:solidFill>
                  <a:srgbClr val="ff9999"/>
                </a:solidFill>
                <a:uFillTx/>
                <a:latin typeface="Calibri"/>
              </a:rPr>
              <a:t>Психология творческого саморазви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03CA-B318-4F8C-93B3-4D4E74F9FE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Черты творческой личности </a:t>
            </a:r>
            <a:r>
              <a:rPr b="1" i="1" lang="ru-RU" sz="1100" spc="-1" strike="noStrike" u="sng">
                <a:solidFill>
                  <a:srgbClr val="ff3300"/>
                </a:solidFill>
                <a:uFillTx/>
                <a:latin typeface="Calibri"/>
              </a:rPr>
              <a:t>(по А.Н.Луку)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к рис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ульсивность, порывистость и независимость сужд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успехов в учебных предм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юмора и склонность к шут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бытность, но без оригинальнич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 дотош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елание принять на веру критический взгляд на такие вещи, которые якобы должны стать священ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лость воображения и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8B51-C232-417B-8730-BF740BB107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6699"/>
                </a:solidFill>
                <a:uFillTx/>
                <a:latin typeface="Calibri"/>
              </a:rPr>
              <a:t>Кредо творческой личности</a:t>
            </a:r>
            <a:r>
              <a:rPr b="0" lang="ru-RU" sz="1200" spc="-1" strike="noStrike">
                <a:solidFill>
                  <a:srgbClr val="ff6699"/>
                </a:solidFill>
                <a:latin typeface="Calibri"/>
              </a:rPr>
              <a:t> 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ера в себ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и творческие способ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идательные сил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творческую иде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56BE-7283-4A00-B6A7-C866152A06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ff99"/>
                </a:solidFill>
                <a:latin typeface="Calibri"/>
              </a:rPr>
              <a:t>Творческая л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это такой тип личности, для которой характерна устойчивая, высокого уровня направленность на творчество, мотивационно-творческая активность, которая проявляется в органическом единстве с высоким уровнем творческих способностей и которые позволяют ей достигнуть прогрессивных, социально и лично значимых творческих результатов в одном или нескольких видах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A0DA-E6E4-44A4-8C9E-18F0BF41F5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ипы творческих личнос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1D40-979A-46AD-B618-E72E42EDB6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cc00"/>
                </a:solidFill>
                <a:uFillTx/>
                <a:latin typeface="Calibri"/>
              </a:rPr>
              <a:t>Конкурентоспособная творческая 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творческая личность, которая наряду с высоким уровнем развития творческого потенциала </a:t>
            </a:r>
            <a:r>
              <a:rPr b="1" lang="ru-RU" sz="1200" spc="-1" strike="noStrike">
                <a:solidFill>
                  <a:srgbClr val="ffff99"/>
                </a:solidFill>
                <a:latin typeface="Calibri"/>
              </a:rPr>
              <a:t>обладает следующими каче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окой верой в свои сил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принимать творческие ответственные, рискованные реш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 стремящаяся к самосовершенствованию и развит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тчаивающаяся в случае временных неудач и трудност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много и упорно трудить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к прогнозированию развития событий; способная сосредоточиться на решении главных приоритетных задач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начатое дело доводить до ко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7D68-EAF2-4A3F-9503-FB3F6A135E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емь стадий саморазвития творческой лич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Перв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стойчиво проявляющимся интересом, ясно выраженной мотивационной направленностью личности на определенный вид творческой деятель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избирательной мотивационно - творческой направленности личности на определенный вид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стадии личность как бы интуитивно чувствует, в какой сфере творческой деятельности она может проявить себя наилучшим обра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6637-56B6-4C3C-A692-3B613A8F1C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Втор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повышенной интеллектуальной чувствительностью личности к усмотрению противоречий и проблем в определенной сфере творческой деятель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начального творческого самоопред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стадия наиболее характерна для учащихся среднего и старшего школьного возр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7CFC-95E1-46B7-9B3F-D255FAF954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Треть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повышенной профессионально-творческой активностью личности в определенном виде деятель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профессионально-творческого стано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й стадии характерно интенсивное творческое овладение профессиональными приемами, методами, средствами соответствующего вида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B6F3-DF5A-492B-BF20-B626432271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Четвер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я первых значительных творческих достижени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5CF4-DB7E-4451-8F6A-5C60F8E19F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Пя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высокой, устойчивой творческой продуктивностью лич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й стадии характерно формирование индивидуального творческого стиля деятельности и масте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C339-D72F-4B2D-9064-B584EE101A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Психологические законы творческого само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1. ЗАКОН НЕРАВНОМЕРНОСТИ ТВОРЧЕСКОГО САМО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творческого саморазвития отдельных способностей и качеств личности порождает противоречия, разрешение которых и создает внутренние условия для становления творческо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Там, где это возможно, опирайтесь на ваши наиболее развитые творческие способности и другие личностные качества, но постоянно активизируйте развитие слаб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E54A-9D86-4BD8-8631-6F77791353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Шес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расцвета тал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не просто имеет устойчивые творческие достижения, а далеко превосходит достижения современников в определенной сфере твор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1F18-BDB8-41C2-963D-66993549A4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Седьм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как гениальнос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иальность характеризует собой вершину развития творческих способносте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2AB5-B023-447D-8699-A112903720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2. ЗАКОН ЦЕЛОСТНОГО ТВОРЧЕСКОГО САМО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вные изменения в одном из компонентов самости (самопознании, творческом самоопределении,  самоуправлении, творческой самореализации, самосовершенствовании) с неизбежностью ускоряет процесс творческого саморазвития личности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Каждый день хоть в чем-то, но стремитесь изменить себя к лучшему. Пройдет неделя, месяц, год и вы поймете, что вы в целом стали умнее, сильнее, добр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A7CC-4DAE-46AD-AC18-0A44F29177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3. ЗАКОН СВОБОДЫ 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й свободы добивается личность в творчестве, тем большей эффективности она достигает в этом виде деятельности и в творческом саморазви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Не давайте загнать себя в угол! Всякий раз отстаивайте свое право на творчество, право выбора в принятии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56F2-F754-4A0E-8BD9-6CE708A0ED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4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. ЗАКОН САМОУСЛОЖНЕНИЯ ТВОРЧЕСКИХ ЗАДАЧ 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ворческого саморазвития личности осуществляется тем эффективнее, чем более сложные, трудные и вместе с тем посильные для себя творческие задачи личность выбирает и реш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</a:t>
            </a: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4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Не ищите для себя слишком легких задач; постепенно усложняйте для себя творческие задачи проблемы, соизмеряя их со своими силами и способ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16CA-325C-45AA-B718-F3A67ED7FD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5. 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ЗАКОН ПЕРИОДИЧЕСКОЙ МОБИЛИЗАЦИИ И РЕЛА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ая мобилизация и релаксация создают благоприятные условия и для творческого саморазвития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5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Овладевайте наиболее эффективными приемами периодической мобилизации и релакс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363C-46B0-4571-A5D0-8F27AE400A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6. ЗАКОН УСКОРЕНИЯ ТВОРЧЕСКОГО САМОРАЗВИТИЯ В УСЛОВИЯХ КОНКУРЕНЦИИ И СТРЕМЛЕНИЯ К ЛИДЕР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ворческого саморазвития существенно ускоряется, если личность достаточно мотивирована к лидерству в конкурентной борьбе с сильным и достойным сопер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6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Стремясь к лидерству, не бойтесь конкурентно борьбы, но при этом ищите не только слабые места конкурента та, но и учитесь у него. Настоящий лидер побеждает своего конкурента дважды: вначале интеллектуально и морально, затем реаль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6E17-26C6-40A1-A397-BB5BD9086C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7. 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ЗАКОН С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саморазвитие личности осуществляется тем эффективнее, чем большей продуктивности она достигает в процессе сотворчества и кооперации в решении творчески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7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щите себе Учителя — творческую личность! Ваше творческое саморазвитие и становление как творческой личности возможно не иначе, как через сотворчество с талантливой, творческой лич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8EF0-FC3A-42E9-98E8-9259D9ABF6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ворческая лич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"Творческая личность представляет собой прогрессивный элемент, дающий все ново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К.Энгельмей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42D4-2EEE-42B6-BA22-B98D72D3B3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958-9637-4174-A40F-78E28B03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816-D14F-4078-A658-166E983A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61C-D9CE-4B76-BAD0-2F24DFAE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916-1802-4C2B-BA03-4A49C05D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23FC-67B0-4D88-83EB-F7B9E133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F0DA-3D87-4726-87FF-7706169A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9108-7F1F-4F24-948C-0023250B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F2C7-8966-4657-A912-8609FAD6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1F00-C4B7-4017-9C30-0F05399A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CF38-A63C-4653-B2EF-3838B573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0873-C99B-46B8-BFEE-C95E68B7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C80-0F2F-4F8D-95D0-C4406EC8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F295-DC38-433B-B736-0342DD0C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D450-CBDA-479E-85F7-1615ECD4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9684-FFC2-4A8B-8AEF-2AD34569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9F18-D07F-45F1-A934-9252B378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2D92-BE70-420C-B57C-290F6ADF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E67-B97A-407C-B241-79244523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937-F186-4880-AA33-5D98080E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98D-482C-4DC7-BF34-21B1F876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24A-0022-479D-8E85-95E21437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545-9BE9-4D94-87B1-EF7D4CD9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48F-E49C-45C4-9708-89C14FEC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0ED-9188-4D3B-AF21-BB9C805E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0417-1CD7-49DC-B592-33AECBAD9B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EB6E-B5A0-44EA-ACA7-027B4CC520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6000" spc="-1" strike="noStrike" u="sng">
                <a:solidFill>
                  <a:srgbClr val="ff9999"/>
                </a:solidFill>
                <a:uFillTx/>
                <a:latin typeface="Arial"/>
              </a:rPr>
              <a:t>Психология творческого саморазвития.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Черты творческой личности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(по А.Н.Луку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Готовность к риску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пульсивность, порывистость и независимость суждений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еравномерность успехов в учебных предметах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Чувство юмора и склонность к шутке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амобытность, но без оригинальничания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знавательная дотошность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ежелание принять на веру критический взгляд на такие вещи, которые якобы должны стать священными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мелость воображения и мысли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699"/>
                </a:solidFill>
                <a:uFillTx/>
                <a:latin typeface="Arial"/>
              </a:rPr>
              <a:t>Кредо творческой личности</a:t>
            </a: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 —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вера в себ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ои творческие способност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идательные сил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ою творческую иде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99"/>
                </a:solidFill>
                <a:latin typeface="Arial"/>
              </a:rPr>
              <a:t>Творческая личност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— это такой тип личности, для которой характерна устойчивая, высокого уровня направленность на творчество, мотивационно-творческая активность, которая проявляется в органическом единстве с высоким уровнем творческих способностей и которые позволяют ей достигнуть прогрессивных, социально и лично значимых творческих результатов в одном или нескольких видах деятельност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Типы творческих личност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841320"/>
          <a:ext cx="9144000" cy="587844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35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и для классификаци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творческих личнос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По соотношению развития интуиции (фантазии, воображения) и логик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нтуитивист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эврист); художественный тип 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лог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мыслительный тип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По соотношению развития способностей к решению теоретических или практически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теоретик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лоток-теоретик), теоретик-интуитивист 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ракт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экспериментатор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По соотношению развития способностей к коллективному решению творческих зада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организатор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) инициатор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сполни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3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По соотношению развития способностей в зависимости от способа перекодирования информации (идея этой классификации принадлежит А.Н.Луку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художн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скульптор (зрительно-пространственный способ перекодирования информаци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исатель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журналист (словеснообраз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математ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кибернетик (абстрактно-цифровая информация) г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музыкант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звуковая-образ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нженер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изобретатель (конструктивно-техническая информация) е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едагог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организатор предприятия (социально- коммуникатив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Конкурентоспособная творческая лич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это творческая личность, которая наряду с высоким уровнем развития творческого потенциала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бладает следующими качеств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убокой верой в свои сил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стью принимать творческие ответственные, рискованные реш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оянно стремящаяся к самосовершенствованию и развити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тчаивающаяся в случае временных неудач и трудност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много и упорно трудить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к прогнозированию развития событий; способная сосредоточиться на решении главных приоритетных задач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начатое дело доводить до ко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емь стадий саморазвития творческой лично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Перва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устойчиво проявляющимся интересом, ясно выраженной мотивационной направленностью личности на определенный вид творческой деятель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избирательной мотивационно - творческой направленности личности на определенный вид деятельнос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этой стадии личность как бы интуитивно чувствует, в какой сфере творческой деятельности она может проявить себя наилучшим образ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Втора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повышенной интеллектуальной чувствительностью личности к усмотрению противоречий и проблем в определенной сфере творческой деятельности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начального творческого самоопред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стадия наиболее характерна для учащихся среднего и старшего школьн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Треть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повышенной профессионально-творческой активностью личности в определенном виде деятельности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профессионально-творческого стано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этой стадии характерно интенсивное творческое овладение профессиональными приемами, методами, средствами соответствующего вида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Четвер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дия первых значительных творческих достижений лич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Пя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арактеризуется высокой, устойчивой творческой продуктивностью личности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этой стадии характерно формирование индивидуального творческого стиля деятельности и мастер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99"/>
                </a:solidFill>
                <a:latin typeface="Arial"/>
              </a:rPr>
              <a:t>Психологические законы творческого само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1. ЗАКОН НЕРАВНОМЕРНОСТИ ТВОРЧЕСКОГО САМОРАЗВИТ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равномерность творческого саморазвития отдельных способностей и качеств личности порождает противоречия, разрешение которых и создает внутренние условия для становления творческой лич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1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Там, где это возможно, опирайтесь на ваши наиболее развитые творческие способности и другие личностные качества, но постоянно активизируйте развитие слабы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Шес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3600" spc="-1" strike="noStrike">
                <a:solidFill>
                  <a:srgbClr val="ffccff"/>
                </a:solidFill>
                <a:latin typeface="Arial"/>
              </a:rPr>
              <a:t>стадия расцвета талант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чность не просто имеет устойчивые творческие достижения, а далеко превосходит достижения современников в определенной сфере творческой деятель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Седьм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арактеризуется как гениальность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ниальность характеризует собой вершину развития творческих способностей лич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2. ЗАКОН ЦЕЛОСТНОГО ТВОРЧЕСКОГО САМОРАЗВИТ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грессивные изменения в одном из компонентов самости (самопознании, творческом самоопределении,  самоуправлении, творческой самореализации, самосовершенствовании) с неизбежностью ускоряет процесс творческого саморазвития личности в цело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2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Каждый день хоть в чем-то, но стремитесь изменить себя к лучшему. Пройдет неделя, месяц, год и вы поймете, что вы в целом стали умнее, сильнее, добре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3. ЗАКОН СВОБОДЫ 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ем большей свободы добивается личность в творчестве, тем большей эффективности она достигает в этом виде деятельности и в творческом саморазвит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3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Не давайте загнать себя в угол! Всякий раз отстаивайте свое право на творчество, право выбора в принятии решен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. ЗАКОН САМОУСЛОЖНЕНИЯ ТВОРЧЕСКИХ ЗАДАЧ И ПРОБЛ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цесс творческого саморазвития личности осуществляется тем эффективнее, чем более сложные, трудные и вместе с тем посильные для себя творческие задачи личность выбирает и реша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</a:t>
            </a:r>
            <a:r>
              <a:rPr b="1" lang="ru-RU" sz="26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Не ищите для себя слишком легких задач; постепенно усложняйте для себя творческие задачи проблемы, соизмеряя их со своими силами и способностя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АКОН ПЕРИОДИЧЕСКОЙ МОБИЛИЗАЦИИ И РЕЛАКС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ериодическая мобилизация и релаксация создают благоприятные условия и для творческого саморазвития лич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5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Овладевайте наиболее эффективными приемами периодической мобилизации и релаксац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6. ЗАКОН УСКОРЕНИЯ ТВОРЧЕСКОГО САМОРАЗВИТИЯ В УСЛОВИЯХ КОНКУРЕНЦИИ И СТРЕМЛЕНИЯ К ЛИДЕРСТ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цесс творческого саморазвития существенно ускоряется, если личность достаточно мотивирована к лидерству в конкурентной борьбе с сильным и достойным соперником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6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Стремясь к лидерству, не бойтесь конкурентно борьбы, но при этом ищите не только слабые места конкурента та, но и учитесь у него. Настоящий лидер побеждает своего конкурента дважды: вначале интеллектуально и морально, затем реально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7.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АКОН СО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ворческое саморазвитие личности осуществляется тем эффективнее, чем большей продуктивности она достигает в процессе сотворчества и кооперации в решении творческих задач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7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Ищите себе Учителя — творческую личность! Ваше творческое саморазвитие и становление как творческой личности возможно не иначе, как через сотворчество с талантливой, творческой личность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Творческая лич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"Творческая личность представляет собой прогрессивный элемент, дающий все новое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.К.Энгельмей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64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65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8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71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72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5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2:02:34Z</dcterms:created>
  <dc:creator>Valerik</dc:creator>
  <dc:description/>
  <dc:language>en-US</dc:language>
  <cp:lastModifiedBy>LEGION</cp:lastModifiedBy>
  <dcterms:modified xsi:type="dcterms:W3CDTF">2014-11-12T10:47:21Z</dcterms:modified>
  <cp:revision>7</cp:revision>
  <dc:subject/>
  <dc:title>Психология творческого саморазвития Психологические законы творческого саморазвития</dc:title>
</cp:coreProperties>
</file>