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4A6E-B604-4C41-B0AB-EAAACF4984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и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36AD-FE03-4F9D-97B8-09AE52923FB1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внешний, видимый называется материальным или физически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есть ещё и невидимый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"дух"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 также может быть внешним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ки, образ жизни, направляет стремл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и внешний, духовный и физический ми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йствительно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ую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772D-FBF9-4AF0-AF05-FC76B5521078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повторим!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 внеш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кружающ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, материаль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увидеть, потрог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димый мир: мысли, чув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я, настроения, жел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уховный ми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вязанный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ми явлениями, с веро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 и служением 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й и внутрен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ический и духовны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ставляют единое цел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мир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ом живёт и частью котор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1040-BD1A-4459-A45D-CA25E1F946A5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удесная песенка»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л. Ирины Языковой, муз. Юрия Пастер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Каждый день дарит 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ысячи чуд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лнца луч из-за ту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ыглянул с неб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звенели вокруг птичьи голос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 цветы расцвели – чудес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пе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ого не видел глаз, не слышало ух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 приходило 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 сердце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то приготовил Бог любящим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A0F1-8662-43F4-A7DE-99429AAE1F06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делёнными закон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ир внешни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кружающий мир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н велик и удивительно бога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A76B-8F39-4DD8-9215-CE7F4C08435E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не менее богат и интересе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жите, какое время года изображается на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7343-3A99-432F-A9B9-710D2E864EAE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какое время года на этой фотограф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53EC-6D86-44F9-9F8C-A56528743292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как изобразил осень И.И. Левитан в картине «Золотая ос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яет солнце, воды бл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ём улыбка, жизнь во всё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 радостно трепещу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аясь в небе голуб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деревья, блещут 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ю воздух растворё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ир, цветущий мир приро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ком жизни упоён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И. Тютч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B09B-7143-432A-898A-A8CF325BBD5D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так велик, что мы можем вид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незначительную часть того, что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 происход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тому, что люди уме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вать свои знания, впечат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друг другу, распростра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о внешнем и даже внутрен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е. Мы, например, живём в России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учебников, журналов, книг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е узнать о Франции, Амери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е, даже можем знать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ло на земле тысячи лет наз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что такое узнать? Это значит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-то знания становятся на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оянием. Какую-то часть све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с важных, мы принимаем в н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, запоминаем и мо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и пользоваться, когда захотим. Т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внешний входит в наш внутрен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. И внешний и внутрен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 для человека, вместе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его жизнь. Но внутрен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ся важнее, чем внеш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941A-1B30-4EF8-8AED-F04562C67357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нешний, и внутренний мир важны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вместе они составляют его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нутреннее оказывается важнее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мир зависит от наш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его состояния, наш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й, чув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мотрите на картины Айвазовского «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ессы  в лунную ночь» и «Морской бер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щание» и опишите карт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время суток изображено на карти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цвета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на небе солнышко или обла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н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ни делаю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ни передвигаютс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вуки вы слышите в картин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чит ли здесь музы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это музы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мкая или тих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ёлая или грустна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ют ли в ней пти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одно или тепло на этой картин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ет ли в ней ветер или н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7677-82C7-4156-A724-1CA21D9D992B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5F96-A9D5-47C4-A98C-EA178C803593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частный, з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разрушает всё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жает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их и доро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, а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, излуча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и радость вок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бя, восстанавл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ное, утеш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щих, помо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дающи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1119-5DDF-44AA-AC6B-ADD4D62E4C88}" type="slidenum">
              <a:rPr b="0" lang="uk-UA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BDAF-1F96-4802-A98B-EEDB374B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7A0A3-8897-45CE-8856-D55F9E86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97D7-6EB9-4D6B-A21F-2C033EA0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4877B-3BA4-4697-A974-2FD94549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FC89-6C3A-43FE-AC8F-680BAB14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C003-8315-472A-B4CF-A4FD5A84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B102-3095-4990-8336-FF2616FF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A681-80DC-4E6E-B75A-94F0C01E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A093-E3A4-48B1-B4FD-C97DB88E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CFC7-5AF6-44FA-ABEF-3A8A4000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5F73-AAE8-4540-A1BA-79ACC130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9DC0-34FF-4569-8120-C02BF0AA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77BB-FD4C-425A-BCF8-2753AB05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F875-C102-4EA0-87F7-F58F19C1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5D01-9394-4BB9-AF22-29C4A250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114E-9A7F-4027-992E-D9135CE5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E4E0-17F6-4C94-B58B-DF9F03A7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DDCC5-4B5D-40BC-A5AE-1F35B1CB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27DE-B415-41CA-BCDE-5D23613F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08B4B-673F-485A-93FC-1D97436B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E1BC-C562-4117-8E63-F8860D08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7884-8B73-4EF8-8D74-CD745198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20DF-EBC8-4B6A-8F25-CB918EC1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8A435-9BD9-4743-93A4-0A5CDD8E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96195-C3FD-417B-B5C3-00867B42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756B5-AA39-4CE1-A534-9B826C74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433A-770A-452D-8F52-81626199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6683-3888-47D5-9EEB-888480EB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DD28-7E05-414B-AF03-6D9C4A3D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5FEDF-E936-46A5-821D-CECF90F3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5A80A-CC29-4DBF-9D70-F4784BD9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55907-549D-4947-9171-EC0E3697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8798A-780D-4652-AA2C-E6AABB47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7CB0-0E22-4880-92C9-4B150DDA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2BE99-2CDD-41FE-ABE2-46AA3CEE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90DCFA-1183-4FBA-8DE2-DDCD4EAF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3D335C-F361-468B-87DC-7CE1E248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459D2-E7D6-45A4-AD5B-E8D5CE51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1094E-6826-442E-AF09-4BF66EA8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8E594-297B-4755-AAA0-337731CC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7B7B2-14A9-4144-834D-907D9A0B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C0457-E0BE-44AD-84EF-638E8C6E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852DF-5EB7-4B8F-8C0D-C172B557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339D2-1BB4-477A-8CFB-487D2804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F9532-BD03-42A9-973B-BE45FDFC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2A5C-450F-473D-97CA-E25AF0ED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DB73-2B92-4CFC-9A01-53FDF59D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5159B-46CC-457E-B2F3-9FBE43EB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522B-0513-475E-A7AF-8A0A32E73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A140-AC54-46DA-9412-38C13C74A3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0957-A26A-4B66-8F27-CC5531517A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0DA5-D580-4215-8090-5618AA6838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ир внешний и внутренни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Гала Волшебное утро - Абель ф-но.mp3" descr=""/>
          <p:cNvPicPr/>
          <p:nvPr/>
        </p:nvPicPr>
        <p:blipFill>
          <a:blip r:embed="rId1"/>
          <a:stretch/>
        </p:blipFill>
        <p:spPr>
          <a:xfrm>
            <a:off x="-54144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advTm="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-0.00104 -0.00069 C 0.06788 -0.00069 0.12396 0.02774 0.12396 0.06311 C 0.12396 0.09848 0.06788 0.12714 -0.00104 0.12714 C -0.07014 0.12714 -0.12604 0.09848 -0.12604 0.06311 C -0.12604 0.02774 -0.07014 -0.00069 -0.00104 -0.00069 Z">
                                      <p:cBhvr>
                                        <p:cTn id="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 внешний, видимый называется материальным или физическим.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146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есть ещё и невидимый,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духовный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от слова "дух"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мир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. Он также может быть внешним по отношению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 человеку (мир невидимых существ – духов, добрых или злых), но духовный мир человек имеет и внутр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ебя. Он связан с верой в Бога, получением знаний о Боге, служением Ему. Для верующих люде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ховный мир составляет важную часть их жизни. Внутренний мир определяет мысли, убежд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тупки, образ жизни, направляет стремления человека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и внешний, духовный и физический миры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реально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(действительно) </a:t>
            </a:r>
            <a:r>
              <a:rPr b="1" lang="ru-RU" sz="1400" spc="-1" strike="noStrike">
                <a:solidFill>
                  <a:srgbClr val="4b2500"/>
                </a:solidFill>
                <a:latin typeface="Garamond"/>
              </a:rPr>
              <a:t>существуют </a:t>
            </a: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диное целое – сложный, богатый мир, в котором мы живём и частью которого мы являемся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7" name="Picture 10" descr="7"/>
          <p:cNvPicPr/>
          <p:nvPr/>
        </p:nvPicPr>
        <p:blipFill>
          <a:blip r:embed="rId1"/>
          <a:stretch/>
        </p:blipFill>
        <p:spPr>
          <a:xfrm>
            <a:off x="684360" y="2708280"/>
            <a:ext cx="2828880" cy="3745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8"/>
          <p:cNvPicPr/>
          <p:nvPr/>
        </p:nvPicPr>
        <p:blipFill>
          <a:blip r:embed="rId2"/>
          <a:stretch/>
        </p:blipFill>
        <p:spPr>
          <a:xfrm>
            <a:off x="5638680" y="2781360"/>
            <a:ext cx="2656080" cy="3672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60000">
    <p:wedg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69564"/>
                </a:solidFill>
                <a:latin typeface="Garamond"/>
              </a:rPr>
              <a:t>Давайте повторим!</a:t>
            </a:r>
            <a:br>
              <a:rPr sz="40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– окружающий мир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Физический, материаль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ожно увидеть, потрогать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утренний мир человека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-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евидимый мир: мысли, чувств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убеждения, настроения, желания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уховный мир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связанный 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уховными явлениями, с верой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Бога и служением Ем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Внешний и внутренний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физический и духовный мир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составляют единое целое 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– мир, в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отором живёт и частью которого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является человек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2" name="Picture 9" descr="9"/>
          <p:cNvPicPr/>
          <p:nvPr/>
        </p:nvPicPr>
        <p:blipFill>
          <a:blip r:embed="rId1"/>
          <a:stretch/>
        </p:blipFill>
        <p:spPr>
          <a:xfrm>
            <a:off x="4910040" y="1197000"/>
            <a:ext cx="3827520" cy="4929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«Чудесная песенка»</a:t>
            </a:r>
            <a:br>
              <a:rPr sz="2000"/>
            </a:br>
            <a:r>
              <a:rPr b="1" i="1" lang="ru-RU" sz="2000" spc="-1" strike="noStrike">
                <a:solidFill>
                  <a:srgbClr val="4b2500"/>
                </a:solidFill>
                <a:latin typeface="Garamond"/>
              </a:rPr>
              <a:t>сл. Ирины Языковой, муз. Юрия Пастернака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356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1. Каждый день дарит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ысячи чудес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олнца луч из-за туч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ыглянул с небес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звенели вокруг птичьи голоса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цветы расцвели – чудеса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Припев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Того не видел глаз, не слышало ухо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е приходило то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на сердце человеку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Что приготовил Бог любящим Его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453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788000" y="1341360"/>
            <a:ext cx="41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2. Летом грозы гремят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нег идет зимой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Удивительный мир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такой большой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Сколько разных чудес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загадок в нем!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иветствуя мир, мы поем: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3. Бог, Создатель чудес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заповедал на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ир беречь как наш дом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и прекрасный хра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- Церковь Его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мы одна семья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9f0d3"/>
                </a:solidFill>
                <a:latin typeface="Garamond"/>
              </a:rPr>
              <a:t>Все мы дети Его, ты и я!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37" name="SONG_001.MID" descr=""/>
          <p:cNvPicPr/>
          <p:nvPr/>
        </p:nvPicPr>
        <p:blipFill>
          <a:blip r:embed="rId1"/>
          <a:stretch/>
        </p:blipFill>
        <p:spPr>
          <a:xfrm>
            <a:off x="8172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0"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37705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Мир, в котором мы живём, огромен, разнообразен и очень интересен. Устроен он чрезвычайно сложно, и вместе с тем во всём имеет строгий порядок, который управляется и поддерживается</a:t>
            </a:r>
            <a:br>
              <a:rPr sz="2000"/>
            </a:b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определёнными законами.</a:t>
            </a:r>
            <a:br>
              <a:rPr sz="2000"/>
            </a:b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5516280"/>
            <a:ext cx="793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Мир, который нас окружает, - это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мир внешний,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или </a:t>
            </a: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окружающий мир.</a:t>
            </a: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 Он велик и удивительно богат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5" name="Picture 11" descr="1"/>
          <p:cNvPicPr/>
          <p:nvPr/>
        </p:nvPicPr>
        <p:blipFill>
          <a:blip r:embed="rId1"/>
          <a:stretch/>
        </p:blipFill>
        <p:spPr>
          <a:xfrm>
            <a:off x="1403280" y="1413000"/>
            <a:ext cx="6264360" cy="40780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3106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Но не менее богат и интересен </a:t>
            </a:r>
            <a:r>
              <a:rPr b="1" lang="ru-RU" sz="1800" spc="-1" strike="noStrike">
                <a:solidFill>
                  <a:srgbClr val="4b2500"/>
                </a:solidFill>
                <a:latin typeface="Garamond"/>
              </a:rPr>
              <a:t>внутренний</a:t>
            </a: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 мир человека. Каждую минуту человек о чём-то думает, что-то чувствует, например, радуется и думает, как поделиться своей радостью с другом. Именно внутри человека рождается какой-нибудь замечательный замысел, и только потом этот человек воплощает его, создавая книгу, песню или картину. Так мысль и желание одного человека пополняют наш общий внешний мир.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Скажите, какое время года изображается на фотографии?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98" name="Picture 11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038480" cy="5688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30000"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9218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69564"/>
                </a:solidFill>
                <a:latin typeface="Garamond"/>
              </a:rPr>
              <a:t>А какое время года на этой фотографии?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201" name="Picture 7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052640"/>
            <a:ext cx="7715520" cy="5564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69564"/>
                </a:solidFill>
                <a:latin typeface="Garamond"/>
              </a:rPr>
              <a:t>Посмотрите как изобразил осень И.И. Левитан в картине «Золотая осень»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Сияет солнце, воды бл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На всём улыбка, жизнь во всём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Деревья радостно трепещут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Купаясь в небе голубом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Поют деревья, блещут воды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Любовью воздух растворён,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 мир, цветущий мир природы,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Избытком жизни упоён…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500"/>
                </a:solidFill>
                <a:latin typeface="Garamond"/>
              </a:rPr>
              <a:t>(Ф.И. Тютчев)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5" name="Picture 9" descr="3"/>
          <p:cNvPicPr/>
          <p:nvPr/>
        </p:nvPicPr>
        <p:blipFill>
          <a:blip r:embed="rId1"/>
          <a:stretch/>
        </p:blipFill>
        <p:spPr>
          <a:xfrm>
            <a:off x="3924360" y="1916280"/>
            <a:ext cx="4762440" cy="31636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10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14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14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14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314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614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914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14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14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814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3251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так велик, что мы можем видеть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только незначительную часть того, что в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ем происходит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Благодаря тому, что люди умеют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ередавать свои знания, впечатления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пыт друг другу, распространяютс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нания о внешнем и даже внутренн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е. Мы, например, живём в России, н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з учебников, журналов, книг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ногое узнать о Франции, Америке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Африке, даже можем знать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исходило на земле тысячи лет назад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что такое узнать? Это значит, чт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-то знания становятся наши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остоянием. Какую-то часть сведений,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ля нас важных, мы принимаем в наш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ий мир, запоминаем и мож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ми пользоваться, когда захотим. Так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 внешний входит в наш внутренний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мир. И внешний и внутренний мир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ажны для человека, вместе они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составляют его жизнь. Но внутреннее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27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казывается важнее, чем внешнее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08" name="Чайк.Вр.года.06.июнь.Баркар.Плетнев.mp3" descr=""/>
          <p:cNvPicPr/>
          <p:nvPr/>
        </p:nvPicPr>
        <p:blipFill>
          <a:blip r:embed="rId1"/>
          <a:stretch/>
        </p:blipFill>
        <p:spPr>
          <a:xfrm>
            <a:off x="485928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2"/>
          <a:stretch/>
        </p:blipFill>
        <p:spPr>
          <a:xfrm>
            <a:off x="5867280" y="4316400"/>
            <a:ext cx="2808360" cy="185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7" descr=""/>
          <p:cNvPicPr/>
          <p:nvPr/>
        </p:nvPicPr>
        <p:blipFill>
          <a:blip r:embed="rId3"/>
          <a:stretch/>
        </p:blipFill>
        <p:spPr>
          <a:xfrm>
            <a:off x="5867280" y="260280"/>
            <a:ext cx="2881440" cy="190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8" descr=""/>
          <p:cNvPicPr/>
          <p:nvPr/>
        </p:nvPicPr>
        <p:blipFill>
          <a:blip r:embed="rId4"/>
          <a:stretch/>
        </p:blipFill>
        <p:spPr>
          <a:xfrm>
            <a:off x="4140360" y="2349360"/>
            <a:ext cx="2735280" cy="180504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467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И внешний, и внутренний мир важны для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еловека, вместе они составляют его жизнь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Но внутреннее оказывается важнее, чем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ее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ешний мир зависит от нашего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нутреннего состояния, наших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едставлений, чувств.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смотрите на картины Айвазовского «Вид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Одессы  в лунную ночь» и «Морской берег.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рощание» и опишите картины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вы видит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е время суток изображено на картин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ого цвета небо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Есть ли на небе солнышко или обла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они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Что они делают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 они передвигаются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ие звуки вы слышите в картинках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Звучит ли здесь музыка? 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Какая это музыка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Громкая или тих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Весёлая или грустная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Поют ли в ней птицы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Холодно или тепло на этой картинке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b2500"/>
                </a:solidFill>
                <a:latin typeface="Garamond"/>
              </a:rPr>
              <a:t>Дует ли в ней ветер или нет?</a:t>
            </a: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4" name="Picture 12" descr="4"/>
          <p:cNvPicPr/>
          <p:nvPr/>
        </p:nvPicPr>
        <p:blipFill>
          <a:blip r:embed="rId1"/>
          <a:stretch/>
        </p:blipFill>
        <p:spPr>
          <a:xfrm>
            <a:off x="4140360" y="404640"/>
            <a:ext cx="3228840" cy="2616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5"/>
          <p:cNvPicPr/>
          <p:nvPr/>
        </p:nvPicPr>
        <p:blipFill>
          <a:blip r:embed="rId2"/>
          <a:stretch/>
        </p:blipFill>
        <p:spPr>
          <a:xfrm>
            <a:off x="5148360" y="3068640"/>
            <a:ext cx="3558960" cy="30844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70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нутренний мир невидим, но проявляется в поступках, творчестве человека, накладывает отпечаток не только на всю его жизнь, но и на внешний облик: отражается на лице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1"/>
          <a:stretch/>
        </p:blipFill>
        <p:spPr>
          <a:xfrm>
            <a:off x="5292720" y="333360"/>
            <a:ext cx="1814400" cy="2519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2"/>
          <a:stretch/>
        </p:blipFill>
        <p:spPr>
          <a:xfrm>
            <a:off x="7308720" y="2349360"/>
            <a:ext cx="1644840" cy="2446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1668600" cy="2592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40000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683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есчастный, зло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 разрушает всё,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бижает даже самы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близких и дорогих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людей, а добры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человек, излучающий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мир и радость вокруг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ебя, восстанавлив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разрушенное, утеш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традающих, помогае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уждающимс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223" name="Picture 12" descr="6"/>
          <p:cNvPicPr/>
          <p:nvPr/>
        </p:nvPicPr>
        <p:blipFill>
          <a:blip r:embed="rId1"/>
          <a:stretch/>
        </p:blipFill>
        <p:spPr>
          <a:xfrm>
            <a:off x="4859280" y="404640"/>
            <a:ext cx="3994200" cy="57214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 spd="slow" advTm="25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38:29Z</dcterms:modified>
  <cp:revision>18</cp:revision>
  <dc:subject/>
  <dc:title>PowerPoint Presentation</dc:title>
</cp:coreProperties>
</file>