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B4E5-19B1-4620-9EAD-E431E0533E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и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5348-D761-424A-9B58-5DC150E7A3BE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внешний, видимый называется материальным или физичес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есть ещё и невидимый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"дух"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 также может быть внешним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ки, образ жизни, направляет стремл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и внешний, духовный и физический ми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йствительно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ую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7751-D612-4B93-BB7F-6F02316F9775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повторим!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внеш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кружающ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, материа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увидеть, потро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димый мир: мысли, чув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я, настроения, жел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ми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вязанны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ми явлениями, с веро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 и служением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й и внутрен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й и духов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ир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ом живёт и частью котор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088D-83DD-4598-9ADF-88DE38A13B22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удесная песенка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. Ирины Языковой, муз. Юрия Пастер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Каждый день дарит 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ысячи чуд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лнца луч из-за ту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ыглянул с неб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звенели вокруг птичьи голо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 цветы расцвели – чудес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пе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го не видел глаз, не слышало ух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 приходило 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 сердце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7EBF-BA34-4A8B-B7AA-1C58E97D918A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ёнными закон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р внешни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ружающий мир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н велик и удивительно бог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4E4A-0854-4792-A1DD-465E3BBCEDD3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не менее богат и интересе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жите, какое время года изображается на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B9FB-209D-456B-A22B-9E3352B34BFE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какое время года на этой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3D04-2D80-49BC-86CD-07D15BA2A303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как изобразил осень И.И. Левитан в картине «Золотая ос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яет солнце, воды бл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ём улыбка, жизнь во всё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 радостно треп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аясь в небе голуб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деревья, блещут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ю воздух растворё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ир, цветущий мир приро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ком жизни упоё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И. Тютч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297B-0E3F-46A0-9291-11E266A9716A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так велик, что мы можем вид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незначительную часть того, что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 происход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тому, что люди уме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вать свои знания, впечат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друг другу, распростра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о внешнем и даже внутрен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е. Мы, например, живём в России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учебников, журналов, книг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е узнать о Франции, Амер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е, даже можем знать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ло на земле тысячи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что такое узнать? Это значит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-то знания становятся на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янием. Какую-то часть све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с важных, мы принимаем в н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, запоминаем и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и пользоваться, когда захотим. Т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входит в наш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. И внешний и внутрен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для человека, вместе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го жизнь. Но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ся важнее, чем внеш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C276-5896-4FE5-BCF6-B4A57C45F61B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нешний, и внутренний мир важны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вместе они составляют его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нутреннее оказывается важнее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мир зависит от на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его состояния, наш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й, чув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картины Айвазовского «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ессы  в лунную ночь» и «Морской бер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щание» и опишите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время суток изображено на карти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цвета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на небе солнышко или обла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н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ни делаю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передвигаю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вуки вы слышите в карти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чит ли здесь музы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это музы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кая или тих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ёлая или грустн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ли в ней пти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дно или тепло на этой картин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ет ли в ней ветер или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DEEC-2FCA-4CAB-B262-EF37A20F985E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6A36-B0D3-4ECF-84DC-7F6D9EFF0A11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ный, з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разрушает всё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жает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х и доро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, а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излуча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и радость вок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, восстанавл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ное, утеш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щих, помо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дающи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ED3E-E0E4-4E37-B8F2-144BBB69A067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7E83-2807-48CA-A794-5864FF26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D5B3-0279-42EA-8657-43BE40F3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5686-EE58-486E-90FA-294F5A6F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95E6-A928-43B5-8EC0-AAEDA366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86B5-2583-4C4D-B355-3F23C776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2367-D92E-4F45-9D5D-DD7770F1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E562-0811-48B2-B481-9E37C27C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B4B6-2521-4383-8F91-2F6565F5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DD3F-E61D-47A3-B1BF-F057879E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659C-C266-4153-82E9-DA7DCDEB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44AF-8CDA-4BDC-98FA-BC53FB7D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20FD-8A23-45A0-9B40-3908A0DF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F611-C3E6-40A1-B248-06431421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DEF9-1200-4C01-AB97-877B468C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9D6A-84CD-4DDB-9331-992B58E9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8833-5D42-4DA0-80DE-353AD6F4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92F4-5830-45B6-8F3E-31AB58F0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265E-F3D8-4ACB-9C68-CF412C45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572C-845F-4DE9-9BF6-EA405006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E5DF-589C-45E2-AC47-D20FA65B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A2719-122B-4AEE-8CEC-37A5E0B5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3D65-A62C-47EE-A72E-DC58A43C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20A6-530D-4721-B712-2F4FEFF4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9E14-262D-4760-B514-9BECC0C7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9750-5C72-45E3-B019-E2B8EC08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0D22-A6FA-4B36-B10D-DAC86162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F165-13AC-42DF-A87C-B182AF62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BFC1-97F7-4BFA-9C53-01DE43E7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C06B9-394E-4893-9899-57F8A5D8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2F4F-C02A-4605-9A3A-18A66800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91DEA-8702-49DA-95BB-B2620258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6C433-016C-4865-8757-60128EE1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A5A28-BEC7-4F02-B94E-1452A5EA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5193-8618-4C68-B68A-58E689FA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00742-1690-4ADF-9E89-2B6D7629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8B0FD-997B-4FC1-86F5-27A3F0DA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B0222-0E67-4FB3-921D-FFB767C4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D4571-0A87-4DEE-84F8-22500663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354F39-410D-4B1E-8B54-C9855AFA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D4EBA-BC33-4A38-89A1-9FF9621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883F3-D2B1-4AEB-9567-7E16C581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813DF-D402-4F89-A082-B959885F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E364D-E5D7-40D0-B74B-B41C3637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F242-6A73-45A0-A886-84B5C663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DFEA-9E70-46CD-83F1-A51CCA83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0ED2-BE63-4645-8D72-4DDABA1E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6FCE-4F5F-40ED-8995-0EDBD372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B1B1-2B27-48F0-B267-A985814C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FB6E-BC3D-4AEC-B0E3-E107D8675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540F-F8A0-4A26-8974-10D43C496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8C7D-6691-466C-92E6-AC1545D63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B08B-C73A-4851-99BA-05F02CC2EB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 внешний и внутрен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Гала Волшебное утро - Абель ф-но.mp3" descr=""/>
          <p:cNvPicPr/>
          <p:nvPr/>
        </p:nvPicPr>
        <p:blipFill>
          <a:blip r:embed="rId1"/>
          <a:stretch/>
        </p:blipFill>
        <p:spPr>
          <a:xfrm>
            <a:off x="-5414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advTm="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104 -0.00069 C 0.06788 -0.00069 0.12396 0.02774 0.12396 0.06311 C 0.12396 0.09848 0.06788 0.12714 -0.00104 0.12714 C -0.07014 0.12714 -0.12604 0.09848 -0.12604 0.06311 C -0.12604 0.02774 -0.07014 -0.00069 -0.00104 -0.00069 Z">
                                      <p:cBhvr>
                                        <p:cTn id="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 внешний, видимый называется материальным или физическим.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146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есть ещё и невидимый,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духовный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от слова "дух"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мир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. Он также может быть внешним по отношению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тупки, образ жизни, направляет стремления человека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и внешний, духовный и физический миры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реально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действительно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существуют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7" name="Picture 10" descr="7"/>
          <p:cNvPicPr/>
          <p:nvPr/>
        </p:nvPicPr>
        <p:blipFill>
          <a:blip r:embed="rId1"/>
          <a:stretch/>
        </p:blipFill>
        <p:spPr>
          <a:xfrm>
            <a:off x="684360" y="2708280"/>
            <a:ext cx="2828880" cy="374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8"/>
          <p:cNvPicPr/>
          <p:nvPr/>
        </p:nvPicPr>
        <p:blipFill>
          <a:blip r:embed="rId2"/>
          <a:stretch/>
        </p:blipFill>
        <p:spPr>
          <a:xfrm>
            <a:off x="5638680" y="2781360"/>
            <a:ext cx="2656080" cy="3672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60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69564"/>
                </a:solidFill>
                <a:latin typeface="Garamond"/>
              </a:rPr>
              <a:t>Давайте повторим!</a:t>
            </a:r>
            <a:br>
              <a:rPr sz="40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– окружающий мир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Физический, материаль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ожно увидеть, потрогать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утренний мир человека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-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евидимый мир: мысли, чувств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убеждения, настроения, желания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уховный мир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связанный 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уховными явлениями, с верой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Бога и служением Ем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ешний и внутренний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физический и духов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составляют единое целое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мир,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отором живёт и частью которого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является человек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2" name="Picture 9" descr="9"/>
          <p:cNvPicPr/>
          <p:nvPr/>
        </p:nvPicPr>
        <p:blipFill>
          <a:blip r:embed="rId1"/>
          <a:stretch/>
        </p:blipFill>
        <p:spPr>
          <a:xfrm>
            <a:off x="4910040" y="1197000"/>
            <a:ext cx="3827520" cy="4929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«Чудесная песенка»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Garamond"/>
              </a:rPr>
              <a:t>сл. Ирины Языковой, муз. Юрия Пастернака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35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1. Каждый день дарит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ысячи чудес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олнца луч из-за туч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ыглянул с небес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звенели вокруг птичьи голос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цветы расцвели – чудеса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Припев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ого не видел глаз, не слышало ухо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е приходило то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а сердце человек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788000" y="1341360"/>
            <a:ext cx="41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2. Летом грозы гремят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нег идет зимой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Удивительный мир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такой большой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колько разных чудес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загадок в нем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иветствуя мир, мы поем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3. Бог, Создатель чудес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поведал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ир беречь как наш до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екрасный хра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- Церковь Его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ы одна семья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дети Его, ты и я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7" name="SONG_001.MID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0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3770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определёнными законами.</a:t>
            </a:r>
            <a:br>
              <a:rPr sz="2000"/>
            </a:b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5516280"/>
            <a:ext cx="793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,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или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окружающий мир.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Он велик и удивительно богат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5" name="Picture 11" descr="1"/>
          <p:cNvPicPr/>
          <p:nvPr/>
        </p:nvPicPr>
        <p:blipFill>
          <a:blip r:embed="rId1"/>
          <a:stretch/>
        </p:blipFill>
        <p:spPr>
          <a:xfrm>
            <a:off x="1403280" y="1413000"/>
            <a:ext cx="6264360" cy="40780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3106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Но не менее богат и интересен </a:t>
            </a: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внутренний</a:t>
            </a: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Скажите, какое время года изображается на фотографии?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038480" cy="5688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921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А какое время года на этой фотографии?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01" name="Picture 7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052640"/>
            <a:ext cx="7715520" cy="5564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Посмотрите как изобразил осень И.И. Левитан в картине «Золотая осень»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Сияет солнце, воды бл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а всём улыбка, жизнь во всём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еревья радостно треп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упаясь в небе голубо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Поют деревья, блещут воды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Любовью воздух растворён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 мир, цветущий мир природы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збытком жизни упоён…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(Ф.И. Тютчев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5" name="Picture 9" descr="3"/>
          <p:cNvPicPr/>
          <p:nvPr/>
        </p:nvPicPr>
        <p:blipFill>
          <a:blip r:embed="rId1"/>
          <a:stretch/>
        </p:blipFill>
        <p:spPr>
          <a:xfrm>
            <a:off x="3924360" y="1916280"/>
            <a:ext cx="4762440" cy="31636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14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1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14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4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14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914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14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14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814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3251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так велик, что мы можем видеть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только незначительную часть того, что в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ем происходит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Благодаря тому, что люди умеют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ередавать свои знания, впечатл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пыт друг другу, распространяютс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нания о внешнем и даже внутренн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е. Мы, например, живём в России, н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з учебников, журналов, книг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ногое узнать о Франции, Америке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Африке, даже можем знать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исходило на земле тысячи лет назад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что такое узнать? Это значит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-то знания становятся наши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остоянием. Какую-то часть сведений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ля нас важных, мы принимаем в наш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мир, запоминаем и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ми пользоваться, когда захотим. Так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внешний входит в наш внутренни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. И внешний и внутренний мир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ажны для человека, вместе он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го жизнь. Но внутреннее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казывается важнее, чем внешнее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8" name="Чайк.Вр.года.06.июнь.Баркар.Плетнев.mp3" descr=""/>
          <p:cNvPicPr/>
          <p:nvPr/>
        </p:nvPicPr>
        <p:blipFill>
          <a:blip r:embed="rId1"/>
          <a:stretch/>
        </p:blipFill>
        <p:spPr>
          <a:xfrm>
            <a:off x="485928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2"/>
          <a:stretch/>
        </p:blipFill>
        <p:spPr>
          <a:xfrm>
            <a:off x="5867280" y="4316400"/>
            <a:ext cx="2808360" cy="185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881440" cy="190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4"/>
          <a:stretch/>
        </p:blipFill>
        <p:spPr>
          <a:xfrm>
            <a:off x="4140360" y="2349360"/>
            <a:ext cx="2735280" cy="18050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467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 внешний, и внутренний мир важны дл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еловека, вместе они составляют его жизнь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внутреннее оказывается важнее, ч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ее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ий мир зависит от нашег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его состояния, наших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едставлений, чувств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мотрите на картины Айвазовского «Вид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дессы  в лунную ночь» и «Морской берег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щание» и опишите картины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вы видит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е время суток изображено на картин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го цвета небо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Есть ли на небе солнышко или обла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они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они делают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 они передвигаются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звуки вы слышите в картинках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вучит ли здесь музыка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ая это музы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Громкая или тих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есёлая или грустн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ют ли в ней птицы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Холодно или тепло на этой картинк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ет ли в ней ветер или нет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4" name="Picture 12" descr="4"/>
          <p:cNvPicPr/>
          <p:nvPr/>
        </p:nvPicPr>
        <p:blipFill>
          <a:blip r:embed="rId1"/>
          <a:stretch/>
        </p:blipFill>
        <p:spPr>
          <a:xfrm>
            <a:off x="4140360" y="404640"/>
            <a:ext cx="3228840" cy="261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5"/>
          <p:cNvPicPr/>
          <p:nvPr/>
        </p:nvPicPr>
        <p:blipFill>
          <a:blip r:embed="rId2"/>
          <a:stretch/>
        </p:blipFill>
        <p:spPr>
          <a:xfrm>
            <a:off x="5148360" y="3068640"/>
            <a:ext cx="3558960" cy="30844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70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1814400" cy="2519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644840" cy="244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1668600" cy="2592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68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есчастный, зло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 разрушает всё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бижает даже самы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близких и дороги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людей, а добры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, излучающи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мир и радость вокруг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бя, восстанавлив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разрушенное, утеш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традающих, помог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уждающимс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3" name="Picture 12" descr="6"/>
          <p:cNvPicPr/>
          <p:nvPr/>
        </p:nvPicPr>
        <p:blipFill>
          <a:blip r:embed="rId1"/>
          <a:stretch/>
        </p:blipFill>
        <p:spPr>
          <a:xfrm>
            <a:off x="4859280" y="404640"/>
            <a:ext cx="3994200" cy="572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25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38:29Z</dcterms:modified>
  <cp:revision>18</cp:revision>
  <dc:subject/>
  <dc:title>PowerPoint Presentation</dc:title>
</cp:coreProperties>
</file>