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1666-386D-4CBD-A88C-A50551CBDAE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внешний и внутрен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F004-1776-4B09-B57B-CC00C5BE71C3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р внешний, видимый называется материальным или физически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есть ещё и невидимый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ухов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 слова "дух"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н также может быть внешним по отнош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еловеку (мир невидимых существ – духов, добрых или злых), но духовный мир человек имеет и внут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бя. Он связан с верой в Бога, получением знаний о Боге, служением Ему. Для верующ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ый мир составляет важную часть их жизни. Внутренний мир определяет мысли, убежд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упки, образ жизни, направляет стремлен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и внешний, духовный и физический мир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альн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ействительно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ществую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т единое целое – сложный, богатый мир, в котором мы живём и частью которого мы являем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56AD-2E57-4572-B726-635E5BD05A7F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вайте повторим!</a:t>
            </a: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р внеш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кружающий 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й, материаль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увидеть, потрог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утренний мир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идимый мир: мысли, чув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ждения, настроения, жел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уховный ми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вязанный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ыми явлениями, с верой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а и служением 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шний и внутрен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ический и духов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ляют единое цел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мир,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ом живёт и частью котор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4A31-2D28-4B4D-A97F-BC9664645BF8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удесная песенка»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л. Ирины Языковой, муз. Юрия Пастерн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1. Каждый день дарит н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ысячи чуде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олнца луч из-за ту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ыглянул с неб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азвенели вокруг птичьи голос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 цветы расцвели – чудес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пе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ого не видел глаз, не слышало ух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то приготовил Бог любящим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 приходило 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а сердце челове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то приготовил Бог любящим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то приготовил Бог любящим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F316-D5E6-4E60-A7C1-C9F801F732C6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р, в котором мы живём, огромен, разнообразен и очень интересен. Устроен он чрезвычайно сложно, и вместе с тем во всём имеет строгий порядок, который управляется и поддерживает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ёнными закон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р, который нас окружает, - это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ир внешний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кружающий мир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н велик и удивительно бога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E684-672D-4435-808D-C7DA088610BE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не менее богат и интересен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утрен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р человека. Каждую минуту человек о чём-то думает, что-то чувствует, например, радуется и думает, как поделиться своей радостью с другом. Именно внутри человека рождается какой-нибудь замечательный замысел, и только потом этот человек воплощает его, создавая книгу, песню или картину. Так мысль и желание одного человека пополняют наш общий внешний 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жите, какое время года изображается на фотограф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1482-A994-4B9D-BDB1-9A108CE3D172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какое время года на этой фотограф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43DA-E902-4E06-9C28-94434D176A62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те как изобразил осень И.И. Левитан в картине «Золотая осен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яет солнце, воды блещу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сём улыбка, жизнь во всё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ья радостно трепещу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аясь в небе голуб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ют деревья, блещут 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ю воздух растворё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ир, цветущий мир природ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ытком жизни упоён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.И. Тютче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EA89-4E87-45BE-8CF2-DD0F94DE1027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так велик, что мы можем вид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незначительную часть того, что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 происход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я тому, что люди уме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вать свои знания, впечатл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друг другу, распростран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я о внешнем и даже внутренн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е. Мы, например, живём в России, 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учебников, журналов, книг мо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е узнать о Франции, Амери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фрике, даже можем знать, ч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ло на земле тысячи лет наза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что такое узнать? Это значит, ч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-то знания становятся наш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оянием. Какую-то часть сведе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ас важных, мы принимаем в н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мир, запоминаем и мо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и пользоваться, когда захотим. Т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внешний входит в наш внутрен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. И внешний и внутренн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 для человека, вместе 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т его жизнь. Но внутрен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ется важнее, чем внешн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5E26-CD36-49D7-B8C1-3D8170DF62ED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нешний, и внутренний мир важны д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, вместе они составляют его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нутреннее оказывается важнее, 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мир зависит от наш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его состояния, наш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й, чув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те на картины Айвазовского «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ессы  в лунную ночь» и «Морской бер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щание» и опишите карт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ы види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время суток изображено на карти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го цвета неб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на небе солнышко или обла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н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ни делаю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ни передвигают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звуки вы слышите в картин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чит ли здесь музы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это музы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мкая или тиха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ёлая или грустна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ют ли в ней птиц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одно или тепло на этой картин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ет ли в ней ветер или н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586A-996C-4DBC-A745-C00C05DA7778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мир невидим, но проявляется в поступках, творчестве человека, накладывает отпечаток не только на всю его жизнь, но и на внешний облик: отражается на ли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D0D8-B0A8-476A-A056-89E85C8CFB29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частный, з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разрушает всё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жает даже са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ких и доро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ей, а добр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, излуча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и радость вокр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бя, восстанавл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ное, утеш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дающих, помог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дающим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F7A5-6360-4890-BA23-0BFADDC93F79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E5F57-F95A-4A23-8F36-78934694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40978-F558-4064-8F52-70B74960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4158B-E0DA-40C9-920E-8CCC43AE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B288A-140A-4DFC-835B-9A39D4D2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1BF7-3CFD-40E2-A38B-502389CD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648E-6E96-4512-AA36-C99A6AAB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E6F6-7BF4-4D96-8A0F-CDC903BE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44C8-6312-496D-96BD-293D041B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C744-4414-410B-96FA-05443FD9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9456-D765-40D7-8C8D-80E1CFE0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11F8-4B13-41F2-8B70-848C2A6A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BFA92-FFB0-443A-A78E-EAD3BC17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0D72-8040-4F06-A6DD-042CAEDB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2720-39D0-47C8-8E4A-AD1CBE1F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E9C4-7592-48D4-8449-E82986FB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398C-AB73-47B4-AAB5-2C862749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FC07-1C40-4DAD-8963-0C43ADEA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447F3-1D9D-4A81-AD88-EBE031FB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DF2FD-4CF3-4B4A-B345-ABCA1A2E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5E2F8-B176-4621-92CF-36CFBAF5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B6AD1-BBE0-4C8E-B33F-18A4D5BE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2724D-F577-4B8E-9B3A-5CF544C7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F6A1C-6740-4876-B426-99E5C4E9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2DA67-5295-4ACB-8F26-151EE811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6247A-2635-4B43-A1F9-A1A8108A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4C784-0A09-406D-8784-AD9CFC14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A44E3-E629-448D-9E63-B657284B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37D42-C7F4-4995-8DFB-268945B4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01B79-F6DB-4FB0-9A29-5855F717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A2A58-13A6-4C57-9C85-841AB77C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69FF67-C625-4FE2-BB26-399A3AF5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D1F364-671E-47D0-BD4D-27B2DA55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164595-F09F-4AE9-BFF4-33C09D2C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B4D8F-6974-4382-A886-4B150778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748DC5-889D-4EDA-9891-DF8C4D30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663EF3-D4D5-4CB7-96DD-45988D6C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D09DA6-950B-418F-A859-B475B4D0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609DD1-585C-490D-8327-4491970F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E28B83-BF10-4A56-9381-35DEED6D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C804BC-4A6D-4520-8DAE-D8FEFF7F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2D4DD4-9F98-4D29-896C-168D9D9D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BDDD1B-5CEA-4F5D-A2DD-B96D050D4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DE07CF-CF49-444A-B372-6A93C595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2D715-DD44-43DA-A8B9-4967112F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6DF02-A72F-497C-A179-F4CAA3C5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E5D77-5572-4697-B8DF-CCAE592A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EF607-BEA1-4391-AD8F-C906FDCE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E458C-06DB-4521-8AAB-1A681E72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4532-F4F5-48C3-B753-15E44D094A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806D-7C46-4921-A302-E75329C2DD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9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9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9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9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56FA-A00B-4718-BCBE-011AA33E2E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E3BE-8A0F-47DD-A549-97D3B0CBA8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ир внешний и внутренн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Гала Волшебное утро - Абель ф-но.mp3" descr=""/>
          <p:cNvPicPr/>
          <p:nvPr/>
        </p:nvPicPr>
        <p:blipFill>
          <a:blip r:embed="rId1"/>
          <a:stretch/>
        </p:blipFill>
        <p:spPr>
          <a:xfrm>
            <a:off x="-54144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advTm="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-0.00104 -0.00069 C 0.06788 -0.00069 0.12396 0.02774 0.12396 0.06311 C 0.12396 0.09848 0.06788 0.12714 -0.00104 0.12714 C -0.07014 0.12714 -0.12604 0.09848 -0.12604 0.06311 C -0.12604 0.02774 -0.07014 -0.00069 -0.00104 -0.00069 Z">
                                      <p:cBhvr>
                                        <p:cTn id="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Мир внешний, видимый называется материальным или физическим.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146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Но есть ещё и невидимый, </a:t>
            </a:r>
            <a:r>
              <a:rPr b="1" lang="ru-RU" sz="1400" spc="-1" strike="noStrike">
                <a:solidFill>
                  <a:srgbClr val="4b2500"/>
                </a:solidFill>
                <a:latin typeface="Garamond"/>
              </a:rPr>
              <a:t>духовный </a:t>
            </a: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(от слова "дух") </a:t>
            </a:r>
            <a:r>
              <a:rPr b="1" lang="ru-RU" sz="1400" spc="-1" strike="noStrike">
                <a:solidFill>
                  <a:srgbClr val="4b2500"/>
                </a:solidFill>
                <a:latin typeface="Garamond"/>
              </a:rPr>
              <a:t>мир</a:t>
            </a: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. Он также может быть внешним по отношению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 человеку (мир невидимых существ – духов, добрых или злых), но духовный мир человек имеет и внутри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себя. Он связан с верой в Бога, получением знаний о Боге, служением Ему. Для верующих людей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духовный мир составляет важную часть их жизни. Внутренний мир определяет мысли, убеждения,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оступки, образ жизни, направляет стремления человека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утренний и внешний, духовный и физический миры </a:t>
            </a:r>
            <a:r>
              <a:rPr b="1" lang="ru-RU" sz="1400" spc="-1" strike="noStrike">
                <a:solidFill>
                  <a:srgbClr val="4b2500"/>
                </a:solidFill>
                <a:latin typeface="Garamond"/>
              </a:rPr>
              <a:t>реально </a:t>
            </a: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(действительно) </a:t>
            </a:r>
            <a:r>
              <a:rPr b="1" lang="ru-RU" sz="1400" spc="-1" strike="noStrike">
                <a:solidFill>
                  <a:srgbClr val="4b2500"/>
                </a:solidFill>
                <a:latin typeface="Garamond"/>
              </a:rPr>
              <a:t>существуют </a:t>
            </a: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и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составляют единое целое – сложный, богатый мир, в котором мы живём и частью которого мы являемся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27" name="Picture 10" descr="7"/>
          <p:cNvPicPr/>
          <p:nvPr/>
        </p:nvPicPr>
        <p:blipFill>
          <a:blip r:embed="rId1"/>
          <a:stretch/>
        </p:blipFill>
        <p:spPr>
          <a:xfrm>
            <a:off x="684360" y="2708280"/>
            <a:ext cx="2828880" cy="3745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8"/>
          <p:cNvPicPr/>
          <p:nvPr/>
        </p:nvPicPr>
        <p:blipFill>
          <a:blip r:embed="rId2"/>
          <a:stretch/>
        </p:blipFill>
        <p:spPr>
          <a:xfrm>
            <a:off x="5638680" y="2781360"/>
            <a:ext cx="2656080" cy="367200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60000"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69564"/>
                </a:solidFill>
                <a:latin typeface="Garamond"/>
              </a:rPr>
              <a:t>Давайте повторим!</a:t>
            </a:r>
            <a:br>
              <a:rPr sz="4000"/>
            </a:b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Мир внешний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 – окружающий мир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Физический, материальный мир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можно увидеть, потрогать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Внутренний мир человека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 -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невидимый мир: мысли, чувства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убеждения, настроения, желания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Духовный мир 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– связанный с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духовными явлениями, с верой в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Бога и служением Ему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Внешний и внутренний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физический и духовный мир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составляют единое целое 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– мир, в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котором живёт и частью которого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является человек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32" name="Picture 9" descr="9"/>
          <p:cNvPicPr/>
          <p:nvPr/>
        </p:nvPicPr>
        <p:blipFill>
          <a:blip r:embed="rId1"/>
          <a:stretch/>
        </p:blipFill>
        <p:spPr>
          <a:xfrm>
            <a:off x="4910040" y="1197000"/>
            <a:ext cx="3827520" cy="49291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30000">
    <p:wedg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«Чудесная песенка»</a:t>
            </a:r>
            <a:br>
              <a:rPr sz="2000"/>
            </a:br>
            <a:r>
              <a:rPr b="1" i="1" lang="ru-RU" sz="2000" spc="-1" strike="noStrike">
                <a:solidFill>
                  <a:srgbClr val="4b2500"/>
                </a:solidFill>
                <a:latin typeface="Garamond"/>
              </a:rPr>
              <a:t>сл. Ирины Языковой, муз. Юрия Пастернака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356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5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1. Каждый день дарит нам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тысячи чудес: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Солнца луч из-за туч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выглянул с небес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Зазвенели вокруг птичьи голоса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цветы расцвели – чудеса!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Припев: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Того не видел глаз, не слышало ухо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Что приготовил Бог любящим его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Не приходило то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на сердце человеку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Что приготовил Бог любящим Его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Что приготовил Бог любящим Его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4788000" y="1341360"/>
            <a:ext cx="410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2. Летом грозы гремят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снег идет зимой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Удивительный мир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такой большой!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Сколько разных чудес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загадок в нем!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приветствуя мир, мы поем: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3. Бог, Создатель чудес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заповедал нам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Мир беречь как наш дом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прекрасный храм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Все мы - Церковь Его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мы одна семья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Все мы дети Его, ты и я!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37" name="SONG_001.MID" descr=""/>
          <p:cNvPicPr/>
          <p:nvPr/>
        </p:nvPicPr>
        <p:blipFill>
          <a:blip r:embed="rId1"/>
          <a:stretch/>
        </p:blipFill>
        <p:spPr>
          <a:xfrm>
            <a:off x="817236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0">
    <p:wedg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37705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Мир, в котором мы живём, огромен, разнообразен и очень интересен. Устроен он чрезвычайно сложно, и вместе с тем во всём имеет строгий порядок, который управляется и поддерживается</a:t>
            </a:r>
            <a:br>
              <a:rPr sz="2000"/>
            </a:b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определёнными законами.</a:t>
            </a:r>
            <a:br>
              <a:rPr sz="2000"/>
            </a:b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000" y="5516280"/>
            <a:ext cx="793116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Мир, который нас окружает, - это </a:t>
            </a: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мир внешний,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 или </a:t>
            </a: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окружающий мир.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 Он велик и удивительно богат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95" name="Picture 11" descr="1"/>
          <p:cNvPicPr/>
          <p:nvPr/>
        </p:nvPicPr>
        <p:blipFill>
          <a:blip r:embed="rId1"/>
          <a:stretch/>
        </p:blipFill>
        <p:spPr>
          <a:xfrm>
            <a:off x="1403280" y="1413000"/>
            <a:ext cx="6264360" cy="407808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30000"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3106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Garamond"/>
              </a:rPr>
              <a:t>Но не менее богат и интересен </a:t>
            </a:r>
            <a:r>
              <a:rPr b="1" lang="ru-RU" sz="1800" spc="-1" strike="noStrike">
                <a:solidFill>
                  <a:srgbClr val="4b2500"/>
                </a:solidFill>
                <a:latin typeface="Garamond"/>
              </a:rPr>
              <a:t>внутренний</a:t>
            </a:r>
            <a:r>
              <a:rPr b="0" lang="ru-RU" sz="1800" spc="-1" strike="noStrike">
                <a:solidFill>
                  <a:srgbClr val="4b2500"/>
                </a:solidFill>
                <a:latin typeface="Garamond"/>
              </a:rPr>
              <a:t> мир человека. Каждую минуту человек о чём-то думает, что-то чувствует, например, радуется и думает, как поделиться своей радостью с другом. Именно внутри человека рождается какой-нибудь замечательный замысел, и только потом этот человек воплощает его, создавая книгу, песню или картину. Так мысль и желание одного человека пополняют наш общий внешний мир.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Garamond"/>
              </a:rPr>
              <a:t>Скажите, какое время года изображается на фотографии?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98" name="Picture 11" descr=""/>
          <p:cNvPicPr/>
          <p:nvPr/>
        </p:nvPicPr>
        <p:blipFill>
          <a:blip r:embed="rId1"/>
          <a:stretch/>
        </p:blipFill>
        <p:spPr>
          <a:xfrm>
            <a:off x="4500720" y="404640"/>
            <a:ext cx="4038480" cy="56883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30000"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79218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69564"/>
                </a:solidFill>
                <a:latin typeface="Garamond"/>
              </a:rPr>
              <a:t>А какое время года на этой фотографии?</a:t>
            </a:r>
            <a:endParaRPr b="1" lang="en-US" sz="2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201" name="Picture 7" descr="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826920" y="1052640"/>
            <a:ext cx="7715520" cy="55641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10000"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Посмотрите как изобразил осень И.И. Левитан в картине «Золотая осень»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940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Сияет солнце, воды блещут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На всём улыбка, жизнь во всём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Деревья радостно трепещут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Купаясь в небе голубом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Поют деревья, блещут воды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Любовью воздух растворён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И мир, цветущий мир природы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Избытком жизни упоён…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(Ф.И. Тютчев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05" name="Picture 9" descr="3"/>
          <p:cNvPicPr/>
          <p:nvPr/>
        </p:nvPicPr>
        <p:blipFill>
          <a:blip r:embed="rId1"/>
          <a:stretch/>
        </p:blipFill>
        <p:spPr>
          <a:xfrm>
            <a:off x="3924360" y="1916280"/>
            <a:ext cx="4762440" cy="316368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10000"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14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714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14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3140"/>
                            </p:stCondLst>
                            <p:childTnLst>
                              <p:par>
                                <p:cTn id="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614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914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214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14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814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3251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ир так велик, что мы можем видеть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только незначительную часть того, что в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нем происходит.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Благодаря тому, что люди умеют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ередавать свои знания, впечатления,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опыт друг другу, распространяются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знания о внешнем и даже внутренне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ире. Мы, например, живём в России, но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из учебников, журналов, книг може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ногое узнать о Франции, Америке,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Африке, даже можем знать, что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роисходило на земле тысячи лет назад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Но что такое узнать? Это значит, что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ие-то знания становятся наши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достоянием. Какую-то часть сведений,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для нас важных, мы принимаем в наш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утренний мир, запоминаем и може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ими пользоваться, когда захотим. Так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ир внешний входит в наш внутренний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ир. И внешний и внутренний мир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ажны для человека, вместе они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составляют его жизнь. Но внутреннее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оказывается важнее, чем внешнее.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08" name="Чайк.Вр.года.06.июнь.Баркар.Плетнев.mp3" descr=""/>
          <p:cNvPicPr/>
          <p:nvPr/>
        </p:nvPicPr>
        <p:blipFill>
          <a:blip r:embed="rId1"/>
          <a:stretch/>
        </p:blipFill>
        <p:spPr>
          <a:xfrm>
            <a:off x="4859280" y="7174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"/>
          <p:cNvPicPr/>
          <p:nvPr/>
        </p:nvPicPr>
        <p:blipFill>
          <a:blip r:embed="rId2"/>
          <a:stretch/>
        </p:blipFill>
        <p:spPr>
          <a:xfrm>
            <a:off x="5867280" y="4316400"/>
            <a:ext cx="2808360" cy="1854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" descr=""/>
          <p:cNvPicPr/>
          <p:nvPr/>
        </p:nvPicPr>
        <p:blipFill>
          <a:blip r:embed="rId3"/>
          <a:stretch/>
        </p:blipFill>
        <p:spPr>
          <a:xfrm>
            <a:off x="5867280" y="260280"/>
            <a:ext cx="2881440" cy="1901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8" descr=""/>
          <p:cNvPicPr/>
          <p:nvPr/>
        </p:nvPicPr>
        <p:blipFill>
          <a:blip r:embed="rId4"/>
          <a:stretch/>
        </p:blipFill>
        <p:spPr>
          <a:xfrm>
            <a:off x="4140360" y="2349360"/>
            <a:ext cx="2735280" cy="180504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40000">
    <p:wedg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34671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И внешний, и внутренний мир важны для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человека, вместе они составляют его жизнь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Но внутреннее оказывается важнее, че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ешнее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ешний мир зависит от нашего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утреннего состояния, наших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редставлений, чувств.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осмотрите на картины Айвазовского «Вид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Одессы  в лунную ночь» и «Морской берег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рощание» и опишите картины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Что вы видите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ое время суток изображено на картине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ого цвета небо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Есть ли на небе солнышко или облака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ие они?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Что они делают?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 они передвигаются?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ие звуки вы слышите в картинках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Звучит ли здесь музыка?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ая это музыка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Громкая или тихая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есёлая или грустная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оют ли в ней птицы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Холодно или тепло на этой картинке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Дует ли в ней ветер или нет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14" name="Picture 12" descr="4"/>
          <p:cNvPicPr/>
          <p:nvPr/>
        </p:nvPicPr>
        <p:blipFill>
          <a:blip r:embed="rId1"/>
          <a:stretch/>
        </p:blipFill>
        <p:spPr>
          <a:xfrm>
            <a:off x="4140360" y="404640"/>
            <a:ext cx="3228840" cy="2616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5"/>
          <p:cNvPicPr/>
          <p:nvPr/>
        </p:nvPicPr>
        <p:blipFill>
          <a:blip r:embed="rId2"/>
          <a:stretch/>
        </p:blipFill>
        <p:spPr>
          <a:xfrm>
            <a:off x="5148360" y="3068640"/>
            <a:ext cx="3558960" cy="30844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70000"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4038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Внутренний мир невидим, но проявляется в поступках, творчестве человека, накладывает отпечаток не только на всю его жизнь, но и на внешний облик: отражается на лице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18" name="Picture 11" descr=""/>
          <p:cNvPicPr/>
          <p:nvPr/>
        </p:nvPicPr>
        <p:blipFill>
          <a:blip r:embed="rId1"/>
          <a:stretch/>
        </p:blipFill>
        <p:spPr>
          <a:xfrm>
            <a:off x="5292720" y="333360"/>
            <a:ext cx="1814400" cy="2519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"/>
          <p:cNvPicPr/>
          <p:nvPr/>
        </p:nvPicPr>
        <p:blipFill>
          <a:blip r:embed="rId2"/>
          <a:stretch/>
        </p:blipFill>
        <p:spPr>
          <a:xfrm>
            <a:off x="7308720" y="2349360"/>
            <a:ext cx="1644840" cy="2446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"/>
          <p:cNvPicPr/>
          <p:nvPr/>
        </p:nvPicPr>
        <p:blipFill>
          <a:blip r:embed="rId3"/>
          <a:stretch/>
        </p:blipFill>
        <p:spPr>
          <a:xfrm>
            <a:off x="4859280" y="3213000"/>
            <a:ext cx="1668600" cy="25923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40000">
    <p:wedg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36831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Несчастный, злой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человек разрушает всё,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обижает даже самых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близких и дорогих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людей, а добрый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человек, излучающий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мир и радость вокруг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себя, восстанавливает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разрушенное, утешает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страдающих, помогает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нуждающимся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23" name="Picture 12" descr="6"/>
          <p:cNvPicPr/>
          <p:nvPr/>
        </p:nvPicPr>
        <p:blipFill>
          <a:blip r:embed="rId1"/>
          <a:stretch/>
        </p:blipFill>
        <p:spPr>
          <a:xfrm>
            <a:off x="4859280" y="404640"/>
            <a:ext cx="3994200" cy="57214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25000">
    <p:wedg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11:38:29Z</dcterms:modified>
  <cp:revision>18</cp:revision>
  <dc:subject/>
  <dc:title>PowerPoint Presentation</dc:title>
</cp:coreProperties>
</file>