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4162-E62B-4A04-8886-AFBA4EE30A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6D55-46E9-4007-9782-19C5EC6706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продолговатым мозгом находи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зже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мозжечк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кор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80EA-88BF-4373-A611-EDAE97D697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 связан с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редн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межуточным моз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805B-8FBA-42BA-86D6-325F911DD2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й мозг (на 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казан красным цветом) состоит из парн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ла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рительных бугров), разделенного 3-м желудочком мозга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таламу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дбугорьем)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9294-062A-4244-8A85-12E186BFAB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FC6B-9477-4D28-A075-EAF010E7B0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FEE8-8619-4A13-BC86-D0BF894C67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крупный отдел головного мозга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ьшие полуш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коры очень велика благодаря наличию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ви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роз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A1CC-2144-4A48-9F94-5F23C0F8E2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озды разделяют большие полушари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А)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б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мен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с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тыл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лобной доле находятся центры, управляющие мышечными движ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420D-EE0F-4A89-8655-64121A2B85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8951-A742-4CC3-AA18-25F19C4A28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он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Б, В). Однако анализ и синтез получаемой информации происходит не только в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009B-B8B6-42D0-BDAB-FBB5E6419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3C08-6AC4-4A85-9FD1-2870A478F1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C78D-3237-4FD7-A94A-4B715594D2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8A92-1D8B-4643-BC9A-6990BE04C4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63C1-091C-449C-9730-19A5889AB1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A4CF-03F2-4E46-8E66-B75BDC315A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F3B0-E4BC-4E0D-95C7-C2606574D4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9F12-ED53-4450-AED0-BE2A7E3C67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8E55-6949-4819-B855-2CCBA11F22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3369-05C0-4086-9E51-8308A73941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 нервных клеток, образующи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р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ся как на поверхности мозга (в коре), так и внутри него сред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л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4F3B-88E4-4795-AD72-B225320574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4927-39BA-4F81-9F82-1DDEC69C66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делы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имеет сложное строение, он состоит из нескольких отделов (рис. 8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1F4F-B131-4EF5-A2AB-ABE10AAFE9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связывает его с другими отделами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BD5E-B046-48B9-8401-31B9561727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CB7-81CB-41F4-8BA7-15B1B3C3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D63-20DD-4FAC-946E-4F7391AF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4B7-F4BF-4D19-BE86-079691E3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FB4-A464-43DF-ACB0-723C9841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5643-AE9D-4AFA-9E68-D8FA7A3F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77DD-90F6-4AEC-9D92-E283F331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788F-9E14-440F-8BA8-EE6A66AE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5BAD-3564-4405-9495-B82A2E35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9E31-6767-4F42-BDE0-0912FFB0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4BB3-65DC-4BDB-8687-CEEBDA25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118A-5B28-40DA-8E97-5199B7BB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993-3C01-439C-90C7-88CF77DD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44A0-DDDA-419D-9383-91F6FD0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051B-5753-4803-95A1-3EACF575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F937-3B0A-41D3-BE60-3AD37D35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9A1D-71DF-4FD3-8035-42BACB30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A2DE-DF8C-45F4-BF71-63210DB9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F49-0A91-4574-B9E6-CEB0F2A3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627-8BBA-4631-84DC-36F21A1B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377-7566-4EE2-98EA-AA2C5211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3AE-7E4A-4293-9978-458B6C9B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5B8-3D8B-438F-8E4A-74E2B539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4AA-6C58-4FF6-97B3-FAF901EA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41C-9923-4A31-8ED5-48A607D3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B1E0-DEAF-415F-B6DC-FC048E4D4EB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A99D-8BD7-4F53-9E61-554CDED78F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продолговатым мозгом находи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мозжечк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кора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говатый мозг связан с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редни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межуточным мозг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ый мозг (на 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казан красным цветом) состоит из парног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аламу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зрительных бугров), разделенного 3-м желудочком мозга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подбугорьем)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ый крупный отдел голов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р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коры очень велика благодаря наличию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звил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роз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розды разделяют большие полушария н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л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А)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об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емен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ис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атыл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лобной доле находятся центры, управляющие мышечными движени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н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Б, В). Однако анализ и синтез получаемой информации происходит не только в ни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res234D0F96-6FA1-4E9B-8E0D-BACE59BBE5A5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es359512E0-99CF-40D4-B39A-7C069BE13D08"/>
          <p:cNvPicPr/>
          <p:nvPr/>
        </p:nvPicPr>
        <p:blipFill>
          <a:blip r:embed="rId1"/>
          <a:stretch/>
        </p:blipFill>
        <p:spPr>
          <a:xfrm>
            <a:off x="1619280" y="404640"/>
            <a:ext cx="57610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а нервных клеток, образующих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ое вещ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ходятся как на поверхности мозга (в коре), так и внутри него сред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ого вещ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тделы головного мозг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ловной мозг имеет сложное строение, он состоит из нескольких отделов (рис. 8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es2654A160-5E11-4387-8C58-30AB320A21B8"/>
          <p:cNvPicPr/>
          <p:nvPr/>
        </p:nvPicPr>
        <p:blipFill>
          <a:blip r:embed="rId1"/>
          <a:stretch/>
        </p:blipFill>
        <p:spPr>
          <a:xfrm>
            <a:off x="900000" y="2276640"/>
            <a:ext cx="705672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с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связывает его с другими отделами головного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7:06Z</dcterms:created>
  <dc:creator>54</dc:creator>
  <dc:description/>
  <dc:language>en-US</dc:language>
  <cp:lastModifiedBy>LEGION</cp:lastModifiedBy>
  <dcterms:modified xsi:type="dcterms:W3CDTF">2014-11-24T10:56:25Z</dcterms:modified>
  <cp:revision>4</cp:revision>
  <dc:subject/>
  <dc:title>§ 50. Головной мозг: строение и функции</dc:title>
</cp:coreProperties>
</file>