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04A3-657A-4052-8236-08BFC92222D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F745-1094-4CC4-98F8-4ADC606638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 продолговатым мозгом находи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зжеч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верхность мозжечк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кор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ена серым веществом и имеет множество складок, извилин, борозд. Внутри мозжечка имеются ядра – скопления серого ве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7F8E-B95E-4EDE-91E9-B0845466CE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жечок обеспечивает согласованность движений, равновесие тела и координацию дви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 связан с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редн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межуточным моз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и отделы регулируют сложные двигательные рефлексы, обмен веществ и постоянство внутренн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1F05-A841-4443-AD8E-AF9029BA0F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ый мозг (на 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казан красным цветом) состоит из парн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лам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рительных бугров), разделенного 3-м желудочком мозга (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ипоталаму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одбугорьем) (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5922-E872-49D1-B07C-0F7B1146DA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ламус сходится вся информация от органов чувств. Они отсеивают малозначащие сведения и активизируют кору при получении важных для организма событий. В гипоталамусе сосредоточены вегетативные функции моз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E95D-FCCE-487D-A0D1-9E3D4D14EC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располагаются центры голода и насыщения, жажды и ее утоления, поддержания температуры тела на заданном уровне. Нейроны подбугорья посылают нейрогормоны, регулирующие работу гипоф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DB77-7D71-44A1-9150-B97466731D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крупный отдел головного мозга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ьшие полуша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авое и левое (рис. 81). Левое полушарие управляет правой половиной тела, правое – левой. Полушария име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верхность коры очень велика благодаря наличию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ви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роз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7582-6965-4AC8-BD4A-21068683C4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озды разделяют большие полушария 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ис. 81, А)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б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емен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соч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тылоч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лобной доле находятся центры, управляющие мышечными движ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AF5F-42C0-4F47-920B-6C50A8F979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определяются цели деятельности и оцениваются ее результаты. Теменная доля связана с кожно-мышечной чувствительностью, затылочные – со зрением, височные – со слух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64CB-B1E2-4B45-A67D-D3136A1238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ки мозга, воспринимающие информацию от тех или иных органов чувств,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он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ис. 81, Б, В). Однако анализ и синтез получаемой информации происходит не только в 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4D22-FC3A-486A-A507-D7282287D2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сложной работе участвуют вся кора в целом и многие другие отделы мозга. У правшей в левом полушарии находятся речевые центры. У некоторых левшей они находятся в правом полушарии. Кора полушарий регулирует и контролирует работу всех орга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3348-992D-4A29-B4A4-2A83AD2928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асположен спинной мозг? Какое значение имеет спинно-мозговая жидкость? Где она находи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те рис. 77. Найдите спинно-мозговой канал, центральный канал, серое и белое вещество. Объясните их зна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3071-23B5-47F4-A83E-E0027B2EE3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ункционированием головного мозга, и в частности коры больших полушарий, связаны сознание человека, его память, мышление, речь, трудовая деятельность, т.е. все, что отличает человека от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6C48-CB3B-4153-BFB3-5D1E0289A0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расположен в полости черепа. Тела нейронов находятся в сером веществе головного мозга. Поверхностный слой серого вещества больших полушарий и мозжечка образует кору, внутри мозга оно сосредоточено отдельными островками среди белого вещества. Эти островки серого вещества называются ядрами. В них находятся центры важных рефлек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8D6A-3FF8-49D2-9B76-68EFFA7459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, являясь продолжением спинного, по строению и функциям не отличается от него. Проводящие пути продолговатого мозга идут через мост в средний и промежуточный мозг и заканчиваются в коре. Особенно тесные связи имеются между продолговатым мозгом, средним и мозжечком. Чем выше располагаются отделы мозга, тем более сложную функцию они выполня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B4A2-83A6-4CE6-8A88-27F0D15D8B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е полушария подразделяются на лобные, теменные, затылочные и височные доли. В лобных долях находятся моторные зоны, здесь формируются сложные программы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AB34-BD1E-43FE-BDA1-E55AD5DB50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менных долях находятся зоны кожно-мышечной чувствительности, в затылочных – зрительные зоны, в височных – слуховые зоны. Речевые центры у всех правшей и у многих левшей находятся в левом полушарии. В коре больших полушарий завершается аналитико-синтетическая работа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FCB8-1F82-4C55-9F3B-017C216A29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йдите на рис. 77 спинно-мозговые ганглии и ганглии симпатического ствола. Укажите, где показаны эти ганглии на рисунках, изображающих дуги соматического и автономного (вегетативного) рефлек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7588-8B0E-464D-BE0C-3DFA743764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находится в полости черепа. Твердая оболочка головного мозга отделена от мягких тканей щелью со спинно-мозговой жидкостью. Богатая сеть кровеносных сосудов снабжает ткани мозга кислородом и питательными веществами. Масса головного мозга составляет в среднем 1300–1400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53E5-5C18-4AEE-8039-07FA969AEC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а нервных клеток, образующих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ерое веще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ходятся как на поверхности мозга (в коре), так и внутри него сред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елог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виде ядер). От головного мозга отходит 12 пар нервов, среди них блуждающий, регулирующий работу внутренних орга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DC29-10AD-42E6-83E4-A1E71D1DE5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оходит рядом с симпатическим стволом и дает ответвления к тем же органам, что и симпатический нерв. Чаще всего их действия противополож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FE55-F655-462B-A3FC-9B3E09BB28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делы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имеет сложное строение, он состоит из нескольких отделов (рис. 8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4CCA-145F-473E-A5AF-7B2F14089F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продолжением спинного мозга (см. также § 49). Он управляет сердечной деятельностью, дыханием, пищеварением и потоотделением. Продолговатый мозг переходит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связывает его с другими отделами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829D-A374-4B88-91B9-3B3360AC25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EDF-AD04-45CE-812D-57D395E5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55B-C0A5-44C2-9E52-3CE4B9BF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FB7-C39A-4602-9865-17F17619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2B9-B6C5-4028-9199-715108C7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F511-5414-48C9-BC5E-8EA2AE8F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4708-96A0-4D86-A90A-F1528132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6FBA-A666-4C72-990E-16B82353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F7BE-6AD3-4BAC-840A-28406AB8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476B-4A17-4BB7-A88D-075F18EE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2A23-21FB-4B01-A3B8-994C10BD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4F3B-E069-488D-97E2-A97B07C1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838E-B9B4-4B2D-A368-DB0F636C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6895-7AC7-4E02-9E3A-AB295DF2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E283-7DAB-44D9-BEDF-850B5884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A520-9A99-4FD5-BA4B-2EE5C8F4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68CD-690B-4795-AC32-CE3DD06B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A0AA-ED23-476F-B91E-732CF381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0C9E-05CC-4028-B2D6-CC3420E3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322-A0AD-41CF-A654-5FFA5F0A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283-2A2E-42CD-A78A-624273C9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E37-F305-401F-8E25-DF1245F4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6D7-2FFF-4C48-865F-13D4FBA3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E054-728D-4EC7-BE6F-77785E03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3120-39E7-4065-8F6E-89DA5DD5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D0D4-A277-42E7-BEB5-915C3B287C3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D171-2B9A-49AD-BD13-8587711770C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§ 50. Головной мозг: строение и функции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д продолговатым мозгом находится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Поверхность мозжечка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кора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редставлена серым веществом и имеет множество складок, извилин, борозд. Внутри мозжечка имеются ядра – скопления серого вещест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зжечок обеспечивает согласованность движений, равновесие тела и координацию движ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олговатый мозг связан со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редни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ромежуточным мозг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Эти отделы регулируют сложные двигательные рефлексы, обмен веществ и постоянство внутренней сре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ый мозг (на 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казан красным цветом) состоит из парного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аламус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зрительных бугров), разделенного 3-м желудочком мозга (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ипоталамус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подбугорьем) (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аламус сходится вся информация от органов чувств. Они отсеивают малозначащие сведения и активизируют кору при получении важных для организма событий. В гипоталамусе сосредоточены вегетативные функции мозг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располагаются центры голода и насыщения, жажды и ее утоления, поддержания температуры тела на заданном уровне. Нейроны подбугорья посылают нейрогормоны, регулирующие работу гипофиз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ый крупный отдел головного мозга –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ольшие полушар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авое и левое (рис. 81). Левое полушарие управляет правой половиной тела, правое – левой. Полушария име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ор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Поверхность коры очень велика благодаря наличию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звили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ороз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розды разделяют большие полушария на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ол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рис. 81, А)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лобну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еменну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исо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атыло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В лобной доле находятся центры, управляющие мышечными движения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определяются цели деятельности и оцениваются ее результаты. Теменная доля связана с кожно-мышечной чувствительностью, затылочные – со зрением, височные – со слух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астки мозга, воспринимающие информацию от тех или иных органов чувств, называ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она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рис. 81, Б, В). Однако анализ и синтез получаемой информации происходит не только в ни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этой сложной работе участвуют вся кора в целом и многие другие отделы мозга. У правшей в левом полушарии находятся речевые центры. У некоторых левшей они находятся в правом полушарии. Кора полушарий регулирует и контролирует работу всех орган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де расположен спинной мозг? Какое значение имеет спинно-мозговая жидкость? Где она находитс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мотрите рис. 77. Найдите спинно-мозговой канал, центральный канал, серое и белое вещество. Объясните их значен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функционированием головного мозга, и в частности коры больших полушарий, связаны сознание человека, его память, мышление, речь, трудовая деятельность, т.е. все, что отличает человека от живот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res234D0F96-6FA1-4E9B-8E0D-BACE59BBE5A5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120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ыв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ловной мозг расположен в полости черепа. Тела нейронов находятся в сером веществе головного мозга. Поверхностный слой серого вещества больших полушарий и мозжечка образует кору, внутри мозга оно сосредоточено отдельными островками среди белого вещества. Эти островки серого вещества называются ядрами. В них находятся центры важных рефлек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долговатый мозг, являясь продолжением спинного, по строению и функциям не отличается от него. Проводящие пути продолговатого мозга идут через мост в средний и промежуточный мозг и заканчиваются в коре. Особенно тесные связи имеются между продолговатым мозгом, средним и мозжечком. Чем выше располагаются отделы мозга, тем более сложную функцию они выполня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льшие полушария подразделяются на лобные, теменные, затылочные и височные доли. В лобных долях находятся моторные зоны, здесь формируются сложные программы повед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еменных долях находятся зоны кожно-мышечной чувствительности, в затылочных – зрительные зоны, в височных – слуховые зоны. Речевые центры у всех правшей и у многих левшей находятся в левом полушарии. В коре больших полушарий завершается аналитико-синтетическая работа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 Найдите на рис. 77 спинно-мозговые ганглии и ганглии симпатического ствола. Укажите, где показаны эти ганглии на рисунках, изображающих дуги соматического и автономного (вегетативного) рефлекс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es359512E0-99CF-40D4-B39A-7C069BE13D08"/>
          <p:cNvPicPr/>
          <p:nvPr/>
        </p:nvPicPr>
        <p:blipFill>
          <a:blip r:embed="rId1"/>
          <a:stretch/>
        </p:blipFill>
        <p:spPr>
          <a:xfrm>
            <a:off x="1619280" y="404640"/>
            <a:ext cx="5761080" cy="6120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ловной мозг находится в полости черепа. Твердая оболочка головного мозга отделена от мягких тканей щелью со спинно-мозговой жидкостью. Богатая сеть кровеносных сосудов снабжает ткани мозга кислородом и питательными веществами. Масса головного мозга составляет в среднем 1300–1400 г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ла нервных клеток, образующих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ерое веществ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находятся как на поверхности мозга (в коре), так и внутри него сред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елого вещ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в виде ядер). От головного мозга отходит 12 пар нервов, среди них блуждающий, регулирующий работу внутренних орган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 проходит рядом с симпатическим стволом и дает ответвления к тем же органам, что и симпатический нерв. Чаще всего их действия противополож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тделы головного мозг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ловной мозг имеет сложное строение, он состоит из нескольких отделов (рис. 8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res2654A160-5E11-4387-8C58-30AB320A21B8"/>
          <p:cNvPicPr/>
          <p:nvPr/>
        </p:nvPicPr>
        <p:blipFill>
          <a:blip r:embed="rId1"/>
          <a:stretch/>
        </p:blipFill>
        <p:spPr>
          <a:xfrm>
            <a:off x="900000" y="2276640"/>
            <a:ext cx="7056720" cy="424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является продолжением спинного мозга (см. также § 49). Он управляет сердечной деятельностью, дыханием, пищеварением и потоотделением. Продолговатый мозг переходит в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ос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который связывает его с другими отделами головного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4:57:06Z</dcterms:created>
  <dc:creator>54</dc:creator>
  <dc:description/>
  <dc:language>en-US</dc:language>
  <cp:lastModifiedBy>LEGION</cp:lastModifiedBy>
  <dcterms:modified xsi:type="dcterms:W3CDTF">2014-11-24T10:56:25Z</dcterms:modified>
  <cp:revision>4</cp:revision>
  <dc:subject/>
  <dc:title>§ 50. Головной мозг: строение и функции</dc:title>
</cp:coreProperties>
</file>