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15C4-1593-49F2-BA3F-A928E61926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ХИМ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39B8-423F-44EC-AC2C-FC3F682391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Химизация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8D3-016A-4A9B-A984-18CBDBEB5BC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Impact"/>
              </a:rPr>
              <a:t>БАКТЕРИАЛЬНЫЙ РАК ТО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6A49-BF40-4D8C-BC62-C563C59125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483-C764-4E6F-B4B2-DA6AEB16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AC6-861C-4D30-B558-3BD1C500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FBE-2B02-4F50-99EB-3819A63D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EDE-5312-4819-9D55-C2EB5C52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44B-2E81-4DC6-A854-0F8EC5D8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E88-962F-4977-91B7-1DC69684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19A-BE57-4829-A7C7-6648BE91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EC8-8F44-444F-B0D3-83C8DA78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C85-6A01-4BC8-A3AB-CC387063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89B-04E3-4032-89C0-153BB351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F63-24D0-4C9F-9632-9554A391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440-4DAB-485A-B10E-051F9F68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E88E-D648-44B5-8145-7133FE3ACE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le_pos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971640" y="333360"/>
            <a:ext cx="6913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Я В СЕЛЬСКОМ ХОЗЯЙСТВЕ</a:t>
            </a:r>
            <a:endParaRPr b="0" lang="en-US" sz="2400" spc="1" strike="noStrike">
              <a:ln w="19080">
                <a:solidFill>
                  <a:srgbClr val="00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02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79280" y="3362760"/>
            <a:ext cx="6408720" cy="3080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Химизаци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vine-02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41998001i2[1]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1[1]"/>
          <p:cNvPicPr/>
          <p:nvPr/>
        </p:nvPicPr>
        <p:blipFill>
          <a:blip r:embed="rId1"/>
          <a:stretch/>
        </p:blipFill>
        <p:spPr>
          <a:xfrm>
            <a:off x="1042920" y="836640"/>
            <a:ext cx="7129440" cy="5184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r7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283488184[1]"/>
          <p:cNvPicPr/>
          <p:nvPr/>
        </p:nvPicPr>
        <p:blipFill>
          <a:blip r:embed="rId1"/>
          <a:stretch/>
        </p:blipFill>
        <p:spPr>
          <a:xfrm>
            <a:off x="0" y="0"/>
            <a:ext cx="7489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50920" y="0"/>
            <a:ext cx="8569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КТЕРИАЛЬНЫЙ РАК ТОМАТ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111_4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763640" y="2997360"/>
            <a:ext cx="280044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ММОЗ ХЛОПЧАТНИ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508720" y="2997360"/>
            <a:ext cx="3233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ТЕРИАЛЬНАЯ РЯБУХА ТАБА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108000" y="6381720"/>
            <a:ext cx="33066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ЕБРИСТАЯ БОЛЕЗНЬ СВЕКЛЫ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r_agr_00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979640" y="5445000"/>
            <a:ext cx="46800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ЕЦ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0:56:54Z</dcterms:modified>
  <cp:revision>6</cp:revision>
  <dc:subject/>
  <dc:title>PowerPoint Presentation</dc:title>
</cp:coreProperties>
</file>