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84CD-C83C-4C47-A005-2A07AF51C86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ХИМ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AC0E-5590-4DCC-AFB7-A7E3AD0C0A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ff00"/>
                </a:solidFill>
                <a:uFillTx/>
                <a:latin typeface="Calibri"/>
              </a:rPr>
              <a:t>Химизация</a:t>
            </a:r>
            <a:r>
              <a:rPr b="1" lang="en-US" sz="1200" spc="-1" strike="noStrike">
                <a:solidFill>
                  <a:srgbClr val="ffff00"/>
                </a:solidFill>
                <a:latin typeface="Calibri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8CA9-6B50-40FB-A60B-939DCA35096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00ff"/>
                </a:solidFill>
                <a:latin typeface="Impact"/>
              </a:rPr>
              <a:t>БАКТЕРИАЛЬНЫЙ РАК ТОМ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45D9-5DAA-4D11-BF84-31FA8C744A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D379-671B-4D7D-9817-48688907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EE2-E509-44EB-B9C7-C283FC97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9D0C-C6B1-4B19-BB4A-79F66A6F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7CA9-9409-42D8-ACE6-E225A62A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D9DD-C931-49BD-8111-02C4192F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60C-9EEF-408B-A145-50A8438B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FA87-36AF-4A3C-A188-74DDDE98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E51-CF91-43A4-A583-F808466B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A516-51C1-43B0-8390-822B05D6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2338-1B9F-483D-A580-A26C5273C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4C3-B83C-4706-962C-2DBC273E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F82-6C63-43D1-8D52-687C607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3EA8F-8CAC-4858-887E-FD8B8206E4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ole_posa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971640" y="333360"/>
            <a:ext cx="691344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ИМИЯ В СЕЛЬСКОМ ХОЗЯЙСТВЕ</a:t>
            </a:r>
            <a:endParaRPr b="0" lang="en-US" sz="2400" spc="1" strike="noStrike">
              <a:ln w="19080">
                <a:solidFill>
                  <a:srgbClr val="00ff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3024_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179280" y="3362760"/>
            <a:ext cx="6408720" cy="30801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Химизация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— это одно из направлений научно-техниче­ского прогресса, основанное на широком применении химиче­ских веществ, процессов и методов в различных отраслях, на­пример в сельском хозяйств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vine-02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041998001i2[1]"/>
          <p:cNvPicPr/>
          <p:nvPr/>
        </p:nvPicPr>
        <p:blipFill>
          <a:blip r:embed="rId1"/>
          <a:stretch/>
        </p:blipFill>
        <p:spPr>
          <a:xfrm>
            <a:off x="324000" y="0"/>
            <a:ext cx="8496000" cy="47530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img1[1]"/>
          <p:cNvPicPr/>
          <p:nvPr/>
        </p:nvPicPr>
        <p:blipFill>
          <a:blip r:embed="rId1"/>
          <a:stretch/>
        </p:blipFill>
        <p:spPr>
          <a:xfrm>
            <a:off x="1042920" y="836640"/>
            <a:ext cx="7129440" cy="51847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gr7a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0283488184[1]"/>
          <p:cNvPicPr/>
          <p:nvPr/>
        </p:nvPicPr>
        <p:blipFill>
          <a:blip r:embed="rId1"/>
          <a:stretch/>
        </p:blipFill>
        <p:spPr>
          <a:xfrm>
            <a:off x="0" y="0"/>
            <a:ext cx="74898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WordArt 5"/>
          <p:cNvSpPr txBox="1"/>
          <p:nvPr/>
        </p:nvSpPr>
        <p:spPr>
          <a:xfrm>
            <a:off x="250920" y="0"/>
            <a:ext cx="8569080" cy="86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АКТЕРИАЛЬНЫЙ РАК ТОМАТ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st111_47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WordArt 5"/>
          <p:cNvSpPr txBox="1"/>
          <p:nvPr/>
        </p:nvSpPr>
        <p:spPr>
          <a:xfrm>
            <a:off x="1763640" y="2997360"/>
            <a:ext cx="280044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ОММОЗ ХЛОПЧАТНИ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7" name="WordArt 6"/>
          <p:cNvSpPr txBox="1"/>
          <p:nvPr/>
        </p:nvSpPr>
        <p:spPr>
          <a:xfrm>
            <a:off x="5508720" y="2997360"/>
            <a:ext cx="32335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АКТЕРИАЛЬНАЯ РЯБУХА ТАБАКА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WordArt 7"/>
          <p:cNvSpPr txBox="1"/>
          <p:nvPr/>
        </p:nvSpPr>
        <p:spPr>
          <a:xfrm>
            <a:off x="108000" y="6381720"/>
            <a:ext cx="330660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ЕРЕБРИСТАЯ БОЛЕЗНЬ СВЕКЛЫ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Bir_agr_00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979640" y="5445000"/>
            <a:ext cx="4680000" cy="114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1-24T10:56:54Z</dcterms:modified>
  <cp:revision>6</cp:revision>
  <dc:subject/>
  <dc:title>PowerPoint Presentation</dc:title>
</cp:coreProperties>
</file>