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26E1-B4BE-465E-999B-F7A4CF2FFD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ХИМ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0F71-11E8-4918-8837-602921D25B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Химизация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9FD9-52B7-4B41-AF8A-5C507E52B2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Impact"/>
              </a:rPr>
              <a:t>БАКТЕРИАЛЬНЫЙ РАК ТО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F5B2-45DD-4B05-9EC5-14E0DA3DFE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F77-5411-4A63-A1F1-CAA0D0E1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249-E795-4BEA-8361-344B7924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402-DD9E-4172-8698-932D59CA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9F7-9F81-414C-B551-311C1C56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A4B-8BF2-473A-9C40-E65CCB77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D36-B41A-4CAE-A88F-0F6447B3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7D2-F65E-433C-9C8E-B7A41EA5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AFA-4DCD-4A4D-A8C3-890B036B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205-DC93-42A6-A30D-B861EC88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2C1-DBD6-4F99-948E-18D2FCDB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319-FE21-426F-851D-06A2677D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14FC-24FB-4943-87E4-8E0D40AD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53B3-7581-46E3-B95B-ABAF585371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le_pos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971640" y="333360"/>
            <a:ext cx="6913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Я В СЕЛЬСКОМ ХОЗЯЙСТВЕ</a:t>
            </a:r>
            <a:endParaRPr b="0" lang="en-US" sz="2400" spc="1" strike="noStrike">
              <a:ln w="19080">
                <a:solidFill>
                  <a:srgbClr val="00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02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3362760"/>
            <a:ext cx="6408720" cy="3080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Химизаци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vine-02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41998001i2[1]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1[1]"/>
          <p:cNvPicPr/>
          <p:nvPr/>
        </p:nvPicPr>
        <p:blipFill>
          <a:blip r:embed="rId1"/>
          <a:stretch/>
        </p:blipFill>
        <p:spPr>
          <a:xfrm>
            <a:off x="1042920" y="836640"/>
            <a:ext cx="7129440" cy="5184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r7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283488184[1]"/>
          <p:cNvPicPr/>
          <p:nvPr/>
        </p:nvPicPr>
        <p:blipFill>
          <a:blip r:embed="rId1"/>
          <a:stretch/>
        </p:blipFill>
        <p:spPr>
          <a:xfrm>
            <a:off x="0" y="0"/>
            <a:ext cx="7489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50920" y="0"/>
            <a:ext cx="8569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КТЕРИАЛЬНЫЙ РАК ТОМАТ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111_4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763640" y="2997360"/>
            <a:ext cx="280044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ММОЗ ХЛОПЧАТН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508720" y="2997360"/>
            <a:ext cx="3233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АЛЬНАЯ РЯБУХА ТАБА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108000" y="6381720"/>
            <a:ext cx="33066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ЕБРИСТАЯ БОЛЕЗНЬ СВЕКЛЫ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r_agr_0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979640" y="5445000"/>
            <a:ext cx="46800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0:56:54Z</dcterms:modified>
  <cp:revision>6</cp:revision>
  <dc:subject/>
  <dc:title>PowerPoint Presentation</dc:title>
</cp:coreProperties>
</file>