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10.png" ContentType="image/png"/>
  <Override PartName="/ppt/media/image2.gif" ContentType="image/gif"/>
  <Override PartName="/ppt/media/image6.png" ContentType="image/png"/>
  <Override PartName="/ppt/media/image11.png" ContentType="image/png"/>
  <Override PartName="/ppt/media/image3.png" ContentType="image/png"/>
  <Override PartName="/ppt/media/image4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4820D-2896-4249-B7C1-069FC51D35F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мунная система организ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Урок-презентация для учащихся 9 класс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итель: учитель естествознания ГСКОУ № 46 «Центр Рим» г.С-Пб Оспенникова М.П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84056-0049-45C9-BFC2-D3DEE4C13A2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Calibri"/>
              </a:rPr>
              <a:t>Процесс поглощения бактерий фагоцит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B24A3-9008-4362-AEAA-29CDDD2CF16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етки крови под микроскоп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79EC6-44D7-44DE-B4DD-016E2C6FD0B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9900"/>
                </a:solidFill>
                <a:latin typeface="Calibri"/>
              </a:rPr>
              <a:t>Вирус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ru-RU" sz="1000" spc="-1" strike="noStrike">
                <a:solidFill>
                  <a:srgbClr val="ff0000"/>
                </a:solidFill>
                <a:latin typeface="Calibri"/>
              </a:rPr>
              <a:t>ЛЕЙКОЦИ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55B5D-107B-4868-8E67-79B897787FA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в организм попали возбудители болезни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мфоциты вырабатывают специальные белки -  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антитела,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торые борются с конкретным возбудителем.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35A67-6A14-4074-86FC-345CF2E7442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перь, когда мы так много узнали о защитной функции крови, уточним следующие понят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Calibri"/>
              </a:rPr>
              <a:t>Иммунитет -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щитная реакция организма, оберегающая от инфекционных заболеван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449C0-AA9E-44DB-BFB9-577223C73AC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бы человек не заболел, ему вводят вакцину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0000"/>
                </a:solidFill>
                <a:latin typeface="Calibri"/>
              </a:rPr>
              <a:t>Вакцин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медицинский препарат, предназначенный для выработки иммунитета к инфекционным заболеваниям и содержащий ослабленные микроорганиз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E562F-14C5-4D84-8279-9A8455A9DD0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человек уже заболел, ему вводят сыворотку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Сыворотк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– плазма крови, в которой находятся готовые антител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искусственный пассивный иммунитет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3F835-742A-416D-AE2A-49C64BDE1F6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то управляет иммунной системо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мунитетом управляет головной мозг, вернее часть мозга, которая называется  ГИПОТАЛАМУ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BBA93-E670-47B3-8465-EAA7685DD2C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ормальное функционирование иммунной системы зависи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от образа жизни – 5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от окружающей среды – 2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от наследственных факторов – 2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от качества медицинских услуг – 1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606D0-D567-45AE-99C1-FD5B22B9E92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Рецепт»  для укрепления иммуните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блюдение режи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ильное и здоровое пит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дых на свежем воздух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каз от вредных привыче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ещение развлекательных заведений во время эпидем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огое соблюдение правил личной гигие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евременное посещение лечащего врача, своевременные привив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02DAE-A730-4E45-83FB-6E9B5ED11F7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тешествие в страну «</a:t>
            </a:r>
            <a:r>
              <a:rPr b="0" lang="ru-RU" sz="1200" spc="-1" strike="noStrike">
                <a:solidFill>
                  <a:srgbClr val="c4bd97"/>
                </a:solidFill>
                <a:latin typeface="Calibri"/>
              </a:rPr>
              <a:t>Иммунитет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17ABD-AD2F-4674-8FCD-19E0C72BE93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помните, ребята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лько соблюдая  мои «рецепты» вы сохраните свое здоровье и укрепите иммунитет. Именно он защитит вас от инфекционных заболеваний и  СПИ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филактические прививки не позволят бактериям и вирусам «захватить» ваш организм и победа будет на вашей стороне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4232E-AF83-4A75-BF69-2939AAC2843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помните, иммунитет дан вам от природы, а теряет его человек. Берегите этот ценный дар!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450CB-136E-40D6-9EAC-C3994E9DA65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спользованные Интернет ресурс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images.yandex.ru/yandsearch?ed=1&amp;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images.yandex.ru/yandsearch?rpt=simage&amp;ed=1&amp;te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ttp://images.yandex.ru/yandsearch?rpt=simage&amp;ed=1&amp;texthttp://img1.liveinternet.ru/images/attach/c/2/66/198/66198115_0_37227_dab5afe7_XL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im7-tub-ru.yandex.net/i?id=362345054-12-7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.А.Попова. «Открытые уроки. Природоведение. Биология.» Москва, ВАКО, 2010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E6DC9-B7C7-454B-AECB-ADEB2A6B180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Давайте попробуем составить несложный синквейн на заданную тему:</a:t>
            </a:r>
            <a:br>
              <a:rPr sz="11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A0EB4-C91C-4B18-B535-B36B35A278E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Давайте попробуем составить несложный синквейн на заданную тему:</a:t>
            </a:r>
            <a:br>
              <a:rPr sz="11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50ECB-0EB9-4640-9E7D-1CBE855743D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мунит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рожденный, крепкий, ослабленный приобретенны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левает, сохраняет, оберега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доровье, жизнь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РЕГИ 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05582-C7A9-4CE4-9AC9-A9EE7BA4D40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5f4ed"/>
                </a:solidFill>
                <a:latin typeface="Calibri"/>
              </a:rPr>
              <a:t>Здравствуйте, ребята! Чтобы попасть в страну «Иммунитет», надо решить  следующие тестовые задания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Эритроциты – это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белые клетки кров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кровяные пластин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красные клетки кров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E3221-C1EB-49A2-B29E-6BE5BA17C9F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Функции лейкоцит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транспорт кислоро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защита организма от инфек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участие в свертывании кров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57D8D-08D3-488C-9EE1-C117C1A54F3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Малокровие – это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повышенное содержание эритроцитов в кров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недостаток в крови лейкоцит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недостаток в крови эритроци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37F7D-403C-41B3-AA40-839731BD9E4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Эритроциты образуются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в печен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в селезенк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в красном костном мозг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89D32-08E1-45FE-8785-E2F1066DCBD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ы прекрасно справились с заданием и получаете пропуск!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м человека – сложная система с четко организованной работой каждого составляюще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ако эту систему постоянно атакуют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бактерии, грибки и вирус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D4C2B-2098-4609-913A-544671237F7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мунная система должна быть в постоянной готовности и окутывает организм со всех сторон. Однако организм может быть атакован через небольшие ранения и ссади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40FB1-8640-45FE-9149-B185838404A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В бой идут… фагоци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агоци́т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клетки иммунной системы, которые защищают организм путём поглощения (фагоцитоза) вредных чужеродных частиц, бактерий, а также мёртвых или погибающих клеток. Их название произошло от греческого phagein, «есть» или «поедать», и «-cyte» – клет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131E3-2AA0-46E8-8110-3D83B7BF177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4D58DC-60B0-4F89-BE75-45B21BECC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5F81D-6984-4B31-BFE6-065639BC9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CF12AD-AC02-4A03-888F-5A2CB3670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FE0C2A-32E2-4B83-90E7-33351AD96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5352B-C8DB-4DE2-BD36-8B9D84B8B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B95E3-C282-4F8D-9AED-4661AFA2B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6EAA4-1ECC-4B0A-850F-19709A8EE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FE5D3-3009-4B75-88DC-EFDBCDE91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65BAD-5C8F-4C93-B3E7-50E88616A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2644E-3469-4AFB-9AF7-886F28377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7462E-76AE-4B13-A60D-359A8C5D5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ED34D2-9BC2-4A85-B93F-261E79C36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AEA12-CDBE-45A2-BFA7-DFB6963F3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EFE34-9EB1-445D-A54B-38948D322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A2A00-971B-4FE1-BF48-BF751F2EB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8A05A-B27F-451A-B7BA-000E888A6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9A6D1-1802-4352-AA0D-91BDEA91B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4E4CB3-4436-44FC-A833-456B5060E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D9022E-2950-4F8E-B968-86102F6C4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41F505-45F9-4D48-B944-344CC5B87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D27399-D2E1-4A11-9B4E-B322360BF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5DA927-0380-4A7D-87CA-6ABA57681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2714CA-CAED-4B4E-A6CB-528D12B53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5488DE-6C3B-43B9-B58C-5189A0ABB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B2C3C-80C2-43D6-9BC2-8CACA7918F7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35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2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6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22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7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6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03997-5199-4821-8B6E-F57D1AB6790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ffff"/>
                </a:solidFill>
                <a:latin typeface="Arial"/>
              </a:rPr>
              <a:t>Иммунная система организма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рок-презентация для учащихся 9 клас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ставитель: учитель естествознания ГСКОУ № 46 «Центр Рим» г.С-Пб Оспенникова М.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0a0"/>
                </a:solidFill>
                <a:latin typeface="Arial"/>
              </a:rPr>
              <a:t>Процесс поглощения бактерий фагоцита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3" descr=""/>
          <p:cNvPicPr/>
          <p:nvPr/>
        </p:nvPicPr>
        <p:blipFill>
          <a:blip r:embed="rId1"/>
          <a:stretch/>
        </p:blipFill>
        <p:spPr>
          <a:xfrm>
            <a:off x="1757520" y="1847880"/>
            <a:ext cx="5628960" cy="31622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" descr=""/>
          <p:cNvPicPr/>
          <p:nvPr/>
        </p:nvPicPr>
        <p:blipFill>
          <a:blip r:embed="rId2"/>
          <a:stretch/>
        </p:blipFill>
        <p:spPr>
          <a:xfrm>
            <a:off x="5214960" y="2143080"/>
            <a:ext cx="3166920" cy="316728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5"/>
          <p:cNvSpPr/>
          <p:nvPr/>
        </p:nvSpPr>
        <p:spPr>
          <a:xfrm>
            <a:off x="4175280" y="74880"/>
            <a:ext cx="79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фагоци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4175280" y="74880"/>
            <a:ext cx="79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фагоци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4175280" y="74880"/>
            <a:ext cx="79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фагоци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8"/>
          <p:cNvSpPr/>
          <p:nvPr/>
        </p:nvSpPr>
        <p:spPr>
          <a:xfrm>
            <a:off x="4175280" y="74880"/>
            <a:ext cx="79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фагоци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9"/>
          <p:cNvSpPr/>
          <p:nvPr/>
        </p:nvSpPr>
        <p:spPr>
          <a:xfrm>
            <a:off x="4175280" y="74880"/>
            <a:ext cx="79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фагоци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летки крови под микроскопо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2" descr=""/>
          <p:cNvPicPr/>
          <p:nvPr/>
        </p:nvPicPr>
        <p:blipFill>
          <a:blip r:embed="rId1"/>
          <a:stretch/>
        </p:blipFill>
        <p:spPr>
          <a:xfrm>
            <a:off x="2190600" y="2019240"/>
            <a:ext cx="4762800" cy="3810240"/>
          </a:xfrm>
          <a:prstGeom prst="rect">
            <a:avLst/>
          </a:prstGeom>
          <a:ln w="0">
            <a:noFill/>
          </a:ln>
        </p:spPr>
      </p:pic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9900"/>
                </a:solidFill>
                <a:latin typeface="Arial"/>
              </a:rPr>
              <a:t>Вирусы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ЛЕЙКОЦ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3" descr=""/>
          <p:cNvPicPr/>
          <p:nvPr/>
        </p:nvPicPr>
        <p:blipFill>
          <a:blip r:embed="rId1"/>
          <a:stretch/>
        </p:blipFill>
        <p:spPr>
          <a:xfrm>
            <a:off x="2095560" y="1981080"/>
            <a:ext cx="4952880" cy="3886200"/>
          </a:xfrm>
          <a:prstGeom prst="rect">
            <a:avLst/>
          </a:prstGeom>
          <a:ln w="0">
            <a:noFill/>
          </a:ln>
        </p:spPr>
      </p:pic>
      <p:sp>
        <p:nvSpPr>
          <p:cNvPr id="1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Если в организм попали возбудители болезни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имфоциты вырабатывают специальные белки - 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антитела,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торые борются с конкретным возбудителем.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Теперь, когда мы так много узнали о защитной функции крови, уточним следующие поняти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ff0000"/>
                </a:solidFill>
                <a:latin typeface="Arial"/>
              </a:rPr>
              <a:t>Иммунитет -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защитная реакция организма, оберегающая от инфекционных заболевани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тобы человек не заболел, ему вводят вакцину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856800" y="1928880"/>
            <a:ext cx="7829640" cy="393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Arial"/>
              </a:rPr>
              <a:t>Вакцин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медицинский препарат, предназначенный для выработки иммунитета к инфекционным заболеваниям и содержащий ослабленные микроорганиз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4" descr=""/>
          <p:cNvPicPr/>
          <p:nvPr/>
        </p:nvPicPr>
        <p:blipFill>
          <a:blip r:embed="rId1"/>
          <a:stretch/>
        </p:blipFill>
        <p:spPr>
          <a:xfrm>
            <a:off x="3643200" y="4516560"/>
            <a:ext cx="2071800" cy="1560240"/>
          </a:xfrm>
          <a:prstGeom prst="rect">
            <a:avLst/>
          </a:prstGeom>
          <a:ln w="0">
            <a:noFill/>
          </a:ln>
        </p:spPr>
      </p:pic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Если человек уже заболел, ему вводят сыворотку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ff0000"/>
                </a:solidFill>
                <a:latin typeface="Arial"/>
              </a:rPr>
              <a:t>Сыворотка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– плазма крови, в которой находятся готовые антитела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искусственный пассивный иммунитет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то управляет иммунной системой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2" descr=""/>
          <p:cNvPicPr/>
          <p:nvPr/>
        </p:nvPicPr>
        <p:blipFill>
          <a:blip r:embed="rId1"/>
          <a:stretch/>
        </p:blipFill>
        <p:spPr>
          <a:xfrm>
            <a:off x="838080" y="2257560"/>
            <a:ext cx="3276720" cy="33336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 txBox="1"/>
          <p:nvPr/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ммунитетом управляет головной мозг, вернее часть мозга, которая называется  ГИПОТАЛАМУ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ормальное функционирование иммунной системы зависит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2785680"/>
            <a:ext cx="8229600" cy="30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от образа жизни – 5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от окружающей среды – 2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от наследственных факторов – 2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 от качества медицинских услуг – 1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Місце для нижнього колонтитула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Рецепт»  для укрепления иммуните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14240" y="2285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блюдение режи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вильное и здоровое пит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дых на свежем воздух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каз от вредных привыч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ещение развлекательных заведений во время эпидем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огое соблюдение правил личной гигие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оевременное посещение лечащего врача, своевременные прививк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3" descr=""/>
          <p:cNvPicPr/>
          <p:nvPr/>
        </p:nvPicPr>
        <p:blipFill>
          <a:blip r:embed="rId1"/>
          <a:stretch/>
        </p:blipFill>
        <p:spPr>
          <a:xfrm>
            <a:off x="7715160" y="1143000"/>
            <a:ext cx="1428840" cy="895320"/>
          </a:xfrm>
          <a:prstGeom prst="rect">
            <a:avLst/>
          </a:prstGeom>
          <a:ln w="0">
            <a:noFill/>
          </a:ln>
        </p:spPr>
      </p:pic>
      <p:sp>
        <p:nvSpPr>
          <p:cNvPr id="188" name="Місце для нижнього колонтитула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7" dur="500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утешествие в страну «</a:t>
            </a:r>
            <a:r>
              <a:rPr b="0" lang="ru-RU" sz="4400" spc="-1" strike="noStrike">
                <a:solidFill>
                  <a:srgbClr val="00005e"/>
                </a:solidFill>
                <a:latin typeface="Arial"/>
              </a:rPr>
              <a:t>Иммунитет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" descr="C:\Documents and Settings\Прускиня\Мои документы\336328990.gif"/>
          <p:cNvPicPr/>
          <p:nvPr/>
        </p:nvPicPr>
        <p:blipFill>
          <a:blip r:embed="rId1"/>
          <a:stretch/>
        </p:blipFill>
        <p:spPr>
          <a:xfrm>
            <a:off x="1428840" y="2071800"/>
            <a:ext cx="2423880" cy="333360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3"/>
          <p:cNvSpPr/>
          <p:nvPr/>
        </p:nvSpPr>
        <p:spPr>
          <a:xfrm flipV="1" rot="10800000">
            <a:off x="4214520" y="2414520"/>
            <a:ext cx="450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Познакомьтесь: Доктор-иммуноло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помните, ребята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980720"/>
            <a:ext cx="7686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лько соблюдая  мои «рецепты» вы сохраните свое здоровье и укрепите иммунитет. Именно он защитит вас от инфекционных заболеваний и  СПИ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филактические прививки не позволят бактериям и вирусам «захватить» ваш организм и победа будет на вашей стороне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1" descr="C:\Documents and Settings\Прускиня\Мои документы\336328990.jpg.gif"/>
          <p:cNvPicPr/>
          <p:nvPr/>
        </p:nvPicPr>
        <p:blipFill>
          <a:blip r:embed="rId1"/>
          <a:stretch/>
        </p:blipFill>
        <p:spPr>
          <a:xfrm>
            <a:off x="7643880" y="500040"/>
            <a:ext cx="1857240" cy="1933560"/>
          </a:xfrm>
          <a:prstGeom prst="rect">
            <a:avLst/>
          </a:prstGeom>
          <a:ln w="0">
            <a:noFill/>
          </a:ln>
        </p:spPr>
      </p:pic>
      <p:sp>
        <p:nvSpPr>
          <p:cNvPr id="192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5" dur="2000" fill="hold"/>
                                        <p:tgtEl>
                                          <p:spTgt spid="19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indefinite"/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0" dur="indefinite"/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1" dur="indefinite"/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indefinite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indefinite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7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помните, иммунитет дан вам от природы, а теряет его человек. Берегите этот ценный дар!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2" descr="C:\Documents and Settings\Прускиня\Мои документы\анимационные картинки\ангел.gif"/>
          <p:cNvPicPr/>
          <p:nvPr/>
        </p:nvPicPr>
        <p:blipFill>
          <a:blip r:embed="rId1"/>
          <a:stretch/>
        </p:blipFill>
        <p:spPr>
          <a:xfrm>
            <a:off x="2741760" y="1981080"/>
            <a:ext cx="3660480" cy="3886200"/>
          </a:xfrm>
          <a:prstGeom prst="rect">
            <a:avLst/>
          </a:prstGeom>
          <a:ln w="0">
            <a:noFill/>
          </a:ln>
        </p:spPr>
      </p:pic>
      <p:sp>
        <p:nvSpPr>
          <p:cNvPr id="1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спользованные Интернет ресурс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images.yandex.ru/yandsearch?ed=1&amp;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images.yandex.ru/yandsearch?rpt=simage&amp;ed=1&amp;te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ttp://images.yandex.ru/yandsearch?rpt=simage&amp;ed=1&amp;texthttp://img1.liveinternet.ru/images/attach/c/2/66/198/66198115_0_37227_dab5afe7_XL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im7-tub-ru.yandex.net/i?id=362345054-12-7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.А.Попова. «Открытые уроки. Природоведение. Биология.» Москва, ВАКО, 2010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20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Calibri"/>
              </a:rPr>
              <a:t>Давайте попробуем составить несложный синквейн на заданную тему:</a:t>
            </a: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857160" y="2000160"/>
          <a:ext cx="7858080" cy="4518000"/>
        </p:xfrm>
        <a:graphic>
          <a:graphicData uri="http://schemas.openxmlformats.org/drawingml/2006/table">
            <a:tbl>
              <a:tblPr/>
              <a:tblGrid>
                <a:gridCol w="1571760"/>
                <a:gridCol w="1571760"/>
                <a:gridCol w="1571400"/>
                <a:gridCol w="1571760"/>
                <a:gridCol w="1571400"/>
              </a:tblGrid>
              <a:tr h="1106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Иммунит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 прилагательны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 глагол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 существительны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Выв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Что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Какой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Что делает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Кого? Что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ИММУНИТ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20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Calibri"/>
              </a:rPr>
              <a:t>Давайте попробуем составить несложный синквейн на заданную тему:</a:t>
            </a: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857160" y="2000160"/>
          <a:ext cx="7858080" cy="4518000"/>
        </p:xfrm>
        <a:graphic>
          <a:graphicData uri="http://schemas.openxmlformats.org/drawingml/2006/table">
            <a:tbl>
              <a:tblPr/>
              <a:tblGrid>
                <a:gridCol w="1571760"/>
                <a:gridCol w="1571760"/>
                <a:gridCol w="1571400"/>
                <a:gridCol w="1571760"/>
                <a:gridCol w="1571400"/>
              </a:tblGrid>
              <a:tr h="1106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Иммунит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 прилагательны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 глагол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 существительны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Выв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Что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Какой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Что делает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Кого? Что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РОЖДЕН-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ДЛЕВА-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ДОРОВЬ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ИММУНИТ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ЕПК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ХРАНЯ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ИЗН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Береги!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ЛАБЛЕН-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ЕРЕГА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ОБРЕТЕ-Н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ммунит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рожденный, крепкий, ослабленный приобретен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длевает, сохраняет, оберега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доровье, жизнь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РЕГИ 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8760" y="71388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1818ff"/>
                </a:solidFill>
                <a:latin typeface="Arial"/>
              </a:rPr>
              <a:t>Здравствуйте, ребята! Чтобы попасть в страну «Иммунитет», надо решить  следующие тестовые задания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500040" y="2714400"/>
            <a:ext cx="822960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Эритроциты – это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) белые клетки кров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) кровяные пластинк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) красные клетки кров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1" descr="C:\Documents and Settings\Прускиня\Мои документы\336328990.jpg.gif"/>
          <p:cNvPicPr/>
          <p:nvPr/>
        </p:nvPicPr>
        <p:blipFill>
          <a:blip r:embed="rId1"/>
          <a:stretch/>
        </p:blipFill>
        <p:spPr>
          <a:xfrm>
            <a:off x="6286680" y="2500200"/>
            <a:ext cx="1857240" cy="193356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" dur="2000" fill="hold"/>
                                        <p:tgtEl>
                                          <p:spTgt spid="12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8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39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40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85840" y="4287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2. Функции лейкоцитов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914400" y="19998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) транспорт кислород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) защита организма от инфекц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) участие в свертывании кро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1" descr="C:\Documents and Settings\Прускиня\Мои документы\336328990.jpg.gif"/>
          <p:cNvPicPr/>
          <p:nvPr/>
        </p:nvPicPr>
        <p:blipFill>
          <a:blip r:embed="rId1"/>
          <a:stretch/>
        </p:blipFill>
        <p:spPr>
          <a:xfrm>
            <a:off x="7358040" y="642960"/>
            <a:ext cx="1428840" cy="193356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9" dur="2000" fill="hold"/>
                                        <p:tgtEl>
                                          <p:spTgt spid="12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indefinite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74" dur="indefinite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75" dur="indefinite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3. Малокровие – это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) повышенное содержание эритроцитов в кров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) недостаток в крови лейкоцит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) недостаток в крови эритроци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1" descr="C:\Documents and Settings\Прускиня\Мои документы\336328990.jpg.gif"/>
          <p:cNvPicPr/>
          <p:nvPr/>
        </p:nvPicPr>
        <p:blipFill>
          <a:blip r:embed="rId1"/>
          <a:stretch/>
        </p:blipFill>
        <p:spPr>
          <a:xfrm>
            <a:off x="7286760" y="714240"/>
            <a:ext cx="1285920" cy="1933560"/>
          </a:xfrm>
          <a:prstGeom prst="rect">
            <a:avLst/>
          </a:prstGeom>
          <a:ln w="0">
            <a:noFill/>
          </a:ln>
        </p:spPr>
      </p:pic>
      <p:sp>
        <p:nvSpPr>
          <p:cNvPr id="131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1" dur="2000" fill="hold"/>
                                        <p:tgtEl>
                                          <p:spTgt spid="13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08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4. Эритроциты образуются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) в печен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) в селезенк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) в красном костном мозг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1" descr="C:\Documents and Settings\Прускиня\Мои документы\336328990.jpg.gif"/>
          <p:cNvPicPr/>
          <p:nvPr/>
        </p:nvPicPr>
        <p:blipFill>
          <a:blip r:embed="rId1"/>
          <a:stretch/>
        </p:blipFill>
        <p:spPr>
          <a:xfrm>
            <a:off x="6858000" y="2000160"/>
            <a:ext cx="1714680" cy="2433600"/>
          </a:xfrm>
          <a:prstGeom prst="rect">
            <a:avLst/>
          </a:prstGeom>
          <a:ln w="0">
            <a:noFill/>
          </a:ln>
        </p:spPr>
      </p:pic>
      <p:sp>
        <p:nvSpPr>
          <p:cNvPr id="135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4" dur="2000" fill="hold"/>
                                        <p:tgtEl>
                                          <p:spTgt spid="13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38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28760" y="4287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ы прекрасно справились с заданием и получаете пропуск!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571680" y="1928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рганизм человека – сложная система с четко организованной работой каждого составляющ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днако эту систему постоянно атакуют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бактерии, грибки и вирус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" descr="C:\Documents and Settings\Прускиня\Мои документы\336328990.jpg.gif"/>
          <p:cNvPicPr/>
          <p:nvPr/>
        </p:nvPicPr>
        <p:blipFill>
          <a:blip r:embed="rId1"/>
          <a:stretch/>
        </p:blipFill>
        <p:spPr>
          <a:xfrm>
            <a:off x="7500960" y="500040"/>
            <a:ext cx="1214280" cy="14781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" descr="C:\Documents and Settings\Прускиня\Мои документы\вирус.gif"/>
          <p:cNvPicPr/>
          <p:nvPr/>
        </p:nvPicPr>
        <p:blipFill>
          <a:blip r:embed="rId2"/>
          <a:stretch/>
        </p:blipFill>
        <p:spPr>
          <a:xfrm>
            <a:off x="3714840" y="4643280"/>
            <a:ext cx="2786040" cy="19432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4" descr="C:\Documents and Settings\Прускиня\Мои документы\вирус.gif"/>
          <p:cNvPicPr/>
          <p:nvPr/>
        </p:nvPicPr>
        <p:blipFill>
          <a:blip r:embed="rId3"/>
          <a:stretch/>
        </p:blipFill>
        <p:spPr>
          <a:xfrm>
            <a:off x="3867120" y="4795920"/>
            <a:ext cx="2786040" cy="1942920"/>
          </a:xfrm>
          <a:prstGeom prst="rect">
            <a:avLst/>
          </a:prstGeom>
          <a:ln w="0">
            <a:noFill/>
          </a:ln>
        </p:spPr>
      </p:pic>
      <p:sp>
        <p:nvSpPr>
          <p:cNvPr id="141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4" dur="2000" fill="hold"/>
                                        <p:tgtEl>
                                          <p:spTgt spid="13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indefinite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49" dur="indefinite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0" dur="indefinite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54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55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56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57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ммунная система должна быть в постоянной готовности и окутывает организм со всех сторон. Однако организм может быть атакован через небольшие ранения и ссади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2" descr=""/>
          <p:cNvPicPr/>
          <p:nvPr/>
        </p:nvPicPr>
        <p:blipFill>
          <a:blip r:embed="rId1"/>
          <a:stretch/>
        </p:blipFill>
        <p:spPr>
          <a:xfrm>
            <a:off x="500040" y="1857240"/>
            <a:ext cx="5181480" cy="38862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" descr=""/>
          <p:cNvPicPr/>
          <p:nvPr/>
        </p:nvPicPr>
        <p:blipFill>
          <a:blip r:embed="rId2"/>
          <a:stretch/>
        </p:blipFill>
        <p:spPr>
          <a:xfrm>
            <a:off x="4714920" y="542916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4" descr=""/>
          <p:cNvPicPr/>
          <p:nvPr/>
        </p:nvPicPr>
        <p:blipFill>
          <a:blip r:embed="rId3"/>
          <a:stretch/>
        </p:blipFill>
        <p:spPr>
          <a:xfrm>
            <a:off x="6215040" y="2000160"/>
            <a:ext cx="2676600" cy="4024440"/>
          </a:xfrm>
          <a:prstGeom prst="rect">
            <a:avLst/>
          </a:prstGeom>
          <a:ln w="0">
            <a:noFill/>
          </a:ln>
        </p:spPr>
      </p:pic>
      <p:sp>
        <p:nvSpPr>
          <p:cNvPr id="1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В бой идут… фагоци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Фагоци́т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— клетки иммунной системы, которые защищают организм путём поглощения (фагоцитоза) вредных чужеродных частиц, бактерий, а также мёртвых или погибающих клеток. Их название произошло от греческого phagein, «есть» или «поедать», и «-cyte» – клет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5T14:54:03Z</dcterms:created>
  <dc:creator>Прускиня</dc:creator>
  <dc:description/>
  <dc:language>en-US</dc:language>
  <cp:lastModifiedBy>LEGION</cp:lastModifiedBy>
  <dcterms:modified xsi:type="dcterms:W3CDTF">2014-11-24T10:57:53Z</dcterms:modified>
  <cp:revision>72</cp:revision>
  <dc:subject/>
  <dc:title>Иммунная система организм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