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C521-CA4D-44B4-A4FA-EE9064CDA2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-презентация для учащихся 9 кла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: учитель естествознания ГСКОУ № 46 «Центр Рим» г.С-Пб Оспенникова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FD13-8640-43E3-A3F4-9A8B92B4B2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Процесс поглощения бактерий фагоци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8D33-648D-4BCD-B57C-6A2A36F237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рови под микроско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39AF-9644-4DA5-BAB9-4E34177316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9900"/>
                </a:solidFill>
                <a:latin typeface="Calibri"/>
              </a:rPr>
              <a:t>Виру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ЛЕЙКОЦИ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10D4-C869-41E9-809A-279FB4CABE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организм попали возбудители болезн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циты вырабатывают специальные белки -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нтитела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борются с конкретным возбудителем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57FE-E76F-4577-BAE2-394CA00412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, когда мы так много узнали о защитной функции крови, уточним следующи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Иммунитет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ая реакция организма, оберегающая от инфекционных заболе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74E3-1769-49CF-BFA4-2A1A65A318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не заболел, ему вводят вакцин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акц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8D41-A506-4218-8B74-57DC9FC468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уже заболел, ему вводят сыворот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ыворот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лазма крови, в которой находятся готовые анти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й пассивный иммунит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EC1E-588E-4D4B-AEE2-7CF77B9DB3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управляет иммунной систе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9D7B-8A0E-4AE5-B4D9-D5CB7BCC89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льное функционирование иммунной системы завис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 образа жизни – 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 окружающей среды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 наследственных факторов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 качества медицинских услуг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025A-5C43-497A-BC5E-5BF5089120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цепт»  для укрепления иммун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и 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на свежем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развлекательных заведений во время эпиде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ое соблюдение правил личной гиги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посещение лечащего врача, своевременные приви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2A26-8680-48FA-8094-B668A6EDB2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страну «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Иммунит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A00C-D768-488D-83AE-2969FE8533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, ребя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3E7E-0C7B-4C91-8C79-1A88652045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помните, иммунитет дан вам от природы, а теряет его человек. Берегите этот ценный дар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9D93-19E8-498B-BC17-F073159E61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ные Интернет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ed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rpt=simage&amp;ed=1&amp;t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ttp://images.yandex.ru/yandsearch?rpt=simage&amp;ed=1&amp;texthttp://img1.liveinternet.ru/images/attach/c/2/66/198/66198115_0_37227_dab5afe7_X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7-tub-ru.yandex.net/i?id=362345054-1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А.Попова. «Открытые уроки. Природоведение. Биология.» Москва, ВАКО,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BFEA-403E-4083-8067-668F83DE6E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C194-4CF6-416C-A0B3-436DA2CEEB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9290-2AE9-4402-AE20-153928A960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ожденный, крепкий, ослабленный приобрет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, сохраняет, обере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,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ГИ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C6A8-6821-44FA-B8B3-22286A7E3B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5f4ed"/>
                </a:solidFill>
                <a:latin typeface="Calibri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ритроциты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лые клетк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кровяные плас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асные клетки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5019-452E-4170-85CA-830D57FED9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ункции лейкоци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ранспор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щита организма от инфе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частие в свертывани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56B1-0831-4334-A8D0-D26DA528D6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локрови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вышенное содержание эритроцитов в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достаток в крови лейкоц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едостаток в крови эритроц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26B2-6488-48BA-8631-85634D7F98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ритроциты образую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печ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селезе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красном костном моз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E501-1EED-4F1D-8AF3-791FA34F98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 прекрасно справились с заданием и получаете пропуск!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эту систему постоянно атак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ктерии, грибки и виру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D278-ABFE-4A08-A8D1-E88F3F5460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FB07-724F-4550-B52E-09324696AA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бой идут… фаг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гоци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03E1-D9C8-457B-A1ED-E02D88C665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3202-B71B-4473-9D12-135869E7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FD84-3E87-437D-AA7F-373044BC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79D11-5BA5-4C4C-B618-000B7E64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A51D-2977-4AE4-B0D1-BEB20E9D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746A-B18F-4BE7-AD56-DF51D450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0D46-79DA-4631-8FD3-478DA4DB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8BA8-F42F-4059-A5CE-3684A18D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847E-705D-4BA7-82D8-C667F456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57C5-1419-4E4C-87DC-D0AA1755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5741-F1CC-4CED-9192-429FE852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0EC4-FD85-43AE-9347-841577A0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52DC-C31F-4A26-A743-69F3D6D5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9ED5-D046-4D54-9725-FE4256D1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ECCF-D89F-4421-962A-D459E98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A936-7D2B-4876-BF00-5600D03D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9A81-AD67-4A1D-89A6-57AFA14B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9F1F-CFF1-439E-8ABB-7FD90F66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C0A1-260F-443B-9CFA-5F6948EC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299B-8F9E-4318-A5EC-241ED147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3601-10D9-4FD3-A013-AA981B78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4083-BCB8-4ECF-BAA4-D25EDDC0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3D94-8081-48FB-929F-FADA5368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E78B-5BC7-4050-B654-B8BAC4BB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4A35-6B2C-4C9A-B69F-75966427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32BB-7503-43BE-9422-D23B2040DB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911E-4A76-4A9F-B588-9356E4AD84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ммунная система организм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презентация для учащихся 9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учитель естествознания ГСКОУ № 46 «Центр Рим» г.С-Пб Оспенникова М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роцесс поглощения бактерий фагоци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757520" y="1847880"/>
            <a:ext cx="5628960" cy="316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214960" y="2143080"/>
            <a:ext cx="3166920" cy="31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етки крови под микроскоп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90600" y="2019240"/>
            <a:ext cx="4762800" cy="3810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Виру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ЕЙКО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095560" y="19810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в организм попали возбудители болез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мфоциты вырабатывают специальные белки -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титела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борются с конкретным возбудителем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перь, когда мы так много узнали о защитной функции крови, уточним следующие поня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Иммунитет -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щитная реакция организма, оберегающая от инфекционных заболе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бы человек не заболел, ему вводят вакцин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56800" y="1928880"/>
            <a:ext cx="78296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акц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643200" y="4516560"/>
            <a:ext cx="2071800" cy="1560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человек уже заболел, ему вводят сыворотк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Сыворотк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плазма крови, в которой находятся готовые антите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й пассивный иммуните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управляет иммунной систем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2257560"/>
            <a:ext cx="3276720" cy="3333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льное функционирование иммунной системы зависи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785680"/>
            <a:ext cx="82296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 образа жизни –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 окружающей среды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т наследственных факторов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 качества медицинских услуг –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ецепт»  для укрепления иммунит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424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е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е и здоров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 на свежем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развлекательных заведений во время эпиде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ое соблюдение правил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ое посещение лечащего врача, своевременные приви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7715160" y="1143000"/>
            <a:ext cx="142884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в страну «</a:t>
            </a: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Иммунит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Прускиня\Мои документы\336328990.gif"/>
          <p:cNvPicPr/>
          <p:nvPr/>
        </p:nvPicPr>
        <p:blipFill>
          <a:blip r:embed="rId1"/>
          <a:stretch/>
        </p:blipFill>
        <p:spPr>
          <a:xfrm>
            <a:off x="1428840" y="2071800"/>
            <a:ext cx="2423880" cy="3333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 flipV="1" rot="10800000">
            <a:off x="4214520" y="241452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знакомьтесь: Доктор-имму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мните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0720"/>
            <a:ext cx="768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643880" y="50004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мните, иммунитет дан вам от природы, а теряет его человек. Берегите этот ценный дар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Прускиня\Мои документы\анимационные картинки\ангел.gif"/>
          <p:cNvPicPr/>
          <p:nvPr/>
        </p:nvPicPr>
        <p:blipFill>
          <a:blip r:embed="rId1"/>
          <a:stretch/>
        </p:blipFill>
        <p:spPr>
          <a:xfrm>
            <a:off x="2741760" y="1981080"/>
            <a:ext cx="366048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ные Интернет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ed=1&amp;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rpt=simage&amp;ed=1&amp;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ttp://images.yandex.ru/yandsearch?rpt=simage&amp;ed=1&amp;texthttp://img1.liveinternet.ru/images/attach/c/2/66/198/66198115_0_37227_dab5afe7_X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7-tub-ru.yandex.net/i?id=362345054-12-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А.Попова. «Открытые уроки. Природоведение. Биология.» Москва, ВАКО,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ОЖД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ЛЕВА-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Берег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АБЛ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РЕГ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-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мун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ожденный, крепкий, ослабленный приобрет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левает, сохраняет, обере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, жиз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818ff"/>
                </a:solidFill>
                <a:latin typeface="Arial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27144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Эритроциты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белые клетки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ровяные пластин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расные клетки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286680" y="250020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Функции лейкоци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999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анспорт кисло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защита организма от инфе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частие в свертывани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358040" y="642960"/>
            <a:ext cx="1428840" cy="19335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Малокрови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вышенное содержание эритроцитов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достаток в крови лейкоци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недостаток в крови эритроц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286760" y="714240"/>
            <a:ext cx="1285920" cy="19335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Эритроциты образую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 печ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 селезен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 красном костном моз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858000" y="2000160"/>
            <a:ext cx="1714680" cy="243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прекрасно справились с заданием и получаете пропуск!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68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эту систему постоянно атаку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ктерии, грибки и вир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500960" y="500040"/>
            <a:ext cx="1214280" cy="147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Прускиня\Мои документы\вирус.gif"/>
          <p:cNvPicPr/>
          <p:nvPr/>
        </p:nvPicPr>
        <p:blipFill>
          <a:blip r:embed="rId2"/>
          <a:stretch/>
        </p:blipFill>
        <p:spPr>
          <a:xfrm>
            <a:off x="3714840" y="4643280"/>
            <a:ext cx="278604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Прускиня\Мои документы\вирус.gif"/>
          <p:cNvPicPr/>
          <p:nvPr/>
        </p:nvPicPr>
        <p:blipFill>
          <a:blip r:embed="rId3"/>
          <a:stretch/>
        </p:blipFill>
        <p:spPr>
          <a:xfrm>
            <a:off x="3867120" y="4795920"/>
            <a:ext cx="2786040" cy="19429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7149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6215040" y="2000160"/>
            <a:ext cx="2676600" cy="40244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бой идут… фагоц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гоци́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4:54:03Z</dcterms:created>
  <dc:creator>Прускиня</dc:creator>
  <dc:description/>
  <dc:language>en-US</dc:language>
  <cp:lastModifiedBy>LEGION</cp:lastModifiedBy>
  <dcterms:modified xsi:type="dcterms:W3CDTF">2014-11-24T10:57:53Z</dcterms:modified>
  <cp:revision>72</cp:revision>
  <dc:subject/>
  <dc:title>Иммунная система организ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