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0B31-F10B-4313-B773-A80C194E45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лечились наши пред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Федотова Елиза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3 «В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школы № 6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4E2E-5B3D-434D-B9D8-0D418328D4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 на здра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ыня, Макошь матушка, м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есная, Богородица. Ты мать Рожаниц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арога сестрица! Даруй нам удачу,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тей и плачу! Дай здравия чадам вели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лым. Ныне и присно и от к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круга! Тако бысть, тако еси, тако буд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6CAC-89EF-489A-AA52-08235ED06C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 на счаст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й ты, Лада матушка, матерь С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чистая! Не остави нас без любви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астия! Благодать свою ниспошли на н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о и мы чтим и славим тебя . Нын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но и от круга до круга! Тако бысть, та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и, тако буди! До скончания времен, п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ит нам Ярило солн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16A4-AF0C-4D8A-860C-C76A6E253A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 доме не находится вещ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ите угощение домовому и говор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мовой, домовой, поиграл и отда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сле трёх раз не нашли, значи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е этой вещ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5F1F-EAEA-4BB4-A531-0DA1662CE6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топр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ину лекарь, умевший в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ихнутые кости или 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ить переломленные, называл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топра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2D29-5B9D-4D25-BB11-C2E8E32371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и и банные процед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и и банные процедуры пользовались большой популярностью у всех жителей Руси от мала до велика. Они помогали поддерживать здоровье, соблюдать гигиену. В старину говорили: «Коли бы не бани, то все бы пропал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только вениками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арились в старин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E812-3AEF-4027-AA55-1930065E3E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ха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од уважал знахарей, потому что от них зависело здоровь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реты приготовления лекарств знахари передавали только своим детям или ученикам, стремившимся к знаниям о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врачи и учёные пытаются восстановить накопленные нашими предками знания о лечебных свойствах растений, которые были утеря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C7D9-8AAF-4E24-9DD6-38744A8848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!!!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25E0-E816-46F6-ABB8-318B928CD1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ину медицины не было, поэтому наши изобретательные предки для лечения заболеваний использов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растения, ягоды, мёд, кору и листья деревьев, отвары и настои из лекарственных трав. Людей, знавших лекарственные растения и умевших изготовлять из них лекарства, называли знахар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A40B-CE48-4E74-A910-7DA1761C2A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обой продыряв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обой применялся нару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работки нарывов и яз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15F2-E63A-45BE-9A0D-B43F6FED33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свою жгучесть, крап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кала и сейчас привлекает к себе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 и широко использовалась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арственное и пищевое растение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у применяли от болей в суставах, п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тухе, собачьих укусах, как мочегонное.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предки с успехом применяли и се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ы. В частности, толчеными семенами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м изгоняли камни почек, семе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шанными с медом и вином, устраня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тарелый каш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486E-515F-4008-A86B-02E9A172E7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у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оспалении суставов капу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 использовалась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как лечеб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о нару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7372-8213-4CEA-8D8B-D716148EB4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ш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шковый настой час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ли для т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вылечить каш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этот настой бы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воспалите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9731-92F3-46B3-97A2-E83182C1D4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цветков липы готовили лечебный чай. Липовый цвет - один из старейших народных лекарственных препаратов, зарекомендовавший себя как потогонное, жаропонижающее, отхаркивающее, мочегонное, бактерицидное сред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50E3-67C8-4596-B3A5-DEDE7B1779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з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зина черная исстари считалась священным деревом, ягоды которого будто бы способствовали продлению жизни. В народной медицине отвар, приготовленный из цветков и плодов черной бузины, применяли как жаропонижающее, потогонное, мочегонное, глистогонное и рвотное средство, а настой цветов - при заболеваниях дыхательных путей. Кора бузины обладает сильным мочегонным действием, ее применяли также при неврастении, пневмонии, бронхите, головной и зубной бо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9DD6-C0D5-42A7-9A84-97D39197D5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ы и риту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хари при лечении людей пользовались заговорами и ритуалами. Они понимали, что словом можно и убить, и исцелить. Хорошее слово лечит, а бранное разрушает. Главное условие для достижения положительного результата – это искреннее отношение и яркий образ при использовании заговора. Были заговоры на здравие, на доброе потомство, на счастье, на любовь, на оберег дома, от порчи, от бессонницы, от болезней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C57C-CC24-41DA-8643-26E07EC5A6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CD1-3604-4060-B253-2BD64CDB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44E-9241-45B2-B831-8DA42C9E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02D-09BF-4F30-A313-CC1A9BEF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77F-2394-475F-B3C0-54810FA2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F8F-F1BF-4AF9-8640-4139CF4C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D5C-9C18-4861-BE0D-266A1A94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09D-0B8F-4988-9B8C-E1A9CA3E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EFC-1F31-42CD-B1BC-80662D59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FBC-FD24-4651-93A2-128F88C3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15D-1D51-469E-8AFF-9D0F410D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5A8-818C-48C6-8135-B3C00C3D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94E-991D-40EA-BA98-94C8D6E1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54FA-DCCB-42DC-A2F0-BDF7A82585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ак лечились наши предк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79280" y="2852280"/>
            <a:ext cx="551484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 Федотова Елизав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ца 3 «В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ей школы № 6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zverobojj"/>
          <p:cNvPicPr/>
          <p:nvPr/>
        </p:nvPicPr>
        <p:blipFill>
          <a:blip r:embed="rId1"/>
          <a:stretch/>
        </p:blipFill>
        <p:spPr>
          <a:xfrm rot="370200">
            <a:off x="2842920" y="4797360"/>
            <a:ext cx="673200" cy="1022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 rot="579600">
            <a:off x="3924360" y="4797360"/>
            <a:ext cx="60804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kapusta"/>
          <p:cNvPicPr/>
          <p:nvPr/>
        </p:nvPicPr>
        <p:blipFill>
          <a:blip r:embed="rId3"/>
          <a:stretch/>
        </p:blipFill>
        <p:spPr>
          <a:xfrm rot="21078600">
            <a:off x="5003280" y="4869000"/>
            <a:ext cx="68580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 rot="20909400">
            <a:off x="6156000" y="4941360"/>
            <a:ext cx="1117440" cy="92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878263a03f79"/>
          <p:cNvPicPr/>
          <p:nvPr/>
        </p:nvPicPr>
        <p:blipFill>
          <a:blip r:embed="rId5"/>
          <a:stretch/>
        </p:blipFill>
        <p:spPr>
          <a:xfrm rot="775800">
            <a:off x="1042560" y="4652640"/>
            <a:ext cx="1317600" cy="96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800px-Sambucus_nigra_fruit_kpjas_26082005_1"/>
          <p:cNvPicPr/>
          <p:nvPr/>
        </p:nvPicPr>
        <p:blipFill>
          <a:blip r:embed="rId6"/>
          <a:stretch/>
        </p:blipFill>
        <p:spPr>
          <a:xfrm rot="21050400">
            <a:off x="7524720" y="4653000"/>
            <a:ext cx="1433520" cy="10746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 на здрави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ударыня, Макошь матушка, м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бесная, Богородица. Ты мать Рожаниц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арога сестрица! Даруй нам удачу, б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ей и плачу! Дай здравия чадам велик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малым. Ныне и присно и от кр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 круга! Тако бысть, тако еси, тако буд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 на счасть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й ты, Лада матушка, матерь С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чистая! Не остави нас без любви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частия! Благодать свою ниспошли на нас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ко и мы чтим и славим тебя . Ныне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но и от круга до круга! Тако бысть, та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и, тако буди! До скончания времен, п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тит нам Ярило солн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Если в доме не находится вещь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вите угощение домовому и говори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омовой, домовой, поиграл и отда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после трёх раз не нашли, значит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е этой вещи н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остоправ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тарину лекарь, умевший вправл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ихнутые кости или правиль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ить переломленные, называл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топра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ани и банные процедур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ни и банные процедуры пользовались большой популярностью у всех жителей Руси от мала до велика. Они помогали поддерживать здоровье, соблюдать гигиену. В старину говорили: «Коли бы не бани, то все бы пропал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ми только вениками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парились в старин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701307_w640_h640_venik1"/>
          <p:cNvPicPr/>
          <p:nvPr/>
        </p:nvPicPr>
        <p:blipFill>
          <a:blip r:embed="rId1"/>
          <a:stretch/>
        </p:blipFill>
        <p:spPr>
          <a:xfrm>
            <a:off x="826920" y="4581360"/>
            <a:ext cx="1441440" cy="9828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нахар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од уважал знахарей, потому что от них зависело здоровье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креты приготовления лекарств знахари передавали только своим детям или ученикам, стремившимся к знаниям о при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врачи и учёные пытаются восстановить накопленные нашими предками знания о лечебных свойствах растений, которые были утеря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604360" y="-5230080"/>
            <a:ext cx="71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0080" y="2071440"/>
            <a:ext cx="745812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ОНЕЦ!!!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тарину медицины не было, поэтому наши изобретательные предки для лечения заболеваний использов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ные растения, ягоды, мёд, кору и листья деревьев, отвары и настои из лекарственных трав. Людей, знавших лекарственные растения и умевших изготовлять из них лекарства, называли знахаря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веробой продырявленный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7120" y="3309480"/>
            <a:ext cx="603432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веробой применялся нару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обработки нарывов и яз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7" descr="zverobojj"/>
          <p:cNvPicPr/>
          <p:nvPr/>
        </p:nvPicPr>
        <p:blipFill>
          <a:blip r:embed="rId1"/>
          <a:stretch/>
        </p:blipFill>
        <p:spPr>
          <a:xfrm rot="1050600">
            <a:off x="5867280" y="2708280"/>
            <a:ext cx="2303640" cy="35002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рапив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5320" y="2055960"/>
            <a:ext cx="6350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мотря на свою жгучесть, крап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влекала и сейчас привлекает к себе вним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ловека и широко использовалась к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карственное и пищевое растение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пиву применяли от болей в суставах, п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елтухе, собачьих укусах, как мочегонное.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ши предки с успехом применяли и се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пивы. В частности, толчеными семенами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ном изгоняли камни почек, семен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ешанными с медом и вином, устраня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старелый каше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7068960" y="2492280"/>
            <a:ext cx="2075040" cy="3689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апуст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оспалении суставов капу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ироко использовалась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уется как лечеб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ство наруж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kapusta"/>
          <p:cNvPicPr/>
          <p:nvPr/>
        </p:nvPicPr>
        <p:blipFill>
          <a:blip r:embed="rId1"/>
          <a:stretch/>
        </p:blipFill>
        <p:spPr>
          <a:xfrm>
            <a:off x="6645240" y="2133720"/>
            <a:ext cx="2498760" cy="36716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омаш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4958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ашковый настой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ли для тог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вылечить каш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этот настой бы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тивовоспалитель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191280" y="3213000"/>
            <a:ext cx="2952720" cy="24321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Лип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цветков липы готовили лечебный чай. Липовый цвет - один из старейших народных лекарственных препаратов, зарекомендовавший себя как потогонное, жаропонижающее, отхаркивающее, мочегонное, бактерицидное средств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5" descr="878263a03f79"/>
          <p:cNvPicPr/>
          <p:nvPr/>
        </p:nvPicPr>
        <p:blipFill>
          <a:blip r:embed="rId1"/>
          <a:stretch/>
        </p:blipFill>
        <p:spPr>
          <a:xfrm>
            <a:off x="3851280" y="4843440"/>
            <a:ext cx="2757600" cy="20145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узин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зина черная исстари считалась священным деревом, ягоды которого будто бы способствовали продлению жизни. В народной медицине отвар, приготовленный из цветков и плодов черной бузины, применяли как жаропонижающее, потогонное, мочегонное, глистогонное и рвотное средство, а настой цветов - при заболеваниях дыхательных путей. Кора бузины обладает сильным мочегонным действием, ее применяли также при неврастении, пневмонии, бронхите, головной и зубной бо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800px-Sambucus_nigra_fruit_kpjas_26082005_1"/>
          <p:cNvPicPr/>
          <p:nvPr/>
        </p:nvPicPr>
        <p:blipFill>
          <a:blip r:embed="rId1"/>
          <a:stretch/>
        </p:blipFill>
        <p:spPr>
          <a:xfrm>
            <a:off x="3059280" y="5506920"/>
            <a:ext cx="1800000" cy="13510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ы и ритуал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хари при лечении людей пользовались заговорами и ритуалами. Они понимали, что словом можно и убить, и исцелить. Хорошее слово лечит, а бранное разрушает. Главное условие для достижения положительного результата – это искреннее отношение и яркий образ при использовании заговора. Были заговоры на здравие, на доброе потомство, на счастье, на любовь, на оберег дома, от порчи, от бессонницы, от болезней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6:00:56Z</dcterms:created>
  <dc:creator>Елена</dc:creator>
  <dc:description/>
  <dc:language>en-US</dc:language>
  <cp:lastModifiedBy>LEGION</cp:lastModifiedBy>
  <dcterms:modified xsi:type="dcterms:W3CDTF">2014-11-24T10:58:35Z</dcterms:modified>
  <cp:revision>7</cp:revision>
  <dc:subject/>
  <dc:title>Как лечились наши предки.</dc:title>
</cp:coreProperties>
</file>