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png" ContentType="image/png"/>
  <Override PartName="/ppt/media/image28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4.wmf" ContentType="image/x-wmf"/>
  <Override PartName="/ppt/media/image3.wmf" ContentType="image/x-wmf"/>
  <Override PartName="/ppt/media/image8.jpeg" ContentType="image/jpeg"/>
  <Override PartName="/ppt/media/image10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14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31.png" ContentType="image/png"/>
  <Override PartName="/ppt/media/image34.jpeg" ContentType="image/jpeg"/>
  <Override PartName="/ppt/media/image2.jpeg" ContentType="image/jpeg"/>
  <Override PartName="/ppt/media/image5.gif" ContentType="image/gif"/>
  <Override PartName="/ppt/media/image1.wmf" ContentType="image/x-wmf"/>
  <Override PartName="/ppt/media/image9.gif" ContentType="image/gif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jpeg" ContentType="image/jpeg"/>
  <Override PartName="/ppt/media/image23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move the slide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361A-A2D1-4459-AF72-49B552377A0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Какая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 у нас памя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сследовательск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BE53-5A88-4A0D-84D7-0154E33019F9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Методы исследов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 литературу по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иться за помощью к другим людям (родителям, учителям, школьному психолог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иться к глобальной сети интер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экспери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AE1F-ADD7-4F20-95B6-58A3A9DDBFFE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Вывод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проведенных экспериментов подтверждают закономерности развития памяти в младшем школьном возрасте. А имен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- 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сокие показатели получены по разным типам кратко­временной памяти (обонятельной, зрительной, моторной, слуховой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- долговременная память учеников класса имеет относительно низкие показатели (только 35% обследуемой выборки вспомнили от 60 до 100% текст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-  начинает формироваться логическая память (57% выборки смогли воспроизвести смысловые единицы запоминаемого тек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- из всех видов обследованной кратковременной памяти наиболее развита зрительная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C648-A5F6-411B-80EC-883C1E956CBD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ДОЛГОВРЕМЕН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D49D-43C0-4E43-96E3-72CA52F81434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   МОТОР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F78D-8BE0-4B65-BE29-600620BCB7A1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ОПЕРАТИВ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A7BC-AED8-48FA-958D-0895956C9DC7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ОСЯЗАТЕЛЬ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4797-05EA-42B8-823C-F2C71C690508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  КРАТКОВРЕМЕННОЙ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  ЗРИТЕЛЬ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DA59-1178-419D-925D-E37B6B964F84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ИССЛЕДОВАНИЯ              ОБОНЯТЕЛЬ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62CD-810E-44CF-91D6-20EE40BA51FB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  ЗРИТЕЛЬ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5ABA-23CF-46D6-9841-4218DB80B0CB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ДОЛГОВРЕМЕННОЙ ПАМЯТИ ( ТЕСТ № 2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CFA4-48AB-4776-A392-CA25AC46FCDD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вторы :</a:t>
            </a:r>
            <a:br>
              <a:rPr sz="32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биванцева Анн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столит Иль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ытник Екатер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ководитель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ександренко Антонина Его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DD8B-CDE7-4535-AF05-A1B8D4E3CC51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  КРАТКОВРЕМЕННОЙ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     СЛУХОВ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3EB5-D52A-493A-A75E-7E12E1DBC075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ЕЗУЛЬТАТЫ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         ОБРАЗНОЙ ПАМЯ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5C72-465D-4CA6-A1ED-B9BCC1F3C95A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libri"/>
              </a:rPr>
              <a:t>Как работает памят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 чтобы иметь возможность пользоваться полученной информацией, ее надо запомнить, сохранить и воспро­извести в нужный момент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поминание (кодирование), сохранение, воспроизведение (извлечение) и забыв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основные процессы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24C9-F9F6-4B6F-A515-94B408E7F96E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аправления дальнейших исследовани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, есть ли различия в запоминании у мальчиков и дево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ледовать, влияет ли физическое здоровье на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новый эксперимент с использованием специальных упражнений для улучшения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ь и обобщить результаты проведенных и будущих исследо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ть рекомендации для участников экспери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941C-21EA-4085-8B2D-27E00C50D201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Работа была представле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ченической научно-практической конференции «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а не оскудеет талантами земля русская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оссийском  конкурсе исследовательских работ и творческих проектов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Я – исследоват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, где получила Диплом «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 лучший экспери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,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D610-7AE9-4393-A97C-6D6CE7001E5E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Цель работ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, что такое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какая память у учащихся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ше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ь, можно ли улучши</a:t>
            </a: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48B7-36F3-4133-81A9-CE56DE22F678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Задачи исслед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, что такое память и какие бывают виды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что помогает человеку лучше запомин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исследование памяти  однокласс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9D33-A571-46C5-AE28-FCBA777D1335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Гипотез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ожим, что если человеку нужно что-то запомнить, то в его голове происходят разные процессы, связанные с запомин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тим, что память человека можно улучшить, и существуют правила, помогающие это сдел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если плохая память человека влияет на его физическое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, что разные люди обладают разными видами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7BC8-C7AA-453B-9161-9D32C6D9800E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76092"/>
                </a:solidFill>
                <a:latin typeface="Calibri"/>
              </a:rPr>
              <a:t>Этапы исследования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бор темы исследовательской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ение целей и постановка зада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вижение гипоте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исследовательской деятельнос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ставление плана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ение методов исслед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8182-F8C3-4F10-A651-B94B9ACCEA12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Работа над эмблемой и деви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082C-18BF-4721-B8E4-D7B2971B47C4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buClr>
                <a:srgbClr val="376092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Выполнение практической части исследов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нформации по выбранной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формление результатов исследов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полученных да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е диа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22240">
              <a:spcBef>
                <a:spcPts val="451"/>
              </a:spcBef>
              <a:buClr>
                <a:srgbClr val="bcbcb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ение портфоли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готовка к защите исследовательской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готовка компьютерной презент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7DF1-DA73-4C46-9B4C-91DD732BFE1D}" type="slidenum">
              <a:rPr b="0" lang="uk-UA" sz="1200" spc="-1" strike="noStrike">
                <a:solidFill>
                  <a:srgbClr val="000000"/>
                </a:solidFill>
                <a:latin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38C0-6872-4729-BDB5-B9895D31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10C7-3896-4BF3-97BF-8568CA09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9FDF-9476-41A0-B3CA-E142082F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635-EE9D-42CC-817D-94E58C80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E86A-851D-474E-87DD-B002E093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0989-CCB4-4DFD-9732-D20F3583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5C7E-49F6-431A-80E7-4A7DD285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2B1A-5B62-49EA-AE53-C0AA9421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F9C0-883E-4D83-BAB8-C1A3497A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DB80-BDE7-486A-8FAA-985F54C8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BEE8-7E20-4FCF-8BFF-1FF7EF5E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2A77-5CD8-48DC-BCB4-E78AEF35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5218-E6BF-4BB9-AA2F-B42C658D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627A-9C00-4D96-94BA-B01AA795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38A1-2E59-4C59-B454-75E8FDCD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F420-483F-4197-92C8-F720F6F5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80B0-3EBB-4531-9797-7A212E5B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F6A08-4877-4C3A-AD94-036B222B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A9389-8BEB-4665-A228-2A9EAB0F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8CA64-F26F-4082-81BD-09A25565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6058C-C702-437C-8DF8-2324CFEB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93E4C-7ABA-4B8D-8061-3730E2D9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EF49-A205-4BBC-8850-115AF2C7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6A9E7-D28D-4FB5-9D22-AB8EA1EB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61324-1331-4AF2-BCDB-A9D70C5E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818FB-878B-4F56-A026-73121F1D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54547-15C5-4B61-9DCA-5352122B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FA1E1-6551-49D5-97A8-FA5BDD44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EF0BD-05F2-4D4A-AFB3-B558835A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63023-1DD3-414B-890F-3C2213C4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794FC-6151-4B9D-A8BA-F095116E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36E42-60DA-4325-B1D0-1B9318B6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AE1D0-FD82-43A8-828A-6C8F9258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ECF7-CAFA-466E-A09C-8120070E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20BE1-FBB0-4E38-A1F4-AB9FDB3A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B51C5-1E71-4DC4-BAA6-899CD123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129FD-BD19-4E53-B150-FF77C21C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F54A7-8920-4BB7-AAF1-5498EE69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1010A-CD76-49CB-9369-6FF47E4E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AB49A-0820-4178-903A-86C11639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5221B-C4A0-4485-8898-BDDCF4FF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F5864-66C8-457F-B3C9-C649B5EF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3F27F-32EE-4A94-85A9-9AC949FC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4D665-D14D-41E8-8077-E11B4BC6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C64E-CF7E-4F35-A7EC-14546BBD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15787-EBEB-43BC-A92D-202D7F8F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2FE3C-F9BA-4251-944E-9A1C7388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1D0ED-DC4A-464A-A8B2-A14373BF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173EA-64ED-4EC2-8C5A-0D0FD967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1C559-E7A2-4363-8EE4-101F8206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C14AA-322D-4E55-8530-F8895899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38C02-C52F-4803-842A-65EBE1F3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51D61-A6AC-4D3B-B9B6-80C0A48E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425D0-62C2-4B68-88E7-B4053DE2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708BF-D22E-4CF1-B2A3-3C93A56F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2939-66CC-43F9-9F64-1B07F4AB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0CDE6-9977-4BC6-AF86-A757F862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CBBCC-74A0-43DE-AC4A-65511F9E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F3FE1-ACC8-4BCA-804B-DB2BF68B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B02F6-084C-44B7-8D9D-EB6C2E63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C1C85-DA5E-4BEB-8247-CDE617DC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E1245-A06E-40EA-A8EF-B70FF795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B6FB2-E1E8-4DE2-A041-95D07C92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E71C7-B1C7-4765-9C25-90B9D3B0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36856-653F-4A8E-B1B9-325E0493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0E736-A954-4989-96DF-D814CF9E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CBC7-207D-490B-A9C2-9942FA5A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9D965-BA47-4F38-A20D-98DE2995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78D76-B380-433E-92A7-B5CDF97D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5083E-D38C-4D87-94A1-033188CA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3A1E9-01C8-4222-83D8-5CA63AE2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DD0FF-A173-414F-87DF-DF0D2763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C4CCE-980E-4ACD-9E18-58D3222E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19913-C2A2-4731-91A0-6D1AF6A0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3A77A-EB65-49EF-803C-A90599D6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CB679-69DB-4B68-B3F3-B9E282F4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941F9-FB1C-4253-842E-866A51E9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B84B-E789-46DC-9B84-643A19E5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11C22-6C80-43CC-A116-EECBC153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A3CE8-F49C-4F21-8D20-251740A9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AEF53-F9F6-49B5-A877-6ED4085E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9B4FC-4A28-404D-84DA-B1BC5D60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916A6-7646-4443-B6FF-DA6E05AD3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3C42D-CED6-439E-9C7E-11D257F5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2EB69-F9F5-4338-8108-8A95C627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64F86-C33C-4397-BA2D-3329BD61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04822-5A15-4B7A-9F1C-30FB1E11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E1C85-98E4-4583-98D4-171852F1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F0B3-896C-447F-8D09-56A19840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4A83D-228E-4C44-A11A-D0ED622E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F94D3-8C05-4D46-8D99-08CDF4A3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4085A-A369-429F-B41A-99F56A41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1A6D8-134A-4F48-A71D-6C9D0895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501B8-4DE8-4841-8525-28C0A872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ABDF7-C3A0-4F5C-95A7-8FBE5353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E1AD9-B7F4-418B-A7BD-A9AF474D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552F-9214-451F-8681-A7C9345558A8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D2AC-B648-47A4-A039-C66171A0A302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b0c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3049-0EC0-4A89-A57D-73B6E8E55CB0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059B-2975-46F1-B8EA-5128959AAFFC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eaebde"/>
              </a:solidFill>
              <a:latin typeface="Monotype Corsi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4483-10AD-413F-8EA5-ACB9E52259BA}" type="datetime">
              <a:rPr b="0" lang="ru-RU" sz="1400" spc="-1" strike="noStrike">
                <a:solidFill>
                  <a:srgbClr val="eaebde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bde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7611-2976-4944-A2F0-6DD9FFEE7F79}" type="slidenum">
              <a:rPr b="0" lang="ru-RU" sz="1400" spc="-1" strike="noStrike">
                <a:solidFill>
                  <a:srgbClr val="eaebd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4E00-7CB4-4958-9BD9-0DB26758298E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9E57-E6AF-46B2-B7FF-EBC7C9E1964E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5E9D-5118-4130-9ACA-BEAA7061E2A1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F8F2-5D60-4AC2-8414-991CDD6707AA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EC17-9333-4247-953B-6E1025504D77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5643-DEA7-4E58-BFBD-C2538F73478C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eaebde"/>
              </a:solidFill>
              <a:latin typeface="Monotype Corsiv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C7F4-D4BD-4C45-8DD9-E54637F233AC}" type="datetime">
              <a:rPr b="0" lang="ru-RU" sz="1400" spc="-1" strike="noStrike">
                <a:solidFill>
                  <a:srgbClr val="eaebde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bde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5486-79BC-427B-941E-CEDEBE9EB54A}" type="slidenum">
              <a:rPr b="0" lang="ru-RU" sz="1400" spc="-1" strike="noStrike">
                <a:solidFill>
                  <a:srgbClr val="eaebd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b0cc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Monotype Corsiva"/>
              </a:rPr>
              <a:t>Click to edit the title text format</a:t>
            </a:r>
            <a:endParaRPr b="0" lang="en-US" sz="32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1" marL="547560" indent="-272880">
              <a:spcBef>
                <a:spcPts val="601"/>
              </a:spcBef>
              <a:buClr>
                <a:srgbClr val="b0ccb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3" marL="1096920" indent="-228600">
              <a:spcBef>
                <a:spcPts val="601"/>
              </a:spcBef>
              <a:buClr>
                <a:srgbClr val="9bb39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4" marL="1371600" indent="-228600">
              <a:spcBef>
                <a:spcPts val="601"/>
              </a:spcBef>
              <a:buClr>
                <a:srgbClr val="b0ccb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 Math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65DC-1EC8-4C5F-BF3F-BCD556326857}" type="datetime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73F6-D2C4-43B3-BFB6-43BD841FC541}" type="slidenum">
              <a:rPr b="0" lang="ru-RU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85920" y="385740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27e56"/>
                </a:solidFill>
                <a:latin typeface="Monotype Corsiva"/>
              </a:rPr>
              <a:t>Какая</a:t>
            </a:r>
            <a:r>
              <a:rPr b="1" lang="ru-RU" sz="6600" spc="-1" strike="noStrike">
                <a:solidFill>
                  <a:srgbClr val="4b734b"/>
                </a:solidFill>
                <a:latin typeface="Monotype Corsiva"/>
              </a:rPr>
              <a:t> у нас память 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Исследовательская работа</a:t>
            </a: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</p:txBody>
      </p:sp>
      <p:pic>
        <p:nvPicPr>
          <p:cNvPr id="361" name="Picture 2" descr="C:\Users\ПК\AppData\Local\Microsoft\Windows\Temporary Internet Files\Content.IE5\2B5Q6MJB\MC900318226[1].wmf"/>
          <p:cNvPicPr/>
          <p:nvPr/>
        </p:nvPicPr>
        <p:blipFill>
          <a:blip r:embed="rId1"/>
          <a:stretch/>
        </p:blipFill>
        <p:spPr>
          <a:xfrm>
            <a:off x="214200" y="0"/>
            <a:ext cx="2428920" cy="349884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3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E:\Каб.202\Фотографии\Исслед.д-ть.2005-2006\IMG_0753.jpg"/>
          <p:cNvPicPr/>
          <p:nvPr/>
        </p:nvPicPr>
        <p:blipFill>
          <a:blip r:embed="rId1"/>
          <a:stretch/>
        </p:blipFill>
        <p:spPr>
          <a:xfrm>
            <a:off x="4000680" y="3286080"/>
            <a:ext cx="4500360" cy="3375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27e56"/>
                </a:solidFill>
                <a:latin typeface="Monotype Corsiva"/>
              </a:rPr>
              <a:t>Методы исследования: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Изучить литературу по теме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Обратиться за помощью к другим людям (родителям, учителям, школьному психологу)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Обратиться к глобальной сети интернет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Провести эксперимент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6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27e56"/>
                </a:solidFill>
                <a:latin typeface="Monotype Corsiva"/>
              </a:rPr>
              <a:t>Выводы: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28760" y="1214280"/>
            <a:ext cx="8229600" cy="508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</a:rPr>
              <a:t>Результаты проведенных экспериментов подтверждают закономерности развития памяти в младшем школьном возрасте. А именно: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mbria Math"/>
              </a:rPr>
              <a:t>-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mbria Math"/>
              </a:rPr>
              <a:t>высокие показатели получены по разным типам кратко­временной памяти (обонятельной, зрительной, моторной, слуховой и др.);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mbria Math"/>
              </a:rPr>
              <a:t>- долговременная память учеников класса имеет относительно низкие показатели (только 35% обследуемой выборки вспомнили от 60 до 100% текста);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mbria Math"/>
              </a:rPr>
              <a:t>-  начинает формироваться логическая память (57% выборки смогли воспроизвести смысловые единицы запоминаемого текста;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mbria Math"/>
              </a:rPr>
              <a:t>- из всех видов обследованной кратковременной памяти наиболее развита зрительная память.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9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img158"/>
          <p:cNvPicPr/>
          <p:nvPr/>
        </p:nvPicPr>
        <p:blipFill>
          <a:blip r:embed="rId2"/>
          <a:stretch/>
        </p:blipFill>
        <p:spPr>
          <a:xfrm>
            <a:off x="1000080" y="1179360"/>
            <a:ext cx="7072200" cy="5067360"/>
          </a:xfrm>
          <a:prstGeom prst="rect">
            <a:avLst/>
          </a:prstGeom>
          <a:ln w="0">
            <a:noFill/>
          </a:ln>
        </p:spPr>
      </p:pic>
      <p:sp>
        <p:nvSpPr>
          <p:cNvPr id="402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img159"/>
          <p:cNvPicPr/>
          <p:nvPr/>
        </p:nvPicPr>
        <p:blipFill>
          <a:blip r:embed="rId2"/>
          <a:stretch/>
        </p:blipFill>
        <p:spPr>
          <a:xfrm>
            <a:off x="857160" y="1357200"/>
            <a:ext cx="7286760" cy="5214960"/>
          </a:xfrm>
          <a:prstGeom prst="rect">
            <a:avLst/>
          </a:prstGeom>
          <a:ln w="0">
            <a:noFill/>
          </a:ln>
        </p:spPr>
      </p:pic>
      <p:sp>
        <p:nvSpPr>
          <p:cNvPr id="405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img160"/>
          <p:cNvPicPr/>
          <p:nvPr/>
        </p:nvPicPr>
        <p:blipFill>
          <a:blip r:embed="rId2"/>
          <a:stretch/>
        </p:blipFill>
        <p:spPr>
          <a:xfrm>
            <a:off x="1214280" y="1214280"/>
            <a:ext cx="7000920" cy="533592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img161"/>
          <p:cNvPicPr/>
          <p:nvPr/>
        </p:nvPicPr>
        <p:blipFill>
          <a:blip r:embed="rId2"/>
          <a:stretch/>
        </p:blipFill>
        <p:spPr>
          <a:xfrm>
            <a:off x="1357200" y="1276200"/>
            <a:ext cx="7000920" cy="5581800"/>
          </a:xfrm>
          <a:prstGeom prst="rect">
            <a:avLst/>
          </a:prstGeom>
          <a:ln w="0">
            <a:noFill/>
          </a:ln>
        </p:spPr>
      </p:pic>
      <p:sp>
        <p:nvSpPr>
          <p:cNvPr id="41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1224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img162"/>
          <p:cNvPicPr/>
          <p:nvPr/>
        </p:nvPicPr>
        <p:blipFill>
          <a:blip r:embed="rId2"/>
          <a:stretch/>
        </p:blipFill>
        <p:spPr>
          <a:xfrm>
            <a:off x="928800" y="1285920"/>
            <a:ext cx="7538760" cy="5014800"/>
          </a:xfrm>
          <a:prstGeom prst="rect">
            <a:avLst/>
          </a:prstGeom>
          <a:ln w="0">
            <a:noFill/>
          </a:ln>
        </p:spPr>
      </p:pic>
      <p:sp>
        <p:nvSpPr>
          <p:cNvPr id="41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img163"/>
          <p:cNvPicPr/>
          <p:nvPr/>
        </p:nvPicPr>
        <p:blipFill>
          <a:blip r:embed="rId2"/>
          <a:stretch/>
        </p:blipFill>
        <p:spPr>
          <a:xfrm>
            <a:off x="1214280" y="1122480"/>
            <a:ext cx="6572520" cy="524484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img164"/>
          <p:cNvPicPr/>
          <p:nvPr/>
        </p:nvPicPr>
        <p:blipFill>
          <a:blip r:embed="rId2"/>
          <a:stretch/>
        </p:blipFill>
        <p:spPr>
          <a:xfrm>
            <a:off x="642960" y="1285920"/>
            <a:ext cx="8074080" cy="475920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457200" y="146160"/>
            <a:ext cx="8229600" cy="1170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img165"/>
          <p:cNvPicPr/>
          <p:nvPr/>
        </p:nvPicPr>
        <p:blipFill>
          <a:blip r:embed="rId2"/>
          <a:stretch/>
        </p:blipFill>
        <p:spPr>
          <a:xfrm>
            <a:off x="1143000" y="1357200"/>
            <a:ext cx="7091280" cy="5158080"/>
          </a:xfrm>
          <a:prstGeom prst="rect">
            <a:avLst/>
          </a:prstGeom>
          <a:ln w="0">
            <a:noFill/>
          </a:ln>
        </p:spPr>
      </p:pic>
      <p:sp>
        <p:nvSpPr>
          <p:cNvPr id="423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14280" y="1428840"/>
            <a:ext cx="742968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eaebde"/>
                </a:solidFill>
                <a:latin typeface="Monotype Corsiva"/>
              </a:rPr>
              <a:t>Авторы :</a:t>
            </a:r>
            <a:br>
              <a:rPr sz="5400"/>
            </a:br>
            <a:r>
              <a:rPr b="1" lang="ru-RU" sz="3600" spc="-1" strike="noStrike">
                <a:solidFill>
                  <a:srgbClr val="eaebde"/>
                </a:solidFill>
                <a:latin typeface="Monotype Corsiva"/>
              </a:rPr>
              <a:t>Побиванцева Анна</a:t>
            </a:r>
            <a:br>
              <a:rPr sz="3600"/>
            </a:br>
            <a:r>
              <a:rPr b="1" lang="ru-RU" sz="3600" spc="-1" strike="noStrike">
                <a:solidFill>
                  <a:srgbClr val="eaebde"/>
                </a:solidFill>
                <a:latin typeface="Monotype Corsiva"/>
              </a:rPr>
              <a:t>Постолит Илья</a:t>
            </a:r>
            <a:br>
              <a:rPr sz="3600"/>
            </a:br>
            <a:r>
              <a:rPr b="1" lang="ru-RU" sz="3600" spc="-1" strike="noStrike">
                <a:solidFill>
                  <a:srgbClr val="eaebde"/>
                </a:solidFill>
                <a:latin typeface="Monotype Corsiva"/>
              </a:rPr>
              <a:t>Сытник Екатерина</a:t>
            </a:r>
            <a:endParaRPr b="0" lang="en-US" sz="3600" spc="-1" strike="noStrike">
              <a:solidFill>
                <a:srgbClr val="eaebde"/>
              </a:solidFill>
              <a:latin typeface="Monotype Corsiv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94920" y="4267080"/>
            <a:ext cx="6782040" cy="17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mbria Math"/>
              </a:rPr>
              <a:t>Руководитель работы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mbria Math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Cambria Math"/>
              </a:rPr>
              <a:t>Александренко Антонина Егоровна</a:t>
            </a:r>
            <a:endParaRPr b="0" lang="en-US" sz="2600" spc="-1" strike="noStrike">
              <a:solidFill>
                <a:srgbClr val="ffffff"/>
              </a:solidFill>
              <a:latin typeface="Cambria Math"/>
            </a:endParaRPr>
          </a:p>
        </p:txBody>
      </p:sp>
      <p:pic>
        <p:nvPicPr>
          <p:cNvPr id="365" name="Picture 2" descr="E:\Каб.202\Фотографии\Фото класса (разные)2006-2010гг\IMG_0763.jpg"/>
          <p:cNvPicPr/>
          <p:nvPr/>
        </p:nvPicPr>
        <p:blipFill>
          <a:blip r:embed="rId1"/>
          <a:stretch/>
        </p:blipFill>
        <p:spPr>
          <a:xfrm>
            <a:off x="214200" y="214200"/>
            <a:ext cx="5143680" cy="3857760"/>
          </a:xfrm>
          <a:prstGeom prst="rect">
            <a:avLst/>
          </a:prstGeom>
          <a:ln w="0">
            <a:noFill/>
          </a:ln>
        </p:spPr>
      </p:pic>
      <p:sp>
        <p:nvSpPr>
          <p:cNvPr id="366" name="Місце для нижнього колонтитула 3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bde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122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img172"/>
          <p:cNvPicPr/>
          <p:nvPr/>
        </p:nvPicPr>
        <p:blipFill>
          <a:blip r:embed="rId2"/>
          <a:stretch/>
        </p:blipFill>
        <p:spPr>
          <a:xfrm>
            <a:off x="857160" y="1044720"/>
            <a:ext cx="7215120" cy="5448240"/>
          </a:xfrm>
          <a:prstGeom prst="rect">
            <a:avLst/>
          </a:prstGeom>
          <a:ln w="0">
            <a:noFill/>
          </a:ln>
        </p:spPr>
      </p:pic>
      <p:sp>
        <p:nvSpPr>
          <p:cNvPr id="42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img173"/>
          <p:cNvPicPr/>
          <p:nvPr/>
        </p:nvPicPr>
        <p:blipFill>
          <a:blip r:embed="rId2"/>
          <a:stretch/>
        </p:blipFill>
        <p:spPr>
          <a:xfrm>
            <a:off x="357120" y="1500120"/>
            <a:ext cx="8440920" cy="492912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оугольник 5"/>
          <p:cNvSpPr/>
          <p:nvPr/>
        </p:nvSpPr>
        <p:spPr>
          <a:xfrm>
            <a:off x="5643720" y="114300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иаграмма № 10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30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3114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Для того чтобы иметь возможность пользоваться полученной информацией, ее надо запомнить, сохранить и воспро­извести в нужный момент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mbria Math"/>
              </a:rPr>
              <a:t>Запоминание (кодирование), сохранение, воспроизведение (извлечение) и забывание </a:t>
            </a:r>
            <a:r>
              <a:rPr b="1" lang="ru-RU" sz="2000" spc="-1" strike="noStrike">
                <a:solidFill>
                  <a:srgbClr val="000000"/>
                </a:solidFill>
                <a:latin typeface="Cambria Math"/>
              </a:rPr>
              <a:t>— основные процессы памяти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</p:txBody>
      </p:sp>
      <p:pic>
        <p:nvPicPr>
          <p:cNvPr id="433" name="Picture 1" descr="img099"/>
          <p:cNvPicPr/>
          <p:nvPr/>
        </p:nvPicPr>
        <p:blipFill>
          <a:blip r:embed="rId2"/>
          <a:stretch/>
        </p:blipFill>
        <p:spPr>
          <a:xfrm>
            <a:off x="500040" y="2928960"/>
            <a:ext cx="8501040" cy="3765600"/>
          </a:xfrm>
          <a:prstGeom prst="rect">
            <a:avLst/>
          </a:prstGeom>
          <a:ln w="0">
            <a:noFill/>
          </a:ln>
        </p:spPr>
      </p:pic>
      <p:sp>
        <p:nvSpPr>
          <p:cNvPr id="434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C:\Users\ПК\AppData\Local\Microsoft\Windows\Temporary Internet Files\Content.IE5\2B5Q6MJB\MC900197836[1].wmf"/>
          <p:cNvPicPr/>
          <p:nvPr/>
        </p:nvPicPr>
        <p:blipFill>
          <a:blip r:embed="rId1"/>
          <a:stretch/>
        </p:blipFill>
        <p:spPr>
          <a:xfrm>
            <a:off x="285840" y="357120"/>
            <a:ext cx="8858160" cy="621504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Направления дальнейших исследований:</a:t>
            </a:r>
            <a:endParaRPr b="0" lang="en-US" sz="40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Изучить, есть ли различия в запоминании у мальчиков и девочек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Расследовать, влияет ли физическое здоровье на память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Провести новый эксперимент с использованием специальных упражнений для улучшения памяти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Сравнить и обобщить результаты проведенных и будущих исследований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Разработать рекомендации для участников эксперимента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438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3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3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3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0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3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30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E:\Каб.202\Фотографии\Исслед.д-ть.2005-2006\IMG_0743.jpg"/>
          <p:cNvPicPr/>
          <p:nvPr/>
        </p:nvPicPr>
        <p:blipFill>
          <a:blip r:embed="rId1"/>
          <a:stretch/>
        </p:blipFill>
        <p:spPr>
          <a:xfrm>
            <a:off x="500040" y="3875040"/>
            <a:ext cx="3786120" cy="28400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27e56"/>
                </a:solidFill>
                <a:latin typeface="Monotype Corsiva"/>
              </a:rPr>
              <a:t>Работа была представлена:</a:t>
            </a:r>
            <a:endParaRPr b="0" lang="en-US" sz="48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на ученической научно-практической конференции «</a:t>
            </a:r>
            <a:r>
              <a:rPr b="1" i="1" lang="ru-RU" sz="2600" spc="-1" strike="noStrike">
                <a:solidFill>
                  <a:srgbClr val="000000"/>
                </a:solidFill>
                <a:latin typeface="Cambria Math"/>
              </a:rPr>
              <a:t>Да не оскудеет талантами земля русская»,</a:t>
            </a: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 2006г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на Российском  конкурсе исследовательских работ и творческих проектов </a:t>
            </a:r>
            <a:r>
              <a:rPr b="1" i="1" lang="ru-RU" sz="2600" spc="-1" strike="noStrike">
                <a:solidFill>
                  <a:srgbClr val="000000"/>
                </a:solidFill>
                <a:latin typeface="Cambria Math"/>
              </a:rPr>
              <a:t>«Я – исследователь</a:t>
            </a: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», где получила Диплом «</a:t>
            </a:r>
            <a:r>
              <a:rPr b="1" i="1" lang="ru-RU" sz="2600" spc="-1" strike="noStrike">
                <a:solidFill>
                  <a:srgbClr val="000000"/>
                </a:solidFill>
                <a:latin typeface="Cambria Math"/>
              </a:rPr>
              <a:t>За лучший эксперимент</a:t>
            </a:r>
            <a:r>
              <a:rPr b="0" lang="ru-RU" sz="2600" spc="-1" strike="noStrike">
                <a:solidFill>
                  <a:srgbClr val="000000"/>
                </a:solidFill>
                <a:latin typeface="Cambria Math"/>
              </a:rPr>
              <a:t>», 2006г.</a:t>
            </a: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 Math"/>
            </a:endParaRPr>
          </a:p>
        </p:txBody>
      </p:sp>
      <p:pic>
        <p:nvPicPr>
          <p:cNvPr id="442" name="Picture 3" descr="E:\Каб.202\Фотографии\Исслед.д-ть.2005-2006\IMG_0779.jpg"/>
          <p:cNvPicPr/>
          <p:nvPr/>
        </p:nvPicPr>
        <p:blipFill>
          <a:blip r:embed="rId2"/>
          <a:stretch/>
        </p:blipFill>
        <p:spPr>
          <a:xfrm>
            <a:off x="4929120" y="3857760"/>
            <a:ext cx="3714840" cy="2786040"/>
          </a:xfrm>
          <a:prstGeom prst="rect">
            <a:avLst/>
          </a:prstGeom>
          <a:ln w="0">
            <a:noFill/>
          </a:ln>
        </p:spPr>
      </p:pic>
      <p:sp>
        <p:nvSpPr>
          <p:cNvPr id="443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3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30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0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C:\Users\ПК\AppData\Local\Microsoft\Windows\Temporary Internet Files\Content.IE5\4JCQMEH2\MC90033268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Цель работы: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 Math"/>
              </a:rPr>
              <a:t>Узнать, что такое память.</a:t>
            </a:r>
            <a:endParaRPr b="0" lang="en-US" sz="4800" spc="-1" strike="noStrike">
              <a:solidFill>
                <a:srgbClr val="000000"/>
              </a:solidFill>
              <a:latin typeface="Cambria Math"/>
            </a:endParaRPr>
          </a:p>
          <a:p>
            <a:pPr marL="259200" indent="-25920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 Math"/>
              </a:rPr>
              <a:t>Выяснить, какая память у учащихся </a:t>
            </a:r>
            <a:r>
              <a:rPr b="0" lang="ru-RU" sz="4800" spc="-1" strike="noStrike">
                <a:solidFill>
                  <a:srgbClr val="ffffff"/>
                </a:solidFill>
                <a:latin typeface="Cambria Math"/>
              </a:rPr>
              <a:t>нашего</a:t>
            </a:r>
            <a:r>
              <a:rPr b="0" lang="ru-RU" sz="4800" spc="-1" strike="noStrike">
                <a:solidFill>
                  <a:srgbClr val="000000"/>
                </a:solidFill>
                <a:latin typeface="Cambria Math"/>
              </a:rPr>
              <a:t> класса.</a:t>
            </a:r>
            <a:endParaRPr b="0" lang="en-US" sz="4800" spc="-1" strike="noStrike">
              <a:solidFill>
                <a:srgbClr val="000000"/>
              </a:solidFill>
              <a:latin typeface="Cambria Math"/>
            </a:endParaRPr>
          </a:p>
          <a:p>
            <a:pPr marL="259200" indent="-25920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 Math"/>
              </a:rPr>
              <a:t>Исследовать, можно ли улучши</a:t>
            </a:r>
            <a:r>
              <a:rPr b="0" lang="ru-RU" sz="4800" spc="-1" strike="noStrike">
                <a:solidFill>
                  <a:srgbClr val="f2f2f2"/>
                </a:solidFill>
                <a:latin typeface="Cambria Math"/>
              </a:rPr>
              <a:t>ть </a:t>
            </a:r>
            <a:r>
              <a:rPr b="0" lang="ru-RU" sz="4800" spc="-1" strike="noStrike">
                <a:solidFill>
                  <a:srgbClr val="000000"/>
                </a:solidFill>
                <a:latin typeface="Cambria Math"/>
              </a:rPr>
              <a:t>память.</a:t>
            </a:r>
            <a:endParaRPr b="0" lang="en-US" sz="4800" spc="-1" strike="noStrike">
              <a:solidFill>
                <a:srgbClr val="000000"/>
              </a:solidFill>
              <a:latin typeface="Cambria Math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C:\Users\ПК\AppData\Local\Microsoft\Windows\Temporary Internet Files\Content.IE5\2B5Q6MJB\MC900197836[1].wmf"/>
          <p:cNvPicPr/>
          <p:nvPr/>
        </p:nvPicPr>
        <p:blipFill>
          <a:blip r:embed="rId1"/>
          <a:stretch/>
        </p:blipFill>
        <p:spPr>
          <a:xfrm>
            <a:off x="5857920" y="4071960"/>
            <a:ext cx="3066840" cy="27860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27e56"/>
                </a:solidFill>
                <a:latin typeface="Monotype Corsiva"/>
              </a:rPr>
              <a:t>Задачи исследования:</a:t>
            </a:r>
            <a:endParaRPr b="0" lang="en-US" sz="60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 Math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Cambria Math"/>
              </a:rPr>
              <a:t>Изучить, что такое память и какие бывают виды памяти.</a:t>
            </a: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 Math"/>
              </a:rPr>
              <a:t>Выяснить, что помогает человеку лучше запоминать.</a:t>
            </a: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 Math"/>
              </a:rPr>
              <a:t>Провести исследование памяти  одноклассников.</a:t>
            </a: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4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C:\Users\ПК\AppData\Local\Microsoft\Windows\Temporary Internet Files\Content.IE5\R4TH7C0G\MM900282996[1].gif"/>
          <p:cNvPicPr/>
          <p:nvPr/>
        </p:nvPicPr>
        <p:blipFill>
          <a:blip r:embed="rId1"/>
          <a:stretch/>
        </p:blipFill>
        <p:spPr>
          <a:xfrm>
            <a:off x="5214960" y="2714760"/>
            <a:ext cx="4143240" cy="41432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27e56"/>
                </a:solidFill>
                <a:latin typeface="Monotype Corsiva"/>
              </a:rPr>
              <a:t>Гипотезы: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Предположим, что если человеку нужно что-то запомнить, то в его голове происходят разные процессы, связанные с запоминанием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67120" indent="-26712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Допустим, что память человека можно улучшить, и существуют правила, помогающие это сделать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67120" indent="-26712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Что если плохая память человека влияет на его физическое здоровье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67120" indent="-26712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Возможно, что разные люди обладают разными видами памяти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78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27e56"/>
                </a:solidFill>
                <a:latin typeface="Monotype Corsiva"/>
              </a:rPr>
              <a:t>Этапы исследования:</a:t>
            </a:r>
            <a:endParaRPr b="0" lang="en-US" sz="6600" spc="-1" strike="noStrike">
              <a:solidFill>
                <a:srgbClr val="676a55"/>
              </a:solidFill>
              <a:latin typeface="Monotype Corsiv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85840" y="1219320"/>
            <a:ext cx="840096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Выбор темы исследовательской работы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Определение целей и постановка задач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Выдвижение гипотез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Организация исследовательской деятельности: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</a:rPr>
              <a:t>Составление плана работы.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 Math"/>
              </a:rPr>
              <a:t>Определение методов исследования.</a:t>
            </a: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 Math"/>
            </a:endParaRPr>
          </a:p>
        </p:txBody>
      </p:sp>
      <p:pic>
        <p:nvPicPr>
          <p:cNvPr id="381" name="Picture 2" descr="C:\Users\ПК\AppData\Local\Microsoft\Windows\Temporary Internet Files\Content.IE5\1DKUVHX6\MC900304067[1].wmf"/>
          <p:cNvPicPr/>
          <p:nvPr/>
        </p:nvPicPr>
        <p:blipFill>
          <a:blip r:embed="rId1"/>
          <a:stretch/>
        </p:blipFill>
        <p:spPr>
          <a:xfrm>
            <a:off x="5072040" y="3238560"/>
            <a:ext cx="3629160" cy="3144600"/>
          </a:xfrm>
          <a:prstGeom prst="rect">
            <a:avLst/>
          </a:prstGeom>
          <a:ln w="0">
            <a:noFill/>
          </a:ln>
        </p:spPr>
      </p:pic>
      <p:sp>
        <p:nvSpPr>
          <p:cNvPr id="382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27e56"/>
                </a:solidFill>
                <a:latin typeface="Monotype Corsiva"/>
              </a:rPr>
              <a:t>Работа над эмблемой и девизом:</a:t>
            </a:r>
            <a:endParaRPr b="0" lang="en-US" sz="4800" spc="-1" strike="noStrike">
              <a:solidFill>
                <a:srgbClr val="676a55"/>
              </a:solidFill>
              <a:latin typeface="Monotype Corsiva"/>
            </a:endParaRPr>
          </a:p>
        </p:txBody>
      </p:sp>
      <p:pic>
        <p:nvPicPr>
          <p:cNvPr id="384" name="Picture 2" descr="C:\Users\ПК\AppData\Local\Microsoft\Windows\Temporary Internet Files\Content.IE5\2B5Q6MJB\MC900334236[1].wmf"/>
          <p:cNvPicPr/>
          <p:nvPr/>
        </p:nvPicPr>
        <p:blipFill>
          <a:blip r:embed="rId1"/>
          <a:stretch/>
        </p:blipFill>
        <p:spPr>
          <a:xfrm>
            <a:off x="571680" y="1143000"/>
            <a:ext cx="8143560" cy="551808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img115"/>
          <p:cNvPicPr/>
          <p:nvPr/>
        </p:nvPicPr>
        <p:blipFill>
          <a:blip r:embed="rId1"/>
          <a:stretch/>
        </p:blipFill>
        <p:spPr>
          <a:xfrm>
            <a:off x="2428920" y="642960"/>
            <a:ext cx="4260960" cy="5416560"/>
          </a:xfrm>
          <a:prstGeom prst="rect">
            <a:avLst/>
          </a:prstGeom>
          <a:ln w="0">
            <a:noFill/>
          </a:ln>
        </p:spPr>
      </p:pic>
      <p:sp>
        <p:nvSpPr>
          <p:cNvPr id="387" name="WordArt 2"/>
          <p:cNvSpPr txBox="1"/>
          <p:nvPr/>
        </p:nvSpPr>
        <p:spPr>
          <a:xfrm>
            <a:off x="1428840" y="571680"/>
            <a:ext cx="6400800" cy="4114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854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мять - хранилище прошлого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8" name="WordArt 4"/>
          <p:cNvSpPr txBox="1"/>
          <p:nvPr/>
        </p:nvSpPr>
        <p:spPr>
          <a:xfrm>
            <a:off x="1428840" y="542916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залог будущего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C:\Users\ПК\AppData\Local\Microsoft\Windows\Temporary Internet Files\Content.IE5\4JCQMEH2\MM900234673[1].gif"/>
          <p:cNvPicPr/>
          <p:nvPr/>
        </p:nvPicPr>
        <p:blipFill>
          <a:blip r:embed="rId1"/>
          <a:stretch/>
        </p:blipFill>
        <p:spPr>
          <a:xfrm>
            <a:off x="6567480" y="0"/>
            <a:ext cx="2576520" cy="25765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285840" y="642600"/>
            <a:ext cx="840096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27e56"/>
                </a:solidFill>
                <a:latin typeface="Monotype Corsiva"/>
              </a:rPr>
              <a:t>Выполнение практической части исследования:</a:t>
            </a:r>
            <a:endParaRPr b="0" lang="en-US" sz="36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Поиск информации по выбранной теме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Наблюдение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Эксперимент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Оформление результатов исследования: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Обработка полученных данных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Построение диаграмм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 Math"/>
              </a:rPr>
              <a:t>Заполнение портфолио.</a:t>
            </a:r>
            <a:endParaRPr b="0" lang="en-US" sz="20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Подготовка к защите исследовательской работы.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Подготовка компьютерной презентации</a:t>
            </a:r>
            <a:endParaRPr b="0" lang="en-US" sz="2800" spc="-1" strike="noStrike">
              <a:solidFill>
                <a:srgbClr val="000000"/>
              </a:solidFill>
              <a:latin typeface="Cambria Math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Cambria Math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ambria Math"/>
            </a:endParaRPr>
          </a:p>
        </p:txBody>
      </p:sp>
    </p:spTree>
  </p:cSld>
  <p:transition spd="slow" advTm="4000">
    <p:wheel spokes="8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8:20:13Z</dcterms:created>
  <dc:creator>ПК</dc:creator>
  <dc:description/>
  <dc:language>en-US</dc:language>
  <cp:lastModifiedBy>LEGION</cp:lastModifiedBy>
  <dcterms:modified xsi:type="dcterms:W3CDTF">2014-11-24T10:59:49Z</dcterms:modified>
  <cp:revision>18</cp:revision>
  <dc:subject/>
  <dc:title>Какая у нас память</dc:title>
</cp:coreProperties>
</file>