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F397-0C71-42CE-8B20-DD09782B3C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6EE-6113-49AE-8C71-534539C461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маленькому желудку подшивается тонкая кишка коротким пут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операция дает 80 % снижение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37DF-D37B-418F-AA8B-E8120E4E4C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16AE-3E95-415B-885A-EDF15470D5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FF0E-E9D0-43E1-9291-B6FC8414CB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1F7E-E45B-4301-8C0C-F59CB49FB6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каждый десятый житель планеты страдает избыточной массой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326A-DA54-4839-9CF3-6C7E6D7CA0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факторов почему Вам это нуж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вышение массы тела по сравнению с нормой на 10% увеличивает смертность в среднем на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6537-775B-43C7-95AD-CD0AD74572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ицинские последствия ожи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ртериальная гиперто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Сахарный диабет 2 ти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елчекаменная   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Заболевания Ж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Дисфункция яи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еноз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иквикский синд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ировая дистрофия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анкреа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стеоарт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те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нкологическ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Увеличение риска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Кожно- жировые фар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нутричерепная гипертенз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Гастроэзофагеальная рефлюкс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Болезни с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Холецис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8B32-59CA-417E-B183-33275ABDFD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ческая хирургия является </a:t>
            </a:r>
            <a:r>
              <a:rPr b="0" lang="ru-RU" sz="1200" spc="-1" strike="noStrike" u="sng">
                <a:solidFill>
                  <a:srgbClr val="a24308"/>
                </a:solidFill>
                <a:uFillTx/>
                <a:latin typeface="Times New Roman"/>
              </a:rPr>
              <a:t>наиболее эффективным средств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ого снижения веса и избавления от сопутствующих заболеваний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лечение от диабета зависит от типа опе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-70 % больных излечиваются после рестриктивных процеду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-98 % – после желудочного шунтирования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2-100 % – после билиопанкреатического шунтировани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323E-AC48-457C-AAF6-D9EDF06FC7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тите деньги на таблетки для поху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 показали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ми случаях из дес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 возвращае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ем с положительной динамикой рост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C8EF-C0A1-4891-BAD1-93D36C0102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DB9C-9247-42FD-93BE-D640E8D330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 выполняется только лапароскопическим способом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EB64-D978-4780-85C3-92DED23510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199E-0B79-4F55-A650-80F7CA964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B1BB-2E75-440C-B58F-F2717AEB8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5996-388C-4BA3-9D98-36C8B0008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E033-292E-4746-A056-54509FF51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6D58-AFA3-433C-8645-3EE7F1F89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5378-2968-4D39-AE18-8EFA7A874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61A4-9B9A-46AF-8A5B-203267F96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7636-DD66-40D3-9811-A9C920607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BFFF-852F-467D-B16C-219EB6004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C7C3-6FA9-4882-9046-F2672D5DD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716A-8FB5-48E4-9180-9E04CF6B5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404C-CE01-4BB5-872D-4397F8FF1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520"/>
            <a:ext cx="40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33C8-1CF1-43AC-B222-3152A5A44E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45" name="Picture 2" descr="E:\S4\SKC\STYLE\Brend-book\Технологические файлы\Шаблон электронной презентации\Графика\4-04_Электронная презентация_обложк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kc-fmb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2;&#1077;&#1089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5;&#1076;&#1072;&#1078;&#1080;&#1088;&#1086;&#1074;&#1072;&#1085;&#1080;&#1077;_&#1078;&#1077;&#1083;&#1091;&#1076;&#1082;&#1072;" TargetMode="External"/><Relationship Id="rId2" Type="http://schemas.openxmlformats.org/officeDocument/2006/relationships/hyperlink" Target="http://ru.wikipedia.org/wiki/&#1046;&#1077;&#1083;&#1091;&#1076;&#1086;&#1095;&#1085;&#1086;&#1077;_&#1096;&#1091;&#1085;&#1090;&#1080;&#1088;&#1086;&#1074;&#1072;&#1085;&#1080;&#1077;" TargetMode="External"/><Relationship Id="rId3" Type="http://schemas.openxmlformats.org/officeDocument/2006/relationships/hyperlink" Target="http://ru.wikipedia.org/w/index.php?title=&#1041;&#1080;&#1083;&#1080;&#1086;&#1087;&#1072;&#1085;&#1082;&#1088;&#1077;&#1072;&#1090;&#1080;&#1095;&#1077;&#1089;&#1082;&#1086;&#1077;_&#1096;&#1091;&#1085;&#1090;&#1080;&#1088;&#1086;&#1074;&#1072;&#1085;&#1080;&#1077;&amp;action=edit&amp;redlink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87;&#1072;&#1088;&#1086;&#1089;&#1082;&#1086;&#1087;&#1080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157360"/>
            <a:ext cx="3888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485"/>
                </a:solidFill>
                <a:latin typeface="Arial Narrow"/>
              </a:rPr>
              <a:t>Бариатр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IMG_0217.jpg"/>
          <p:cNvPicPr/>
          <p:nvPr/>
        </p:nvPicPr>
        <p:blipFill>
          <a:blip r:embed="rId1"/>
          <a:stretch/>
        </p:blipFill>
        <p:spPr>
          <a:xfrm>
            <a:off x="3635280" y="692280"/>
            <a:ext cx="4276800" cy="4968720"/>
          </a:xfrm>
          <a:prstGeom prst="rect">
            <a:avLst/>
          </a:prstGeom>
          <a:ln w="38160">
            <a:solidFill>
              <a:srgbClr val="123336"/>
            </a:solidFill>
            <a:miter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59440" y="7650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Желудочн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4000" y="1413000"/>
            <a:ext cx="453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К маленькому желудку подшивается тонкая кишка коротким путем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Эта операция дает 80 % снижение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4" name="Picture 3" descr="C:\Users\nikulin_as\Pictures\шунтир.png"/>
          <p:cNvPicPr/>
          <p:nvPr/>
        </p:nvPicPr>
        <p:blipFill>
          <a:blip r:embed="rId1"/>
          <a:stretch/>
        </p:blipFill>
        <p:spPr>
          <a:xfrm>
            <a:off x="4788000" y="1125360"/>
            <a:ext cx="3462120" cy="365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65200" y="7650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илиопанкреатическ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539640" y="119700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8" name="Picture 2" descr="C:\Users\nikulin_as\Pictures\билиопанк.jpg"/>
          <p:cNvPicPr/>
          <p:nvPr/>
        </p:nvPicPr>
        <p:blipFill>
          <a:blip r:embed="rId1"/>
          <a:stretch/>
        </p:blipFill>
        <p:spPr>
          <a:xfrm>
            <a:off x="5435640" y="1052640"/>
            <a:ext cx="266076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86720" y="620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Практические результаты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1" name="Picture 7" descr="C:\Users\nikulin_as\Pictures\Бариатрия\до после1.jpg"/>
          <p:cNvPicPr/>
          <p:nvPr/>
        </p:nvPicPr>
        <p:blipFill>
          <a:blip r:embed="rId1"/>
          <a:stretch/>
        </p:blipFill>
        <p:spPr>
          <a:xfrm>
            <a:off x="0" y="2708280"/>
            <a:ext cx="467676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nikulin_as\Pictures\Бариатрия\до после 3.gif"/>
          <p:cNvPicPr/>
          <p:nvPr/>
        </p:nvPicPr>
        <p:blipFill>
          <a:blip r:embed="rId2"/>
          <a:stretch/>
        </p:blipFill>
        <p:spPr>
          <a:xfrm>
            <a:off x="5076720" y="692280"/>
            <a:ext cx="3733920" cy="398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4" name="Picture 2" descr="C:\Users\nikulin_as\Pictures\Бариатрия\до.jpg"/>
          <p:cNvPicPr/>
          <p:nvPr/>
        </p:nvPicPr>
        <p:blipFill>
          <a:blip r:embed="rId1"/>
          <a:stretch/>
        </p:blipFill>
        <p:spPr>
          <a:xfrm>
            <a:off x="468360" y="1557360"/>
            <a:ext cx="2054160" cy="27352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4900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39704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7" name="Picture 4" descr="C:\Users\nikulin_as\Pictures\Бариатрия\после1.jpg"/>
          <p:cNvPicPr/>
          <p:nvPr/>
        </p:nvPicPr>
        <p:blipFill>
          <a:blip r:embed="rId2"/>
          <a:stretch/>
        </p:blipFill>
        <p:spPr>
          <a:xfrm>
            <a:off x="3348000" y="1268280"/>
            <a:ext cx="391320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195640" y="6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?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6014160" y="692280"/>
            <a:ext cx="2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2328840"/>
            <a:ext cx="857232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aaa5"/>
                </a:solidFill>
                <a:latin typeface="Arial Narrow"/>
              </a:rPr>
              <a:t>Благодарю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928600"/>
            <a:ext cx="3960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Наш адрес: 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660037 г.Красноярск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ул.Коломенская 2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т. (391) 242-41-6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             257-93-06</a:t>
            </a:r>
            <a:br>
              <a:rPr sz="2400"/>
            </a:br>
            <a:r>
              <a:rPr b="1" lang="en-US" sz="24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www.skc-fmba.ru</a:t>
            </a:r>
            <a:br>
              <a:rPr sz="2400"/>
            </a:br>
            <a:r>
              <a:rPr b="1" lang="en-US" sz="2400" spc="-1" strike="noStrike">
                <a:solidFill>
                  <a:srgbClr val="00aaa5"/>
                </a:solidFill>
                <a:latin typeface="Arial Narrow"/>
              </a:rPr>
              <a:t>e-mail: </a:t>
            </a: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kartashkov_ev@skc-fmba.r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98760" y="6922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aa5"/>
                </a:solidFill>
                <a:latin typeface="Arial Narrow"/>
              </a:rPr>
              <a:t>Задумались?</a:t>
            </a:r>
            <a:endParaRPr b="1" lang="en-US" sz="2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00000" y="1484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аше здоровье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438800" y="14842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  Ваших руках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39640" y="692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aaa5"/>
                </a:solidFill>
                <a:uFillTx/>
                <a:latin typeface="Arial Narrow"/>
              </a:rPr>
              <a:t>Бариатрия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(от 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др.-греч.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βάρος —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вес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, тяжесть, и ἰατρεία —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 Narrow"/>
              </a:rPr>
              <a:t>лечение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)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96" name="Рисунок 5" descr="C:\Users\nikulin_as\Pictures\Бариатрия\до и после  динамика.bmp"/>
          <p:cNvPicPr/>
          <p:nvPr/>
        </p:nvPicPr>
        <p:blipFill>
          <a:blip r:embed="rId3"/>
          <a:srcRect l="65073" t="0" r="0" b="277"/>
          <a:stretch/>
        </p:blipFill>
        <p:spPr>
          <a:xfrm>
            <a:off x="395280" y="3357720"/>
            <a:ext cx="127476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:\Users\nikulin_as\Pictures\Бариатрия\до и после  динамика.bmp"/>
          <p:cNvPicPr/>
          <p:nvPr/>
        </p:nvPicPr>
        <p:blipFill>
          <a:blip r:embed="rId4"/>
          <a:srcRect l="28428" t="0" r="34080" b="277"/>
          <a:stretch/>
        </p:blipFill>
        <p:spPr>
          <a:xfrm>
            <a:off x="1692360" y="3357720"/>
            <a:ext cx="142380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nikulin_as\Pictures\Бариатрия\до и после  динамика.bmp"/>
          <p:cNvPicPr/>
          <p:nvPr/>
        </p:nvPicPr>
        <p:blipFill>
          <a:blip r:embed="rId5"/>
          <a:srcRect l="0" t="0" r="69243" b="-256"/>
          <a:stretch/>
        </p:blipFill>
        <p:spPr>
          <a:xfrm>
            <a:off x="3059280" y="3357720"/>
            <a:ext cx="115236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95280" y="69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На сегодняшний день каждый десятый житель планеты страдает избыточной массой тела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01" name="Picture 2" descr="C:\Users\nikulin_as\Pictures\Бариатрия\до 2.jpg"/>
          <p:cNvPicPr/>
          <p:nvPr/>
        </p:nvPicPr>
        <p:blipFill>
          <a:blip r:embed="rId1"/>
          <a:stretch/>
        </p:blipFill>
        <p:spPr>
          <a:xfrm>
            <a:off x="395280" y="1557360"/>
            <a:ext cx="3143160" cy="23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nikulin_as\Pictures\Бариатрия\до 3.jpg"/>
          <p:cNvPicPr/>
          <p:nvPr/>
        </p:nvPicPr>
        <p:blipFill>
          <a:blip r:embed="rId2"/>
          <a:stretch/>
        </p:blipFill>
        <p:spPr>
          <a:xfrm>
            <a:off x="493236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nikulin_as\Pictures\Бариатрия\до 1.jpg"/>
          <p:cNvPicPr/>
          <p:nvPr/>
        </p:nvPicPr>
        <p:blipFill>
          <a:blip r:embed="rId3"/>
          <a:stretch/>
        </p:blipFill>
        <p:spPr>
          <a:xfrm>
            <a:off x="2987640" y="2205000"/>
            <a:ext cx="2394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84200" y="554400"/>
            <a:ext cx="79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5 факторов почему Вам это нужно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1410840"/>
            <a:ext cx="75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5.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 Превышение массы тела по сравнению с нормой на 10% увеличивает смертность в среднем на 30%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7729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Медицинские последствия ожирен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68360" y="177336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ртериальная гиперто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Сахарный диабет 2 тип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елчекаменная   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Заболевания ЖК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Дисфункция яичник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енозная недостаточност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иквикский синдром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ировая дистрофия печен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анкреа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стеоарт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635280" y="1773360"/>
            <a:ext cx="3745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тероскле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нкологические заболева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Увеличение риска операций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Кожно- жировые фартук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нутричерепная гипертенз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Гастроэзофагеальная рефлюксная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Болезни сустав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нсуль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шемическая болезнь сердц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Холецис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611280" y="620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риатрическая хирургия является </a:t>
            </a:r>
            <a:r>
              <a:rPr b="1" lang="ru-RU" sz="1600" spc="-1" strike="noStrike" u="sng">
                <a:solidFill>
                  <a:srgbClr val="a24308"/>
                </a:solidFill>
                <a:uFillTx/>
                <a:latin typeface="Arial Narrow"/>
              </a:rPr>
              <a:t>наиболее эффективным средством 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долгосрочного снижения веса и избавления от сопутствующих заболеваний!</a:t>
            </a: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684360" y="227664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злечение от диабета зависит от типа операции: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47-70 % больных излечиваются после рестриктивных процедур;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80-98 % – после желудочного шунтирования;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92-100 % – после билиопанкреатического шунтирования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4" name="Picture 1" descr="C:\Users\nikulin_as\Pictures\Бариатрия\после2.jpg"/>
          <p:cNvPicPr/>
          <p:nvPr/>
        </p:nvPicPr>
        <p:blipFill>
          <a:blip r:embed="rId1"/>
          <a:stretch/>
        </p:blipFill>
        <p:spPr>
          <a:xfrm>
            <a:off x="6516720" y="3573360"/>
            <a:ext cx="161748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569880" y="83664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Тратите деньги на таблетки для похудения?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656160" y="1989000"/>
            <a:ext cx="384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 семи случаях из десяти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ес возвращается.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чем с положительной динамикой роста!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8" name="Picture 3" descr="C:\Users\nikulin_as\Pictures\гора таблеток.jpg"/>
          <p:cNvPicPr/>
          <p:nvPr/>
        </p:nvPicPr>
        <p:blipFill>
          <a:blip r:embed="rId1"/>
          <a:stretch/>
        </p:blipFill>
        <p:spPr>
          <a:xfrm>
            <a:off x="684360" y="1628640"/>
            <a:ext cx="2708280" cy="2211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3861000" y="299736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Задумайтесь 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505320" y="15573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сследования  показали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39640" y="981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539640" y="20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4500720" y="256536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бандажирование желудка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желудочн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3"/>
              </a:rPr>
              <a:t>билиопанкреатическ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25" name="Picture 3" descr="C:\Users\nikulin_as\Pictures\шунт 2.jpg"/>
          <p:cNvPicPr/>
          <p:nvPr/>
        </p:nvPicPr>
        <p:blipFill>
          <a:blip r:embed="rId4"/>
          <a:stretch/>
        </p:blipFill>
        <p:spPr>
          <a:xfrm>
            <a:off x="0" y="2637000"/>
            <a:ext cx="4511520" cy="32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558720" y="765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андажирование желудк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539640" y="12682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11280" y="3141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ндажирование желудка выполняется только </a:t>
            </a: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лапароскопическим способом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0" name="Picture 9" descr="C:\Users\nikulin_as\Pictures\бандажирование.jpg"/>
          <p:cNvPicPr/>
          <p:nvPr/>
        </p:nvPicPr>
        <p:blipFill>
          <a:blip r:embed="rId2"/>
          <a:stretch/>
        </p:blipFill>
        <p:spPr>
          <a:xfrm>
            <a:off x="5364000" y="981000"/>
            <a:ext cx="30765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17:58Z</dcterms:created>
  <dc:creator>"Никулин А. С." &lt;nikulin_as@skc-fmba.ru&gt;</dc:creator>
  <dc:description/>
  <dc:language>en-US</dc:language>
  <cp:lastModifiedBy>LEGION</cp:lastModifiedBy>
  <dcterms:modified xsi:type="dcterms:W3CDTF">2014-11-06T13:15:55Z</dcterms:modified>
  <cp:revision>201</cp:revision>
  <dc:subject/>
  <dc:title>Итоги 2009 года</dc:title>
</cp:coreProperties>
</file>