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E8A8-ECB2-4BAB-8A32-1D2A8CFA46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ченик 7 кла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емьянов Ден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2736-5972-4DDC-9165-EB6C98A768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- 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ода 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Trypanosoma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. Её иногда наз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фриканским трипаносомо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299E-4124-4CC9-A4CF-C06AE8ADA0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передается через ук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нфицированных мух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Цеце,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пространена в 36 странах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южнее пустыни Сах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E53F-2AB8-4B2A-A061-FC9D3E559F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иску заболевания подвергается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50 млн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Ежегодно фиксируется пример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25 тыс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овых случаев сонной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A235-E855-477D-922D-60781A539B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два вида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452E-609F-46DD-AA5F-1DC66B2791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Клинические проявления обеих форм со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езни сходны, но родезийский вариан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ьшинстве случаев протекает острее и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лечения может закончиться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рез несколько месяцев или даже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Гамбийская форма прогрессирует медленно,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елеченых случаях болезнь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одолжаться несколько лет, прежде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аступает летальный и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3A9A-208E-49A5-8F85-C7AF16CC1C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е симптомы, как правило, возникают через 1–3 недели после укуса мухи це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8220-D251-4CB6-AA2F-3F58D52B28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Главными клиническ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оявлениями станов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ильная головная 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хорадка, общая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 апатия, чрезм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нливость, двиг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стройства и кома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E27A-F7D6-4EAD-88A4-B1178FBE1C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D72E-2A24-4651-9928-9FDFB002C8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538-3D06-463F-85EB-96980BB7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A2F-9553-4D7D-B8B6-CF8FB564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9FB-AF9E-4403-A6C0-0F8B41FC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01D-A360-42FD-92F5-FEAEF97B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D3BE-BEB9-42B9-8AC1-28AEA197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7023-F676-462F-AC18-268C8F2C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F122-829C-4D68-8A53-74676EE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6AA5-76F9-4514-A036-8BF94836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1163-9EFC-4EB1-8E63-580D0C0B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076F-5028-4744-8ECA-E2E59A7A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ED68-5D56-4A7D-9E0A-F5C17A8B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022-AB38-404A-8F18-0AC2821D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89AF-4FCC-4876-A3B2-5B097C06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E599-E709-4AC9-A540-07F06CC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009D-0F1B-4E5B-9E83-471CC0E9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056C-1FE2-4B2E-AABB-21CF4EE2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DC0D-944D-457E-AC24-958C1832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593-74AB-4051-9B65-C282136F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C0F-A853-4804-BA2B-298E8C98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26E-4E31-4E85-A3CD-C93145B9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192-874C-445D-AE25-2136A6FA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E07-70BE-4D78-A84B-73245874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BEF-AEE8-4737-A280-50B3D92B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F5C-5529-4FFC-AB9D-92A0F2B4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0F00-CE91-4241-9FFA-CF031E9F00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51FB-4A6C-41FE-808C-529CFD824AC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629040" y="5790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ченик 7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емьянов Ден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90720" y="2209680"/>
            <a:ext cx="723888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ная болез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4"/>
          <p:cNvSpPr txBox="1"/>
          <p:nvPr/>
        </p:nvSpPr>
        <p:spPr>
          <a:xfrm>
            <a:off x="152280" y="1447920"/>
            <a:ext cx="87631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- заболе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ода 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Trypanosoma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 Её иногда назы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фриканским трипаносомоз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2666880" y="228600"/>
            <a:ext cx="34290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5" descr="Trypanosoma_gambiense"/>
          <p:cNvPicPr/>
          <p:nvPr/>
        </p:nvPicPr>
        <p:blipFill>
          <a:blip r:embed="rId3"/>
          <a:stretch/>
        </p:blipFill>
        <p:spPr>
          <a:xfrm>
            <a:off x="609480" y="38862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Line 6"/>
          <p:cNvSpPr/>
          <p:nvPr/>
        </p:nvSpPr>
        <p:spPr>
          <a:xfrm flipV="1">
            <a:off x="3124080" y="4495680"/>
            <a:ext cx="2590920" cy="6098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9" descr="b_174_1"/>
          <p:cNvPicPr/>
          <p:nvPr/>
        </p:nvPicPr>
        <p:blipFill>
          <a:blip r:embed="rId4"/>
          <a:stretch/>
        </p:blipFill>
        <p:spPr>
          <a:xfrm>
            <a:off x="5791320" y="3657600"/>
            <a:ext cx="2705040" cy="2705040"/>
          </a:xfrm>
          <a:prstGeom prst="rect">
            <a:avLst/>
          </a:prstGeom>
          <a:ln w="0">
            <a:noFill/>
          </a:ln>
        </p:spPr>
      </p:pic>
      <p:sp>
        <p:nvSpPr>
          <p:cNvPr id="399" name="Oval 10"/>
          <p:cNvSpPr/>
          <p:nvPr/>
        </p:nvSpPr>
        <p:spPr>
          <a:xfrm>
            <a:off x="2438280" y="4952880"/>
            <a:ext cx="685800" cy="53352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333120" y="63244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панос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передается через ук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нфицированных мух 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Цеце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пространена в 36 странах Афр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южнее пустыни Сах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WordArt 4"/>
          <p:cNvSpPr txBox="1"/>
          <p:nvPr/>
        </p:nvSpPr>
        <p:spPr>
          <a:xfrm>
            <a:off x="1219320" y="304920"/>
            <a:ext cx="6629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ередается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Picture 5" descr="2256498"/>
          <p:cNvPicPr/>
          <p:nvPr/>
        </p:nvPicPr>
        <p:blipFill>
          <a:blip r:embed="rId3"/>
          <a:stretch/>
        </p:blipFill>
        <p:spPr>
          <a:xfrm>
            <a:off x="5335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uha_3"/>
          <p:cNvPicPr/>
          <p:nvPr/>
        </p:nvPicPr>
        <p:blipFill>
          <a:blip r:embed="rId4"/>
          <a:stretch/>
        </p:blipFill>
        <p:spPr>
          <a:xfrm>
            <a:off x="4419720" y="3319560"/>
            <a:ext cx="4419360" cy="315756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"/>
          <p:cNvSpPr/>
          <p:nvPr/>
        </p:nvSpPr>
        <p:spPr>
          <a:xfrm>
            <a:off x="3032280" y="20890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52280" y="380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иску заболевания подвергается д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50 млн.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жегодно фиксируется примерн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25 тыс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овых случаев сонной боле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5770"/>
          <p:cNvPicPr/>
          <p:nvPr/>
        </p:nvPicPr>
        <p:blipFill>
          <a:blip r:embed="rId1"/>
          <a:stretch/>
        </p:blipFill>
        <p:spPr>
          <a:xfrm>
            <a:off x="304920" y="327672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220px-Africa_satellite_plane"/>
          <p:cNvPicPr/>
          <p:nvPr/>
        </p:nvPicPr>
        <p:blipFill>
          <a:blip r:embed="rId2"/>
          <a:stretch/>
        </p:blipFill>
        <p:spPr>
          <a:xfrm>
            <a:off x="5715000" y="3048120"/>
            <a:ext cx="3257640" cy="3419280"/>
          </a:xfrm>
          <a:prstGeom prst="rect">
            <a:avLst/>
          </a:prstGeom>
          <a:ln w="0">
            <a:noFill/>
          </a:ln>
        </p:spPr>
      </p:pic>
      <p:sp>
        <p:nvSpPr>
          <p:cNvPr id="411" name="Oval 15"/>
          <p:cNvSpPr/>
          <p:nvPr/>
        </p:nvSpPr>
        <p:spPr>
          <a:xfrm>
            <a:off x="6324480" y="4191120"/>
            <a:ext cx="213372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 flipH="1">
            <a:off x="4571640" y="4876920"/>
            <a:ext cx="1523880" cy="152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два вида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685800" y="22860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Сонной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Line 6"/>
          <p:cNvSpPr/>
          <p:nvPr/>
        </p:nvSpPr>
        <p:spPr>
          <a:xfrm flipH="1">
            <a:off x="2285640" y="3048120"/>
            <a:ext cx="1066680" cy="1447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5943600" y="3048120"/>
            <a:ext cx="914400" cy="13716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0" y="4724280"/>
            <a:ext cx="449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Гамбий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Западная и Централь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5334120" y="472428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одезий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Восточ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Клинические проявления обеих форм с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езни сходны, но родезийский вариант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ьшинстве случаев протекает острее и б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лечения может закончиться смертью боль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через несколько месяцев или даже нед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Гамбийская форма прогрессирует медленно, и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елеченых случаях болезнь мо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продолжаться несколько лет, прежде ч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аступает летальный ис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Первые симптомы, как правило, возникают через 1–3 недели после укуса мухи цец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609480" y="304920"/>
            <a:ext cx="7696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304920" y="251460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 этой стадии, пока трипаносомы е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ходятся в крови, основные клин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явления включают лихорадку, голо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боль, боли в суставах, мышечную дрож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вышенное потоотделение, зуд  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опреки названию болезни, бессон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9" descr="Muha_3"/>
          <p:cNvPicPr/>
          <p:nvPr/>
        </p:nvPicPr>
        <p:blipFill>
          <a:blip r:embed="rId3"/>
          <a:stretch/>
        </p:blipFill>
        <p:spPr>
          <a:xfrm>
            <a:off x="3048120" y="2286000"/>
            <a:ext cx="2349360" cy="1779480"/>
          </a:xfrm>
          <a:prstGeom prst="rect">
            <a:avLst/>
          </a:prstGeom>
          <a:ln w="0">
            <a:noFill/>
          </a:ln>
        </p:spPr>
      </p:pic>
      <p:sp>
        <p:nvSpPr>
          <p:cNvPr id="427" name="Line 10"/>
          <p:cNvSpPr/>
          <p:nvPr/>
        </p:nvSpPr>
        <p:spPr>
          <a:xfrm>
            <a:off x="5029200" y="4038480"/>
            <a:ext cx="114300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2" descr="Trypanosoma3500"/>
          <p:cNvPicPr/>
          <p:nvPr/>
        </p:nvPicPr>
        <p:blipFill>
          <a:blip r:embed="rId4"/>
          <a:stretch/>
        </p:blipFill>
        <p:spPr>
          <a:xfrm>
            <a:off x="6324480" y="4419720"/>
            <a:ext cx="2590920" cy="2166840"/>
          </a:xfrm>
          <a:prstGeom prst="rect">
            <a:avLst/>
          </a:prstGeom>
          <a:ln w="0">
            <a:noFill/>
          </a:ln>
        </p:spPr>
      </p:pic>
      <p:sp>
        <p:nvSpPr>
          <p:cNvPr id="429" name="Oval 13"/>
          <p:cNvSpPr/>
          <p:nvPr/>
        </p:nvSpPr>
        <p:spPr>
          <a:xfrm>
            <a:off x="4419720" y="3581280"/>
            <a:ext cx="838080" cy="5335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4"/>
          <p:cNvSpPr/>
          <p:nvPr/>
        </p:nvSpPr>
        <p:spPr>
          <a:xfrm rot="2847600">
            <a:off x="4280400" y="4858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ahoma"/>
              </a:rPr>
              <a:t>Через некоторое время после ук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лавными клиническ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оявлениями станов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льная головная бол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хорадка, общая слаб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 апатия, чрезме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онливость, дви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сстройства и ком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380880" y="304920"/>
            <a:ext cx="784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57200" y="6019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заболевание не лечить, смерть почти неизбеж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5228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На второй стадии трипаносомы уже проникли в центральную нервную систе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9" descr="39-083"/>
          <p:cNvPicPr/>
          <p:nvPr/>
        </p:nvPicPr>
        <p:blipFill>
          <a:blip r:embed="rId3"/>
          <a:stretch/>
        </p:blipFill>
        <p:spPr>
          <a:xfrm>
            <a:off x="6324480" y="2133720"/>
            <a:ext cx="2451240" cy="2695320"/>
          </a:xfrm>
          <a:prstGeom prst="rect">
            <a:avLst/>
          </a:prstGeom>
          <a:ln w="0">
            <a:noFill/>
          </a:ln>
        </p:spPr>
      </p:pic>
      <p:sp>
        <p:nvSpPr>
          <p:cNvPr id="437" name="Oval 10"/>
          <p:cNvSpPr/>
          <p:nvPr/>
        </p:nvSpPr>
        <p:spPr>
          <a:xfrm>
            <a:off x="6934320" y="2743200"/>
            <a:ext cx="137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13" descr="39-082"/>
          <p:cNvPicPr/>
          <p:nvPr/>
        </p:nvPicPr>
        <p:blipFill>
          <a:blip r:embed="rId4"/>
          <a:stretch/>
        </p:blipFill>
        <p:spPr>
          <a:xfrm>
            <a:off x="3962520" y="2057400"/>
            <a:ext cx="2004840" cy="31338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4"/>
          <p:cNvSpPr/>
          <p:nvPr/>
        </p:nvSpPr>
        <p:spPr>
          <a:xfrm>
            <a:off x="4191120" y="52578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ahoma"/>
              </a:rPr>
              <a:t>Сонная болезнь высшего развит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1981080" y="304920"/>
            <a:ext cx="5334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295280" y="3048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ое основано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единениях мышья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0" y="5029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стоит очень дорого, помогает не всегда и требует больничного леч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133720" y="2286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5791320" y="23623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приводит к смер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ого из каждых 20 пациен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2057400" y="43434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5105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е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флорн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5791320" y="3962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cc"/>
                </a:solidFill>
                <a:uFillTx/>
                <a:latin typeface="Times New Roman"/>
              </a:rPr>
              <a:t>При вовремя начатом лечении в большинстве случаях удается спасти пациенто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1:07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