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2EDA-0826-4F2E-9BC2-466C3AB864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ченик 7 кла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емьянов Ден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C4E5-232E-4B1C-9D9C-54FC9C2623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- 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ода 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Trypanosoma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. Её иногда наз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фриканским трипаносомо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8D98-CF6F-4F9D-86D4-048E38F287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передается через ук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нфицированных мух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Цеце,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пространена в 36 странах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южнее пустыни Сах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7034-A81B-4348-A5ED-D2B7A1104F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иску заболевания подвергается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50 млн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Ежегодно фиксируется пример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25 тыс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овых случаев сонной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F021-7080-4B80-8D2F-2987A12EC4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два вида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06E7-2254-4440-B7F6-3BDE0623B4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Клинические проявления обеих форм со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езни сходны, но родезийский вариан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ьшинстве случаев протекает острее и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лечения может закончиться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рез несколько месяцев или даже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Гамбийская форма прогрессирует медленно,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елеченых случаях болезнь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одолжаться несколько лет, прежде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аступает летальный и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A240-9C46-4415-9F05-75586E56FF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е симптомы, как правило, возникают через 1–3 недели после укуса мухи це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2956-F597-424A-A5D7-69527ED95A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Главными клиническ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оявлениями станов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ильная головная 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хорадка, общая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 апатия, чрезм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нливость, двиг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стройства и кома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96B9-8306-42DC-A158-DBE03BCDBE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22BB-DAB5-4B7F-BDC0-FF1C254609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3168-9CDA-4123-B2D0-9CA91CF6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CAA-E316-401A-B059-3A671347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036-E649-4F33-9A29-34BAE7DF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257-311F-4D1A-AD76-6ED7D5D9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225E-A015-4FF8-8E1B-6D17F865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6167-ABA1-40E3-9029-E940CE73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E713-0CDB-4F05-AC12-0A9B0F55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7635-5681-4D64-ABCE-47C11AC7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0CED-289D-44F5-AEA2-7C937E2E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B194-46C5-4D58-8A03-06386143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3522-FAC4-44AE-B40F-A606EB66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5F4-7933-4EFB-B7EA-37DB99B6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1ACE-85D4-4112-B7EE-849818D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6621-4F76-45EC-BD5B-502DB248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FBEB-0994-47DE-9EF8-7F97ED0D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56B9-2E23-465F-8682-107C6DED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67C1-7C56-4A28-8959-505898AA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DAB-B707-4A84-BE6D-CFCD153A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F9B-0AEE-4ABC-97BA-7AC19EB4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F2C-E73B-4D2A-854A-878D656D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CB7-0F8D-460D-B763-55F50308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50A-BDA3-4866-BC84-58139050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220-0668-4090-A017-8A5CBBF0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DF5-91CF-4A75-B1E5-E790BB6F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97AC-222C-4D1D-9692-BB205CCB23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AEE7-6BBE-4375-9621-EC8A21DD49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629040" y="5790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ченик 7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емьянов Ден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90720" y="2209680"/>
            <a:ext cx="723888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ная болез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4"/>
          <p:cNvSpPr txBox="1"/>
          <p:nvPr/>
        </p:nvSpPr>
        <p:spPr>
          <a:xfrm>
            <a:off x="152280" y="1447920"/>
            <a:ext cx="87631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- заболе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ода 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Trypanosoma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 Её иногда назы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фриканским трипаносомоз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2666880" y="228600"/>
            <a:ext cx="34290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5" descr="Trypanosoma_gambiense"/>
          <p:cNvPicPr/>
          <p:nvPr/>
        </p:nvPicPr>
        <p:blipFill>
          <a:blip r:embed="rId3"/>
          <a:stretch/>
        </p:blipFill>
        <p:spPr>
          <a:xfrm>
            <a:off x="609480" y="38862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Line 6"/>
          <p:cNvSpPr/>
          <p:nvPr/>
        </p:nvSpPr>
        <p:spPr>
          <a:xfrm flipV="1">
            <a:off x="3124080" y="4495680"/>
            <a:ext cx="2590920" cy="6098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9" descr="b_174_1"/>
          <p:cNvPicPr/>
          <p:nvPr/>
        </p:nvPicPr>
        <p:blipFill>
          <a:blip r:embed="rId4"/>
          <a:stretch/>
        </p:blipFill>
        <p:spPr>
          <a:xfrm>
            <a:off x="5791320" y="3657600"/>
            <a:ext cx="2705040" cy="2705040"/>
          </a:xfrm>
          <a:prstGeom prst="rect">
            <a:avLst/>
          </a:prstGeom>
          <a:ln w="0">
            <a:noFill/>
          </a:ln>
        </p:spPr>
      </p:pic>
      <p:sp>
        <p:nvSpPr>
          <p:cNvPr id="399" name="Oval 10"/>
          <p:cNvSpPr/>
          <p:nvPr/>
        </p:nvSpPr>
        <p:spPr>
          <a:xfrm>
            <a:off x="2438280" y="4952880"/>
            <a:ext cx="685800" cy="53352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333120" y="63244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панос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передается через ук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нфицированных мух 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Цеце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пространена в 36 странах Афр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южнее пустыни Сах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WordArt 4"/>
          <p:cNvSpPr txBox="1"/>
          <p:nvPr/>
        </p:nvSpPr>
        <p:spPr>
          <a:xfrm>
            <a:off x="1219320" y="304920"/>
            <a:ext cx="6629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ередается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Picture 5" descr="2256498"/>
          <p:cNvPicPr/>
          <p:nvPr/>
        </p:nvPicPr>
        <p:blipFill>
          <a:blip r:embed="rId3"/>
          <a:stretch/>
        </p:blipFill>
        <p:spPr>
          <a:xfrm>
            <a:off x="5335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uha_3"/>
          <p:cNvPicPr/>
          <p:nvPr/>
        </p:nvPicPr>
        <p:blipFill>
          <a:blip r:embed="rId4"/>
          <a:stretch/>
        </p:blipFill>
        <p:spPr>
          <a:xfrm>
            <a:off x="4419720" y="3319560"/>
            <a:ext cx="4419360" cy="315756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"/>
          <p:cNvSpPr/>
          <p:nvPr/>
        </p:nvSpPr>
        <p:spPr>
          <a:xfrm>
            <a:off x="3032280" y="20890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52280" y="380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иску заболевания подвергается д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50 млн.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жегодно фиксируется примерн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25 тыс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овых случаев сонной боле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5770"/>
          <p:cNvPicPr/>
          <p:nvPr/>
        </p:nvPicPr>
        <p:blipFill>
          <a:blip r:embed="rId1"/>
          <a:stretch/>
        </p:blipFill>
        <p:spPr>
          <a:xfrm>
            <a:off x="304920" y="327672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220px-Africa_satellite_plane"/>
          <p:cNvPicPr/>
          <p:nvPr/>
        </p:nvPicPr>
        <p:blipFill>
          <a:blip r:embed="rId2"/>
          <a:stretch/>
        </p:blipFill>
        <p:spPr>
          <a:xfrm>
            <a:off x="5715000" y="3048120"/>
            <a:ext cx="3257640" cy="3419280"/>
          </a:xfrm>
          <a:prstGeom prst="rect">
            <a:avLst/>
          </a:prstGeom>
          <a:ln w="0">
            <a:noFill/>
          </a:ln>
        </p:spPr>
      </p:pic>
      <p:sp>
        <p:nvSpPr>
          <p:cNvPr id="411" name="Oval 15"/>
          <p:cNvSpPr/>
          <p:nvPr/>
        </p:nvSpPr>
        <p:spPr>
          <a:xfrm>
            <a:off x="6324480" y="4191120"/>
            <a:ext cx="213372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 flipH="1">
            <a:off x="4571640" y="4876920"/>
            <a:ext cx="1523880" cy="152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два вида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685800" y="22860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Сонной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Line 6"/>
          <p:cNvSpPr/>
          <p:nvPr/>
        </p:nvSpPr>
        <p:spPr>
          <a:xfrm flipH="1">
            <a:off x="2285640" y="3048120"/>
            <a:ext cx="1066680" cy="1447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5943600" y="3048120"/>
            <a:ext cx="914400" cy="13716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0" y="4724280"/>
            <a:ext cx="449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Гамбий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Западная и Централь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5334120" y="472428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одезий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Восточ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Клинические проявления обеих форм с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езни сходны, но родезийский вариант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ьшинстве случаев протекает острее и б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лечения может закончиться смертью боль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через несколько месяцев или даже нед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Гамбийская форма прогрессирует медленно, и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елеченых случаях болезнь мо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продолжаться несколько лет, прежде ч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аступает летальный ис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Первые симптомы, как правило, возникают через 1–3 недели после укуса мухи цец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609480" y="304920"/>
            <a:ext cx="7696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304920" y="251460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 этой стадии, пока трипаносомы е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ходятся в крови, основные клин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явления включают лихорадку, голо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боль, боли в суставах, мышечную дрож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вышенное потоотделение, зуд  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опреки названию болезни, бессон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9" descr="Muha_3"/>
          <p:cNvPicPr/>
          <p:nvPr/>
        </p:nvPicPr>
        <p:blipFill>
          <a:blip r:embed="rId3"/>
          <a:stretch/>
        </p:blipFill>
        <p:spPr>
          <a:xfrm>
            <a:off x="3048120" y="2286000"/>
            <a:ext cx="2349360" cy="1779480"/>
          </a:xfrm>
          <a:prstGeom prst="rect">
            <a:avLst/>
          </a:prstGeom>
          <a:ln w="0">
            <a:noFill/>
          </a:ln>
        </p:spPr>
      </p:pic>
      <p:sp>
        <p:nvSpPr>
          <p:cNvPr id="427" name="Line 10"/>
          <p:cNvSpPr/>
          <p:nvPr/>
        </p:nvSpPr>
        <p:spPr>
          <a:xfrm>
            <a:off x="5029200" y="4038480"/>
            <a:ext cx="114300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2" descr="Trypanosoma3500"/>
          <p:cNvPicPr/>
          <p:nvPr/>
        </p:nvPicPr>
        <p:blipFill>
          <a:blip r:embed="rId4"/>
          <a:stretch/>
        </p:blipFill>
        <p:spPr>
          <a:xfrm>
            <a:off x="6324480" y="4419720"/>
            <a:ext cx="2590920" cy="2166840"/>
          </a:xfrm>
          <a:prstGeom prst="rect">
            <a:avLst/>
          </a:prstGeom>
          <a:ln w="0">
            <a:noFill/>
          </a:ln>
        </p:spPr>
      </p:pic>
      <p:sp>
        <p:nvSpPr>
          <p:cNvPr id="429" name="Oval 13"/>
          <p:cNvSpPr/>
          <p:nvPr/>
        </p:nvSpPr>
        <p:spPr>
          <a:xfrm>
            <a:off x="4419720" y="3581280"/>
            <a:ext cx="838080" cy="5335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4"/>
          <p:cNvSpPr/>
          <p:nvPr/>
        </p:nvSpPr>
        <p:spPr>
          <a:xfrm rot="2847600">
            <a:off x="4280400" y="4858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ahoma"/>
              </a:rPr>
              <a:t>Через некоторое время после ук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лавными клиническ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оявлениями станов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льная головная бол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хорадка, общая слаб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 апатия, чрезме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онливость, дви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сстройства и ком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380880" y="304920"/>
            <a:ext cx="784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57200" y="6019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заболевание не лечить, смерть почти неизбеж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5228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На второй стадии трипаносомы уже проникли в центральную нервную систе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9" descr="39-083"/>
          <p:cNvPicPr/>
          <p:nvPr/>
        </p:nvPicPr>
        <p:blipFill>
          <a:blip r:embed="rId3"/>
          <a:stretch/>
        </p:blipFill>
        <p:spPr>
          <a:xfrm>
            <a:off x="6324480" y="2133720"/>
            <a:ext cx="2451240" cy="2695320"/>
          </a:xfrm>
          <a:prstGeom prst="rect">
            <a:avLst/>
          </a:prstGeom>
          <a:ln w="0">
            <a:noFill/>
          </a:ln>
        </p:spPr>
      </p:pic>
      <p:sp>
        <p:nvSpPr>
          <p:cNvPr id="437" name="Oval 10"/>
          <p:cNvSpPr/>
          <p:nvPr/>
        </p:nvSpPr>
        <p:spPr>
          <a:xfrm>
            <a:off x="6934320" y="2743200"/>
            <a:ext cx="137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13" descr="39-082"/>
          <p:cNvPicPr/>
          <p:nvPr/>
        </p:nvPicPr>
        <p:blipFill>
          <a:blip r:embed="rId4"/>
          <a:stretch/>
        </p:blipFill>
        <p:spPr>
          <a:xfrm>
            <a:off x="3962520" y="2057400"/>
            <a:ext cx="2004840" cy="31338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4"/>
          <p:cNvSpPr/>
          <p:nvPr/>
        </p:nvSpPr>
        <p:spPr>
          <a:xfrm>
            <a:off x="4191120" y="52578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ahoma"/>
              </a:rPr>
              <a:t>Сонная болезнь высшего развит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1981080" y="304920"/>
            <a:ext cx="5334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295280" y="3048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ое основано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единениях мышья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0" y="5029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стоит очень дорого, помогает не всегда и требует больничного леч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133720" y="2286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5791320" y="23623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приводит к смер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ого из каждых 20 пациен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2057400" y="43434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5105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е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флорн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5791320" y="3962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cc"/>
                </a:solidFill>
                <a:uFillTx/>
                <a:latin typeface="Times New Roman"/>
              </a:rPr>
              <a:t>При вовремя начатом лечении в большинстве случаях удается спасти пациенто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1:07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