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9163-CA96-4394-94B4-4BDD4ADC90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Для чего свет нужен растения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84E6-A987-40A2-B49D-A1189BDC9A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Мягкий ультрафиол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ет много энергии и вызывает образование витами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в коже человека, он же воспринимается органами зрения многих насеком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Видимый св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уется для фотосинтеза растениями, фотосинтезирующими бактериями и животными для ори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9103-FDB5-4656-83C8-8B8C68561E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Инфракрасная часть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ого спектра (тепловые лучи) вызывает нагревание предметов, особенно важна эта часть спектра для животных с непостоянной температурой т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Меньше всего энергии несут инфракрасные лу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D276-EA9C-4DA9-86BB-8CEDFD3E5B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наиболее интенсивно используется при фотосинтез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несет больше энерг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является важным источником тепловой энерг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 чего зависят условия освещения в каждом конкретном мес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в тундре преобладает рассеянный св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морошка, которая растет в тундре, не сладка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191A-8BBE-4EEF-A40E-A695424FE0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вет и фотосинте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фотосинтезе из углекислого газа и воды образуются органические вещества и выделяется кислор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цесс фотосинтеза называют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воздушным питание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ст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света растениям не хватает, фотосинтез в них протекает вяло, органических веществ образуется мало. Растения вырастают слабыми, бледными. Говорят, что растения голод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2B00-64C1-4CC2-AA63-98239622C3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т поглощается зеленым пигментом –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хлорофилло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Он содержится в хлоропластах клеток. Хлорофилл образуется только на све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Ростки на клубнях картофеля белые в темноте, а на свету зеленею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D6E5-F014-4AA7-B48F-863C6998FF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лияние света на рост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15A0-6640-4FA6-A71B-0E3699327E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Свет и цветение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 цветения растений зависит от продолжительности светлого времени су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личают растения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длинн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растения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1D54-2335-4DF5-B639-3098B4D479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еверн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йонах (где летом дни длиннее, чем на юге) преобладают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растения длинн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пшеница, рожь, овес, картофель, горох, вик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эти растения зацвели, длина дня должна быть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больше 12 час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0467-0014-485C-92E7-B516201DA1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Нейтральные рас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маты, одуванчик лекарственный, тростник обыкновенный и др. зацветают при разной длине д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09F4-58BB-4D94-A123-F5054D308D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Свет и цветение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линнодневны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цветают в начале лета, до осени успевают созреть плоды и семена (злаки — рожь, пшеница, овес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роткодневн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астры, георгины, хризантемы) — растения южного происхождения, где продолжительность светового дня около 12 часов, поэтому они у нас зацветают при коротком дне осе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40E0-9044-4B7F-B1E6-4B59C166BB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ямо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ый 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ассеянны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ый свет (отражается находящимися в воздухе капельками водяного пара, частицами пыли, немногими обла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6669-03E0-45ED-85A6-6168278578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ращивая растения в новых районах, необходимо учитывать требования определенных растений к продолжительности светового времени су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D1C4-DAE9-43EC-AD50-A4248574BE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фотосинтез? Где он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пищу употребляют ещё не вышедшие из-под земли белые сочные побеги спаржи (овощное растение). Почему они белые, а не зелены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влияет свет на рост раст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ие растения называют короткодневными, длиннодневными? Где они распростран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BAE2-21AB-4B37-8798-697A82A4AD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 север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ый свет содержит больше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ей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а южне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особенно вблизи экватора, больше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ас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A30D-4AA6-4260-8C41-94DD3AAA37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тения для фотосинтеза используют, в основном,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красн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и. Когда много красных лучей, в растениях образуется больше сахаров, поэтому южные плоды такие сладкие (виноград, персики, абрикосы, арбузы, дыни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A47A-D8F6-4B82-82CE-73A11EC384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тундр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х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ей и мало красных (в воздухе много паров воды, небо часто затянуто облаками, преобладает рассеянный св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Крым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асн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ей (ясная безоблачная погода, преобладает прямой 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825D-1DA1-468F-8D9C-ECE9C15F85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ше освещены склоны холмов и гор, берега рек и морей, обращенные к ю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лесу высокие деревья создают густую т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одном и том же месте освещение меняется в течение  суток (в зависимости от погоды) и по сезонам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этому растения вынуждены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риспосабливать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 различным условиям осв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3CB0-ACD5-450A-9AB6-EE69AC6B8F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живых организмов наиболее важны: свет ультрафиолетовой части спектра, видимый свет и инфракрасное излу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Жесткий ультрафиол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убителен для живых клеток, до поверхности Земли не доходит, так как отражается озоновым экра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509E-A07E-46E0-916C-90D4031B29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055-2C2E-4E90-BA18-EF1C8DDB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51D-3C21-4395-8FBF-C91F425C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E68-2BF2-436A-8CA1-2676373E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746-2F95-4127-B93C-3B081226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A83B-311F-47FE-995E-49E153C8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172-E78C-4380-9A80-C31CD32F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0AE3-E750-493A-A831-FAC16078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066-A36D-4FE1-9519-73A3276B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887-FCEF-43F5-BE54-67CBD0E2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406-E781-465E-BF65-DF0F45DB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E685-2087-428A-9F3C-ED277F03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D53-AF1C-4B82-A7B2-4C85F0E8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6F74-FA81-4D7A-8BA8-54F9D31E6D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Для чего свет нужен растениям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51280" y="4797000"/>
            <a:ext cx="2912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68360" y="3789360"/>
            <a:ext cx="82818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Мягкий ультрафиол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сет много энергии и вызывает образование витамин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коже человека, он же воспринимается органами зрения многих насеком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Видимый св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спользуется для фотосинтеза растениями, фотосинтезирующими бактериями и животными для ориент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Рисунок3"/>
          <p:cNvPicPr/>
          <p:nvPr/>
        </p:nvPicPr>
        <p:blipFill>
          <a:blip r:embed="rId1"/>
          <a:stretch/>
        </p:blipFill>
        <p:spPr>
          <a:xfrm>
            <a:off x="1116000" y="836640"/>
            <a:ext cx="6929280" cy="28335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973080" y="765000"/>
            <a:ext cx="6912000" cy="2824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58920" y="4005360"/>
            <a:ext cx="878508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Инфракрасная часть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солнечного спектра (тепловые лучи) вызывает нагревание предметов, особенно важна эта часть спектра для животных с непостоянной температурой тел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Меньше всего энергии несут инфракрасные луч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692360" y="549360"/>
            <a:ext cx="504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84360" y="141300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наиболее интенсивно используется при фотосинтез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несет больше энерг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является важным источником тепловой энерг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чего зависят условия освещения в каждом конкретном мес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тундре преобладает рассеянный св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морошка, которая растет в тундре, не сладк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вет и фотосинте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фотосинтезе из углекислого газа и воды образуются органические вещества и выделяется кисл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цесс фотосинтеза называют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оздушным питани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света растениям не хватает, фотосинтез в них протекает вяло, органических веществ образуется мало. Растения вырастают слабыми, бледными. Говорят, что растения голо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ет поглощается зеленым пигментом –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хлорофилл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н содержится в хлоропластах клеток. Хлорофилл образуется только на све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Ростки на клубнях картофеля белые в темноте, а на свету зеленею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лияние света на рост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" descr="C:\Documents and Settings\Учитель\Мои документы\My Pictures\Scan Pictures\20080916\Image2.bmp"/>
          <p:cNvPicPr/>
          <p:nvPr/>
        </p:nvPicPr>
        <p:blipFill>
          <a:blip r:embed="rId1"/>
          <a:stretch/>
        </p:blipFill>
        <p:spPr>
          <a:xfrm>
            <a:off x="900000" y="1557360"/>
            <a:ext cx="7561440" cy="4664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о цветения растений зависит от продолжительности светлого времени су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личают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длинн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нейтраль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вет и цветение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евер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йонах (где летом дни длиннее, чем на юге) преобладают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растения длинн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пшеница, рожь, овес, картофель, горох, вик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эти растения зацвели, длина дня должна быть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больше 12 час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3645000"/>
            <a:ext cx="82296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юж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йонах –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соя, хлопчатник, рис, арахис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их цветения светлое врем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н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лжно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ревышать 12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Нейтраль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маты, одуванчик лекарственный, тростник обыкновенный и др. зацветают при разной длин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2050920" y="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 и цветение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264360" cy="3384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24000" y="3908520"/>
            <a:ext cx="8820000" cy="29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Длиннодневные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зацветают в начале лета, до осени успевают созреть плоды и семена (злаки — рожь, пшеница, овес)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короткодневные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(астры, георгины, хризантемы) — растения южного происхождения, где продолжительность светового дня около 12 часов, поэтому они у нас зацветают при коротком дне осень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ямой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лнечный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ссеянны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солнечный свет (отражается находящимися в воздухе капельками водяного пара, частицами пыли, немногими обла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ращивая растения в новых районах, необходимо учитывать требования определенных растений к продолжительности светового времени су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971640" y="4653000"/>
            <a:ext cx="720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24000" y="393372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фотосинтез? Где он происход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ищу употребляют ещё не вышедшие из-под земли белые сочные побеги спаржи (овощное растение). Почему они белые, а не зеле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лияет свет на рост раст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растения называют короткодневными, длиннодневными? Где они распростране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260280"/>
            <a:ext cx="4175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Рисунок2"/>
          <p:cNvPicPr/>
          <p:nvPr/>
        </p:nvPicPr>
        <p:blipFill>
          <a:blip r:embed="rId1"/>
          <a:stretch/>
        </p:blipFill>
        <p:spPr>
          <a:xfrm>
            <a:off x="1403280" y="765000"/>
            <a:ext cx="6048360" cy="31910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05092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619280" y="486900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З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33ccff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Рисунок1"/>
          <p:cNvPicPr/>
          <p:nvPr/>
        </p:nvPicPr>
        <p:blipFill>
          <a:blip r:embed="rId1"/>
          <a:stretch/>
        </p:blipFill>
        <p:spPr>
          <a:xfrm>
            <a:off x="1403280" y="836640"/>
            <a:ext cx="6267600" cy="33814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4508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 север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олнечный свет содержит больше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фиолетов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лучей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 южне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особенно вблизи экватора, больш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05092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Рисунок1"/>
          <p:cNvPicPr/>
          <p:nvPr/>
        </p:nvPicPr>
        <p:blipFill>
          <a:blip r:embed="rId1"/>
          <a:stretch/>
        </p:blipFill>
        <p:spPr>
          <a:xfrm>
            <a:off x="1187280" y="692280"/>
            <a:ext cx="6737400" cy="394308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197964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58920" y="4203720"/>
            <a:ext cx="87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ения для фотосинтеза используют, в основном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красн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и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фиолетов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лучи. Когда много красных лучей, в растениях образуется больше сахаров, поэтому южные плоды такие сладкие (виноград, персики, абрикосы, арбузы, дыни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Рисунок2"/>
          <p:cNvPicPr/>
          <p:nvPr/>
        </p:nvPicPr>
        <p:blipFill>
          <a:blip r:embed="rId1"/>
          <a:stretch/>
        </p:blipFill>
        <p:spPr>
          <a:xfrm>
            <a:off x="1332000" y="620640"/>
            <a:ext cx="6107040" cy="3565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тундр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фиолетов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чей и мало красных (в воздухе много паров воды, небо часто затянуто облаками, преобладает рассеянный св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Крым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лучей (ясная безоблачная погода, преобладает прямо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учше освещены склоны холмов и гор, берега рек и морей, обращенные к юг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лесу высокие деревья создают густую тен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одном и том же месте освещение меняется в течение  суток (в зависимости от погоды) и по сезонам г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этому растения вынуждены </a:t>
            </a: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приспосабливаться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к различным условиям освещ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01480" y="3789360"/>
            <a:ext cx="864252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живых организмов наиболее важны: свет ультрафиолетовой части спектра, видимый свет и инфракрасное излучени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Жесткий ультрафиол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убителен для живых клеток, до поверхности Земли не доходит, так как отражается озоновым экран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Рисунок2"/>
          <p:cNvPicPr/>
          <p:nvPr/>
        </p:nvPicPr>
        <p:blipFill>
          <a:blip r:embed="rId1"/>
          <a:stretch/>
        </p:blipFill>
        <p:spPr>
          <a:xfrm>
            <a:off x="1116000" y="765000"/>
            <a:ext cx="6929280" cy="2833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Рисунок1"/>
          <p:cNvPicPr/>
          <p:nvPr/>
        </p:nvPicPr>
        <p:blipFill>
          <a:blip r:embed="rId1"/>
          <a:stretch/>
        </p:blipFill>
        <p:spPr>
          <a:xfrm>
            <a:off x="2050920" y="549360"/>
            <a:ext cx="5040360" cy="6165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9:05:29Z</dcterms:created>
  <dc:creator>user</dc:creator>
  <dc:description/>
  <dc:language>en-US</dc:language>
  <cp:lastModifiedBy>LEGION</cp:lastModifiedBy>
  <dcterms:modified xsi:type="dcterms:W3CDTF">2014-11-24T13:12:12Z</dcterms:modified>
  <cp:revision>31</cp:revision>
  <dc:subject/>
  <dc:title>Для чего свет нужен растениям </dc:title>
</cp:coreProperties>
</file>