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72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533C-5CB9-43D0-B600-154BD45D47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DC7-D022-4360-BDBC-551C72CFE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DB3E-3BDE-485A-9E89-FBDBA7C9F7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383A-992B-4BF0-B3BC-ADB359B0D5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22DC-1129-438D-B8AA-76E6C0C291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584-2F0D-45F0-9E57-A7221C1B35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26B4-03B5-47C7-9129-1E602E01B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3466-B0AE-45D0-8A78-E1D5F539D1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6608-EFBE-4B44-AC9E-E7D30C3A10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6F9-57D7-40C7-BF92-AB9EA6F6FB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5CD7-5A5E-41D3-B504-2E1966E87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EE34-126B-4AC1-8141-DF3E0B051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CAA0-01E7-4D62-976E-0958D48FC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CFF6-5820-45E3-BC81-4919827A9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4A7F-D645-4BAA-BC2A-56D5D1955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F2A-5BBE-44E3-97F3-FDF64D58D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8B10-3D5E-4825-94A4-BE4194B6D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380C-2B45-4329-B63E-3F6DF5E9FE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72F-48F8-4143-AA60-9DDC74562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7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814-D3DD-46B8-A3B2-9D55BB7B4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A73-9B60-4E46-BA66-13635C0E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4C8-9CF4-4491-ABDB-FBFEF935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F4AD-1BAF-4628-BFF0-6A519204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AD7D-BD40-4CF0-A7A3-38D68BA8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E63-D088-45E5-ACB4-E13FD4E3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BFE-0920-4D76-86D1-5CC44A4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16CE-8FFA-49B5-831C-C30E59BD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ED6-1E7C-4652-AA1D-16F441D1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CFC-311F-45F7-8629-0094632C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369A-7F36-4C2B-ADE1-4401F86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F74C-DBB9-4B2B-934F-93F2ED05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3CA5-9BA2-4EDB-A3DC-E19018DB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0498-0E3C-4D41-9948-435A06B19D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Для чего свет нужен растениям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51280" y="4797000"/>
            <a:ext cx="291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3789360"/>
            <a:ext cx="828180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яг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сет много энергии и вызывает образование витамин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коже человека, он же воспринимается органами зрения многих насеком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Видимый св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уется для фотосинтеза растениями, фотосинтезирующими бактериями и животными для ориент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Рисунок3"/>
          <p:cNvPicPr/>
          <p:nvPr/>
        </p:nvPicPr>
        <p:blipFill>
          <a:blip r:embed="rId1"/>
          <a:stretch/>
        </p:blipFill>
        <p:spPr>
          <a:xfrm>
            <a:off x="1116000" y="836640"/>
            <a:ext cx="6929280" cy="28335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973080" y="765000"/>
            <a:ext cx="6912000" cy="2824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58920" y="4005360"/>
            <a:ext cx="878508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Инфракрасная часть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солнечного спектра (тепловые лучи) вызывает нагревание предметов, особенно важна эта часть спектра для животных с непостоянной температурой те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Меньше всего энергии несут инфракрасные луч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692360" y="549360"/>
            <a:ext cx="5040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84360" y="141300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аиболее интенсивно используется при фотосинтез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несет больш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свет является важным источником тепловой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чего зависят условия освещения в каждом конкретном мес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в тундре преобладает рассеянный с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морошка, которая растет в тундре, не сладка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вет и фотосинт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отосинтезе из углекислого газа и воды образуются органические вещества и выделяется кислор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цесс фотосинтеза называю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оздушным питание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света растениям не хватает, фотосинтез в них протекает вяло, органических веществ образуется мало. Растения вырастают слабыми, бледными. Говорят, что растения голода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ет поглощается зеленым пигментом –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хлорофилл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Он содержится в хлоропластах клеток. Хлорофилл образуется только на свет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Ростки на клубнях картофеля белые в темноте, а на свету зеленею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лияние света на рост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" descr="C:\Documents and Settings\Учитель\Мои документы\My Pictures\Scan Pictures\20080916\Image2.bmp"/>
          <p:cNvPicPr/>
          <p:nvPr/>
        </p:nvPicPr>
        <p:blipFill>
          <a:blip r:embed="rId1"/>
          <a:stretch/>
        </p:blipFill>
        <p:spPr>
          <a:xfrm>
            <a:off x="900000" y="1557360"/>
            <a:ext cx="7561440" cy="4664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о цветения растений зависит от продолжительности светл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личают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нейтра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Свет и цветение раст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вер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(где летом дни длиннее, чем на юге) преобладают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растения длинн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пшеница, рожь, овес, картофель, горох, вик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эти растения зацвели, длина дня должна быть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больше 12 час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68360" y="3645000"/>
            <a:ext cx="82296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юж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йонах – растени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короткого дн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соя, хлопчатник, рис, арахис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их цветения светлое время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лжно 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превышать 12 ча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Нейтра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аты, одуванчик лекарственный, тростник обыкновенный и др. зацветают при разной длине д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2050920" y="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 и цветение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264360" cy="3384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24000" y="3908520"/>
            <a:ext cx="882000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Длиннодневны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зацветают в начале лета, до осени успевают созреть плоды и семена (злаки — рожь, пшеница, овес)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роткодневны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(астры, георгины, хризантемы) — растения южного происхождения, где продолжительность светового дня около 12 часов, поэтому они у нас зацветают при коротком дне осенью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ямой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лнечн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ссеянн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солнечный свет (отражается находящимися в воздухе капельками водяного пара, частицами пыли, немногими обла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ращивая растения в новых районах, необходимо учитывать требования определенных растений к продолжительности светового времени су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971640" y="465300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4000" y="393372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такое фотосинтез? Где он происхо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ищу употребляют ещё не вышедшие из-под земли белые сочные побеги спаржи (овощное растение). Почему они белые, а не зеле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лияет свет на рост раст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е растения называют короткодневными, длиннодневными? Где они распростране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0" y="260280"/>
            <a:ext cx="4175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Рисунок2"/>
          <p:cNvPicPr/>
          <p:nvPr/>
        </p:nvPicPr>
        <p:blipFill>
          <a:blip r:embed="rId1"/>
          <a:stretch/>
        </p:blipFill>
        <p:spPr>
          <a:xfrm>
            <a:off x="1403280" y="765000"/>
            <a:ext cx="6048360" cy="31910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619280" y="4869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6600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Ж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ccff"/>
                </a:solidFill>
                <a:latin typeface="Arial"/>
              </a:rPr>
              <a:t>Г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Рисунок1"/>
          <p:cNvPicPr/>
          <p:nvPr/>
        </p:nvPicPr>
        <p:blipFill>
          <a:blip r:embed="rId1"/>
          <a:stretch/>
        </p:blipFill>
        <p:spPr>
          <a:xfrm>
            <a:off x="1403280" y="836640"/>
            <a:ext cx="6267600" cy="33814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508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 севе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лнечный свет содержит больше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 южне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собенно вблизи экватора, больше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05092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Рисунок1"/>
          <p:cNvPicPr/>
          <p:nvPr/>
        </p:nvPicPr>
        <p:blipFill>
          <a:blip r:embed="rId1"/>
          <a:stretch/>
        </p:blipFill>
        <p:spPr>
          <a:xfrm>
            <a:off x="1187280" y="692280"/>
            <a:ext cx="6737400" cy="39430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1979640" y="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Солнечный спек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358920" y="4203720"/>
            <a:ext cx="878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я для фотосинтеза используют, в основном,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крас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ни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фиолет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лучи. Когда много красных лучей, в растениях образуется больше сахаров, поэтому южные плоды такие сладкие (виноград, персики, абрикосы, арбузы, дыни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Рисунок2"/>
          <p:cNvPicPr/>
          <p:nvPr/>
        </p:nvPicPr>
        <p:blipFill>
          <a:blip r:embed="rId1"/>
          <a:stretch/>
        </p:blipFill>
        <p:spPr>
          <a:xfrm>
            <a:off x="1332000" y="620640"/>
            <a:ext cx="6107040" cy="35654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тундр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ини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фиолето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учей и мало красных (в воздухе много паров воды, небо часто затянуто облаками, преобладает рассеянный све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 Крым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много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расны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лучей (ясная безоблачная погода, преобладает прямо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учше освещены склоны холмов и гор, берега рек и морей, обращенные к ю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лесу высокие деревья создают густую тен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 одном и том же месте освещение меняется в течение  суток (в зависимости от погоды) и по сезонам г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Поэтому растения вынуждены </a:t>
            </a:r>
            <a:r>
              <a:rPr b="1" lang="ru-RU" sz="3000" spc="-1" strike="noStrike" u="sng">
                <a:solidFill>
                  <a:srgbClr val="ff0000"/>
                </a:solidFill>
                <a:uFillTx/>
                <a:latin typeface="Arial"/>
              </a:rPr>
              <a:t>приспосабливаться </a:t>
            </a:r>
            <a:r>
              <a:rPr b="1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к различным условиям освещ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99"/>
                </a:solidFill>
                <a:latin typeface="Arial"/>
              </a:rPr>
              <a:t>Разнообразие условий осве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5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01480" y="3789360"/>
            <a:ext cx="864252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живых организмов наиболее важны: свет ультрафиолетовой части спектра, видимый свет и инфракрасное излучени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3300"/>
                </a:solidFill>
                <a:latin typeface="Arial"/>
              </a:rPr>
              <a:t>Жесткий ультрафиол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убителен для живых клеток, до поверхности Земли не доходит, так как отражается озоновым экран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Рисунок2"/>
          <p:cNvPicPr/>
          <p:nvPr/>
        </p:nvPicPr>
        <p:blipFill>
          <a:blip r:embed="rId1"/>
          <a:stretch/>
        </p:blipFill>
        <p:spPr>
          <a:xfrm>
            <a:off x="1116000" y="765000"/>
            <a:ext cx="6929280" cy="28339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05092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Рисунок1"/>
          <p:cNvPicPr/>
          <p:nvPr/>
        </p:nvPicPr>
        <p:blipFill>
          <a:blip r:embed="rId1"/>
          <a:stretch/>
        </p:blipFill>
        <p:spPr>
          <a:xfrm>
            <a:off x="2050920" y="549360"/>
            <a:ext cx="5040360" cy="6165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19:05:29Z</dcterms:created>
  <dc:creator>user</dc:creator>
  <dc:description/>
  <dc:language>en-US</dc:language>
  <cp:lastModifiedBy>LEGION</cp:lastModifiedBy>
  <dcterms:modified xsi:type="dcterms:W3CDTF">2014-11-24T13:12:12Z</dcterms:modified>
  <cp:revision>31</cp:revision>
  <dc:subject/>
  <dc:title>Для чего свет нужен растениям </dc:title>
</cp:coreProperties>
</file>