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08E6-33C1-4B62-B64F-9F490B4556D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еточный уровень жиз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Изучить структуру клеток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Механизм устойчивости клетки как биосистемы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Клетка –элементарная структурная единица жиз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98E6-5275-4BD1-9FA6-FC766363CB8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Клеточный уровень  организации живой мате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11 клас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9B79-FAD1-4961-AF6D-6C41660F7C9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бщие характеристики клеточного уровн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187F-AC19-4910-98F3-6AD608AF470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80"/>
                </a:solidFill>
                <a:latin typeface="Calibri"/>
              </a:rPr>
              <a:t>Структурные элементы клеточного уровн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Биологические молекулы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ДН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РН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Бел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Углево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Липи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Части клетк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Цитоплаз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Ядр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Органои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D0AF-3945-4FEC-9093-D209005BCBB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80"/>
                </a:solidFill>
                <a:latin typeface="Calibri"/>
              </a:rPr>
              <a:t>Основные процессы клеточного уровн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Обмен веществ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Самовоспроизведение ДНК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Генетическая регуляция внутриклеточных процессов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Передача наследственной информации от клетки к клетк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Накопление изменений в генетическом аппарате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Реагирование на раздражение при взаимодействии с внешней сред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97DE-9785-40D3-A5D7-8BEEA11E9BC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Организация клеточного уровн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1. сложность и разнообразие биологических молекул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2. Специфичность функционирования внутриклеточных структур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3. Уникальность устойчивости физико-химических связей  внутриклеточных структур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4. Упорядоченность протекания процессов жизне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9E3E-3897-4327-B71C-BA932B97798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Calibri"/>
              </a:rPr>
              <a:t>Значение клеточного уровня живой матери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1. клетка основная структурная единица живых организмов ( рост, развитие, обмен веществ 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2 . Клетка свободноживущий одноклеточный организ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6530-116B-4F8D-982B-03F6AF1C52F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Процессы жизнедеятельности   </a:t>
            </a:r>
            <a:br>
              <a:rPr sz="1400"/>
            </a:b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Клет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Матричный синтез органических веществ происходит только в клетк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Особенностью клеток является  их специализация , дифференциация свойств и форм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Использование для жизни разнообразных абиотических и биотических условий сре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722E-A895-420B-9BB0-23671D3CEEC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обытия клеточного уровн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Эволюция развития организмов ( автотрофных и гетеротрофных)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Появление разных форм клеток ( прокариоты и эукариоты , неподвижные и подвижные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Создание многоклеточных и симбиотических форм жизн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Появление клетки привело круговороту веществ в биосфе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CE99-9C94-4A4E-A641-6B728E5B823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2375-6069-452C-8E92-71FC05D96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A958-8122-4F1C-8BF7-C79E5B93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26EB-8C2D-4B06-A133-367E81CEE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57F3-9555-4F6B-807F-5417ABA24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AA5D-C315-46B3-BEFE-9FFAB202A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6B0B-3A49-4FF6-B4DA-7C1DBC14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5259-D9EF-4931-9B35-971FE930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B890-6C8B-42BB-A3D4-B7194A91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FA53-F9BF-4D10-90D0-F8BB1D08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5FFE7-4DCF-4685-B5F8-46CF1E16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7509-EE97-409D-A5E0-83B8BDF5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E917-41AA-4384-89C4-A130C063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F0D1-AFE4-4E28-B10B-5E4C1592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9115-E58C-4B8F-B19F-43E36364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C067-7246-42FF-B95D-BFBB794B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8D35-B2ED-4C53-96A0-A72C8B341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D338-1D94-48B1-AFAB-3DBA31BBB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F591-1FDC-4EB7-B2E9-CB59A44F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C569-7ED1-46C0-8E74-C7AD365E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3B9A-9FD9-4FD4-9C8B-0898A591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FD4D-AC7F-4E35-97C8-A7254C08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3C41-4F01-4D69-9DA5-F267BFD5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B965-EDB1-4934-A669-2E36E94C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2936-6106-4F38-B084-11B7676F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3114-F08D-4C0B-BE59-4B44A20EFA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0379-8CF7-45D5-8D7F-41B8078FD38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Клеточный уровень жизни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32000" y="3141720"/>
            <a:ext cx="6440400" cy="24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Изучить структуру клеток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Механизм устойчивости клетки как биосистемы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Клетка –элементарная структурная единица жизн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403848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7" descr="09010501"/>
          <p:cNvPicPr/>
          <p:nvPr/>
        </p:nvPicPr>
        <p:blipFill>
          <a:blip r:embed="rId1"/>
          <a:stretch/>
        </p:blipFill>
        <p:spPr>
          <a:xfrm>
            <a:off x="611280" y="1484280"/>
            <a:ext cx="3673440" cy="4824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02020101"/>
          <p:cNvPicPr/>
          <p:nvPr/>
        </p:nvPicPr>
        <p:blipFill>
          <a:blip r:embed="rId2"/>
          <a:stretch/>
        </p:blipFill>
        <p:spPr>
          <a:xfrm>
            <a:off x="4572000" y="1484280"/>
            <a:ext cx="4114800" cy="482436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7" descr="09010601"/>
          <p:cNvPicPr/>
          <p:nvPr/>
        </p:nvPicPr>
        <p:blipFill>
          <a:blip r:embed="rId1"/>
          <a:stretch/>
        </p:blipFill>
        <p:spPr>
          <a:xfrm>
            <a:off x="468360" y="1628640"/>
            <a:ext cx="4103640" cy="4392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09010102"/>
          <p:cNvPicPr/>
          <p:nvPr/>
        </p:nvPicPr>
        <p:blipFill>
          <a:blip r:embed="rId2"/>
          <a:stretch/>
        </p:blipFill>
        <p:spPr>
          <a:xfrm>
            <a:off x="4788000" y="1484280"/>
            <a:ext cx="4032000" cy="460872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7" descr="02020403"/>
          <p:cNvPicPr/>
          <p:nvPr/>
        </p:nvPicPr>
        <p:blipFill>
          <a:blip r:embed="rId1"/>
          <a:stretch/>
        </p:blipFill>
        <p:spPr>
          <a:xfrm>
            <a:off x="539640" y="981000"/>
            <a:ext cx="3888000" cy="5079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Колониальные жгутиковые"/>
          <p:cNvPicPr/>
          <p:nvPr/>
        </p:nvPicPr>
        <p:blipFill>
          <a:blip r:embed="rId2"/>
          <a:stretch/>
        </p:blipFill>
        <p:spPr>
          <a:xfrm>
            <a:off x="4716360" y="1052640"/>
            <a:ext cx="3888000" cy="49687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Клеточный уровень  организации живой материи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059280" y="4581360"/>
            <a:ext cx="64008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11 клас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Общие характеристики клеточного уровня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41144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8" descr="09010601"/>
          <p:cNvPicPr/>
          <p:nvPr/>
        </p:nvPicPr>
        <p:blipFill>
          <a:blip r:embed="rId1"/>
          <a:stretch/>
        </p:blipFill>
        <p:spPr>
          <a:xfrm>
            <a:off x="684360" y="1989000"/>
            <a:ext cx="3743280" cy="1981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09010101"/>
          <p:cNvPicPr/>
          <p:nvPr/>
        </p:nvPicPr>
        <p:blipFill>
          <a:blip r:embed="rId2"/>
          <a:stretch/>
        </p:blipFill>
        <p:spPr>
          <a:xfrm>
            <a:off x="5429160" y="1981080"/>
            <a:ext cx="2476440" cy="1981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09010102"/>
          <p:cNvPicPr/>
          <p:nvPr/>
        </p:nvPicPr>
        <p:blipFill>
          <a:blip r:embed="rId3"/>
          <a:stretch/>
        </p:blipFill>
        <p:spPr>
          <a:xfrm>
            <a:off x="1238400" y="4114800"/>
            <a:ext cx="2828880" cy="1981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03020201"/>
          <p:cNvPicPr/>
          <p:nvPr/>
        </p:nvPicPr>
        <p:blipFill>
          <a:blip r:embed="rId4"/>
          <a:stretch/>
        </p:blipFill>
        <p:spPr>
          <a:xfrm>
            <a:off x="5364000" y="4149720"/>
            <a:ext cx="2737080" cy="19432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c00"/>
                </a:solidFill>
                <a:latin typeface="Tahoma"/>
              </a:rPr>
              <a:t>Структурные элементы клеточного уровня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Биологические молекулы 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ДН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РН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Бел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Углевод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Липид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Части клетки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Цитоплазм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Ядр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Органоид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c00"/>
                </a:solidFill>
                <a:latin typeface="Tahoma"/>
              </a:rPr>
              <a:t>Основные процессы клеточного уровня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: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Обмен веществ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Самовоспроизведение ДНК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Генетическая регуляция внутриклеточных процессов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Передача наследственной информации от клетки к клетке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Накопление изменений в генетическом аппарате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Реагирование на раздражение при взаимодействии с внешней средо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Организация клеточного уровня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1. сложность и разнообразие биологических молекул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2. Специфичность функционирования внутриклеточных структур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3. Уникальность устойчивости физико-химических связей  внутриклеточных структур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4. Упорядоченность протекания процессов жизнедеятельност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Значение клеточного уровня живой материи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: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ahoma"/>
              </a:rPr>
              <a:t>1. клетка основная структурная единица живых организмов ( рост, развитие, обмен веществ 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ahoma"/>
              </a:rPr>
              <a:t>2 . Клетка свободноживущий одноклеточный организ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Процессы жизнедеятельности   </a:t>
            </a:r>
            <a:br>
              <a:rPr sz="3600"/>
            </a:b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Клетки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ahoma"/>
              </a:rPr>
              <a:t>Матричный синтез органических веществ происходит только в клетке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ahoma"/>
              </a:rPr>
              <a:t>Особенностью клеток является  их специализация , дифференциация свойств и форм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ahoma"/>
              </a:rPr>
              <a:t>Использование для жизни разнообразных абиотических и биотических условий сред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События клеточного уровн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: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Эволюция развития организмов ( автотрофных и гетеротрофных)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Появление разных форм клеток ( прокариоты и эукариоты , неподвижные и подвижные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Создание многоклеточных и симбиотических форм жизни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Появление клетки привело круговороту веществ в биосфер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08:57:51Z</dcterms:created>
  <dc:creator>Admin</dc:creator>
  <dc:description/>
  <dc:language>en-US</dc:language>
  <cp:lastModifiedBy>LEGION</cp:lastModifiedBy>
  <dcterms:modified xsi:type="dcterms:W3CDTF">2014-11-24T13:13:15Z</dcterms:modified>
  <cp:revision>6</cp:revision>
  <dc:subject/>
  <dc:title>Клеточный уровень жизни </dc:title>
</cp:coreProperties>
</file>