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C3E5-5AA0-4C97-A649-215553A9A72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еточный уровень жиз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Изучить структуру клеток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Механизм устойчивости клетки как биосистемы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Клетка –элементарная структурная единица жиз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1AA1-BE39-4394-B06B-0B824A32C58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Клеточный уровень  организации живой мат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11 клас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B30D-D5A2-4241-BADC-BD746E09B01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бщие характеристики клеточного ур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179B-BB95-46FC-AA46-7D415D4859F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80"/>
                </a:solidFill>
                <a:latin typeface="Calibri"/>
              </a:rPr>
              <a:t>Структурные элементы клеточного уровн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Биологические молекулы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ДН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РН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Бел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Углево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Лип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Части клет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Цитоплаз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Ядр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Органо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C5A5-41B8-431B-A4BB-DA97BF60CD2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80"/>
                </a:solidFill>
                <a:latin typeface="Calibri"/>
              </a:rPr>
              <a:t>Основные процессы клеточного уровн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Обмен веществ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Самовоспроизведение ДНК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Генетическая регуляция внутриклеточных процессов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Передача наследственной информации от клетки к клетк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Накопление изменений в генетическом аппарате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Реагирование на раздражение при взаимодействии с внешней сред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C16D-E0F3-456F-B2CF-6C1FDA5E77A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Организация клеточного уровн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1. сложность и разнообразие биологических молекул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2. Специфичность функционирования внутриклеточных структур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3. Уникальность устойчивости физико-химических связей  внутриклеточных структур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4. Упорядоченность протекания процессов жизне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119C-8282-487E-8FC0-B2351FF80A3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alibri"/>
              </a:rPr>
              <a:t>Значение клеточного уровня живой матери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1. клетка основная структурная единица живых организмов ( рост, развитие, обмен веществ 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2 . Клетка свободноживущий одноклеточный организ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11F9-3836-4868-BB18-6EC56610FFD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Процессы жизнедеятельности   </a:t>
            </a:r>
            <a:br>
              <a:rPr sz="1400"/>
            </a:b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Клет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Матричный синтез органических веществ происходит только в клетк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Особенностью клеток является  их специализация , дифференциация свойств и форм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Использование для жизни разнообразных абиотических и биотических условий сре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F3B7-9CB7-4024-8D31-8FC32B77B1F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обытия клеточного ур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Эволюция развития организмов ( автотрофных и гетеротрофных)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Появление разных форм клеток ( прокариоты и эукариоты , неподвижные и подвижные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Создание многоклеточных и симбиотических форм жизн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Появление клетки привело круговороту веществ в биосфе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440E-01A4-4CF4-9A5F-057194E0CC0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3B11-D13A-4B20-951A-26648641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61E2-49A0-4617-8E00-C0F0305D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488E-A9DE-4C10-B57E-A713D7B49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B933-C5D7-45CA-913C-A89A50DFD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957E-3377-4A1B-9F8C-C0BE1DE9C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8D70-5655-4F2C-A7BA-6780C3C1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77C7-DD4B-40CE-B9C3-0C5781CF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9D5F-3A82-448A-8B01-994B4325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4F94-AC30-4F56-95BD-55C86F6C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CEA4-9970-4B53-AE47-05528D3A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7436-47F7-4F71-9539-0470DE06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7557-DEE6-4C64-9C49-5122EC6D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F452-E0DA-4D53-B3AB-5E9F5D1E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4D11-C40E-4FAC-A4BD-09DE698F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A42C-9E09-47A1-877E-9B608136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D244-8159-479A-B32C-2B05CF33C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5D1B-839D-4B33-B87C-7695CAB3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EE1E-DB57-4838-9EB7-0FDD9C24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588B-C66F-4E5B-A8C0-530C9892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6B51-E263-4F87-9C5B-516EE5E2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5E47-EC3C-4B75-B243-CA11F0A4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0D49-0FC5-4083-9AC3-A112BB16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266E-5892-4AEA-B671-3A962D94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AB1F-C79F-40AA-9216-8D199F13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8B2A-6D87-428E-BFDB-0F78364FA9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D73C-B421-41B1-848D-B7B9E1ED10F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Клеточный уровень жизни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32000" y="3141720"/>
            <a:ext cx="6440400" cy="24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Изучить структуру клеток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Механизм устойчивости клетки как биосистемы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Клетка –элементарная структурная единица жизн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403848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7" descr="09010501"/>
          <p:cNvPicPr/>
          <p:nvPr/>
        </p:nvPicPr>
        <p:blipFill>
          <a:blip r:embed="rId1"/>
          <a:stretch/>
        </p:blipFill>
        <p:spPr>
          <a:xfrm>
            <a:off x="611280" y="1484280"/>
            <a:ext cx="3673440" cy="482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02020101"/>
          <p:cNvPicPr/>
          <p:nvPr/>
        </p:nvPicPr>
        <p:blipFill>
          <a:blip r:embed="rId2"/>
          <a:stretch/>
        </p:blipFill>
        <p:spPr>
          <a:xfrm>
            <a:off x="4572000" y="1484280"/>
            <a:ext cx="4114800" cy="48243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7" descr="09010601"/>
          <p:cNvPicPr/>
          <p:nvPr/>
        </p:nvPicPr>
        <p:blipFill>
          <a:blip r:embed="rId1"/>
          <a:stretch/>
        </p:blipFill>
        <p:spPr>
          <a:xfrm>
            <a:off x="468360" y="1628640"/>
            <a:ext cx="4103640" cy="439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09010102"/>
          <p:cNvPicPr/>
          <p:nvPr/>
        </p:nvPicPr>
        <p:blipFill>
          <a:blip r:embed="rId2"/>
          <a:stretch/>
        </p:blipFill>
        <p:spPr>
          <a:xfrm>
            <a:off x="4788000" y="1484280"/>
            <a:ext cx="4032000" cy="46087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7" descr="02020403"/>
          <p:cNvPicPr/>
          <p:nvPr/>
        </p:nvPicPr>
        <p:blipFill>
          <a:blip r:embed="rId1"/>
          <a:stretch/>
        </p:blipFill>
        <p:spPr>
          <a:xfrm>
            <a:off x="539640" y="981000"/>
            <a:ext cx="3888000" cy="5079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Колониальные жгутиковые"/>
          <p:cNvPicPr/>
          <p:nvPr/>
        </p:nvPicPr>
        <p:blipFill>
          <a:blip r:embed="rId2"/>
          <a:stretch/>
        </p:blipFill>
        <p:spPr>
          <a:xfrm>
            <a:off x="4716360" y="1052640"/>
            <a:ext cx="3888000" cy="49687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Клеточный уровень  организации живой материи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059280" y="4581360"/>
            <a:ext cx="64008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11 клас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Общие характеристики клеточного уровн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41144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8" descr="09010601"/>
          <p:cNvPicPr/>
          <p:nvPr/>
        </p:nvPicPr>
        <p:blipFill>
          <a:blip r:embed="rId1"/>
          <a:stretch/>
        </p:blipFill>
        <p:spPr>
          <a:xfrm>
            <a:off x="684360" y="1989000"/>
            <a:ext cx="3743280" cy="1981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09010101"/>
          <p:cNvPicPr/>
          <p:nvPr/>
        </p:nvPicPr>
        <p:blipFill>
          <a:blip r:embed="rId2"/>
          <a:stretch/>
        </p:blipFill>
        <p:spPr>
          <a:xfrm>
            <a:off x="5429160" y="1981080"/>
            <a:ext cx="2476440" cy="1981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09010102"/>
          <p:cNvPicPr/>
          <p:nvPr/>
        </p:nvPicPr>
        <p:blipFill>
          <a:blip r:embed="rId3"/>
          <a:stretch/>
        </p:blipFill>
        <p:spPr>
          <a:xfrm>
            <a:off x="1238400" y="4114800"/>
            <a:ext cx="2828880" cy="1981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03020201"/>
          <p:cNvPicPr/>
          <p:nvPr/>
        </p:nvPicPr>
        <p:blipFill>
          <a:blip r:embed="rId4"/>
          <a:stretch/>
        </p:blipFill>
        <p:spPr>
          <a:xfrm>
            <a:off x="5364000" y="4149720"/>
            <a:ext cx="2737080" cy="19432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00"/>
                </a:solidFill>
                <a:latin typeface="Tahoma"/>
              </a:rPr>
              <a:t>Структурные элементы клеточного уровн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Биологические молекулы 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ДН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РН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Бел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Углевод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Липид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Части клетки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Цитоплаз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Ядр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Органоид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00"/>
                </a:solidFill>
                <a:latin typeface="Tahoma"/>
              </a:rPr>
              <a:t>Основные процессы клеточного уровн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: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Обмен веществ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Самовоспроизведение ДНК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Генетическая регуляция внутриклеточных процессов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Передача наследственной информации от клетки к клетке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Накопление изменений в генетическом аппарате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Реагирование на раздражение при взаимодействии с внешней средо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Организация клеточного уровн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1. сложность и разнообразие биологических молекул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2. Специфичность функционирования внутриклеточных структур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3. Уникальность устойчивости физико-химических связей  внутриклеточных структур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4. Упорядоченность протекания процессов жизнедеятельно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Значение клеточного уровня живой материи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: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ahoma"/>
              </a:rPr>
              <a:t>1. клетка основная структурная единица живых организмов ( рост, развитие, обмен веществ 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ahoma"/>
              </a:rPr>
              <a:t>2 . Клетка свободноживущий одноклеточный организ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Процессы жизнедеятельности   </a:t>
            </a:r>
            <a:br>
              <a:rPr sz="3600"/>
            </a:b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Клетки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ahoma"/>
              </a:rPr>
              <a:t>Матричный синтез органических веществ происходит только в клетке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ahoma"/>
              </a:rPr>
              <a:t>Особенностью клеток является  их специализация , дифференциация свойств и форм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ahoma"/>
              </a:rPr>
              <a:t>Использование для жизни разнообразных абиотических и биотических условий сред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События клеточного уровн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: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Эволюция развития организмов ( автотрофных и гетеротрофных)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Появление разных форм клеток ( прокариоты и эукариоты , неподвижные и подвижные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Создание многоклеточных и симбиотических форм жизни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Появление клетки привело круговороту веществ в биосфер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08:57:51Z</dcterms:created>
  <dc:creator>Admin</dc:creator>
  <dc:description/>
  <dc:language>en-US</dc:language>
  <cp:lastModifiedBy>LEGION</cp:lastModifiedBy>
  <dcterms:modified xsi:type="dcterms:W3CDTF">2014-11-24T13:13:15Z</dcterms:modified>
  <cp:revision>6</cp:revision>
  <dc:subject/>
  <dc:title>Клеточный уровень жизни </dc:title>
</cp:coreProperties>
</file>