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8CA0-D199-46DA-87E0-7E1229B7E3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210C-B641-42C8-9235-60B3EE2E74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речения великих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CE92-FA4B-4472-ACEB-678FE0F590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F201-21A9-4697-A065-A1EA036000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е заболе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B02B-A63D-4C95-8A47-41A3723620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икишина Елена Викторовна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ОГОУ»Искитимского медицинского училищ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8E2E-E06B-42B4-8133-1347D53121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ополагающий вопро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психосоматика здоровья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просы учебной ча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е занят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анализ составляющие здоровья: телесная, психическая, социальная.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астники проек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уденты 4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81E1-ACBE-4D99-BC37-5D205F50F1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ить основные задачи, методы, структуру медицин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B68C-2CEA-4A76-B7C3-5F454E798E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дицинская психолог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B5D1-07BF-44A8-B189-21EB873D7F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5781-B671-4F14-B839-2097EFBA70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типов личности пациентов, определяющих реакцию пациента на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психологического профиля больных при различных заболев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ние возрастной  клинической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учение психологии семей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коррекция, психотерапия,психологическое консуль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4A91-6208-4664-81C7-2C545492D5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 в медицинской псих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ое интервью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-психологические методы исследования(психологический эксперимен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B92E-1272-43FA-90AD-8CE4DAC979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циопсихосоматика здоровь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 «психосоматика» предложен в 1818г.врачом Иоганом Августом Хейнр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1D47-D647-40F2-AA63-DDC60FCB41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87EE-DC48-4B29-B1E7-E40EF3A3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8BF-9380-4883-ADCF-E4617778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BE8-BC54-44BF-85C1-B9124010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974-2BD5-4564-AF1F-1A974EB9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CE9A-4563-4F12-A619-7FC30218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726E-1B5D-4697-80F2-6A53590C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52D0-CF85-4933-B132-8AC9F24E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201D-E250-42A5-A5DD-571FEC04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7CAE-B078-4164-B4D5-0614A817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8DA0-90C4-4B63-A59A-FBE55CB6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6D26-4D38-4984-A650-44F42950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5A2-4118-4D19-9B79-F9589B08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36AA-075D-4572-AA09-0E9A9E9F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E957-AEE0-4F51-9FDC-6A354F12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041E-0D78-4475-90BE-5E3E1279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DE0C-949A-4AD7-92D9-E4F53598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665B-C310-4460-9665-3E3D9818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F09-4BA6-4529-BB47-60D91CE5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4799-F33E-4912-8951-FFB2181F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482-0683-4A02-970F-A454A9FA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F54-85A0-49BA-AFDA-EC5BEDCE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89A-C234-48CF-B9A7-FCF4C64E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C4B-15D2-411E-BFB8-8E9AB993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D76D-5234-46D5-9D72-16D4DA62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FAE5-B700-480F-9E6A-FFB302D613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A621-256B-40EF-9A69-9D2407DE70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2160"/>
            <a:ext cx="7920000" cy="6289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выполнена в рамках проекта «Повышение квалификации различных категорий работников образования и формирование у них базовой педагогической ИКТ-компетентности» по программе «Информационные технологии в деятельности учителя-предметника»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Изречения великих людей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он писал:»…тело нельзя лечить без души.Ибо  от души идёт всё:как доброе,так и злое,как на тело,так и на всего человека…А душа должна лечиться особыми целебными разговор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т говорил:»Подобно тому, как нельзя лечить глаз, не леча голову,а голову-не леча тела, так нельзя лечить тело,не леча душ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ая болезнь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95280" y="1412640"/>
            <a:ext cx="6715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 психологическая надстройка в душе человека, попытка найти выход из безвыходной ситуации,последний шанс разрешить иначе не 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болеет для того, чтобы получить те или иные преимущества в жизни,которые он может получить только благодаря какому-то не д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начается огромное количество химических лекарственных средств, а выздоровление не наступает, так как не решены какие-то психологические проблемы в жизни человека,которые и вызывают перенапряжение в орган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соматическая болезнь-это»будильник»,сигнал к тому,что конфликт требует разрешения.Многие пациенты признавали,что благодаря болезни они смогли обратить внимание на свои истинные потребности.Заболевание дало им возможность переступить определённые ограничительные социальные нормы,в которых они воспитывались, и начать развиваться и расти как лич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1964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сихосоматические заболева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411280" y="1628640"/>
            <a:ext cx="63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венная болезнь желудка и двенадцатиперстной кишк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специфический язвенный колит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бронхиальная астма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тиреотоксикоз (Базедова болезнь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нейродерм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гипертоническая болезнь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ревматоидный арт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70572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Работу выполнила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Никишина Елена Викторовн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реподаватель ОГОУ»Искитимского медицинского училища»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6381720" cy="615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Основополагающий вопрос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Вопросы учебной части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ебное занятие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делать анализ составляющие здоровья: телесная, психическая, социальная.</a:t>
            </a:r>
            <a:br>
              <a:rPr sz="3200"/>
            </a:br>
            <a:r>
              <a:rPr b="0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Участники проекта:</a:t>
            </a: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туденты 4 курс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ить основные задачи, методы, структуру медицинск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крыть  влияние хронических соматических заболеваний  на психику человека, лич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6920" y="620280"/>
            <a:ext cx="631044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Медицинская психологи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ая психология является одним из ответвлений общей психологии науки, изучающей нормальные психические процессы и личностные свойства челове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определения:»новая область знаний,являющаяся соединением психологии и медици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195280" y="620280"/>
            <a:ext cx="67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блемы и задачи медицинской психологии входит исследование личности пациента в болезни как соматической так и психической; изучение психических факторов, влияющих на развитие болезней, их профилактику и лечение; изучение влияния тех или иных болезней на психику; изучение отношений больного человека с окружающей его микро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адачи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40000" y="1197000"/>
            <a:ext cx="680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изменения отдельных психических функций при соматических ипсихически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типов личности пациентов, определяющих реакцию пациента на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медработников, их взаимоотношений(врача,медсестры,младшего медперсон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лечебного взаимодействия, в том числе психологии общения с пациентом; медицинской этики и деонт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соматопсихических взаимоотношений и психосоматических состояний как существенных при происхождении,течении и тттерапии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сихологического профиля больных при различных заболев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»девиантного»(отклоняющегося) поведения, во многом определяющего реакции пациента на окру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возрастной  клинической псих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учение психологии семейных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коррекция, психотерапия,психологическое консульти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исследования в медицинской психологи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ническое интервью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ально-психологические методы исследования(психологический эксперимен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оценки эффективности психокоррекционного и психотерапевтического воз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Социопсихосоматика здоровья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 «психосоматика» предложен в 1818г.врачом Иоганом Августом Хейнро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коби в 1822г. Ввёл термин «соматопсихический»,подчеркивая приоритет телесного в возникновении некотор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соматика-это направление медицинской психологии,которое занимается изучением влияния психических факторов на возникновение и течение соматически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7:27:55Z</dcterms:created>
  <dc:creator>С23</dc:creator>
  <dc:description/>
  <dc:language>en-US</dc:language>
  <cp:lastModifiedBy>LEGION</cp:lastModifiedBy>
  <dcterms:modified xsi:type="dcterms:W3CDTF">2014-11-06T13:24:42Z</dcterms:modified>
  <cp:revision>6</cp:revision>
  <dc:subject/>
  <dc:title>78с</dc:title>
</cp:coreProperties>
</file>