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400C-A997-49FD-BACB-C064A4E7E8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AF74-9B3A-46BC-A837-1615799B6C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ы борьбы с никотиномани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Никому не говорите заранее о своих намерениях расстаться с сигаретой, не обещайте и не клянитесь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Выберите день, с которого вы начнёте новую жизнь. Кстати, лучше это будет первый день каникул, выходных или любой другой день недели или число, которое вы по какой – либо причине считаете счастливым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Никогда не говорите «никогда» - не позволяйте себе думать, что вы бросаете курить навсегда, ставьте себе задачу только на ближайшее будущее – допустим, на завтра. Дайте себе слово, что не притронетесь к сигарете. И каждый раз давайте себе слово не курить только один день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ереключайтесь на что–нибудь делайте каждый раз, когда почувствуете сильное желание закурить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Хвалите себя, если достигли успеха, а вы его в любом случае достигли, решив бросить курить. Не расстраивайтесь и не укоряйте себя, если вы нарушили данное себе слово: если хотите бросить курить, всё равно броси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E588-7129-4262-9FA9-ED606F6C44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сить курить очень просто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сам бросал 17 раз!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 Тв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8888-9833-4B2A-832E-27BA4F4A62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– один из самых сильных ядов растительного происх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алоид никотин (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в химически чистом виде представляет собой прозрачную бесцветную маслообразную жидкость со жгучим вкусом и температурой кипения 246°С, хорошо растворимую в воде, спирте и других растворител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входящие в состав сигар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ь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сус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дег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A74F-6E67-46C5-A93E-142645D91C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гар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проникает в кровь, и она разносит его по всем органам. Этот яд притупляет зрение, слух, внимание, заставляет усиленно работать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6793-FD6C-4C57-82D2-F6BB1E924A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истории ку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нглии табак был известен издавна. Впервые он попал в страну 1565 г., однако, на протяжении почти двух десятилетий его использовали исключительно в лечебных целях. К началу  XVII века курение становится светской привычкой богачей, так как в то время считалось, что оно способствует здоровью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8544-AF7C-46AA-8C03-19D405C053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ка никотина в организм альтернативными путями для лечения никотиновой завис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ся возможность применения никотина и в других областях, например, в качестве болеутоляющего, средства от синдрома дефицита внимания, болезни Альцгеймера, болезни Паркинсона, колита, герпеса и туберкулё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9C1C-5048-4460-B514-C493C02E7A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содержится 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ба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хор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ма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ртоф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клаж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небольших доза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C221-E0D6-479F-9970-95F2213DD8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интез никотина происходит в корнях, а накапливание никотина — в листь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легко окисляется до нетоксичной никотиновой кислоты. Однако в организме человека отсутствуют ферменты, необходимые для такого окис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36D0-0D8D-4F01-90BE-FE8991740F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чрезвычайно токсичен для насекомых и теплокровных животных. Действует как нейротоксин, вызывая паралич нервной системы(остановка дыхания, прекращение сердечной деятельности, смер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яя летальная доза для человека — 0,5-1 мг/к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2511-8BA5-4FA5-9A3C-1501951A3E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полный список заболеваний, вызываемых никотином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ечная недостато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 легких, языка, горта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аркт миокар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ь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нгрена н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полов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6C66-6FE5-413F-AAD0-A52A374315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0FE9-2E29-4487-9435-E5F2086F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A50-68EE-4F6F-A64D-A45FECD3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CB9-B27B-41D8-8D02-589E07E5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D608-B573-4F9A-92F3-BCAE626C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1BAF-7955-4389-8740-B98481E0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98DF-6644-482C-A8EA-0E47A79A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0F84-5E01-4BDF-BCCE-48676669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1A8C-29D1-4800-AEC3-EA871FC7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3205-7E28-48BD-9206-0439C267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8F1B-EE5D-4BD1-A234-1994FA15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3191-0451-4DF3-9AC1-4A14C093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012-5C1B-4F2F-8B5F-42CC789A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86B9-5615-4E7B-9F14-3FB3E406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5A3C-9039-446A-8202-3E5BE2C6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94C4-1963-47DC-804A-C17C86A0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BB54-5C5A-488D-87FA-00CA4B50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B115-97A9-4C85-87C6-BE6077C1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3AA-D7A7-44AC-9A7D-EE891564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305-73C3-47F9-AC8C-D77A7DC8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5F7-7390-4498-AB83-7FE48E2A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F17-A6DA-4873-8285-D27B3BB8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CB0-94BD-4912-94C8-C29AB048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B66-DB86-491A-AFE1-AFCECE0E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12E-7E7E-44D4-B597-DC545A6B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C25D-252D-4A08-9367-C20873ED2E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4C98-8D65-4849-BBF2-999B044C16F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cecff"/>
                </a:solidFill>
                <a:latin typeface="Arial"/>
              </a:rPr>
              <a:t>Никотин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156000" y="5536800"/>
            <a:ext cx="5111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200px-Nicotine"/>
          <p:cNvPicPr/>
          <p:nvPr/>
        </p:nvPicPr>
        <p:blipFill>
          <a:blip r:embed="rId1"/>
          <a:stretch/>
        </p:blipFill>
        <p:spPr>
          <a:xfrm>
            <a:off x="2411280" y="1989000"/>
            <a:ext cx="4175280" cy="3506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Методы борьбы с никотиномание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 Никому не говорите заранее о своих намерениях расстаться с сигаретой, не обещайте и не клянитесь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 Выберите день, с которого вы начнёте новую жизнь. Кстати, лучше это будет первый день каникул, выходных или любой другой день недели или число, которое вы по какой – либо причине считаете счастливым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 Никогда не говорите «никогда» - не позволяйте себе думать, что вы бросаете курить навсегда, ставьте себе задачу только на ближайшее будущее – допустим, на завтра. Дайте себе слово, что не притронетесь к сигарете. И каждый раз давайте себе слово не курить только один день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Переключайтесь на что–нибудь делайте каждый раз, когда почувствуете сильное желание закурить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Хвалите себя, если достигли успеха, а вы его в любом случае достигли, решив бросить курить. Не расстраивайтесь и не укоряйте себя, если вы нарушили данное себе слово: если хотите бросить курить, всё равно броси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getty_rf_photo_of_broken_cigarette"/>
          <p:cNvPicPr/>
          <p:nvPr/>
        </p:nvPicPr>
        <p:blipFill>
          <a:blip r:embed="rId1"/>
          <a:stretch/>
        </p:blipFill>
        <p:spPr>
          <a:xfrm>
            <a:off x="900000" y="189000"/>
            <a:ext cx="2808360" cy="144288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1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осить курить очень просто.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сам бросал 17 раз!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рк Тв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GenTobaccoExpirienceMTwain"/>
          <p:cNvPicPr/>
          <p:nvPr/>
        </p:nvPicPr>
        <p:blipFill>
          <a:blip r:embed="rId1"/>
          <a:stretch/>
        </p:blipFill>
        <p:spPr>
          <a:xfrm>
            <a:off x="179280" y="549360"/>
            <a:ext cx="3251160" cy="591192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6348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икотин – один из самых сильных ядов растительного происхожд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лкалоид никотин (С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) в химически чистом виде представляет собой прозрачную бесцветную маслообразную жидкость со жгучим вкусом и температурой кипения 246°С, хорошо растворимую в воде, спирте и других растворителях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ещества, входящие в состав сигареты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икоти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кись углерод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уравьиная кисл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ксусная кисл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ышья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ммиа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Формальдеги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гар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отин проникает в кровь, и она разносит его по всем органам. Этот яд притупляет зрение, слух, внимание, заставляет усиленно работать сердц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056720" cy="375444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з истории ку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нглии табак был известен издавна. Впервые он попал в страну 1565 г., однако, на протяжении почти двух десятилетий его использовали исключительно в лечебных целях. К началу  XVII века курение становится светской привычкой богачей, так как в то время считалось, что оно способствует здоровью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нение в медици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ставка никотина в организм альтернативными путями для лечения никотиновой зависим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уется возможность применения никотина и в других областях, например, в качестве болеутоляющего, средства от синдрома дефицита внимания, болезни Альцгеймера, болезни Паркинсона, колита, герпеса и туберкулё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де содержится никоти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аба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хор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омат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ртофе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баклажан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51280" y="1196640"/>
            <a:ext cx="403848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ебольших до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803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иосинтез никотина происходит в корнях, а накапливание никотина — в листь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икотин легко окисляется до нетоксичной никотиновой кислоты. Однако в организме человека отсутствуют ферменты, необходимые для такого окисл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оксич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икотин чрезвычайно токсичен для насекомых и теплокровных животных. Действует как нейротоксин, вызывая паралич нервной системы(остановка дыхания, прекращение сердечной деятельности, смерть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редняя летальная доза для человека — 0,5-1 мг/кг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еполный список заболеваний, вызываемых никотином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дечная недостато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к легких, языка, горта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аркт миокар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уль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нгрена н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з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езнь половых орг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онический бронх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09:52:20Z</dcterms:created>
  <dc:creator>USER</dc:creator>
  <dc:description/>
  <dc:language>en-US</dc:language>
  <cp:lastModifiedBy>LEGION</cp:lastModifiedBy>
  <dcterms:modified xsi:type="dcterms:W3CDTF">2014-11-24T13:42:41Z</dcterms:modified>
  <cp:revision>7</cp:revision>
  <dc:subject/>
  <dc:title>Никотин</dc:title>
</cp:coreProperties>
</file>