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932C-5CE7-48F1-85F4-BEB6DEC947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яд Непарнокопыт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FD18-F4E8-4EE0-9EDD-76C9F6FCEE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яд объединяет 16 видов крупных животных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ости снабжены копытами 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утствие в скелете ключиц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таются только растительной пищ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F2DE-11AA-418B-8C78-AEAEA29A0D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яд включает  3 семе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пи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ш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ор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8ECD-F069-4881-A7E1-BCBEB7D300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ство Тапиры  . У этих животных короткий хоботок , состоит из вытянутого носа и верхней губы. Масса тела – 180-300 кг,  бархатистый мех, толстая кожа. Длина тела 180-200см. На тапиров охотятся ради мяса и шкуры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9EE4-A0E3-4A59-AAFA-FA99B696B2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ство  Лошади. Семейство включены зебры, куланы ,ослы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шади открыты  в 1879 году в горных пустынях Центральной Азии Н.А Пржевальским.  Сейчас известно более 100 пород. Используются в различных цел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AD41-8D2A-4E40-8C92-687B6A41AC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аны. Примитивная лошадь ,встречается в Туркмении, Китае ,  Монголии. Питается злаками , полынью . Бегают со скоростью 60 км/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1679-51D2-4E87-B83D-82CBC49E7A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нные уши, узкие копыта короткая шерсть на хвосте. используют в хозяйст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2CA1-5943-4616-915A-D02B939A8E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бр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тные Африки. Пасутся  вместе с другими травоядными имеют много врагов.  Человек отстреливал их ради красивой шкуры , в результате чего многие виды занесены в Красную кни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16A8-8450-4713-83F7-50175F2909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ство Носорог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большие тяжелые звери массой 3.5 т и более, высотой 1-2 м длина тела 2-5 м. Кожа толстая , почти лишена волос. На передней части морды находится один или два рога. Живут в Африке и Юж. Азии. Занесены в Красную кни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67EB-80A8-41B8-BA3B-FB24C81EC3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EE0F-7BB2-4D96-BCA7-C3CAAFDD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411D-CAED-4BA7-9114-E6393F61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14AD-667E-4403-BAFB-D303BB09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BE75-FF64-43D6-9059-ADE8E18FF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FD90-20C3-4CFF-9E2F-524345D1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9600-20DA-4164-B8B9-B50071A7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2578-3891-4F40-B231-03B08ED5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49E2-BB87-4A54-B267-5C1ACE0E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F459-43AD-4543-85BD-0C7466E1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9747-8FB6-4C04-BB5D-815485EE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50FC-2997-480C-881E-00EDCDEC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EF10-5CE6-421C-9EE6-CD4000CC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73D4-F9F3-4E01-8BB7-842104754831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1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8B15-E3CE-4BDC-8673-16B8E73015A2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3"/>
          <p:cNvSpPr/>
          <p:nvPr/>
        </p:nvSpPr>
        <p:spPr>
          <a:xfrm>
            <a:off x="500040" y="5643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5DB0-E45E-4E6E-A224-307392FF6AAF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1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ижний колонтитул 4"/>
          <p:cNvSpPr/>
          <p:nvPr/>
        </p:nvSpPr>
        <p:spPr>
          <a:xfrm>
            <a:off x="3071880" y="56437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Отряд Непарнокопытные 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93" name="Picture 6" descr="C:\Documents and Settings\Аркадий\Мои документы\Downloads\000013858699.jpg"/>
          <p:cNvPicPr/>
          <p:nvPr/>
        </p:nvPicPr>
        <p:blipFill>
          <a:blip r:embed="rId1"/>
          <a:stretch/>
        </p:blipFill>
        <p:spPr>
          <a:xfrm>
            <a:off x="0" y="0"/>
            <a:ext cx="4794120" cy="318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C:\Documents and Settings\Аркадий\Мои документы\Downloads\singapore (43).jpg"/>
          <p:cNvPicPr/>
          <p:nvPr/>
        </p:nvPicPr>
        <p:blipFill>
          <a:blip r:embed="rId2"/>
          <a:stretch/>
        </p:blipFill>
        <p:spPr>
          <a:xfrm>
            <a:off x="3368520" y="2521080"/>
            <a:ext cx="5775480" cy="43369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7DF1-66DF-4E2E-9D12-56A4A9C5E6A2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1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тряд объединяет 16 видов крупных животных .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                             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ризнаки 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Конечности снабжены копытами , 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тсутствие в скелете ключицы, 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итаются только растительной пищей.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3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915D-703A-4F15-8594-C9DCA0204F15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1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219280" y="620280"/>
            <a:ext cx="374508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Отряд включает  3 семейства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Тапиры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Лошади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Носороги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56" name="Picture 10" descr="C:\Documents and Settings\Аркадий\Рабочий стол\64298796.jpg"/>
          <p:cNvPicPr/>
          <p:nvPr/>
        </p:nvPicPr>
        <p:blipFill>
          <a:blip r:embed="rId1"/>
          <a:stretch/>
        </p:blipFill>
        <p:spPr>
          <a:xfrm>
            <a:off x="285840" y="357120"/>
            <a:ext cx="3792600" cy="2914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C:\Documents and Settings\Аркадий\Рабочий стол\0_1b42_647d43da_XL.jpg"/>
          <p:cNvPicPr/>
          <p:nvPr/>
        </p:nvPicPr>
        <p:blipFill>
          <a:blip r:embed="rId2"/>
          <a:stretch/>
        </p:blipFill>
        <p:spPr>
          <a:xfrm>
            <a:off x="5619600" y="3500280"/>
            <a:ext cx="3524400" cy="307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C:\Documents and Settings\Аркадий\Рабочий стол\per013.jpg"/>
          <p:cNvPicPr/>
          <p:nvPr/>
        </p:nvPicPr>
        <p:blipFill>
          <a:blip r:embed="rId3"/>
          <a:stretch/>
        </p:blipFill>
        <p:spPr>
          <a:xfrm>
            <a:off x="0" y="3643200"/>
            <a:ext cx="4857840" cy="32148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8337-CDFF-467E-90B9-FBFDBEFC2DB7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1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98360" y="171000"/>
            <a:ext cx="8569440" cy="15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Семейство Тапиры  . У этих животных короткий хоботок , состоит из вытянутого носа и верхней губы. Масса тела – 180-300 кг,  бархатистый мех, толстая кожа. Длина тела 180-200см. На тапиров охотятся ради мяса и шкуры.  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62" name="Picture 9" descr="C:\Documents and Settings\Аркадий\Рабочий стол\0009-009-CHeprachnyj-tapir.jpg"/>
          <p:cNvPicPr/>
          <p:nvPr/>
        </p:nvPicPr>
        <p:blipFill>
          <a:blip r:embed="rId1"/>
          <a:stretch/>
        </p:blipFill>
        <p:spPr>
          <a:xfrm>
            <a:off x="0" y="1285920"/>
            <a:ext cx="4379760" cy="3571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C:\Documents and Settings\Аркадий\Рабочий стол\per013.jpg"/>
          <p:cNvPicPr/>
          <p:nvPr/>
        </p:nvPicPr>
        <p:blipFill>
          <a:blip r:embed="rId2"/>
          <a:stretch/>
        </p:blipFill>
        <p:spPr>
          <a:xfrm>
            <a:off x="4429080" y="2928960"/>
            <a:ext cx="4714920" cy="39290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2FF8-2D5A-4D95-8E3D-9D7529163455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1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17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Семейство  Лошади. Семейство включены зебры, куланы ,ослы.  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Лошади открыты  в 1879 году в горных пустынях Центральной Азии Н.А Пржевальским.  Сейчас известно более 100 пород. Используются в различных целях.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67" name="Picture 7" descr="C:\Documents and Settings\Аркадий\Рабочий стол\0_1b42_647d43da_XL.jpg"/>
          <p:cNvPicPr/>
          <p:nvPr/>
        </p:nvPicPr>
        <p:blipFill>
          <a:blip r:embed="rId1"/>
          <a:stretch/>
        </p:blipFill>
        <p:spPr>
          <a:xfrm>
            <a:off x="0" y="3071880"/>
            <a:ext cx="4827600" cy="3786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C:\Documents and Settings\Аркадий\Рабочий стол\0004-004-loshadi-Przhevalskogo.jpg"/>
          <p:cNvPicPr/>
          <p:nvPr/>
        </p:nvPicPr>
        <p:blipFill>
          <a:blip r:embed="rId2"/>
          <a:stretch/>
        </p:blipFill>
        <p:spPr>
          <a:xfrm>
            <a:off x="4762440" y="1143000"/>
            <a:ext cx="4381560" cy="32860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D4EF-97B9-4DC4-AB41-5B3D98487B1A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1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636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Куланы. Примитивная лошадь ,встречается в Туркмении, Китае ,  Монголии. Питается злаками , полынью . Бегают со скоростью 60 км/ч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72" name="Picture 5" descr="C:\Documents and Settings\Аркадий\Рабочий стол\a72c8dca33398bb7a11506b0d847dce8c5c6733f.preview.jpg"/>
          <p:cNvPicPr/>
          <p:nvPr/>
        </p:nvPicPr>
        <p:blipFill>
          <a:blip r:embed="rId1"/>
          <a:stretch/>
        </p:blipFill>
        <p:spPr>
          <a:xfrm>
            <a:off x="0" y="85716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C:\Documents and Settings\Аркадий\Рабочий стол\26668f25236e.jpg"/>
          <p:cNvPicPr/>
          <p:nvPr/>
        </p:nvPicPr>
        <p:blipFill>
          <a:blip r:embed="rId2"/>
          <a:stretch/>
        </p:blipFill>
        <p:spPr>
          <a:xfrm>
            <a:off x="4286160" y="3616200"/>
            <a:ext cx="4857840" cy="32418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B4DA-E5A4-4586-8845-D07C9433FA09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1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787640" y="1125360"/>
            <a:ext cx="42116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                        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Ослы.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Длинные уши, узкие копыта короткая шерсть на хвосте. используют в хозяйстве. 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77" name="Picture 6" descr="C:\Documents and Settings\Аркадий\Рабочий стол\post-3-12081266684564.jpg"/>
          <p:cNvPicPr/>
          <p:nvPr/>
        </p:nvPicPr>
        <p:blipFill>
          <a:blip r:embed="rId1"/>
          <a:stretch/>
        </p:blipFill>
        <p:spPr>
          <a:xfrm>
            <a:off x="0" y="0"/>
            <a:ext cx="2724120" cy="3500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Documents and Settings\Аркадий\Рабочий стол\0102.jpg"/>
          <p:cNvPicPr/>
          <p:nvPr/>
        </p:nvPicPr>
        <p:blipFill>
          <a:blip r:embed="rId2"/>
          <a:stretch/>
        </p:blipFill>
        <p:spPr>
          <a:xfrm>
            <a:off x="4143240" y="3143160"/>
            <a:ext cx="4810320" cy="36086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6988-78E6-48CD-A952-BEEC19716597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1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Зебры .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Животные Африки. Пасутся  вместе с другими травоядными имеют много врагов.  Человек отстреливал их ради красивой шкуры , в результате чего многие виды занесены в Красную книгу.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82" name="Picture 7" descr="C:\Documents and Settings\Аркадий\Рабочий стол\120929239411_(16).jpg"/>
          <p:cNvPicPr/>
          <p:nvPr/>
        </p:nvPicPr>
        <p:blipFill>
          <a:blip r:embed="rId1"/>
          <a:stretch/>
        </p:blipFill>
        <p:spPr>
          <a:xfrm>
            <a:off x="182520" y="1928880"/>
            <a:ext cx="3861000" cy="3513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C:\Documents and Settings\Аркадий\Рабочий стол\285_3.jpg"/>
          <p:cNvPicPr/>
          <p:nvPr/>
        </p:nvPicPr>
        <p:blipFill>
          <a:blip r:embed="rId2"/>
          <a:stretch/>
        </p:blipFill>
        <p:spPr>
          <a:xfrm>
            <a:off x="5572080" y="3857760"/>
            <a:ext cx="3400560" cy="3000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C:\Documents and Settings\Аркадий\Рабочий стол\ph09736.jpg"/>
          <p:cNvPicPr/>
          <p:nvPr/>
        </p:nvPicPr>
        <p:blipFill>
          <a:blip r:embed="rId3"/>
          <a:stretch/>
        </p:blipFill>
        <p:spPr>
          <a:xfrm>
            <a:off x="4214880" y="1428840"/>
            <a:ext cx="3174840" cy="242892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75C7-402F-42A2-A024-B6E56E15F2D0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1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Семейство Носорогов. 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Это большие тяжелые звери массой 3.5 т и более, высотой 1-2 м длина тела 2-5 м. Кожа толстая , почти лишена волос. На передней части морды находится один или два рога. Живут в Африке и Юж. Азии. Занесены в Красную книгу.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88" name="Picture 5" descr="C:\Documents and Settings\Аркадий\Рабочий стол\0008-008-Pantsirnyj-nosorog.jpg"/>
          <p:cNvPicPr/>
          <p:nvPr/>
        </p:nvPicPr>
        <p:blipFill>
          <a:blip r:embed="rId1"/>
          <a:stretch/>
        </p:blipFill>
        <p:spPr>
          <a:xfrm>
            <a:off x="0" y="3214800"/>
            <a:ext cx="4857840" cy="3643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Documents and Settings\Аркадий\Рабочий стол\64298796.jpg"/>
          <p:cNvPicPr/>
          <p:nvPr/>
        </p:nvPicPr>
        <p:blipFill>
          <a:blip r:embed="rId2"/>
          <a:stretch/>
        </p:blipFill>
        <p:spPr>
          <a:xfrm>
            <a:off x="5278320" y="2214720"/>
            <a:ext cx="3865680" cy="29700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77A7-438C-4D7C-8930-574DCC65E916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1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1:11:57Z</dcterms:created>
  <dc:creator>user</dc:creator>
  <dc:description/>
  <dc:language>en-US</dc:language>
  <cp:lastModifiedBy>LEGION</cp:lastModifiedBy>
  <dcterms:modified xsi:type="dcterms:W3CDTF">2014-11-24T13:16:51Z</dcterms:modified>
  <cp:revision>14</cp:revision>
  <dc:subject/>
  <dc:title>Отряд Парнокопытные, семейство Полорогие</dc:title>
</cp:coreProperties>
</file>