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3E60-E874-4836-98F5-D66D1C7425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ма: Перенос веществ в организме позвоноч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0391-C841-4388-AD19-36674E1BAC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бораторная работа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учить под микроскопом микропрепараты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равнить с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ределить, чья кровь способна переносить больше кисл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797F-7B89-4E1B-8FDA-672C52D3DD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Инструкция по технике безопасности для учащих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Будьте осторожны при работе с использованием режущих и колющих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Помните, что стекло хрупкое, легко бьётся, будьте аккуратны при работе с н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лучае необходимости сразу воспользуйтесь аптеч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1837-B370-4BEC-858B-DD19AA9F50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д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Эритроциты крови лягушки и человека сходн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Имеют различ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Эритроциты чьей крови способны переносить больше кислор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Эволюция эритроцитов позвоночных шла в направлен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5DBE-C172-4ACF-8AA7-CE91C431F1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У всех многоклеточных животных красная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состоит из плазмы и клеток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ровь у всех животных переносит только кисл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ровеносная система позвоночных животных замкнутая и состоит из сердца и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У рыб трехкамерное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У позвоночных высокий уровень обмена веществ по сравнению с беспозвоноч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Гемолимфа – бесцветная или зеленоватая жид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Птицы и млекопитающие – холоднокровные жив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6CA0-4972-4CFD-8800-2319A527C4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яз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учить раздел 12 до конца, пересказать, выучить все основ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заполнить рабочие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вор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подготовить дополнительную информацию о разнообразии кровеносных систем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A2C7-B095-48A8-AEF3-24F82FEFC4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знакомиться с особенностями переноса веществ в организме позвоночных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еть значение этого процесс в жизни                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Изучить состав крови позвоночных животных, строение кровеносной системы и ёё функци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одолжить работу с материалами Е Г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бобщать изученный материал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630D-509E-452E-909A-0D2CAF49C7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царство Одноклеточ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ёба обыкновенная             Инфузория туфель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5F80-7E9B-4B84-A89D-FE3FD6ED1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царство Многоклеточны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Кольчатые чер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8AA6-BEC6-4B70-A553-8178F4C4B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ип моллюс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кновенный прудов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5073-0B58-4064-846A-1B2E33C939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Членистоноги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 Насекомы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чела медонос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861C-D59D-4CB2-B6FF-84C91E2A6D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Э. Раздел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4. Установите соответствие между признаком и видом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                                     Вид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езамкнутая кровеносная           А) 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                                          Б) Пчела медо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перен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тательны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амкнутая крове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Сердце в виде тру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ровь содержит гемоглоб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28F1-E5A6-4D3F-B78C-7F7DBF7514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овеносные системы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4639-DF8C-4EE0-A2DE-A51B89BF38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3DC-1A10-4272-861B-9C08A606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584-EE65-4ABF-AD7A-D1BBC6F7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6C9-95DB-4A6B-8044-27B03440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39E-3161-4927-8C09-AA1374E1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7A5-A203-4B90-A894-A16C7E69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01B-234D-4F9B-BB28-4CB23643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F65-6B1D-4DDB-84D3-ED99D242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EED-D6E1-4C27-8AD7-4ABFE164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614-E197-4496-BB51-722822EF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9508-A9EC-46D3-B008-A6A88217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589-3D22-465A-AAE5-433A795C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851-9031-413C-AAFE-703C5C42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2CBC-8901-4136-B9F1-28FDE4871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ма: Перенос веществ в организме позвоночных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Изображение 246"/>
          <p:cNvPicPr/>
          <p:nvPr/>
        </p:nvPicPr>
        <p:blipFill>
          <a:blip r:embed="rId1"/>
          <a:stretch/>
        </p:blipFill>
        <p:spPr>
          <a:xfrm>
            <a:off x="2843280" y="1844640"/>
            <a:ext cx="334152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Изображение 010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340000" y="-100080"/>
            <a:ext cx="5367240" cy="459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Изображение 247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08000" y="3213000"/>
            <a:ext cx="2581200" cy="364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Изображение 259"/>
          <p:cNvPicPr/>
          <p:nvPr/>
        </p:nvPicPr>
        <p:blipFill>
          <a:blip r:embed="rId3">
            <a:lum contrast="46000"/>
          </a:blip>
          <a:stretch/>
        </p:blipFill>
        <p:spPr>
          <a:xfrm>
            <a:off x="4211640" y="4653000"/>
            <a:ext cx="4284720" cy="1923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Изображение 257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362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Изображение 24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332000" y="3068640"/>
            <a:ext cx="3179520" cy="37893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Изображение 258"/>
          <p:cNvPicPr/>
          <p:nvPr/>
        </p:nvPicPr>
        <p:blipFill>
          <a:blip r:embed="rId1"/>
          <a:stretch/>
        </p:blipFill>
        <p:spPr>
          <a:xfrm>
            <a:off x="1655640" y="981000"/>
            <a:ext cx="7488360" cy="387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Изображение 256"/>
          <p:cNvPicPr/>
          <p:nvPr/>
        </p:nvPicPr>
        <p:blipFill>
          <a:blip r:embed="rId2"/>
          <a:stretch/>
        </p:blipFill>
        <p:spPr>
          <a:xfrm>
            <a:off x="468360" y="3860640"/>
            <a:ext cx="1332000" cy="777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Изображение 255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692360" y="2637000"/>
            <a:ext cx="622080" cy="118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Изображение 002"/>
          <p:cNvPicPr/>
          <p:nvPr/>
        </p:nvPicPr>
        <p:blipFill>
          <a:blip r:embed="rId4"/>
          <a:stretch/>
        </p:blipFill>
        <p:spPr>
          <a:xfrm>
            <a:off x="2411280" y="2060640"/>
            <a:ext cx="78912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зображение 254"/>
          <p:cNvPicPr/>
          <p:nvPr/>
        </p:nvPicPr>
        <p:blipFill>
          <a:blip r:embed="rId5"/>
          <a:stretch/>
        </p:blipFill>
        <p:spPr>
          <a:xfrm>
            <a:off x="2987640" y="1341360"/>
            <a:ext cx="1008000" cy="866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Изображение 248"/>
          <p:cNvPicPr/>
          <p:nvPr/>
        </p:nvPicPr>
        <p:blipFill>
          <a:blip r:embed="rId1"/>
          <a:stretch/>
        </p:blipFill>
        <p:spPr>
          <a:xfrm>
            <a:off x="2060640" y="0"/>
            <a:ext cx="50245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зучить под микроскопом микропрепараты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равнить с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пределить, чья кровь способна переносить больше кисл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струкция по технике безопасности дл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Будьте осторожны при работе с использованием режущих и колющих инстр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Помните, что стекло хрупкое, легко бьётся, будьте аккуратны при рабо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 случае необходимости сразу воспользуйтесь апте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Эритроциты крови лягушки и человека сход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Имеют различ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Эритроциты чьей крови способны переносить больше кислор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волюция эритроцитов позвоночных шла в направлен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435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У всех многоклеточных животных красная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ровь состоит из плазмы и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ровь у всех животных переносит только 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Кровеносная система позвоночных животных замкнутая и состоит из сердца и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 рыб трехкамер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У позвоночных высокий уровень обмена веществ по сравнению с беспозвоноч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Гемолимфа – бесцветная или зеленоватая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Птицы и млекопитающие – холоднокровные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40000" y="5661000"/>
          <a:ext cx="4038480" cy="1096920"/>
        </p:xfrm>
        <a:graphic>
          <a:graphicData uri="http://schemas.openxmlformats.org/drawingml/2006/table">
            <a:tbl>
              <a:tblPr/>
              <a:tblGrid>
                <a:gridCol w="449280"/>
                <a:gridCol w="447480"/>
                <a:gridCol w="449280"/>
                <a:gridCol w="449280"/>
                <a:gridCol w="447840"/>
                <a:gridCol w="449280"/>
                <a:gridCol w="449280"/>
                <a:gridCol w="447480"/>
                <a:gridCol w="44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WordArt 40"/>
          <p:cNvSpPr txBox="1"/>
          <p:nvPr/>
        </p:nvSpPr>
        <p:spPr>
          <a:xfrm>
            <a:off x="1547640" y="115920"/>
            <a:ext cx="6085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ю - не вер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зучить раздел 12 до конца, пересказать, выучить все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полнить рабочие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одготовить дополнительную информацию о разнообразии кровеносных систем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знакомиться с особенностями переноса веществ в организме позвоноч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ссмотреть значение этого процесс в жизни                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зучить состав крови позвоночных животных, строение кровеносной системы и ёё функц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одолжить работу с материалами Е Г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58560" y="4005360"/>
            <a:ext cx="69850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бобщать изученный материал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-603360"/>
            <a:ext cx="7848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Однокле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640" y="544464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ёба обыкновенная             Инфузория туфе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Изображение 250"/>
          <p:cNvPicPr/>
          <p:nvPr/>
        </p:nvPicPr>
        <p:blipFill>
          <a:blip r:embed="rId1"/>
          <a:stretch/>
        </p:blipFill>
        <p:spPr>
          <a:xfrm rot="910200">
            <a:off x="4932000" y="1052640"/>
            <a:ext cx="3741840" cy="41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Изображение"/>
          <p:cNvPicPr/>
          <p:nvPr/>
        </p:nvPicPr>
        <p:blipFill>
          <a:blip r:embed="rId2"/>
          <a:stretch/>
        </p:blipFill>
        <p:spPr>
          <a:xfrm>
            <a:off x="324000" y="1484280"/>
            <a:ext cx="3628800" cy="3619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Многоклеточны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Кольчатые че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Изображение 251"/>
          <p:cNvPicPr/>
          <p:nvPr/>
        </p:nvPicPr>
        <p:blipFill>
          <a:blip r:embed="rId1"/>
          <a:stretch/>
        </p:blipFill>
        <p:spPr>
          <a:xfrm>
            <a:off x="0" y="1855800"/>
            <a:ext cx="9144000" cy="2608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моллю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Изображение 252"/>
          <p:cNvPicPr/>
          <p:nvPr/>
        </p:nvPicPr>
        <p:blipFill>
          <a:blip r:embed="rId1"/>
          <a:stretch/>
        </p:blipFill>
        <p:spPr>
          <a:xfrm>
            <a:off x="1547640" y="1413000"/>
            <a:ext cx="5688360" cy="3560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Членистоноги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Насеком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чела медонос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Изображение 263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2900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77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Э. Раздел 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4. Установите соответствие между признаком и видом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                                     Вид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езамкнутая кровеносная           А) 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                                          Б) Пчела медо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ровь перено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тель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Замкнутая крове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ердце в виде тру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Кровь содержит гемоглоб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55640" y="836640"/>
            <a:ext cx="77770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836640"/>
            <a:ext cx="9144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5516640"/>
          <a:ext cx="4319640" cy="106668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440"/>
                <a:gridCol w="861840"/>
                <a:gridCol w="8650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Изображение 261"/>
          <p:cNvPicPr/>
          <p:nvPr/>
        </p:nvPicPr>
        <p:blipFill>
          <a:blip r:embed="rId1"/>
          <a:stretch/>
        </p:blipFill>
        <p:spPr>
          <a:xfrm>
            <a:off x="0" y="-6480"/>
            <a:ext cx="903600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енос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Изображение 251"/>
          <p:cNvPicPr/>
          <p:nvPr/>
        </p:nvPicPr>
        <p:blipFill>
          <a:blip r:embed="rId1"/>
          <a:stretch/>
        </p:blipFill>
        <p:spPr>
          <a:xfrm>
            <a:off x="1042920" y="981000"/>
            <a:ext cx="7344000" cy="2092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306828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Изображение 001"/>
          <p:cNvPicPr/>
          <p:nvPr/>
        </p:nvPicPr>
        <p:blipFill>
          <a:blip r:embed="rId2"/>
          <a:stretch/>
        </p:blipFill>
        <p:spPr>
          <a:xfrm>
            <a:off x="1042920" y="3500280"/>
            <a:ext cx="6913800" cy="2841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0" y="642636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 дома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04Z</dcterms:created>
  <dc:creator>Олег</dc:creator>
  <dc:description/>
  <dc:language>en-US</dc:language>
  <cp:lastModifiedBy>LEGION</cp:lastModifiedBy>
  <dcterms:modified xsi:type="dcterms:W3CDTF">2014-11-24T13:17:35Z</dcterms:modified>
  <cp:revision>35</cp:revision>
  <dc:subject/>
  <dc:title>Тема: Перенос веществ в организме позвоночных животных.</dc:title>
</cp:coreProperties>
</file>