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1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12.png" ContentType="image/png"/>
  <Override PartName="/ppt/media/image21.png" ContentType="image/png"/>
  <Override PartName="/ppt/media/image4.png" ContentType="image/png"/>
  <Override PartName="/ppt/media/image13.jpeg" ContentType="image/jpeg"/>
  <Override PartName="/ppt/media/image20.png" ContentType="image/png"/>
  <Override PartName="/ppt/media/image3.png" ContentType="image/png"/>
  <Override PartName="/ppt/media/image18.jpeg" ContentType="image/jpeg"/>
  <Override PartName="/ppt/media/image17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2.png" ContentType="image/png"/>
  <Override PartName="/ppt/media/image6.jpeg" ContentType="image/jpe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BA429-7DA7-4CC1-ACE1-A518EE993DF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Влияние радиоактивного излучения на живые организ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зентацию выполни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еница 8-1 клас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игранян Анн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CEF4F-2EF7-4C99-854F-A2F318B2819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cfcff"/>
                </a:solidFill>
                <a:latin typeface="Arial"/>
              </a:rPr>
              <a:t>Ученые установили, что красное вино может защищать организм человека от воздействия ради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гласно исследованиям, которые провела группа американских ученых, природный антиоксидант ресвератрол, который содержится в красном вине и фруктах, способен препятствовать некоторым повреждениям, которые вызывает радиационное излуч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ле опытов, проведенных на лабораторных мышах, выяснилось, что организм мышей, которые получили некоторую дозу ресвератрола, способен оказывать сопротивление действию радиационных лучей. В ближайшее время ученые займутся исследованием действия антиоксиданта на организм человека.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60AAD-870C-4065-AF85-0D474DD10DD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3e1f3"/>
                </a:solidFill>
                <a:latin typeface="Calibri"/>
              </a:rPr>
              <a:t>Коне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6CDA9-75F8-4AA2-B693-F7F0E4BDEA4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3e1f3"/>
                </a:solidFill>
                <a:latin typeface="Calibri"/>
              </a:rPr>
              <a:t>О ради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адиоактивность - отнюдь не новое явление; новизна состоит лишь в том, как люди пытались ее использовать. И радиоактивность, и сопутствующие ей ионизирующие излучения существовали на Земле задолго до зарождения на ней жизни и присутствовали в космосе до возникновения самой Зем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3608C-D475-4654-871C-F986FC0CA7E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3e1f3"/>
                </a:solidFill>
                <a:latin typeface="Calibri"/>
              </a:rPr>
              <a:t>Космические излуч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ходясь в основном в почве, особенно в горных породах, естественные радиоизотопы обусловливают природный естественный фон радиоактивности, который не оказывает на человека вредного действия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попадании в атмосферу искусственных радиоизотопов в виде радиоактивных отходов атомных реакторов, промышленных предприятий и учреждений, работающих с радиоактивными веществами, а также в результате испытаний атомного оружия природный радиоактивный фон может повыситься. Образующееся при взрывах радиоактивное облако, распространяясь вокруг Земного шара, будет служить на своем пути источником радиоактивного загрязнения воздуха, водоемов и почвы за счет выпадения радиоактивных осадков. Эти осадки, способны накапливаться в растениях, рыбах, поступать в молоко животных и стать потенциально опасными для человека при употреблении пищевых продукт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C3068-C120-4133-A841-A590DF3B3A9B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3e1f3"/>
                </a:solidFill>
                <a:latin typeface="Calibri"/>
              </a:rPr>
              <a:t>Выбросы и сбросы вредных веществ при эксплуатации АС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и выбросы делят на газовые и аэрозольные, выбрасываемые в атмосферу через трубу, и жидкие сбросы, в которых вредные примеси присутствуют в виде растворов или мелкодисперсных смесей, попадающие в водоемы. Включаясь в многообразные движения атмосферы, поверхностных и подземных потоков, радиоактивные и токсические вещества распространяются в окружающей среде, попадают в растения, в организмы животных и человека. На рисунке показаны воздушные, поверхностные и подземные пути миграции вредных веществ в окружающей сред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8940F-ACE8-435E-9646-35CE3CCE536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3e1f3"/>
                </a:solidFill>
                <a:latin typeface="Calibri"/>
              </a:rPr>
              <a:t>Радиоактив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это способность некоторых атомных ядер самопроизвольно превращаться в другие ядра, испуская при этом различные частицы: Всякий самопроизвольный радиоактивный распад экзотермичен, то есть происходит с выделением теп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691C5-6358-41FE-9BCF-D90C5A6AF041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3e1f3"/>
                </a:solidFill>
                <a:latin typeface="Calibri"/>
              </a:rPr>
              <a:t>Чернобыльская трагед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26 апреля 1986 года жизнь миллионов белорусов, украинцев и россиян круто изменилась. Эта дата разделила нашу историю на "до" и "после". 22 года назад на четвертом блоке Чернобыльской АЭС произошла крупнейшая ядерная авария в мир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6EA73-81D6-4E8E-8E9F-91B3CD60BAE8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0" lang="ru-RU" sz="1400" spc="-1" strike="noStrike">
                <a:solidFill>
                  <a:srgbClr val="b3e1f3"/>
                </a:solidFill>
                <a:latin typeface="Verdana"/>
              </a:rPr>
              <a:t>Какие продукты представляют наибольшую опасность с точки зрения радиации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сновными причинами попадания радионуклидов в пищу сегодня являются высокое содержание радионуклидов в грибах, ягодах, рыбе и дичи, а также радиоактивное загрязнение травы и сена, которыми питаются коровы, дающие молоко. Загрязнение мяса и молока можно сократить, используя чистые корма и кормовые добавки, а также ограничив время выпаса скота. Для продуктов питания из государственного сектора, а также продукции, продаваемой на рынках, действуют нормы максимального содержания радионуклидов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FF16C-B54F-401C-BA6A-EE2885EF79F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3e1f3"/>
                </a:solidFill>
                <a:latin typeface="Calibri"/>
              </a:rPr>
              <a:t>Интересные фак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иво, как и более крепкие алкогольные напитки, способно защитить организм от радиоактивного излучения. Это экспериментально доказали японские ученые из Института лучевой медицины. Результаты их исследований опубликованы в пятницу в токийской печати. 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наружено, что одной полулитровой бутылки светлого пива достаточно, чтобы на 34% снизить число хромосомных поврежденный, которые возникают после воздействия рентгеновских лучей или тяжелых частиц, например, ионов водорода, сообщает ИТАР-ТАСС. 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мнению ученых, этот эффект достигается благодаря сочетанию содержащихся в пенном напитке биологически активных соединений (псевдоуридин, мелатонин и глицин-бетаин) с алкоголем. Известно, что спирт поглощает свободные радикалы, которые при облучении приводят к генетическим нарушения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1D38E-3A78-4618-8E32-CFB90C7EE76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7D3CA-662D-418C-A97D-52EAD5D53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7101F-E1E9-4C75-98E9-65B3323E9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0424C-D0AE-48EF-96DA-5FBE19C2E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B58BB-CBFE-4E6B-8673-9039C2AA9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78EAD-414E-435A-9523-187A26C0F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B74D0-D3E3-4791-B02B-B6678EC77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BE62B-9348-4F63-99AA-FD4C70C80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F4AF7-AFD2-4EB8-B96F-5D02A1E49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F7F01-74A6-4B0E-B682-5FFBB99B0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BD401-98E0-4676-854C-BC38CC6CE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DBB98-401F-45A4-BA40-4C44DE179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F3F28-3EAC-46F7-BAB4-B1D5F7D07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874CC-05BD-42A8-B54D-D72843857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71587-8932-49A9-BF11-A7A3E6C87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577FE-B5E5-4853-AEB5-CF5CA1886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199F7-4D2C-45C6-945F-18DDE494B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3B9F1-E9C8-4693-A977-4DD7BC001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4D43F-5315-49EA-83D4-AB6D9B9F4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4EF32-1968-45AB-B15D-22039E093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93AEA-E91E-4E7B-BFE6-3583442D9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4FEF3-7529-413D-A03F-89A74599D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D23AB-C2B2-44D4-9760-F5E1176AA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26F8D-A308-4C82-B484-17D04E5EF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1441F-167B-42AE-9C98-D413554D7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57FB7-7D95-465F-AD70-83390CF54A0F}" type="datetime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F78B8-2AF0-479C-BD5B-A271450CE0AB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F182A-8D9A-49E1-B0CA-3277182567F7}" type="datetime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3A667-A6E7-4D72-BE0A-F2D986860274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1999800" y="3786120"/>
            <a:ext cx="6643800" cy="200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езентацию выполнил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    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Ученица 8-1 класс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           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Тигранян Анна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0" name="Заголовок 1" descr=""/>
          <p:cNvPicPr/>
          <p:nvPr/>
        </p:nvPicPr>
        <p:blipFill>
          <a:blip r:embed="rId1"/>
          <a:stretch/>
        </p:blipFill>
        <p:spPr>
          <a:xfrm>
            <a:off x="390600" y="1371600"/>
            <a:ext cx="8289720" cy="3529080"/>
          </a:xfrm>
          <a:prstGeom prst="rect">
            <a:avLst/>
          </a:prstGeom>
          <a:ln w="0">
            <a:noFill/>
          </a:ln>
        </p:spPr>
      </p:pic>
      <p:pic>
        <p:nvPicPr>
          <p:cNvPr id="91" name="Kate Alexa - Help Me Find My Way.mp3" descr=""/>
          <p:cNvPicPr/>
          <p:nvPr/>
        </p:nvPicPr>
        <p:blipFill>
          <a:blip r:embed="rId2"/>
          <a:stretch/>
        </p:blipFill>
        <p:spPr>
          <a:xfrm>
            <a:off x="8286840" y="357120"/>
            <a:ext cx="215640" cy="216000"/>
          </a:xfrm>
          <a:prstGeom prst="rect">
            <a:avLst/>
          </a:prstGeom>
          <a:ln w="0">
            <a:noFill/>
          </a:ln>
        </p:spPr>
      </p:pic>
      <p:sp>
        <p:nvSpPr>
          <p:cNvPr id="92" name="Місце для нижнього колонтитула 2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3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" dur="1" fill="hold"/>
                                        <p:tgtEl>
                                          <p:spTgt spid="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Красное вино препятствует воздействию радиоактивных излучений"/>
          <p:cNvPicPr/>
          <p:nvPr/>
        </p:nvPicPr>
        <p:blipFill>
          <a:blip r:embed="rId1"/>
          <a:stretch/>
        </p:blipFill>
        <p:spPr>
          <a:xfrm>
            <a:off x="428760" y="642960"/>
            <a:ext cx="2381040" cy="1866960"/>
          </a:xfrm>
          <a:prstGeom prst="rect">
            <a:avLst/>
          </a:prstGeom>
          <a:ln w="0">
            <a:noFill/>
          </a:ln>
        </p:spPr>
      </p:pic>
      <p:pic>
        <p:nvPicPr>
          <p:cNvPr id="134" name="Прямоугольник 3" descr=""/>
          <p:cNvPicPr/>
          <p:nvPr/>
        </p:nvPicPr>
        <p:blipFill>
          <a:blip r:embed="rId2"/>
          <a:stretch/>
        </p:blipFill>
        <p:spPr>
          <a:xfrm>
            <a:off x="3236760" y="182520"/>
            <a:ext cx="5724720" cy="5664240"/>
          </a:xfrm>
          <a:prstGeom prst="rect">
            <a:avLst/>
          </a:prstGeom>
          <a:ln w="0">
            <a:noFill/>
          </a:ln>
        </p:spPr>
      </p:pic>
      <p:sp>
        <p:nvSpPr>
          <p:cNvPr id="135" name="Місце для нижнього колонтитула 1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lu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0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3" dur="3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Заголовок 1" descr=""/>
          <p:cNvPicPr/>
          <p:nvPr/>
        </p:nvPicPr>
        <p:blipFill>
          <a:blip r:embed="rId1"/>
          <a:stretch/>
        </p:blipFill>
        <p:spPr>
          <a:xfrm>
            <a:off x="615960" y="2073240"/>
            <a:ext cx="8278920" cy="2286000"/>
          </a:xfrm>
          <a:prstGeom prst="rect">
            <a:avLst/>
          </a:prstGeom>
          <a:ln w="0">
            <a:noFill/>
          </a:ln>
        </p:spPr>
      </p:pic>
      <p:sp>
        <p:nvSpPr>
          <p:cNvPr id="137" name="Місце для нижнього колонтитула 2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0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Заголовок 1" descr=""/>
          <p:cNvPicPr/>
          <p:nvPr/>
        </p:nvPicPr>
        <p:blipFill>
          <a:blip r:embed="rId1"/>
          <a:stretch/>
        </p:blipFill>
        <p:spPr>
          <a:xfrm>
            <a:off x="433440" y="274680"/>
            <a:ext cx="8277120" cy="116352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 txBox="1"/>
          <p:nvPr/>
        </p:nvSpPr>
        <p:spPr>
          <a:xfrm>
            <a:off x="457200" y="1785600"/>
            <a:ext cx="8229600" cy="452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Радиоактивность - отнюдь не новое явление; новизна состоит лишь в том, как люди пытались ее использовать. И радиоактивность, и сопутствующие ей ионизирующие излучения существовали на Земле задолго до зарождения на ней жизни и присутствовали в космосе до возникновения самой Земл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Місце для нижнього колонтитула 2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lu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Заголовок 1" descr=""/>
          <p:cNvPicPr/>
          <p:nvPr/>
        </p:nvPicPr>
        <p:blipFill>
          <a:blip r:embed="rId1"/>
          <a:stretch/>
        </p:blipFill>
        <p:spPr>
          <a:xfrm>
            <a:off x="433440" y="274680"/>
            <a:ext cx="8277120" cy="114624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 txBox="1"/>
          <p:nvPr/>
        </p:nvSpPr>
        <p:spPr>
          <a:xfrm>
            <a:off x="456840" y="1600200"/>
            <a:ext cx="1257480" cy="15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45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2142720" y="1356840"/>
            <a:ext cx="654372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just">
              <a:lnSpc>
                <a:spcPct val="8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Находясь в основном в почве, особенно в горных породах, естественные радиоизотопы обусловливают природный естественный фон радиоактивности, который не оказывает на человека вредного действия.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ри попадании в атмосферу искусственных радиоизотопов в виде радиоактивных отходов атомных реакторов, промышленных предприятий и учреждений, работающих с радиоактивными веществами, а также в результате испытаний атомного оружия природный радиоактивный фон может повыситься. Образующееся при взрывах радиоактивное облако, распространяясь вокруг Земного шара, будет служить на своем пути источником радиоактивного загрязнения воздуха, водоемов и почвы за счет выпадения радиоактивных осадков. Эти осадки, способны накапливаться в растениях, рыбах, поступать в молоко животных и стать потенциально опасными для человека при употреблении пищевых продуктов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9" name="Picture 2" descr="радиоактивные и космические излучения и их влияние на человека"/>
          <p:cNvPicPr/>
          <p:nvPr/>
        </p:nvPicPr>
        <p:blipFill>
          <a:blip r:embed="rId2"/>
          <a:stretch/>
        </p:blipFill>
        <p:spPr>
          <a:xfrm>
            <a:off x="0" y="1357200"/>
            <a:ext cx="2500200" cy="1967040"/>
          </a:xfrm>
          <a:prstGeom prst="rect">
            <a:avLst/>
          </a:prstGeom>
          <a:ln w="0">
            <a:noFill/>
          </a:ln>
        </p:spPr>
      </p:pic>
      <p:sp>
        <p:nvSpPr>
          <p:cNvPr id="100" name="Місце для нижнього колонтитула 4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lu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0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2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Заголовок 1" descr=""/>
          <p:cNvPicPr/>
          <p:nvPr/>
        </p:nvPicPr>
        <p:blipFill>
          <a:blip r:embed="rId1"/>
          <a:stretch/>
        </p:blipFill>
        <p:spPr>
          <a:xfrm>
            <a:off x="457200" y="165240"/>
            <a:ext cx="8229600" cy="12556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 txBox="1"/>
          <p:nvPr/>
        </p:nvSpPr>
        <p:spPr>
          <a:xfrm>
            <a:off x="428760" y="1356840"/>
            <a:ext cx="8229600" cy="271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Эти выбросы делят на газовые и аэрозольные, выбрасываемые в атмосферу через трубу, и жидкие сбросы, в которых вредные примеси присутствуют в виде растворов или мелкодисперсных смесей, попадающие в водоемы. Включаясь в многообразные движения атмосферы, поверхностных и подземных потоков, радиоактивные и токсические вещества распространяются в окружающей среде, попадают в растения, в организмы животных и человека. На рисунке показаны воздушные, поверхностные и подземные пути миграции вредных веществ в окружающей среде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3" name="Picture 2" descr="C:\Users\Анна\Pictures\384_2.jpg"/>
          <p:cNvPicPr/>
          <p:nvPr/>
        </p:nvPicPr>
        <p:blipFill>
          <a:blip r:embed="rId2"/>
          <a:stretch/>
        </p:blipFill>
        <p:spPr>
          <a:xfrm>
            <a:off x="1928880" y="4071960"/>
            <a:ext cx="5079960" cy="2539800"/>
          </a:xfrm>
          <a:prstGeom prst="rect">
            <a:avLst/>
          </a:prstGeom>
          <a:ln w="0">
            <a:noFill/>
          </a:ln>
        </p:spPr>
      </p:pic>
      <p:sp>
        <p:nvSpPr>
          <p:cNvPr id="104" name="Місце для нижнього колонтитула 3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lu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3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" dur="5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Заголовок 1" descr=""/>
          <p:cNvPicPr/>
          <p:nvPr/>
        </p:nvPicPr>
        <p:blipFill>
          <a:blip r:embed="rId1"/>
          <a:stretch/>
        </p:blipFill>
        <p:spPr>
          <a:xfrm>
            <a:off x="433440" y="274680"/>
            <a:ext cx="8277120" cy="116352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 txBox="1"/>
          <p:nvPr/>
        </p:nvSpPr>
        <p:spPr>
          <a:xfrm>
            <a:off x="45720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-это способность некоторых атомных ядер самопроизвольно превращаться в другие ядра, испуская при этом различные частицы: Всякий самопроизвольный радиоактивный распад экзотермичен, то есть происходит с выделением тепла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Місце для нижнього колонтитула 2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lu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http://webcomclub.narod.ru/promo/izl.jpg"/>
          <p:cNvPicPr/>
          <p:nvPr/>
        </p:nvPicPr>
        <p:blipFill>
          <a:blip r:embed="rId1"/>
          <a:stretch/>
        </p:blipFill>
        <p:spPr>
          <a:xfrm>
            <a:off x="428760" y="214200"/>
            <a:ext cx="5572080" cy="3191040"/>
          </a:xfrm>
          <a:prstGeom prst="rect">
            <a:avLst/>
          </a:prstGeom>
          <a:ln w="0">
            <a:noFill/>
          </a:ln>
        </p:spPr>
      </p:pic>
      <p:sp>
        <p:nvSpPr>
          <p:cNvPr id="109" name="Прямоугольник 2"/>
          <p:cNvSpPr/>
          <p:nvPr/>
        </p:nvSpPr>
        <p:spPr>
          <a:xfrm>
            <a:off x="6215040" y="285840"/>
            <a:ext cx="25718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3cddd"/>
                </a:solidFill>
                <a:latin typeface="Times New Roman"/>
              </a:rPr>
              <a:t>АЛЬФА-ЧАСТИЦА (a-частица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–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ядро атома гелия. Содержит два протона и два нейтрона. Испусканием a-частиц сопровождается одно из радиоактивных превращений (альфа-распад ядер) некоторых химических элементо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Прямоугольник 4"/>
          <p:cNvSpPr/>
          <p:nvPr/>
        </p:nvSpPr>
        <p:spPr>
          <a:xfrm>
            <a:off x="500040" y="3770280"/>
            <a:ext cx="3429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3cddd"/>
                </a:solidFill>
                <a:latin typeface="Times New Roman"/>
              </a:rPr>
              <a:t>БЕТА-ЧАСТИЦ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–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испускаемый при бета-распаде электрон. Поток бета-частиц является одним из видов радиоактивных излучений с проникающей способностью, большей, чем у альфа-частиц, но меньшей, чем у гамма-излучен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Прямоугольник 5"/>
          <p:cNvSpPr/>
          <p:nvPr/>
        </p:nvSpPr>
        <p:spPr>
          <a:xfrm>
            <a:off x="4929120" y="3786120"/>
            <a:ext cx="367344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3cddd"/>
                </a:solidFill>
                <a:latin typeface="Times New Roman"/>
              </a:rPr>
              <a:t>ГАММА-ИЗЛУЧЕНИЕ (гамма-кванты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–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коротковолновое электромагнитное излучение с длиной волны меньше 2×10–10 м. Из-за малой длины волны волновые свойства гамма-излучения проявляются слабо, и на первый план выступают корпускулярные свойства, в связи с чем его представляют в виде потока гамма-квантов (фотонов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lu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3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1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3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3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30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3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3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30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1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3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3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30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Заголовок 1" descr=""/>
          <p:cNvPicPr/>
          <p:nvPr/>
        </p:nvPicPr>
        <p:blipFill>
          <a:blip r:embed="rId1"/>
          <a:stretch/>
        </p:blipFill>
        <p:spPr>
          <a:xfrm>
            <a:off x="1805040" y="609480"/>
            <a:ext cx="5510160" cy="530280"/>
          </a:xfrm>
          <a:prstGeom prst="rect">
            <a:avLst/>
          </a:prstGeom>
          <a:ln w="0">
            <a:noFill/>
          </a:ln>
        </p:spPr>
      </p:pic>
      <p:grpSp>
        <p:nvGrpSpPr>
          <p:cNvPr id="114" name="Рисунок 2"/>
          <p:cNvGrpSpPr/>
          <p:nvPr/>
        </p:nvGrpSpPr>
        <p:grpSpPr>
          <a:xfrm>
            <a:off x="3651120" y="5108400"/>
            <a:ext cx="3097440" cy="1603440"/>
            <a:chOff x="3651120" y="5108400"/>
            <a:chExt cx="3097440" cy="1603440"/>
          </a:xfrm>
        </p:grpSpPr>
        <p:pic>
          <p:nvPicPr>
            <p:cNvPr id="115" name="Рисунок 2" descr=""/>
            <p:cNvPicPr/>
            <p:nvPr/>
          </p:nvPicPr>
          <p:blipFill>
            <a:blip r:embed="rId2"/>
            <a:stretch/>
          </p:blipFill>
          <p:spPr>
            <a:xfrm>
              <a:off x="3651120" y="5108400"/>
              <a:ext cx="3097440" cy="160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"/>
            <p:cNvSpPr/>
            <p:nvPr/>
          </p:nvSpPr>
          <p:spPr>
            <a:xfrm>
              <a:off x="3714840" y="5143680"/>
              <a:ext cx="2643120" cy="117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1828800" y="1166400"/>
            <a:ext cx="5486400" cy="18334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26 апреля 1986 года жизнь миллионов белорусов, украинцев и россиян круто изменилась. Эта дата разделила нашу историю на "до" и "после". 22 года назад на четвертом блоке Чернобыльской АЭС произошла крупнейшая ядерная авария в мире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Прямоугольник 4"/>
          <p:cNvSpPr/>
          <p:nvPr/>
        </p:nvSpPr>
        <p:spPr>
          <a:xfrm>
            <a:off x="1857240" y="3357720"/>
            <a:ext cx="5643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В отчете организаций ООН, вышедшем в 2005 году, утверждается, что Чернобыльская катастрофа унесла и еще унесет приблизительно 4000 жизней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Прямоугольник 5"/>
          <p:cNvSpPr/>
          <p:nvPr/>
        </p:nvSpPr>
        <p:spPr>
          <a:xfrm>
            <a:off x="1785960" y="2286000"/>
            <a:ext cx="5643720" cy="10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26 апреля 1986 года произошел выброс активности в масштабах от 50 до 250 миллионов Кюри. Высвободившийся в Чернобыле радиоактивный потенциал соответствует по меньшей мере 100 атомным бомбам. </a:t>
            </a:r>
            <a:br>
              <a:rPr sz="1000"/>
            </a:b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Picture 2" descr="Что нужно знать о радиации и о Чернобыльской трагедии?"/>
          <p:cNvPicPr/>
          <p:nvPr/>
        </p:nvPicPr>
        <p:blipFill>
          <a:blip r:embed="rId3"/>
          <a:stretch/>
        </p:blipFill>
        <p:spPr>
          <a:xfrm>
            <a:off x="2143080" y="4314960"/>
            <a:ext cx="4762440" cy="2543040"/>
          </a:xfrm>
          <a:prstGeom prst="rect">
            <a:avLst/>
          </a:prstGeom>
          <a:ln w="0">
            <a:noFill/>
          </a:ln>
        </p:spPr>
      </p:pic>
      <p:sp>
        <p:nvSpPr>
          <p:cNvPr id="121" name="Місце для нижнього колонтитула 3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lu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0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Заголовок 1" descr=""/>
          <p:cNvPicPr/>
          <p:nvPr/>
        </p:nvPicPr>
        <p:blipFill>
          <a:blip r:embed="rId1"/>
          <a:stretch/>
        </p:blipFill>
        <p:spPr>
          <a:xfrm>
            <a:off x="1828800" y="237960"/>
            <a:ext cx="5486400" cy="1425600"/>
          </a:xfrm>
          <a:prstGeom prst="rect">
            <a:avLst/>
          </a:prstGeom>
          <a:ln w="0">
            <a:noFill/>
          </a:ln>
        </p:spPr>
      </p:pic>
      <p:grpSp>
        <p:nvGrpSpPr>
          <p:cNvPr id="123" name="Рисунок 2"/>
          <p:cNvGrpSpPr/>
          <p:nvPr/>
        </p:nvGrpSpPr>
        <p:grpSpPr>
          <a:xfrm>
            <a:off x="2438280" y="5248440"/>
            <a:ext cx="4449960" cy="939600"/>
            <a:chOff x="2438280" y="5248440"/>
            <a:chExt cx="4449960" cy="939600"/>
          </a:xfrm>
        </p:grpSpPr>
        <p:pic>
          <p:nvPicPr>
            <p:cNvPr id="124" name="Рисунок 2" descr=""/>
            <p:cNvPicPr/>
            <p:nvPr/>
          </p:nvPicPr>
          <p:blipFill>
            <a:blip r:embed="rId2"/>
            <a:stretch/>
          </p:blipFill>
          <p:spPr>
            <a:xfrm>
              <a:off x="2438280" y="5248440"/>
              <a:ext cx="4449960" cy="93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"/>
            <p:cNvSpPr/>
            <p:nvPr/>
          </p:nvSpPr>
          <p:spPr>
            <a:xfrm>
              <a:off x="2500200" y="5286240"/>
              <a:ext cx="4000680" cy="50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1828800" y="1928880"/>
            <a:ext cx="5486400" cy="2714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 algn="just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Основными причинами попадания радионуклидов в пищу сегодня являются высокое содержание радионуклидов в грибах, ягодах, рыбе и дичи, а также радиоактивное загрязнение травы и сена, которыми питаются коровы, дающие молоко. Загрязнение мяса и молока можно сократить, используя чистые корма и кормовые добавки, а также ограничив время выпаса скота. Для продуктов питания из государственного сектора, а также продукции, продаваемой на рынках, действуют нормы максимального содержания радионуклидов.</a:t>
            </a:r>
            <a:br>
              <a:rPr sz="1000"/>
            </a:b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7" name="Picture 2" descr="Что нужно знать о радиации и о Чернобыльской трагедии?"/>
          <p:cNvPicPr/>
          <p:nvPr/>
        </p:nvPicPr>
        <p:blipFill>
          <a:blip r:embed="rId3"/>
          <a:stretch/>
        </p:blipFill>
        <p:spPr>
          <a:xfrm>
            <a:off x="2143080" y="4429080"/>
            <a:ext cx="4762440" cy="2104920"/>
          </a:xfrm>
          <a:prstGeom prst="rect">
            <a:avLst/>
          </a:prstGeom>
          <a:ln w="0">
            <a:noFill/>
          </a:ln>
        </p:spPr>
      </p:pic>
      <p:sp>
        <p:nvSpPr>
          <p:cNvPr id="128" name="Місце для нижнього колонтитула 4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lu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0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Заголовок 1" descr=""/>
          <p:cNvPicPr/>
          <p:nvPr/>
        </p:nvPicPr>
        <p:blipFill>
          <a:blip r:embed="rId1"/>
          <a:stretch/>
        </p:blipFill>
        <p:spPr>
          <a:xfrm>
            <a:off x="433440" y="268200"/>
            <a:ext cx="8277120" cy="1163880"/>
          </a:xfrm>
          <a:prstGeom prst="rect">
            <a:avLst/>
          </a:prstGeom>
          <a:ln w="0">
            <a:noFill/>
          </a:ln>
        </p:spPr>
      </p:pic>
      <p:pic>
        <p:nvPicPr>
          <p:cNvPr id="130" name="Содержимое 5" descr="93e4d3b3-5fbd-4167-ba1f-a72946593df1.jpg"/>
          <p:cNvPicPr/>
          <p:nvPr/>
        </p:nvPicPr>
        <p:blipFill>
          <a:blip r:embed="rId2"/>
          <a:stretch/>
        </p:blipFill>
        <p:spPr>
          <a:xfrm>
            <a:off x="642960" y="1785960"/>
            <a:ext cx="1828800" cy="13716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 txBox="1"/>
          <p:nvPr/>
        </p:nvSpPr>
        <p:spPr>
          <a:xfrm>
            <a:off x="2785680" y="1600200"/>
            <a:ext cx="590076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451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иво, как и более крепкие алкогольные напитки, способно защитить организм от радиоактивного излучения. Это экспериментально доказали японские ученые из Института лучевой медицины. Результаты их исследований опубликованы в пятницу в токийской печати. 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Обнаружено, что одной полулитровой бутылки светлого пива достаточно, чтобы на 34% снизить число хромосомных поврежденный, которые возникают после воздействия рентгеновских лучей или тяжелых частиц, например, ионов водорода, сообщает ИТАР-ТАСС. 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о мнению ученых, этот эффект достигается благодаря сочетанию содержащихся в пенном напитке биологически активных соединений (псевдоуридин, мелатонин и глицин-бетаин) с алкоголем. Известно, что спирт поглощает свободные радикалы, которые при облучении приводят к генетическим нарушениям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Місце для нижнього колонтитула 2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lu"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0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4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26" dur="3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5T15:09:51Z</dcterms:created>
  <dc:creator>Анна</dc:creator>
  <dc:description/>
  <dc:language>en-US</dc:language>
  <cp:lastModifiedBy>LEGION</cp:lastModifiedBy>
  <dcterms:modified xsi:type="dcterms:W3CDTF">2014-11-24T13:18:47Z</dcterms:modified>
  <cp:revision>41</cp:revision>
  <dc:subject/>
  <dc:title>Влияние радиоактивного излучения на живые организмы</dc:title>
</cp:coreProperties>
</file>