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C3D-A9D8-427A-8736-5527CFB1A8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птева Ка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A98C-410C-4CCA-851B-1C9F8A320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дшая из яйц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бстрате, где она питается в течение всей своей жизни, 3-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толстая, С-образно изогнутая, жёлто-белого цвета в редких волос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у своего развития вырастает  длиной 8-9 с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792-4B67-4037-A8CA-31C17A7E43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яет личинка три раза, после последней линьки превращ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колк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аза куколки непродолжительна - от 12 дней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есяца. Из куколки появляется самец или самка жука-носо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DDD-E359-4011-B84E-4D19A8790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ичинках паразитируют личинки большой скол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8F85-E2D3-4787-B809-62403EBEA8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53A6-F957-4B23-B580-D238F1B4E1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очень понравились эти жуки. Они красивые и загадоч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 их становится мень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ерегать их и окружающий нас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D64D-8859-46DA-9937-1B8D3CCDA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а дачном участке случайно нашла семейство жуков и их личи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стало интересно узнать о них подроб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годня я представляю вам жуков и презентацию о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AB01-B544-4883-A98D-925FE5926D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екомое семейства пластинчатоусых, встречается повсюду, кроме тундры и тай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F955-B85F-4518-95D6-2FBF06FF45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мца на голове загнутый назад р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передней спинке трёхзубчатое поперечное возвыш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осорога-самки на носу только небольшой бугорок, размерами она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4D2E-2F50-4343-B5C3-3107449CA0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об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B915-96ED-4037-9D42-A05DC91208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-носороги обычно покидают свои подземные убежища толь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865D-6537-4A75-9F6F-184362B586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 жука-носорога уче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зу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720-FAAD-4DF7-8B76-7ABD559351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н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после окончания яйцекладки умирают, не выходя нару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6550-B115-4AC0-8745-8778080EB5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изненный цик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а-носо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й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ится около меся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656A-317E-442A-9299-FD61728D9F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475-1373-46AF-9107-885E58CC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C74-13E2-4954-90A5-20C7CA0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2C6-9F73-47D2-9D4D-AC99F2D2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62E-62A1-4F3E-A935-77963A83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9C97-A45A-49F4-A5AB-4B649826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E637-DDFF-4A5A-A07E-5AD7B694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7A21-DD98-4ADF-AD4D-372E600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2C8F-F4C0-4C5C-A5D5-7744A262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FE47-B390-4590-A8C4-D017E1EA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0B03-FDD3-44CC-A6D1-008BEAD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EAA5-9F97-49E6-80DF-20D2A40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42D-D191-4EB7-9BDB-09896801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75F4-75FB-472E-B282-33AC0A6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D383-D938-417D-AAE2-181012D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AA84-7EC9-4CFB-AA32-7075F707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3669-ED94-42EB-820D-337C5731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2A08-A5A5-4D09-B68C-49BC0140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2AB3F-4FE3-420C-A8BC-5C15FB21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DA47C-4702-4AF7-AC9D-9B73D3BA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D6643-92A9-450E-8BFE-3633D155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0B930-9804-4081-8309-EF0FF04F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8A3B8-DC48-4F85-8EF4-C498A3F1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534-83AE-4CFB-B6D4-19D20107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42FCC-65AD-4F15-A8AC-8A2ECE72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8C44F-D960-42E2-9D69-55B2874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294C8-E6E7-4A53-B331-59936382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67E54-5FEB-46F4-BD04-DB71F29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71DFD-C9E8-4D86-830D-013A3EA1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367CF-F659-46B5-A0D8-C7DF0226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B4126-9D27-4076-A18F-74A70B73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9968-4903-483F-923B-63EA2E42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F6F8-6F4B-4A2A-BD1C-13CB14ED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95E5-139C-4390-990D-4B67460D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76A-A890-4518-BD8A-6D8E1271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988E-C531-4950-A201-D50938E5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738A-D6B1-4759-8563-DAA9A1F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594EF-F318-4612-9BBB-FBA38379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462B-F58C-46E1-B07C-9E247CB5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52E7-7E8D-4960-9836-7789F6D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F0303-A85B-4D62-A478-C3F02A3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C169-E76C-4F64-A025-F69DB4E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15C4-690D-4F68-A05A-E5336ADC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824C-8996-4114-BDE7-A240BCF6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56AF2-2D88-47DF-BBAE-2F790297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C21-36B9-4241-A515-E3ED9B3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3F6CE-C494-4C4F-A606-2E6D3178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8A8DE-BA71-4BC6-AFE9-DCD9ADE3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FDA31-AD57-4F5F-AD77-320C07A7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43063-0511-4EBF-A6DB-A8C7F7D4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1D1BA-ADF5-4423-9822-EB05BA1A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31853-C6F3-41C2-9B98-F7744B5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B15D0-419D-4397-ADA9-BEEA2B07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FD7AE-C03A-4D41-AAF4-9A92EA5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DCCD5-9222-4D45-BB4C-9109C1A4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2E3FF-5B05-4E32-8A32-9C8871C4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8D7-EE24-47A8-9D50-35E845C5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6C6E9-C841-482B-9BC9-ED7CE307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64BE2-9C51-4EF6-A995-2F41C48C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B01EE-4480-4AC6-9EA9-5900E1B9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FBDCD-05FC-49C8-9855-2A671936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AB59E-60DB-4ED1-B5C0-ED9E9BEC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2CAFF-D831-42A8-B1BD-DA6186A6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0E50F-7ACD-43A2-9AF7-9709762B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5F8DA-BA7A-440F-AF60-EF923B9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D20BF-574C-4C84-A5D5-91769D1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FD844-748E-498B-BE26-7FBADD5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538-B62D-495D-9BC4-62F1222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EB8DB-B5D9-4300-B10F-EF6DE125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6DC02-613A-44B3-B379-89E7D25D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88ADF-7E90-47CB-8376-60B943FF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13276-A900-48AC-88B0-2B620FD7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F1078-E0DA-45F7-8A11-CD5C1F57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B3758-F051-450E-91D9-292EB19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7274B-3C2F-433C-9CAD-BCB20E3B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74802-6535-4F3F-A4EF-DA2E7DE0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09A9D-B69A-4317-B471-C672FCBB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58A18-34D9-4F33-B688-60519B7F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74D-628B-407E-8BE6-8F7E029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3636D-727F-4764-AF87-C0FCFF1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EBB53-7234-4A28-87C0-C3783E3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57E06-02D8-4064-A362-CEFF05D9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F094F-4D52-4E02-8486-EFB735EE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6E313-8771-492C-9C02-E647F948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3AD-7EA0-40BA-94FA-BC7929A4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FA9A-2C70-427B-B77E-09160028A66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50ED-7472-48A6-9216-5DA80619E4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004C-E443-44F6-80AA-5F868BD183F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2A6C-EA46-4253-9448-5D936D2795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3E8-CA82-4868-8BB3-9E00182D890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3AF-0FEE-4A2B-8442-9399CB4DF3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7738-97E1-475D-92F5-F3F857D9D459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8049-28BF-4BE5-81E2-1837AE0B57D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98FF-188C-4B4E-8999-97B23C5E293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09C4-5F1A-42C6-870E-83F8993B84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AC02-C2D1-4C17-B335-58308CF6B41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6363-6412-44A5-9657-01AFA4D905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40ED-86C3-4B72-B962-511A12D8B44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F315-D0A6-4E5F-A28C-C35D42FD1D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72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1680" y="400068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Лаптева Кат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ОУ СОШ № 1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48920" y="3214800"/>
            <a:ext cx="8094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шедшая из яйц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инк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живет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субстрате, где она питается в течение всей своей жизни, 3-4 год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чинка толстая, С-образно изогнутая, жёлто-белого цвета в редких волосках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 концу своего развития вырастает  длиной 8-9 с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2382840" y="135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71120" y="3591000"/>
            <a:ext cx="74185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няет личинка три раза, после последней линьки превращается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уколку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. Фаза куколки непродолжительна - от 12 дней до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 месяца. Из куколки появляется самец или самка жука-носорог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1360" y="3467160"/>
            <a:ext cx="800748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 на личинках паразитируют личинки большой скол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3080" y="139680"/>
            <a:ext cx="435780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17200" y="500040"/>
            <a:ext cx="7467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71320" y="1672920"/>
            <a:ext cx="797220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очень понравились эти жуки. Они красивые и загадочны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мнению ученых их становится меньш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авайте оберегать их и окружающий нас ми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9999995231628">
                                      <p:cBhvr additive="repl">
                                        <p:cTn id="190" dur="2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на дачном участке случайно нашла семейство жуков и их личинк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стало интересно узнать о них подробне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сегодня я представляю вам жуков и презентацию о ни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71476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асекомое семейства пластинчатоусых, встречается повсюду, кроме тундры и тайг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3080" y="142920"/>
            <a:ext cx="3929040" cy="273528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3618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самца на голове загнутый назад рог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 на передней спинке трёхзубчатое поперечное возвышение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носорога-самки на носу только небольшой бугорок, размерами она меньше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370400" cy="2857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0240" cy="28083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7"/>
          <p:cNvSpPr/>
          <p:nvPr/>
        </p:nvSpPr>
        <p:spPr>
          <a:xfrm>
            <a:off x="1748520" y="30718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6130440" y="30830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СТА ОБИТ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599840"/>
            <a:ext cx="82580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РАЗ ЖИЗ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42600" y="3929040"/>
            <a:ext cx="7929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-носороги обычно покидают свои подземные убежища только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4500720" y="142920"/>
            <a:ext cx="4214520" cy="379728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4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ИТ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5880" y="1571400"/>
            <a:ext cx="781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итание жука-носорога ученым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изучено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2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АЗМНОЖ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6320" y="1599840"/>
            <a:ext cx="7467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после окончания яйцекладки умирают, не выходя наруж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2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ИЗНЕННЫЙ ЦИК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УКА-НОСОРОГ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42600" y="5643360"/>
            <a:ext cx="746748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аз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йц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лится около месяц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654200" y="1365120"/>
            <a:ext cx="5862600" cy="417996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6:48Z</dcterms:created>
  <dc:creator>.</dc:creator>
  <dc:description/>
  <dc:language>en-US</dc:language>
  <cp:lastModifiedBy>LEGION</cp:lastModifiedBy>
  <dcterms:modified xsi:type="dcterms:W3CDTF">2014-11-24T13:19:18Z</dcterms:modified>
  <cp:revision>66</cp:revision>
  <dc:subject/>
  <dc:title>Жук-носорог</dc:title>
</cp:coreProperties>
</file>