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CD08-54EF-4EB8-AFD2-D0F87AC6C4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ук-носоро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птева Кат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2 «Б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СОШ №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3826-C026-49EF-88B1-F619766785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дшая из яйц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и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ив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убстрате, где она питается в течение всей своей жизни, 3-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а толстая, С-образно изогнутая, жёлто-белого цвета в редких волоск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нцу своего развития вырастает  длиной 8-9 с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026F-648A-4F98-9AAC-B68281747F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яет личинка три раза, после последней линьки превращ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колк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Фаза куколки непродолжительна - от 12 дней д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есяца. Из куколки появляется самец или самка жука-носор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FF6A-26B3-4ED7-A93A-56C0F1314D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агами жука-носорога являются птицы. Взрослый жук был обнаружен в желудке большого пестрого дятл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на личинках паразитируют личинки большой скол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BCC3-FEBB-46E4-BB66-E768AB6A9B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-носорог способен передвигать груз в 850 раз превышающий вес самого жука. Если сравнивать с человеком, то человек может поднять примерно половину собственного веса. Чтобы представить себе наглядно силу насекомых, приведу пример: человек, весящий примерно 70 кг, обладающий силой жука-носорога, свободно бы двигал несколько железнодорожных вагонов весом в 7 тонн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F440-0801-4295-ABD8-BEE3D3B657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е очень понравились эти жуки. Они красивые и загадоч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ученых их становится меньш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оберегать их и окружающий нас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219F-6F61-40F7-BB1E-A1D52AC90F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на дачном участке случайно нашла семейство жуков и их личин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е стало интересно узнать о них подробн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егодня я представляю вам жуков и презентацию о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E149-78D7-4DFF-97AD-61C029FD60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-носоро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секомое семейства пластинчатоусых, встречается повсюду, кроме тундры и тай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о массивное (длиной 25-40 мм); окраска каштаново-бурая; ноги толстые, сильные, передние - копательные, задние - с опорными зубчиками и шип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7D04-6A65-4D2A-AB94-9171F9F8C5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амца на голове загнутый назад рог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на передней спинке трёхзубчатое поперечное возвыш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носорога-самки на носу только небольшой бугорок, размерами она мен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EC81-E933-4177-93DE-206AC357C2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ста обит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и живут на увлажнённых участках широколиственных лесов: дуба, ивы, березы и других деревь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1B3E-DFC9-458E-92C0-28B565E72F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раз жиз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и-носороги обычно покидают свои подземные убежища толь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мное время суток. Они прекрасно летают и преодолевают без остановки расстояния более 50 километров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0808-A061-4707-BCDF-B5D9D6BCCB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 жука-носорога уче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зуч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екоторым данным, жуки совсем не питаются, по другим источникам - могут питаться жидкой пищей или древесным со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BFF3-E7C7-4927-84A7-E84CF1AF0F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множ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ткладывания яиц самка зарывается в дупла деревьев, сгнившие пни или стволы деревьев, а также в перепревший навоз, мусорные кучи, кучи из стружек и опил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и после окончания яйцекладки умирают, не выходя наруж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DD96-4E3A-422C-AB44-583846C4C5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жизненный цикл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жука-носоро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з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й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ится около меся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5A20-F9CB-4066-8A10-76A883C73D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80EE-5429-49BE-A974-5F0B114E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B6A5-476C-44D0-9449-ABEBE9FB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0B63-CD40-49DD-B049-EEFBFD36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1BD8-C250-46A0-9723-ABD4DDE6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E0C6-201B-4263-80A5-C8EB3564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F3E5-9C66-44DF-B950-087548C4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1BE4-316D-4239-B927-BC2EA68E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3715-4E10-475C-A6F2-A22D8553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C428-F4F5-4BAD-BF58-C3AFFFC4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D7B1-1898-4F62-9B6B-A6EF3D5A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BD5C-8D68-4E9C-BBE2-7C0A84A6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5343-0B28-46A9-925B-CA5EA486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4ED0-AF7D-4DD3-80A1-14FA7E4F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6BFA-6E6E-462D-B830-71F5C750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D9BA-57E9-4C4C-901F-0A319159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1E08-71D5-42EE-AA7C-EC288D56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55A4-4DC4-4042-8C3A-BF57981D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9125B-E768-4645-9189-174D9326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A9252-D3A9-4F28-9E89-C79786A2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236D0C-CCB2-4840-8DC0-80C45D19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ADE75-FAFC-4716-8C3E-B2283A46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F78ABF-F252-46BE-8F31-3731F3F2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39FC-ECC9-4EE7-AF3D-0EA7693F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29B30-2983-4F7A-8875-B9B61960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947B6-C6FC-451E-A75B-2970795D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2B19C2-0B85-41B3-9B45-6050AD10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548F9-BB4E-4538-9726-4000D47E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828353-554E-436C-86BB-08F75F7D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8773E2-B8CE-46DE-AF17-903A07C4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B0997-2B89-40FB-A944-DFC6A8BF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FF3D9-8A87-4F72-8A23-B3F5F897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B270C-B8DA-4B91-B241-68EB0BE2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EF890-9CBB-489F-B43B-07F3C06D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597F-927A-44B2-A8DD-B8CD0A4B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DD3D7-384C-4577-BCEA-C2925484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B658B-9959-446D-8280-9DFA0804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7F102-0A78-4F28-B20B-7ABFE48C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D40EA-A5F8-494A-AE68-A2664DB3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3961A-F207-4276-B496-7D444F99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3C518-2002-46B6-A5DD-BB4ED68B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4A6A1-1EA0-415D-993B-250285F1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045E0-C35D-4691-B6D8-B0985367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157A3-FDAF-421D-81D1-5CABE731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20E838-3E61-4E70-8F03-E251A897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0C98-F287-475B-9D9D-6B933105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AD42F4-1F31-40C0-B32A-B78C9E88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9CFF55-A55D-48D7-ADD4-96470E72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5EC5D6-D816-4092-8B0B-7D479D39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C07526-90D7-4CA8-B42A-C7ED2F2F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D3442F-7EF6-4AD2-9B4A-3BA50394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C1EE01-C5CE-4AC7-B61B-46889518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029AB7-10AA-47AC-810F-6775398C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7E7CD1-C9B1-4F76-A2CF-31C9250B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7005E8-6D0E-42AC-A6A7-F12DD763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2723BA-FA96-4D75-BC39-A7E8A84C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21CA-3A93-4DE7-AC30-C6E97424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110663-03FC-4C8C-A79C-4D609D9E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E25358-4F83-40F5-90E2-A15E7B8E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1C2AD7-D816-450C-951F-F33F4F20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E28045-A7D0-41B2-B912-FC887B5F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933922-498F-46C1-BA0C-0F0ED35E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BD7FAE-5EDA-4BBF-ADF9-C3E8E549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F7498A-7595-4383-B4F2-63DC1C47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8ABCC2-5C29-4D1F-BE26-485B39DF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8AB5C5-CBC8-4B3D-8AC4-507D1D13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33CAAA-8B5B-4D9B-9145-17FD314D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CB43-FFDB-4DD4-83CF-82B0B925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EDAC13-1793-4DCB-9CCD-49182BCC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D41E5F-D52E-42E2-BA61-CE60F046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67785D-4735-4AFA-A605-6A0757E5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839509-6D34-4288-9E25-398FAA92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D040F0-EBB5-4419-91F4-22FB38C9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44A268-7841-4375-B62E-FADB5C38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094D11-EA07-4D44-A5E7-36A9F426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22D5A7-D49D-48B5-B1C7-62B8A89B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19DBF6-001F-4F73-8322-9B9548C4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B48168-0918-45EB-B451-02071951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B6F4-93B1-44DD-BEC3-032129F6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1B5C76-D178-4730-829F-768286A4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741567-2CF7-4D7E-8D01-2E568162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3406C2-11EA-488E-B765-EA7FDE56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4C0C42-F070-4E21-844D-D8D5E14E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269F90-9A59-4610-A459-ABA9236A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0BE1-3924-4CAD-BF20-A63A0D41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5F58-A8E6-4B1A-B855-E63E1CB3386C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0F14-6B1B-4300-B389-B026CD218F2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07CD-542B-4B42-924B-F5BCA9391E1F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DD4B-3243-4F3F-B274-9DC64F24F47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E950-9C9B-4D31-9B02-6936675ED3A1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00C6-805A-46EF-97DD-55668BC671F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7248-2060-4604-BCE6-64C14AD79D59}" type="datetime"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2E33-56E1-4F76-9A70-E681ACE8A80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85FF-C342-4D9B-BE41-AF8421954100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00B4-FB1B-4B8C-8DE9-DC743270825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E70F-9FB7-4A57-8C78-D8296AB4D3E0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63F6-EF3A-43AA-92BD-8A36986EDD2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A47D-776B-4530-8D33-A910A1F091A0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3630-C7C6-47FF-B2ED-FE851533FCD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7172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entury Schoolbook"/>
              </a:rPr>
              <a:t>ЖУК-НОСОРОГ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5071680" y="400068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ыполнила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Лаптева Кат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ученица 2 «Б» класс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МОУ СОШ № 19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Місце для нижнього колонтитула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48920" y="3214800"/>
            <a:ext cx="80946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ышедшая из яйца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личинка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 живет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 субстрате, где она питается в течение всей своей жизни, 3-4 года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Личинка толстая, С-образно изогнутая, жёлто-белого цвета в редких волосках,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к концу своего развития вырастает  длиной 8-9 см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Picture 7" descr=""/>
          <p:cNvPicPr/>
          <p:nvPr/>
        </p:nvPicPr>
        <p:blipFill>
          <a:blip r:embed="rId1"/>
          <a:stretch/>
        </p:blipFill>
        <p:spPr>
          <a:xfrm>
            <a:off x="2382840" y="135000"/>
            <a:ext cx="4214880" cy="316080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771120" y="3591000"/>
            <a:ext cx="741852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Линяет личинка три раза, после последней линьки превращается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куколку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. Фаза куколки непродолжительна - от 12 дней до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1 месяца. Из куколки появляется самец или самка жука-носорога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2143080" y="28584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41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531360" y="3467160"/>
            <a:ext cx="8007480" cy="26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рагами жука-носорога являются птицы. Взрослый жук был обнаружен в желудке большого пестрого дятла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а на личинках паразитируют личинки большой сколи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2143080" y="139680"/>
            <a:ext cx="4357800" cy="329256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817200" y="500040"/>
            <a:ext cx="74674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Жук-носорог способен передвигать груз в 850 раз превышающий вес самого жука. Если сравнивать с человеком, то человек может поднять примерно половину собственного веса. Чтобы представить себе наглядно силу насекомых, приведу пример: человек, весящий примерно 70 кг, обладающий силой жука-носорога, свободно бы двигал несколько железнодорожных вагонов весом в 7 тонн!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ВЫВОД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71320" y="1672920"/>
            <a:ext cx="7972200" cy="30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не очень понравились эти жуки. Они красивые и загадочные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 мнению ученых их становится меньше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Давайте оберегать их и окружающий нас мир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4" presetSubtype="2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29999995231628">
                                      <p:cBhvr additive="repl">
                                        <p:cTn id="190" dur="2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ВВЕДЕ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42600" y="15001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Я на дачном участке случайно нашла семейство жуков и их личинки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не стало интересно узнать о них подробнее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И сегодня я представляю вам жуков и презентацию о них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57120" y="2714760"/>
            <a:ext cx="85010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-носорог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насекомое семейства пластинчатоусых, встречается повсюду, кроме тундры и тайги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Тело массивное (длиной 25-40 мм); окраска каштаново-бурая; ноги толстые, сильные, передние - копательные, задние - с опорными зубчиками и шипам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143080" y="142920"/>
            <a:ext cx="3929040" cy="2735280"/>
          </a:xfrm>
          <a:prstGeom prst="rect">
            <a:avLst/>
          </a:prstGeom>
          <a:ln w="0">
            <a:noFill/>
          </a:ln>
        </p:spPr>
      </p:pic>
      <p:sp>
        <p:nvSpPr>
          <p:cNvPr id="390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68360" y="3618000"/>
            <a:ext cx="82296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У самца на голове загнутый назад рог,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а на передней спинке трёхзубчатое поперечное возвышение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У носорога-самки на носу только небольшой бугорок, размерами она меньше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4370400" cy="28576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4170240" cy="2808360"/>
          </a:xfrm>
          <a:prstGeom prst="rect">
            <a:avLst/>
          </a:prstGeom>
          <a:ln w="0">
            <a:noFill/>
          </a:ln>
        </p:spPr>
      </p:pic>
      <p:sp>
        <p:nvSpPr>
          <p:cNvPr id="394" name="Прямоугольник 7"/>
          <p:cNvSpPr/>
          <p:nvPr/>
        </p:nvSpPr>
        <p:spPr>
          <a:xfrm>
            <a:off x="1748520" y="30718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Сам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8"/>
          <p:cNvSpPr/>
          <p:nvPr/>
        </p:nvSpPr>
        <p:spPr>
          <a:xfrm>
            <a:off x="6130440" y="308304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Сам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ЕСТА ОБИТА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599840"/>
            <a:ext cx="82580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и живут на увлажнённых участках широколиственных лесов: дуба, ивы, березы и других деревьев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9680" y="-2862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ОБРАЗ ЖИЗН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42600" y="3929040"/>
            <a:ext cx="79297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и-носороги обычно покидают свои подземные убежища только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 темное время суток. Они прекрасно летают и преодолевают без остановки расстояния более 50 километров.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4500720" y="142920"/>
            <a:ext cx="4214520" cy="379728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40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ИТА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785880" y="1571400"/>
            <a:ext cx="781848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итание жука-носорога учеными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е изучено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 некоторым данным, жуки совсем не питаются, по другим источникам - могут питаться жидкой пищей или древесным соком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902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РАЗМНОЖЕ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06320" y="1599840"/>
            <a:ext cx="74678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Для откладывания яиц самка зарывается в дупла деревьев, сгнившие пни или стволы деревьев, а также в перепревший навоз, мусорные кучи, кучи из стружек и опилок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и после окончания яйцекладки умирают, не выходя наружу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8228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ЖИЗНЕННЫЙ ЦИКЛ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ЖУКА-НОСОРОГ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42600" y="5643360"/>
            <a:ext cx="7467480" cy="8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Фаза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яйца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длится около месяца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1654200" y="1365120"/>
            <a:ext cx="5862600" cy="417996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04:56:48Z</dcterms:created>
  <dc:creator>.</dc:creator>
  <dc:description/>
  <dc:language>en-US</dc:language>
  <cp:lastModifiedBy>LEGION</cp:lastModifiedBy>
  <dcterms:modified xsi:type="dcterms:W3CDTF">2014-11-24T13:19:18Z</dcterms:modified>
  <cp:revision>66</cp:revision>
  <dc:subject/>
  <dc:title>Жук-носорог</dc:title>
</cp:coreProperties>
</file>