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CEB6-65E6-4995-AD73-E113D7027A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ук-носор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птева Кат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2 «Б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№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41C0-58BE-4762-BBE2-71077B4780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дшая из яйц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бстрате, где она питается в течение всей своей жизни, 3-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 толстая, С-образно изогнутая, жёлто-белого цвета в редких волос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цу своего развития вырастает  длиной 8-9 с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F8EB-9DB7-4830-85C6-DF48BC96DE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яет личинка три раза, после последней линьки превращ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колк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Фаза куколки непродолжительна - от 12 дней д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есяца. Из куколки появляется самец или самка жука-носор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7573-C62D-4979-8969-2D1F67B416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гами жука-носорога являются птицы. Взрослый жук был обнаружен в желудке большого пестрого дятл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личинках паразитируют личинки большой скол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D1A0-B002-497A-B950-1DDE6FF4A7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-носорог способен передвигать груз в 850 раз превышающий вес самого жука. Если сравнивать с человеком, то человек может поднять примерно половину собственного веса. Чтобы представить себе наглядно силу насекомых, приведу пример: человек, весящий примерно 70 кг, обладающий силой жука-носорога, свободно бы двигал несколько железнодорожных вагонов весом в 7 тон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3FAA-3A7E-4A55-AE70-BAE824B30E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очень понравились эти жуки. Они красивые и загадоч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ученых их становится меньш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оберегать их и окружающий нас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7279-D4AC-408F-B314-99B9E9780A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на дачном участке случайно нашла семейство жуков и их личи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стало интересно узнать о них подроб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егодня я представляю вам жуков и презентацию о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2071-D3BE-4473-AD43-45F2D40116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-носоро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секомое семейства пластинчатоусых, встречается повсюду, кроме тундры и тай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о массивное (длиной 25-40 мм); окраска каштаново-бурая; ноги толстые, сильные, передние - копательные, задние - с опорными зубчиками и ши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C5A4-0E8F-4E40-BE4C-D67EFD45D9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амца на голове загнутый назад рог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передней спинке трёхзубчатое поперечное возвыш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носорога-самки на носу только небольшой бугорок, размерами она ме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B35C-C2C0-4EFE-A852-E6D8F99F97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ста об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 живут на увлажнённых участках широколиственных лесов: дуба, ивы, березы и других деревь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E906-48F3-4934-B1AB-DE66D1DD8D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 жиз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-носороги обычно покидают свои подземные убежища толь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мное время суток. Они прекрасно летают и преодолевают без остановки расстояния более 50 километров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B1CF-AEE3-4271-BE00-70DED875EE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 жука-носорога уче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зуч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екоторым данным, жуки совсем не питаются, по другим источникам - могут питаться жидкой пищей или древесным со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63AE-1734-4371-A565-B865992181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нож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ткладывания яиц самка зарывается в дупла деревьев, сгнившие пни или стволы деревьев, а также в перепревший навоз, мусорные кучи, кучи из стружек и опил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 после окончания яйцекладки умирают, не выходя наруж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9FC3-149C-46BE-8C35-308C644E9B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изненный цикл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ука-носор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й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ится около меся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2F98-63C9-4BAB-BDD4-67CF7185E1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A75-1C77-447A-99E8-A17E2F08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983-F7CC-468D-BC33-4200A249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AF4-C277-49B0-8996-A1725C89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939-F539-4DE8-9E76-D73BCD7B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CC48-23AE-41E0-9A93-13E1147E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BD3F-D1E4-4169-B024-9FAAAFE7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3369-CB92-4460-AF5A-5E72342F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CBDF-1DF6-4966-8FC4-6CBA6A4A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1C7A-9D6E-47F8-BA74-1CB56EC6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BCC7-DAE3-472E-9BD0-D94D5F3A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01F1-2820-475B-8FE6-EE11D919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78A-95B2-44F9-9102-2C99364B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5B6F-BBFD-4B84-8676-61F467FC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1437-F730-45D8-972E-746A3029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0DA7-D60E-4348-A940-5575559C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D509-EFC5-4DE1-A6F0-29F6EE7A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D40D-7281-4B06-BAAF-75E52FAD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E407F-7EB8-4452-B8AA-5EACAB4D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46743-F7B4-45E2-9BBB-1473D206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E3906-0BF3-4C3E-A087-BC9B95FF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0919B-8D63-4960-90F7-D8E124AD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76FC6-1DAE-4A73-974E-A5171C43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4F1-7FBD-4227-B829-05D82C1F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1FC24-0F31-470D-AC2B-0AC39F4D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5F3E1-4DD1-435F-9A96-B3AEAB8B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F48FE-78A0-4A7F-8359-BB8153E8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724CF-E9A8-4CD7-B34D-3604D22D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01DC4-6851-4DE6-8D83-42D6B495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456ED-220B-4EA8-AB83-F0D5DB75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81861-A3FA-4A98-B0CE-2150ACA1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B9F50-2DF4-4A68-9718-CC3DFF82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A543B-89B1-4DE6-BF24-9D124C83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EFD48-9291-42EE-9E0F-E06FED92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D1D-25A9-430E-9E59-BD9134E7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A6DD6-55D7-40CE-8AD4-0C1006F9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F9A8E-6208-429E-BD0B-6BC39456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DDE0E-5163-4004-A2AB-0406549E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10395-BA96-4819-9068-6C19F64F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E3729-D98B-4E64-8809-4A17EB0A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04FF7-18D6-488B-849F-C8A12E58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24CCE-4662-451D-A46A-F1E24A06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8736C-7D8B-4962-91B9-4DDF04D5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40C1-2CE1-472A-A5B9-9F933084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2BAF6-500F-4C67-B456-41EC9981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B5D-3477-4A2C-81B3-958551BC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139B18-705D-4CE5-90A3-A8E45263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925DC-BC49-47A1-8E2B-7FAAACA5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CDE04-BCCD-4F92-9CCA-AF867810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DACFC-684F-49AA-BD9F-9A3C336E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50B5F-8C96-4792-99E8-A14C672C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EF7F65-5C3C-4D51-B4A6-5DAADC85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7A3C19-0969-4175-9617-29380DD1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32EBD-D072-4C74-AA5D-18845C32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88440-C07E-41DE-8A47-A8B48629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5822D-F073-4121-A14D-80F69049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3B9-DBBF-49C1-962C-68241A55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1E016-675E-4648-BDA3-078984F9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4A6F6-9377-4843-B28D-22A99F1F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1CC1AF-24A3-418B-B4BB-567675FE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57F634-2288-43C8-9A85-53457404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83AA53-DA5F-4C72-9247-5B9D3103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F0D56-0B5F-4442-8DED-20779BF2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887367-0DF7-4306-ABA6-F9995A62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F8B9F-272B-4CE6-AAB6-6F81952D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7F09C-8F8E-4C5A-8170-4286A370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A5BFBB-55D0-4001-A7DF-E03952E7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0F27-D5AF-406C-BD69-885F005D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F9A912-AC24-4681-9359-AD9E7EB1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6699AF-60CD-41B8-BBA4-25C3ACC1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DEF0F-F1DC-4FB4-B3B7-69D5633B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38D42-5A07-4A3F-8D66-AFBA74CA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6518D-32D3-4ECC-9E06-06D08E94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797E97-579A-4548-99C5-C758A28A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B242B-4652-4777-B582-14BCED00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FDF2AE-6CE2-4ADB-AF90-9FF24E4A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7CC56C-6F2F-48A5-A582-B8B7ECC7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FBFBBB-0D89-49A0-B6DF-7F28FA50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58C-D4A6-4668-83E4-7DB2F965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B030BD-B5C8-4BBE-A6ED-70DC423F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50FB13-498F-488C-BBA9-D410C750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107C95-BBAF-4A50-858A-D116D1D4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891A2E-2A8D-4407-A9C7-193EAEDD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B99CD0-CFEF-414D-8F0E-9E059417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246-67CA-4E43-BE34-FAB40C1B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D4F8-ABCC-46DC-B811-1B66BC4EF9A9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52A3-3F98-4E2A-8CF5-F4727170978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7FF5-4202-40F6-BEBA-F949EE617A01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5AD4-DE96-4BB3-83D7-087E20B4F20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1850-2C41-4738-84E8-7A6E2F015C7D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936D-FBBB-4ED9-94C1-2F4F642B158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B0B6-ADC2-4426-8366-0A2A333BB319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A072-12E4-4B32-8397-AF5979CA129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AF5D-33D3-49EC-A301-3DC13259566C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B32A-032F-459C-9319-D5708FAB218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340E-D41F-44D8-BF4B-1C892ABB8E5E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B936-E6C8-4512-AD60-5DF0396BC9E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425E-8F91-4E3B-B0C5-9317B0D13EF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C5B4-CA2D-4E51-B409-0D0600ACCBE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7172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entury Schoolbook"/>
              </a:rPr>
              <a:t>ЖУК-НОСОРОГ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071680" y="400068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ыполнила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Лаптева Кат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ученица 2 «Б» класс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МОУ СОШ № 1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48920" y="3214800"/>
            <a:ext cx="8094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ышедшая из яйца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личинка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живет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 субстрате, где она питается в течение всей своей жизни, 3-4 года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Личинка толстая, С-образно изогнутая, жёлто-белого цвета в редких волосках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к концу своего развития вырастает  длиной 8-9 см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7" descr=""/>
          <p:cNvPicPr/>
          <p:nvPr/>
        </p:nvPicPr>
        <p:blipFill>
          <a:blip r:embed="rId1"/>
          <a:stretch/>
        </p:blipFill>
        <p:spPr>
          <a:xfrm>
            <a:off x="2382840" y="135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771120" y="3591000"/>
            <a:ext cx="741852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Линяет личинка три раза, после последней линьки превращается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куколку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. Фаза куколки непродолжительна - от 12 дней до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1 месяца. Из куколки появляется самец или самка жука-носорога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41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31360" y="3467160"/>
            <a:ext cx="8007480" cy="26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рагами жука-носорога являются птицы. Взрослый жук был обнаружен в желудке большого пестрого дятла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а на личинках паразитируют личинки большой сколи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2143080" y="139680"/>
            <a:ext cx="4357800" cy="329256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817200" y="500040"/>
            <a:ext cx="74674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Жук-носорог способен передвигать груз в 850 раз превышающий вес самого жука. Если сравнивать с человеком, то человек может поднять примерно половину собственного веса. Чтобы представить себе наглядно силу насекомых, приведу пример: человек, весящий примерно 70 кг, обладающий силой жука-носорога, свободно бы двигал несколько железнодорожных вагонов весом в 7 тонн!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ЫВОД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71320" y="1672920"/>
            <a:ext cx="7972200" cy="30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не очень понравились эти жуки. Они красивые и загадочны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 мнению ученых их становится меньш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Давайте оберегать их и окружающий нас мир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9999995231628">
                                      <p:cBhvr additive="repl">
                                        <p:cTn id="190" dur="2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ВЕД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42600" y="1500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Я на дачном участке случайно нашла семейство жуков и их личинк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не стало интересно узнать о них подробне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 сегодня я представляю вам жуков и презентацию о них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57120" y="2714760"/>
            <a:ext cx="85010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-носорог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насекомое семейства пластинчатоусых, встречается повсюду, кроме тундры и тайг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Тело массивное (длиной 25-40 мм); окраска каштаново-бурая; ноги толстые, сильные, передние - копательные, задние - с опорными зубчиками и шипам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143080" y="142920"/>
            <a:ext cx="3929040" cy="2735280"/>
          </a:xfrm>
          <a:prstGeom prst="rect">
            <a:avLst/>
          </a:prstGeom>
          <a:ln w="0">
            <a:noFill/>
          </a:ln>
        </p:spPr>
      </p:pic>
      <p:sp>
        <p:nvSpPr>
          <p:cNvPr id="39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68360" y="361800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 самца на голове загнутый назад рог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а на передней спинке трёхзубчатое поперечное возвышение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 носорога-самки на носу только небольшой бугорок, размерами она меньше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4370400" cy="28576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4170240" cy="280836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7"/>
          <p:cNvSpPr/>
          <p:nvPr/>
        </p:nvSpPr>
        <p:spPr>
          <a:xfrm>
            <a:off x="1748520" y="30718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ам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8"/>
          <p:cNvSpPr/>
          <p:nvPr/>
        </p:nvSpPr>
        <p:spPr>
          <a:xfrm>
            <a:off x="6130440" y="308304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ЕСТА ОБИТА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599840"/>
            <a:ext cx="82580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 живут на увлажнённых участках широколиственных лесов: дуба, ивы, березы и других деревье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9680" y="-2862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ОБРАЗ ЖИЗН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42600" y="3929040"/>
            <a:ext cx="79297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-носороги обычно покидают свои подземные убежища только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темное время суток. Они прекрасно летают и преодолевают без остановки расстояния более 50 километров.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4500720" y="142920"/>
            <a:ext cx="4214520" cy="379728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40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ИТА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85880" y="1571400"/>
            <a:ext cx="78184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итание жука-носорога учеными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е изучено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 некоторым данным, жуки совсем не питаются, по другим источникам - могут питаться жидкой пищей или древесным соко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902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РАЗМНОЖ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06320" y="1599840"/>
            <a:ext cx="74678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Для откладывания яиц самка зарывается в дупла деревьев, сгнившие пни или стволы деревьев, а также в перепревший навоз, мусорные кучи, кучи из стружек и опилок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 после окончания яйцекладки умирают, не выходя наруж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228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ЖИЗНЕННЫЙ ЦИКЛ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ЖУКА-НОСОРОГ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42600" y="5643360"/>
            <a:ext cx="746748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Фаза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яйц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длится около месяца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1654200" y="1365120"/>
            <a:ext cx="5862600" cy="417996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4:56:48Z</dcterms:created>
  <dc:creator>.</dc:creator>
  <dc:description/>
  <dc:language>en-US</dc:language>
  <cp:lastModifiedBy>LEGION</cp:lastModifiedBy>
  <dcterms:modified xsi:type="dcterms:W3CDTF">2014-11-24T13:19:18Z</dcterms:modified>
  <cp:revision>66</cp:revision>
  <dc:subject/>
  <dc:title>Жук-носорог</dc:title>
</cp:coreProperties>
</file>