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1B25-F574-42C5-912A-7CDA014DB5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рург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медиц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заболевания, которые лечатся при помощи оперативного (хирургического) мет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ериал подготовил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итель биолог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У «СОШ №198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Яппарова Татьяна Владимир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47B6-8F00-44AF-B4CF-FFFE44BF56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хирургического лечения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больного к опера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зболивание (наркоз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ое вмешатель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оп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онный доступ (разрез кожи или слизистой оболочк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лечение орга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целостности тканей, нарушенных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6092-A42D-4A4A-9F49-A60420A2F2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Диагностически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Радикаль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стью устраняют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аллиатив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егчают общее состояние больного кратк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Экстрен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роч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отложены на время уточнения диагноза и подготовку больного к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ланов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92CB-1933-419E-A8B4-D30B436FB2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й хирур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реконструк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малоинваз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316D-E78B-41F0-9B01-DA150356F2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рические с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вей (1578-1657 гг.) - открыл законы кровообращения, определил роль сердца как нас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67 г. французский ученый Жан Дени впервые произвел переливание крови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ек - век крупных открытий в хирур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топографическая анатомия и оперативная хирур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армии Наполео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рей за одни сутки произвел 200 ампут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2AA1-B698-4F85-AEDE-DC59706F38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воение технологии обезболив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Уоррен в 1846 г. удалил опухоль шеи под эфирным нарко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тисептика – метод борьбы с инфекци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у-асеп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овоте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DAEE-8465-4329-B76D-12E5EC5F7F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усская хирур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8F69-7C7A-4A71-8A08-AF15E49908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203-7487-45B7-A41A-C2DF0B61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580-9C21-4557-8AEA-466B00FF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DF3-A47A-40A8-8961-1AA514A9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D1E-B34D-445A-AD6B-6813ECE6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FCB-3663-4183-9678-17A9B852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CEB-5014-4625-A8EA-2CB4272B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427-F445-4518-88A3-6F4009BE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606-5B0B-47EB-B527-6B564B07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E08-0C47-4153-BA40-F3C6C774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4AA-9E40-4C85-A5A2-201FA69B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F59-2FF7-476F-96CE-FAA8739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78F-AB0B-43B8-86CF-DCB85C08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9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E016-268D-4098-87E3-7E7CD689F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5320" y="4568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ирург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медицин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ющая заболевания, которые лечатся при помощи оперативного (хирургического) метод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СОШ №19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ппар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айл:Surgeon operating, Fitzsimons Army Medical Center, circa 1990.JPEG"/>
          <p:cNvPicPr/>
          <p:nvPr/>
        </p:nvPicPr>
        <p:blipFill>
          <a:blip r:embed="rId1"/>
          <a:stretch/>
        </p:blipFill>
        <p:spPr>
          <a:xfrm>
            <a:off x="304920" y="533520"/>
            <a:ext cx="3828960" cy="5705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хирургического лечен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больного к опер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зболивание (наркоз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рургическое вмешатель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опер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онный доступ (разрез кожи или слизистой оболочк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ивное лечение орга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целостности тканей, нарушенных во время оп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Диагностически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дикаль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ностью устраняют патологически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аллиатив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легчают общее состояние больного кратк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Экстрен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роч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гут быть отложены на время уточнения диагноза и подготовку больного к оп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ланов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обенности современной хирург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реконструкт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малоинваз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рические с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вей (1578-1657 гг.) - открыл законы кровообращения, определил роль сердца как нас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67 г. французский ученый Жан Дени впервые произвел переливание крови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 - век крупных открытий в хиру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а развитие топографическая анатомия и оперативная хирург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ург армии Наполе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ррей за одни сутки произвел 200 ампут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технологии обезбо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рург Уоррен в 1846 г. удалил опухоль шеи под эфирным наркоз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ептика – метод борьбы с инфе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у-асепти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усская хирур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6T13:35:0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