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CBA6-1BD3-4221-B197-2F431BFDD1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рург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медиц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заболевания, которые лечатся при помощи оперативного (хирургического) мет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ериал подготовил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итель биолог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У «СОШ №198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ппарова Татьяна Владими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D232-C929-4DD3-AE23-0694D36438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хирургического лечения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больного к опера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зболивание (наркоз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ое вмешатель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оп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онный доступ (разрез кожи или слизистой оболочк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лечение орга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целостности тканей, нарушенных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C30B-222B-4265-9CFF-97FC21573D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Диагностически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Радикаль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стью устраняют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аллиатив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егчают общее состояние больного кратк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Экстрен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роч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отложены на время уточнения диагноза и подготовку больного к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ланов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687B-EF79-43C1-8FBD-9DF499DD3F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й хирур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реконструк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малоинваз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C0FE-E1C5-45C3-B652-91569D6CD1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рические с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вей (1578-1657 гг.) - открыл законы кровообращения, определил роль сердца как нас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67 г. французский ученый Жан Дени впервые произвел переливание крови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ек - век крупных открытий в хирур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топографическая анатомия и оперативная хирур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армии Наполео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рей за одни сутки произвел 200 ампут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2A00-D390-4F91-90D7-9273EA7D43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воение технологии обезболи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Уоррен в 1846 г. удалил опухоль шеи под эфирным нарко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тисептика – метод борьбы с инфекц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у-асеп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овоте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5AB-1A49-4173-885F-8ED4B5C203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усская хирур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088-1B94-4092-9095-AE7D0DD13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EA9-E17E-4F91-B636-0010AFC6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575-2A05-44D3-B096-DCE0E3F1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633-6D14-4BF5-9F60-935CCB0E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B4E-328D-4BBA-9B3B-EB2D090F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9DF-7627-4100-9E18-21884DB6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BD0-2257-4D4D-9124-6EA3DBBD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DE3-2CC7-4361-91AF-8824FA7C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A4A-47E9-44BF-9CA3-FA47ED5A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7EB-C95C-4A72-B789-D68E5F30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744-47BB-4C3F-83C9-1957332B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BC8-1967-4940-B8B5-BB402FA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07C-6263-44AB-A20C-7131AE16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9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8D1F-BFE3-4DE0-B77C-056ACB997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5320" y="4568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рург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медиц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ющая заболевания, которые лечатся при помощи оперативного (хирургического) метод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СОШ №19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ппар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айл:Surgeon operating, Fitzsimons Army Medical Center, circa 1990.JPEG"/>
          <p:cNvPicPr/>
          <p:nvPr/>
        </p:nvPicPr>
        <p:blipFill>
          <a:blip r:embed="rId1"/>
          <a:stretch/>
        </p:blipFill>
        <p:spPr>
          <a:xfrm>
            <a:off x="304920" y="533520"/>
            <a:ext cx="382896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хирургического лечен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больного к опер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зболивание (наркоз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рургическое вмешатель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опер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ый доступ (разрез кожи или слизистой оболочк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ивное лечение орга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целостности тканей, нарушенных во время оп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иагностически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дикаль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ностью устраняют патологически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аллиатив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легчают общее состояние больного кратк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Экстрен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роч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гут быть отложены на время уточнения диагноза и подготовку больного к оп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ланов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обенности современной хирург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реконструкт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малоинваз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рические с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вей (1578-1657 гг.) - открыл законы кровообращения, определил роль сердца как нас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67 г. французский ученый Жан Дени впервые произвел переливание крови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 - век крупных открытий в хиру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а развитие топографическая анатомия и оперативная хирург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ург армии Наполе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рей за одни сутки произвел 200 ампут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технологии обезбо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рург Уоррен в 1846 г. удалил опухоль шеи под эфирным наркоз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ептика – метод борьбы с инфе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у-асепти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сская хиру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6T13:35:0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