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21.png" ContentType="image/png"/>
  <Override PartName="/ppt/media/image4.png" ContentType="image/png"/>
  <Override PartName="/ppt/media/image1.jpeg" ContentType="image/jpeg"/>
  <Override PartName="/ppt/media/image22.png" ContentType="image/png"/>
  <Override PartName="/ppt/media/image17.gif" ContentType="image/gif"/>
  <Override PartName="/ppt/media/image16.jpeg" ContentType="image/jpeg"/>
  <Override PartName="/ppt/media/image14.gif" ContentType="image/gif"/>
  <Override PartName="/ppt/media/image2.jpeg" ContentType="image/jpeg"/>
  <Override PartName="/ppt/media/image25.wmf" ContentType="image/x-wmf"/>
  <Override PartName="/ppt/media/image23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3875-4B3B-47C1-936A-8FD4F7E01D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крови и лимфы в организме. Органы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FE46-C44C-4EFD-B68F-5D04A7675F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Газообмен в капилля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0000"/>
                </a:solidFill>
                <a:latin typeface="Calibri"/>
              </a:rPr>
              <a:t>Капилляры </a:t>
            </a: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образуют обширную сеть сосудов, пронизывающих все части тела. Диаметр капилляров составляет 7-10 мкм, а их стенки, состоящие из одного лишь эндотелия, проницаемы для воды и растворенных в ней веществ. Именно в капиллярах происходит  обмен   веществ  между  кровью и клетками тела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F4D8-CE4F-450A-8953-104E7C0D15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Круги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A0EE-4A9D-4528-8ECC-F464AF6AE4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1.Кровеносная система человека состоит из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2.Движение крови называется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3.Различаю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круг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4.В организме человека имеются сосуды: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5.Большой круг кровообращения начинается о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заканчивается в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6.Малый круг кровообращения начинается о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заканчивается в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7.В большом кругу кровообращения по артериям тече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а в малом -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8.В малом кругу кровообращения по венам тече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, а в большом –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9.В капиллярах происходи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EE27-EA39-4D86-9321-2A0A20F40F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4-8 ,повторить группы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1892-AF9D-461B-90E1-CE044CC002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Закрепить знания о строени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функциях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Показать движение крови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Рассмотреть особенности стро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ов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3ACA-2AE6-4738-AA27-E7F5F43A54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Строение кровенос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осуды, их ви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троение сосу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Строение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Круг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E342-5313-441C-A46B-FA6FE87B5D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орта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ртерии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Вены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Капилляр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ртериальная кров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Венозная кров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1A64-DA07-4B2A-8030-5031F2F88C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орта-са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мая крупная арте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ртерии – 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сосуды, несущие кровь от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Вены – 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сосуды, несущие кровь к серд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Капилляры – 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мельчайшие кровеносные сосу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ртериальная кровь – 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кровь, насыщенная кислор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Венозная кровь –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кровь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, насыщенная углекислым газ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4826-BDA4-4FAC-B240-04D1555266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троение кровеносных сосу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3780-CF45-48E4-B853-5366E0F7EF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роение сердц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Задание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1. Сколько сердечных камер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2. Как они назыв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3. Одинакова ли толщина стенок обоих половин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4. Почему не одинаков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E2F2-C38E-4ED2-9F9B-06F927AECC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Движение  крови  внутри серд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B12B-CF4F-411B-B76F-C7D45AEC05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 17 веке Вильям Гарв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578 – 165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открыл круг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538F-0CBE-4241-815F-176F2C17687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3DF1-452A-4CE8-81C9-4644D6B1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EC8D-F703-4A3A-83B8-6D6C7879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F4AE-E6B4-4B0B-B317-B4F50158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22A3-DD4D-44C2-8352-947B7B9CD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7D90C-4A95-40E8-AE39-9E0A26D2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21B68-430C-478F-BD10-5A2E1979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4A135-1707-4695-9EB5-378DF451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80E58-0D1C-4A6B-9657-D15B2B30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55A19-178A-4186-B5C3-2B7889ED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C08D5-17D5-4269-96B3-9E6F0281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B25A7-56C1-4821-B5BD-87ABEAB5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BA82-863A-4FD6-B68E-80F48EF2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8C791-AC0F-40B4-B172-516003C6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E36BD-B0DF-452C-AF25-6DD0F415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85989-41B6-4232-B761-FABD3C2B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26542-907D-44BD-9D15-9C537A49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01069-4E53-4EC3-BA5E-245729A0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BE622-BAAD-405C-AE51-19B90AFE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A8731-39C4-47C9-8629-6B64D087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883A5-AA79-487A-ADEA-FAB3B243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9A0D7-2263-4185-9ACF-545F2632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15CE9-825E-4DF2-B419-615535F8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8B48-7C94-48D7-84CF-4C83D4AB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2A17B-4714-4431-9A06-45857A55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2465A-DB66-4088-9B72-549AD7A1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C6683-585C-4539-BC59-75A43EED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D6F17-791F-4B3F-BE30-8DA95AB4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906C8-279E-48E3-92F0-43414D8C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D6A7A-099E-4735-B09B-683993B5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D22A9-A1C5-4DD8-B0CC-E7F124CD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95C849-D0A0-4980-A25F-345D83D6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C3C1E1-A58D-4D45-880A-514EF672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0E748F-A627-4B6B-B878-FF6C80F9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E503-8E31-440A-9CDD-7B2A6C1E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6C15CF-8378-48A7-9226-29A0FF1A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AACE07-538A-45D0-BD1C-59A06517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8A662F-99DE-4D23-B19E-5FD7918C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B972AA-0700-49AC-96E9-8164FA06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0A5CF1-F98E-4ED8-857A-5F1A9C94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E620C3-286E-4553-9AD9-6DC3C656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F9CD9F-7342-445C-B5DF-E0A5A245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A3FF9D-A10A-4875-9C2F-AB220F55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A857B1-DA02-474D-A007-70027EC1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5C19-10BB-441C-80FA-BA08C626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73B5-80A5-436A-9A36-D67784D7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CB7D-E00C-47FD-9A81-5BEB28A3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8613-0C37-43FC-8DF2-F2AF98D6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5761-89E1-428F-BACA-AF244750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AEFE-8BD4-4D99-95B4-0F36781B43F4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969C-7321-4DC1-B3B1-8163A5A26FDC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77AC-1C25-4D48-9775-B4A87A19D60F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3AD5-303B-4E1C-9BD5-0E0C29E1277D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3" descr="clip_image003.jpg"/>
          <p:cNvPicPr/>
          <p:nvPr/>
        </p:nvPicPr>
        <p:blipFill>
          <a:blip r:embed="rId1"/>
          <a:stretch/>
        </p:blipFill>
        <p:spPr>
          <a:xfrm>
            <a:off x="6286680" y="1285920"/>
            <a:ext cx="1982520" cy="4441680"/>
          </a:xfrm>
          <a:prstGeom prst="rect">
            <a:avLst/>
          </a:prstGeom>
          <a:ln w="0">
            <a:noFill/>
          </a:ln>
        </p:spPr>
      </p:pic>
      <p:sp>
        <p:nvSpPr>
          <p:cNvPr id="178" name="Нижний колонтитул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оугольник 3"/>
          <p:cNvSpPr/>
          <p:nvPr/>
        </p:nvSpPr>
        <p:spPr>
          <a:xfrm flipV="1" rot="10800000">
            <a:off x="1332000" y="315720"/>
            <a:ext cx="4248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вижение крови и лимфы в организме. Органы кровообраще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7" descr="clip_image005.jpg"/>
          <p:cNvPicPr/>
          <p:nvPr/>
        </p:nvPicPr>
        <p:blipFill>
          <a:blip r:embed="rId1"/>
          <a:stretch/>
        </p:blipFill>
        <p:spPr>
          <a:xfrm>
            <a:off x="642960" y="2143080"/>
            <a:ext cx="3929040" cy="36432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571680" y="107172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Малый круг кровообра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7286760" y="428760"/>
            <a:ext cx="14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3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Рисунок 5" descr="clip_image006.jpg"/>
          <p:cNvPicPr/>
          <p:nvPr/>
        </p:nvPicPr>
        <p:blipFill>
          <a:blip r:embed="rId2"/>
          <a:stretch/>
        </p:blipFill>
        <p:spPr>
          <a:xfrm>
            <a:off x="4786200" y="2143080"/>
            <a:ext cx="3786480" cy="36432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5"/>
          <p:cNvSpPr/>
          <p:nvPr/>
        </p:nvSpPr>
        <p:spPr>
          <a:xfrm>
            <a:off x="4714920" y="1071720"/>
            <a:ext cx="38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Большой круг кровообра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Нижний колонтитул 7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" descr="C:\Documents and Settings\777\Мои документы\Мои рисунки\кровь и кровообращение\krov1.jpg"/>
          <p:cNvPicPr/>
          <p:nvPr/>
        </p:nvPicPr>
        <p:blipFill>
          <a:blip r:embed="rId1"/>
          <a:stretch/>
        </p:blipFill>
        <p:spPr>
          <a:xfrm>
            <a:off x="4572000" y="1071720"/>
            <a:ext cx="4000680" cy="22860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7215120" y="500040"/>
            <a:ext cx="14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4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3"/>
          <p:cNvSpPr/>
          <p:nvPr/>
        </p:nvSpPr>
        <p:spPr>
          <a:xfrm>
            <a:off x="428760" y="42876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Газообмен в капилляр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11" descr="C:\Documents and Settings\777\Мои документы\Мои рисунки\кровь и кровообращение\r10.jpg"/>
          <p:cNvPicPr/>
          <p:nvPr/>
        </p:nvPicPr>
        <p:blipFill>
          <a:blip r:embed="rId2"/>
          <a:stretch/>
        </p:blipFill>
        <p:spPr>
          <a:xfrm>
            <a:off x="500040" y="1500120"/>
            <a:ext cx="3571920" cy="471492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"/>
          <p:cNvSpPr/>
          <p:nvPr/>
        </p:nvSpPr>
        <p:spPr>
          <a:xfrm>
            <a:off x="4143240" y="3357720"/>
            <a:ext cx="4643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Капилляры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образуют обширную сеть сосудов, пронизывающих все части тела. Диаметр капилляров составляет 7-10 мкм, а их стенки, состоящие из одного лишь эндотелия, проницаемы для воды и растворенных в ней веществ. Именно в капиллярах происходит  обмен   веществ  между  кровью и клетками тела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Нижний колонтитул 7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4286160" y="4143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4438800" y="42958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71680" y="1428840"/>
          <a:ext cx="8072280" cy="4643280"/>
        </p:xfrm>
        <a:graphic>
          <a:graphicData uri="http://schemas.openxmlformats.org/drawingml/2006/table">
            <a:tbl>
              <a:tblPr/>
              <a:tblGrid>
                <a:gridCol w="2868480"/>
                <a:gridCol w="2592360"/>
                <a:gridCol w="2611440"/>
              </a:tblGrid>
              <a:tr h="473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опро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К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К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0240">
                <a:tc>
                  <a:txBody>
                    <a:bodyPr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де начинается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де заканчивается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 называются сосуды, относящиеся к этому кругу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 изменяется кровь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TextBox 4"/>
          <p:cNvSpPr/>
          <p:nvPr/>
        </p:nvSpPr>
        <p:spPr>
          <a:xfrm>
            <a:off x="857160" y="64296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руги кровообра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7072200" y="4287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5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Нижний колонтитул 7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2"/>
          <p:cNvSpPr/>
          <p:nvPr/>
        </p:nvSpPr>
        <p:spPr>
          <a:xfrm>
            <a:off x="642960" y="928800"/>
            <a:ext cx="7858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1.Кровеносная система человека состоит из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2.Движение крови называется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3.Различаю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руги кровообращ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4.В организме человека имеются сосуды: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5.Большой круг кровообращения начинается о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 заканчивается в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6.Малый круг кровообращения начинается о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 заканчивается в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7.В большом кругу кровообращения по артериям тече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а в малом -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8.В малом кругу кровообращения по венам тече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, а в большом –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9.В капиллярах происходи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_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7215120" y="50004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 слай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Нижний колонтитул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1357200" y="981000"/>
            <a:ext cx="38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684360" y="1916280"/>
            <a:ext cx="7858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.4-8 ,повторить группы кров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7149240" y="64296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7" descr="J0309904"/>
          <p:cNvPicPr/>
          <p:nvPr/>
        </p:nvPicPr>
        <p:blipFill>
          <a:blip r:embed="rId1"/>
          <a:stretch/>
        </p:blipFill>
        <p:spPr>
          <a:xfrm>
            <a:off x="6143760" y="4643280"/>
            <a:ext cx="1643040" cy="1285920"/>
          </a:xfrm>
          <a:prstGeom prst="rect">
            <a:avLst/>
          </a:prstGeom>
          <a:ln w="0">
            <a:noFill/>
          </a:ln>
        </p:spPr>
      </p:pic>
      <p:sp>
        <p:nvSpPr>
          <p:cNvPr id="257" name="Нижний колонтитул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2"/>
          <p:cNvSpPr/>
          <p:nvPr/>
        </p:nvSpPr>
        <p:spPr>
          <a:xfrm>
            <a:off x="571680" y="1500120"/>
            <a:ext cx="53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Группа 15"/>
          <p:cNvGrpSpPr/>
          <p:nvPr/>
        </p:nvGrpSpPr>
        <p:grpSpPr>
          <a:xfrm>
            <a:off x="4143240" y="4214880"/>
            <a:ext cx="4214880" cy="2286000"/>
            <a:chOff x="4143240" y="4214880"/>
            <a:chExt cx="4214880" cy="2286000"/>
          </a:xfrm>
        </p:grpSpPr>
        <p:pic>
          <p:nvPicPr>
            <p:cNvPr id="182" name="Picture 7" descr="C:\Documents and Settings\777\Мои документы\Мои рисунки\кровь и кровообращение\кров сист крокодила.jpg"/>
            <p:cNvPicPr/>
            <p:nvPr/>
          </p:nvPicPr>
          <p:blipFill>
            <a:blip r:embed="rId1"/>
            <a:stretch/>
          </p:blipFill>
          <p:spPr>
            <a:xfrm>
              <a:off x="6572160" y="4786200"/>
              <a:ext cx="178596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8" descr=""/>
            <p:cNvPicPr/>
            <p:nvPr/>
          </p:nvPicPr>
          <p:blipFill>
            <a:blip r:embed="rId2"/>
            <a:stretch/>
          </p:blipFill>
          <p:spPr>
            <a:xfrm>
              <a:off x="4143240" y="4214880"/>
              <a:ext cx="2428920" cy="228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4" name="Рисунок 4" descr="кров сист рыб.jpg"/>
          <p:cNvPicPr/>
          <p:nvPr/>
        </p:nvPicPr>
        <p:blipFill>
          <a:blip r:embed="rId3"/>
          <a:stretch/>
        </p:blipFill>
        <p:spPr>
          <a:xfrm>
            <a:off x="6786720" y="3435480"/>
            <a:ext cx="1839600" cy="9936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3" descr="кров сист птиц.jpg"/>
          <p:cNvPicPr/>
          <p:nvPr/>
        </p:nvPicPr>
        <p:blipFill>
          <a:blip r:embed="rId4"/>
          <a:stretch/>
        </p:blipFill>
        <p:spPr>
          <a:xfrm>
            <a:off x="357120" y="4643280"/>
            <a:ext cx="1581120" cy="147636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" descr="кров системя лягухи.jpg"/>
          <p:cNvPicPr/>
          <p:nvPr/>
        </p:nvPicPr>
        <p:blipFill>
          <a:blip r:embed="rId5"/>
          <a:stretch/>
        </p:blipFill>
        <p:spPr>
          <a:xfrm>
            <a:off x="2143080" y="4500720"/>
            <a:ext cx="1714680" cy="164304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2" descr="кров сист кошки.jpg"/>
          <p:cNvPicPr/>
          <p:nvPr/>
        </p:nvPicPr>
        <p:blipFill>
          <a:blip r:embed="rId6"/>
          <a:stretch/>
        </p:blipFill>
        <p:spPr>
          <a:xfrm>
            <a:off x="5500800" y="1500120"/>
            <a:ext cx="3108240" cy="17146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Закрепить знания о строении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функциях кров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Показать движение крови 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лимф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Рассмотреть особенности строени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рганов кровообращен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Заголовок 18" descr=""/>
          <p:cNvPicPr/>
          <p:nvPr/>
        </p:nvPicPr>
        <p:blipFill>
          <a:blip r:embed="rId7"/>
          <a:stretch/>
        </p:blipFill>
        <p:spPr>
          <a:xfrm>
            <a:off x="457200" y="133200"/>
            <a:ext cx="8229600" cy="1135080"/>
          </a:xfrm>
          <a:prstGeom prst="rect">
            <a:avLst/>
          </a:prstGeom>
          <a:ln w="0">
            <a:noFill/>
          </a:ln>
        </p:spPr>
      </p:pic>
      <p:sp>
        <p:nvSpPr>
          <p:cNvPr id="190" name="Нижний колонтитул 1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1.Строение кровеносной системы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2.Сосуды, их виды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3.Строение сосудов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4.Строение сердца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5.Круги кровообращения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05160"/>
          </a:xfrm>
          <a:prstGeom prst="rect">
            <a:avLst/>
          </a:prstGeom>
          <a:ln w="0">
            <a:noFill/>
          </a:ln>
        </p:spPr>
      </p:pic>
      <p:sp>
        <p:nvSpPr>
          <p:cNvPr id="193" name="Нижний колонтитул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500040" y="785880"/>
            <a:ext cx="40006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орта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ртерии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Вены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Капилляры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ртериальная кровь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Венозная кровь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4" descr="INKPEN"/>
          <p:cNvPicPr/>
          <p:nvPr/>
        </p:nvPicPr>
        <p:blipFill>
          <a:blip r:embed="rId1"/>
          <a:stretch/>
        </p:blipFill>
        <p:spPr>
          <a:xfrm>
            <a:off x="7715160" y="5357880"/>
            <a:ext cx="928800" cy="9619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3"/>
          <p:cNvSpPr/>
          <p:nvPr/>
        </p:nvSpPr>
        <p:spPr>
          <a:xfrm>
            <a:off x="7286760" y="500040"/>
            <a:ext cx="115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3" descr="ser-3"/>
          <p:cNvPicPr/>
          <p:nvPr/>
        </p:nvPicPr>
        <p:blipFill>
          <a:blip r:embed="rId2"/>
          <a:stretch/>
        </p:blipFill>
        <p:spPr>
          <a:xfrm>
            <a:off x="3857760" y="4643280"/>
            <a:ext cx="1639800" cy="1683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a_n_03_01_serce"/>
          <p:cNvPicPr/>
          <p:nvPr/>
        </p:nvPicPr>
        <p:blipFill>
          <a:blip r:embed="rId3"/>
          <a:stretch/>
        </p:blipFill>
        <p:spPr>
          <a:xfrm>
            <a:off x="5286240" y="1643040"/>
            <a:ext cx="1519200" cy="21844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8"/>
          <p:cNvSpPr/>
          <p:nvPr/>
        </p:nvSpPr>
        <p:spPr>
          <a:xfrm>
            <a:off x="7358040" y="1785960"/>
            <a:ext cx="85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а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5"/>
          <p:cNvSpPr/>
          <p:nvPr/>
        </p:nvSpPr>
        <p:spPr>
          <a:xfrm flipH="1" flipV="1">
            <a:off x="4929120" y="4857840"/>
            <a:ext cx="1000080" cy="46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 flipH="1">
            <a:off x="4714920" y="4714920"/>
            <a:ext cx="1071360" cy="46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 flipV="1">
            <a:off x="3429000" y="5143320"/>
            <a:ext cx="1928880" cy="2142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3429000" y="5572080"/>
            <a:ext cx="571680" cy="142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 flipV="1">
            <a:off x="3429000" y="4857480"/>
            <a:ext cx="795240" cy="2142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14"/>
          <p:cNvSpPr/>
          <p:nvPr/>
        </p:nvSpPr>
        <p:spPr>
          <a:xfrm>
            <a:off x="2571840" y="514368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е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Box 15"/>
          <p:cNvSpPr/>
          <p:nvPr/>
        </p:nvSpPr>
        <p:spPr>
          <a:xfrm>
            <a:off x="6000840" y="46432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арте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 flipH="1">
            <a:off x="6286680" y="2000160"/>
            <a:ext cx="1000080" cy="142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Нижний колонтитул 1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642960" y="928800"/>
            <a:ext cx="60721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орта-са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мая крупная артер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ртерии – 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сосуды, несущие кровь от серд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Вены – 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сосуды, несущие кровь к сердц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Капилляры – 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мельчайшие кровеносные сосу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ртериальная кровь – 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кровь, насыщенная кислород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Венозная кровь –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кровь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, насыщенная углекислым газ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7286760" y="5716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AG_student"/>
          <p:cNvPicPr/>
          <p:nvPr/>
        </p:nvPicPr>
        <p:blipFill>
          <a:blip r:embed="rId1"/>
          <a:stretch/>
        </p:blipFill>
        <p:spPr>
          <a:xfrm>
            <a:off x="6929280" y="4071960"/>
            <a:ext cx="1357560" cy="2000160"/>
          </a:xfrm>
          <a:prstGeom prst="rect">
            <a:avLst/>
          </a:prstGeom>
          <a:ln w="0">
            <a:noFill/>
          </a:ln>
        </p:spPr>
      </p:pic>
      <p:sp>
        <p:nvSpPr>
          <p:cNvPr id="212" name="Нижний колонтитул 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Documents and Settings\777\Мои документы\Мои рисунки\кровь и кровообращение\10020801.gif"/>
          <p:cNvPicPr/>
          <p:nvPr/>
        </p:nvPicPr>
        <p:blipFill>
          <a:blip r:embed="rId1"/>
          <a:stretch/>
        </p:blipFill>
        <p:spPr>
          <a:xfrm>
            <a:off x="571680" y="1714680"/>
            <a:ext cx="8001000" cy="40716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4"/>
          <p:cNvSpPr/>
          <p:nvPr/>
        </p:nvSpPr>
        <p:spPr>
          <a:xfrm>
            <a:off x="500040" y="78588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троение кровеносных сосуд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7500960" y="4287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Нижний колонтитул 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3"/>
          <p:cNvSpPr/>
          <p:nvPr/>
        </p:nvSpPr>
        <p:spPr>
          <a:xfrm>
            <a:off x="714240" y="500040"/>
            <a:ext cx="557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троение сердца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C:\Documents and Settings\777\Мои документы\Мои рисунки\кровь и кровообращение\009.jpg"/>
          <p:cNvPicPr/>
          <p:nvPr/>
        </p:nvPicPr>
        <p:blipFill>
          <a:blip r:embed="rId1"/>
          <a:stretch/>
        </p:blipFill>
        <p:spPr>
          <a:xfrm>
            <a:off x="4572000" y="1571760"/>
            <a:ext cx="4048200" cy="3000240"/>
          </a:xfrm>
          <a:prstGeom prst="rect">
            <a:avLst/>
          </a:prstGeom>
          <a:ln w="0">
            <a:noFill/>
          </a:ln>
        </p:spPr>
      </p:pic>
      <p:sp>
        <p:nvSpPr>
          <p:cNvPr id="219" name="TextBox 5"/>
          <p:cNvSpPr/>
          <p:nvPr/>
        </p:nvSpPr>
        <p:spPr>
          <a:xfrm>
            <a:off x="428760" y="1285920"/>
            <a:ext cx="400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Задание №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1. Сколько сердечных камер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2. Как они называютс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3. Одинакова ли толщина стенок обоих половин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4. Почему не одинаков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4" descr="AG00317_"/>
          <p:cNvPicPr/>
          <p:nvPr/>
        </p:nvPicPr>
        <p:blipFill>
          <a:blip r:embed="rId2"/>
          <a:stretch/>
        </p:blipFill>
        <p:spPr>
          <a:xfrm>
            <a:off x="928800" y="4071960"/>
            <a:ext cx="1785960" cy="22147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6"/>
          <p:cNvSpPr/>
          <p:nvPr/>
        </p:nvSpPr>
        <p:spPr>
          <a:xfrm>
            <a:off x="7429680" y="57168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Нижний колонтитул 7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Documents and Settings\777\Мои документы\Мои рисунки\кровь и кровообращение\5.png"/>
          <p:cNvPicPr/>
          <p:nvPr/>
        </p:nvPicPr>
        <p:blipFill>
          <a:blip r:embed="rId1"/>
          <a:stretch/>
        </p:blipFill>
        <p:spPr>
          <a:xfrm>
            <a:off x="1500120" y="1357200"/>
            <a:ext cx="6143760" cy="49294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571680" y="42876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Движение  крови  внутри сердц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7291440" y="428760"/>
            <a:ext cx="117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Нижний колонтитул 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 flipV="1" rot="10800000">
            <a:off x="856800" y="5028840"/>
            <a:ext cx="76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 17 веке Вильям Гарвей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1578 – 165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ткрыл круги кровообращ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Рисунок 4" descr="krov.jpg"/>
          <p:cNvPicPr/>
          <p:nvPr/>
        </p:nvPicPr>
        <p:blipFill>
          <a:blip r:embed="rId1"/>
          <a:stretch/>
        </p:blipFill>
        <p:spPr>
          <a:xfrm>
            <a:off x="642960" y="1214280"/>
            <a:ext cx="3357720" cy="3571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сканирование0062"/>
          <p:cNvPicPr/>
          <p:nvPr/>
        </p:nvPicPr>
        <p:blipFill>
          <a:blip r:embed="rId2"/>
          <a:stretch/>
        </p:blipFill>
        <p:spPr>
          <a:xfrm>
            <a:off x="4857840" y="1214280"/>
            <a:ext cx="3286080" cy="35719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5"/>
          <p:cNvSpPr/>
          <p:nvPr/>
        </p:nvSpPr>
        <p:spPr>
          <a:xfrm>
            <a:off x="7072200" y="500040"/>
            <a:ext cx="13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2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Нижний колонтитул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09:49:07Z</dcterms:created>
  <dc:creator>Слюсарь Т.Д.</dc:creator>
  <dc:description/>
  <dc:language>en-US</dc:language>
  <cp:lastModifiedBy>LEGION</cp:lastModifiedBy>
  <dcterms:modified xsi:type="dcterms:W3CDTF">2014-11-25T09:20:45Z</dcterms:modified>
  <cp:revision>141</cp:revision>
  <dc:subject>Класс птицы</dc:subject>
  <dc:title>Экологические группы птиц по способу питания</dc:title>
</cp:coreProperties>
</file>