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21.png" ContentType="image/png"/>
  <Override PartName="/ppt/media/image4.png" ContentType="image/png"/>
  <Override PartName="/ppt/media/image1.jpeg" ContentType="image/jpeg"/>
  <Override PartName="/ppt/media/image22.png" ContentType="image/png"/>
  <Override PartName="/ppt/media/image17.gif" ContentType="image/gif"/>
  <Override PartName="/ppt/media/image16.jpeg" ContentType="image/jpeg"/>
  <Override PartName="/ppt/media/image14.gif" ContentType="image/gif"/>
  <Override PartName="/ppt/media/image2.jpeg" ContentType="image/jpeg"/>
  <Override PartName="/ppt/media/image25.wmf" ContentType="image/x-wmf"/>
  <Override PartName="/ppt/media/image23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5B0B-C48D-47A8-A636-292821D312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е крови и лимфы в организме. Органы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EDC1-2233-41D6-9076-933405932BC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Газообмен в капилля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0000"/>
                </a:solidFill>
                <a:latin typeface="Calibri"/>
              </a:rPr>
              <a:t>Капилляры </a:t>
            </a:r>
            <a:r>
              <a:rPr b="0" i="1" lang="ru-RU" sz="1200" spc="-1" strike="noStrike">
                <a:solidFill>
                  <a:srgbClr val="002060"/>
                </a:solidFill>
                <a:latin typeface="Calibri"/>
              </a:rPr>
              <a:t>образуют обширную сеть сосудов, пронизывающих все части тела. Диаметр капилляров составляет 7-10 мкм, а их стенки, состоящие из одного лишь эндотелия, проницаемы для воды и растворенных в ней веществ. Именно в капиллярах происходит  обмен   веществ  между  кровью и клетками тела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38B2-8658-47E6-A0A7-A9A9797AB4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Круги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3779-2903-4030-9854-F90198C0CE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1.Кровеносная система человека состоит из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2.Движение крови называется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3.Различаю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4.В организме человека имеются сосуды: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5.Большой круг кровообращения начинается о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заканчивается в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6.Малый круг кровообращения начинается о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и заканчивается в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7.В большом кругу кровообращения по артериям теч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а в малом -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8.В малом кругу кровообращения по венам теч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, а в большом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9.В капиллярах происходи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17AB-B913-4434-BDCE-AD7F037798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4-8 ,повторить группы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A725-69FF-413F-B85C-5347D64757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Закрепить знания о строени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функциях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Показать движение крови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ссмотреть особенности стро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ов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9C6F-5BC7-46C9-97CE-98B31CE988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Строение кровенос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суды, их ви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троение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Строение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CA5E-B3EB-4C63-B381-8C10F9B1A6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орт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и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ы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Капилляр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альная кров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озная кров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1FE0-0C89-4E25-A5AA-C8A6CADC37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орта-са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мая крупная арте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и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сосуды, несущие кровь от серд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ы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сосуды, несущие кровь к серд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Капилляры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мельчайшие кровеносные сосу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Артериальная кровь – 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кровь, насыщенная кислор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2060"/>
                </a:solidFill>
                <a:latin typeface="Calibri"/>
              </a:rPr>
              <a:t>Венозная кровь –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кровь</a:t>
            </a:r>
            <a:r>
              <a:rPr b="0" lang="be-BY" sz="1200" spc="-1" strike="noStrike">
                <a:solidFill>
                  <a:srgbClr val="0070c0"/>
                </a:solidFill>
                <a:latin typeface="Calibri"/>
              </a:rPr>
              <a:t>, насыщенная углекислым газ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B4F9-07C8-4364-BE21-36428059D8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троение кровеносных сосу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B6AA-8618-48FF-8B43-EC9FADF9DB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оение сердц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Задание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1. Сколько сердечных каме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2. Как они назыв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3. Одинакова ли толщина стенок обоих полови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4. Почему не одинако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45A7-4638-4BE3-96ED-CC27918F7F8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Движение  крови  внутри серд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B02B-E600-4086-8DE0-9EEB071816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В 17 веке Вильям Гарв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578 – 16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открыл круги кровообра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ый портал Мой университет - www.moi-universitet.ru факультет "Реформа образования" - www.edu-reforma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A0F2-974D-425A-85CA-D2DD24BBB5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E744-54DA-4DE5-8A32-CBB8CB69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1C3-50B9-4865-B58E-D5AA477C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F4D-2477-4993-B983-BC07DB80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377-B59C-4869-A963-749D8A77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0AADF-8553-42A2-983B-8AEAE6AC4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A04D9-8E36-45AB-8846-1C9464CA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AB9D4-8A01-43BB-B423-3B2A885D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0DBB3-8179-49E1-81A0-86EAA44C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7B0A9-6F0E-4A69-B2C6-D4498994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AFB58-4F42-4897-97BB-F37E143F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125C4-030B-405A-9E28-A5674AF2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87D2-8B8E-4A54-93C7-FB119A82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F3EFC-4612-477B-A568-399F1194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19E8E-90E5-42C7-AF02-F7F2358D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E21B7-9816-4B88-B6A8-696C7D1F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D42DDA-E769-467E-BF8D-A637D2E9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434CB-05A2-4B5D-B9BA-0594136D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79424-E794-45F4-901A-EE69C096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1076A-4A14-4013-BAE1-F71C2189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492AD-BDBA-4A31-B377-B4804955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287B4-1DD2-456E-89BA-D41F9EFC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0BA9A-3C30-4B0E-8937-1EADA954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2899-7BA4-44E1-A162-52E66118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610F4-123C-468D-BEF9-417D7B2D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C203E-B45C-46B1-8EF2-B47626AD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EA4BB-EA14-4E11-AD8A-8B9850FA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8B1EA-46A9-44D5-B1A1-B49105FB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52E81-993C-4762-958C-D6DC243C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F6B86-A557-4C7C-AC04-8F22D1F1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84380-6831-4E65-A1DF-F28E5E50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A2F1B6-2B15-413A-9602-6B320DF3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841150-608D-4F7D-9F76-21DA4598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5A14DE-A111-40C9-B220-6756CC48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61A2-F803-4B16-BCE7-14F3D2BB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B279B4-A311-48AA-9E4C-20FEE197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3D7CEC-AFEA-4225-9B09-3588220F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CE599A-69C6-415D-B71A-25B93758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3CC24A-76AD-4D73-8F11-FD4AE077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E3D65D-9A82-44EB-A33B-070E9C20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72864D-6D3B-4568-815D-A74E07A0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1EB550-E42A-4219-A178-7B0E1737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8801A3-210C-4629-A906-F72AD1EC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C15C42-7B52-4FEE-98A6-55EB6E36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E2B-C9DB-4E53-97A5-8BF93E85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77BF-92AA-4B91-BFEF-AF2A0F98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D86-B110-49CF-AF09-3C07E5DE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913-F784-45ED-B54F-476514C5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D05-7D51-402B-8662-02B2E6BF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BE8E-486C-49FD-AEFF-8922AF64D73B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02FA-ADD0-4722-9BB3-272D02C832E6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8C69-1376-40FE-BB1E-8541DFF74F6F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6188-F559-4201-B03D-74A8BD306E51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3" descr="clip_image003.jpg"/>
          <p:cNvPicPr/>
          <p:nvPr/>
        </p:nvPicPr>
        <p:blipFill>
          <a:blip r:embed="rId1"/>
          <a:stretch/>
        </p:blipFill>
        <p:spPr>
          <a:xfrm>
            <a:off x="6286680" y="1285920"/>
            <a:ext cx="1982520" cy="4441680"/>
          </a:xfrm>
          <a:prstGeom prst="rect">
            <a:avLst/>
          </a:prstGeom>
          <a:ln w="0">
            <a:noFill/>
          </a:ln>
        </p:spPr>
      </p:pic>
      <p:sp>
        <p:nvSpPr>
          <p:cNvPr id="178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 flipV="1" rot="10800000">
            <a:off x="1332000" y="315720"/>
            <a:ext cx="4248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вижение крови и лимфы в организме. Органы кровообращ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7" descr="clip_image005.jpg"/>
          <p:cNvPicPr/>
          <p:nvPr/>
        </p:nvPicPr>
        <p:blipFill>
          <a:blip r:embed="rId1"/>
          <a:stretch/>
        </p:blipFill>
        <p:spPr>
          <a:xfrm>
            <a:off x="642960" y="2143080"/>
            <a:ext cx="3929040" cy="36432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571680" y="107172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Малый круг кровообра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7286760" y="428760"/>
            <a:ext cx="14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3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Рисунок 5" descr="clip_image006.jpg"/>
          <p:cNvPicPr/>
          <p:nvPr/>
        </p:nvPicPr>
        <p:blipFill>
          <a:blip r:embed="rId2"/>
          <a:stretch/>
        </p:blipFill>
        <p:spPr>
          <a:xfrm>
            <a:off x="4786200" y="2143080"/>
            <a:ext cx="3786480" cy="36432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5"/>
          <p:cNvSpPr/>
          <p:nvPr/>
        </p:nvSpPr>
        <p:spPr>
          <a:xfrm>
            <a:off x="4714920" y="10717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Большой круг кровообращ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1" descr="C:\Documents and Settings\777\Мои документы\Мои рисунки\кровь и кровообращение\krov1.jpg"/>
          <p:cNvPicPr/>
          <p:nvPr/>
        </p:nvPicPr>
        <p:blipFill>
          <a:blip r:embed="rId1"/>
          <a:stretch/>
        </p:blipFill>
        <p:spPr>
          <a:xfrm>
            <a:off x="4572000" y="1071720"/>
            <a:ext cx="4000680" cy="2286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2"/>
          <p:cNvSpPr/>
          <p:nvPr/>
        </p:nvSpPr>
        <p:spPr>
          <a:xfrm>
            <a:off x="7215120" y="500040"/>
            <a:ext cx="14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4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428760" y="42876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Газообмен в капилляр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11" descr="C:\Documents and Settings\777\Мои документы\Мои рисунки\кровь и кровообращение\r10.jpg"/>
          <p:cNvPicPr/>
          <p:nvPr/>
        </p:nvPicPr>
        <p:blipFill>
          <a:blip r:embed="rId2"/>
          <a:stretch/>
        </p:blipFill>
        <p:spPr>
          <a:xfrm>
            <a:off x="500040" y="1500120"/>
            <a:ext cx="3571920" cy="47149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"/>
          <p:cNvSpPr/>
          <p:nvPr/>
        </p:nvSpPr>
        <p:spPr>
          <a:xfrm>
            <a:off x="4143240" y="3357720"/>
            <a:ext cx="464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Капилляры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образуют обширную сеть сосудов, пронизывающих все части тела. Диаметр капилляров составляет 7-10 мкм, а их стенки, состоящие из одного лишь эндотелия, проницаемы для воды и растворенных в ней веществ. Именно в капиллярах происходит  обмен   веществ  между  кровью и клетками тел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4286160" y="41432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4438800" y="4295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71680" y="1428840"/>
          <a:ext cx="8072280" cy="4643280"/>
        </p:xfrm>
        <a:graphic>
          <a:graphicData uri="http://schemas.openxmlformats.org/drawingml/2006/table">
            <a:tbl>
              <a:tblPr/>
              <a:tblGrid>
                <a:gridCol w="2868480"/>
                <a:gridCol w="2592360"/>
                <a:gridCol w="2611440"/>
              </a:tblGrid>
              <a:tr h="473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БК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МК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0240"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де начинается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де заканчивается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называются сосуды, относящиеся к этому кругу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3a447"/>
                        </a:buClr>
                        <a:buFont typeface="Verdana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Как изменяется кровь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495360" indent="-495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extBox 4"/>
          <p:cNvSpPr/>
          <p:nvPr/>
        </p:nvSpPr>
        <p:spPr>
          <a:xfrm>
            <a:off x="857160" y="64296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руги кровообра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7072200" y="4287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5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2"/>
          <p:cNvSpPr/>
          <p:nvPr/>
        </p:nvSpPr>
        <p:spPr>
          <a:xfrm>
            <a:off x="642960" y="928800"/>
            <a:ext cx="7858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1.Кровеносная система человека состоит из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2.Движение крови называется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3.Различаю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круги кровообращ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4.В организме человека имеются сосуды: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5.Большой круг кровообращения начинается о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заканчивается в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6.Малый круг кровообращения начинается о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и заканчивается в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7.В большом кругу кровообращения по артериям тече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а в малом -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8.В малом кругу кровообращения по венам тече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, а в большом –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9.В капиллярах происходит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________________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7215120" y="50004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 слай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Нижний колонтитул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1357200" y="981000"/>
            <a:ext cx="38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684360" y="1916280"/>
            <a:ext cx="7858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.4-8 ,повторить группы кров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7149240" y="64296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7" descr="J0309904"/>
          <p:cNvPicPr/>
          <p:nvPr/>
        </p:nvPicPr>
        <p:blipFill>
          <a:blip r:embed="rId1"/>
          <a:stretch/>
        </p:blipFill>
        <p:spPr>
          <a:xfrm>
            <a:off x="6143760" y="4643280"/>
            <a:ext cx="1643040" cy="1285920"/>
          </a:xfrm>
          <a:prstGeom prst="rect">
            <a:avLst/>
          </a:prstGeom>
          <a:ln w="0">
            <a:noFill/>
          </a:ln>
        </p:spPr>
      </p:pic>
      <p:sp>
        <p:nvSpPr>
          <p:cNvPr id="257" name="Нижний колонтитул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2"/>
          <p:cNvSpPr/>
          <p:nvPr/>
        </p:nvSpPr>
        <p:spPr>
          <a:xfrm>
            <a:off x="571680" y="1500120"/>
            <a:ext cx="535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Группа 15"/>
          <p:cNvGrpSpPr/>
          <p:nvPr/>
        </p:nvGrpSpPr>
        <p:grpSpPr>
          <a:xfrm>
            <a:off x="4143240" y="4214880"/>
            <a:ext cx="4214880" cy="2286000"/>
            <a:chOff x="4143240" y="4214880"/>
            <a:chExt cx="4214880" cy="2286000"/>
          </a:xfrm>
        </p:grpSpPr>
        <p:pic>
          <p:nvPicPr>
            <p:cNvPr id="182" name="Picture 7" descr="C:\Documents and Settings\777\Мои документы\Мои рисунки\кровь и кровообращение\кров сист крокодила.jpg"/>
            <p:cNvPicPr/>
            <p:nvPr/>
          </p:nvPicPr>
          <p:blipFill>
            <a:blip r:embed="rId1"/>
            <a:stretch/>
          </p:blipFill>
          <p:spPr>
            <a:xfrm>
              <a:off x="6572160" y="4786200"/>
              <a:ext cx="178596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8" descr=""/>
            <p:cNvPicPr/>
            <p:nvPr/>
          </p:nvPicPr>
          <p:blipFill>
            <a:blip r:embed="rId2"/>
            <a:stretch/>
          </p:blipFill>
          <p:spPr>
            <a:xfrm>
              <a:off x="4143240" y="4214880"/>
              <a:ext cx="2428920" cy="228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4" name="Рисунок 4" descr="кров сист рыб.jpg"/>
          <p:cNvPicPr/>
          <p:nvPr/>
        </p:nvPicPr>
        <p:blipFill>
          <a:blip r:embed="rId3"/>
          <a:stretch/>
        </p:blipFill>
        <p:spPr>
          <a:xfrm>
            <a:off x="6786720" y="3435480"/>
            <a:ext cx="1839600" cy="9936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3" descr="кров сист птиц.jpg"/>
          <p:cNvPicPr/>
          <p:nvPr/>
        </p:nvPicPr>
        <p:blipFill>
          <a:blip r:embed="rId4"/>
          <a:stretch/>
        </p:blipFill>
        <p:spPr>
          <a:xfrm>
            <a:off x="357120" y="4643280"/>
            <a:ext cx="1581120" cy="147636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" descr="кров системя лягухи.jpg"/>
          <p:cNvPicPr/>
          <p:nvPr/>
        </p:nvPicPr>
        <p:blipFill>
          <a:blip r:embed="rId5"/>
          <a:stretch/>
        </p:blipFill>
        <p:spPr>
          <a:xfrm>
            <a:off x="2143080" y="4500720"/>
            <a:ext cx="1714680" cy="16430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" descr="кров сист кошки.jpg"/>
          <p:cNvPicPr/>
          <p:nvPr/>
        </p:nvPicPr>
        <p:blipFill>
          <a:blip r:embed="rId6"/>
          <a:stretch/>
        </p:blipFill>
        <p:spPr>
          <a:xfrm>
            <a:off x="5500800" y="1500120"/>
            <a:ext cx="3108240" cy="1714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Закрепить знания о строении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функциях кров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2.Показать движение крови 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имф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3.Рассмотреть особенности строен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рганов кровообращ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Заголовок 18" descr=""/>
          <p:cNvPicPr/>
          <p:nvPr/>
        </p:nvPicPr>
        <p:blipFill>
          <a:blip r:embed="rId7"/>
          <a:stretch/>
        </p:blipFill>
        <p:spPr>
          <a:xfrm>
            <a:off x="457200" y="133200"/>
            <a:ext cx="8229600" cy="1135080"/>
          </a:xfrm>
          <a:prstGeom prst="rect">
            <a:avLst/>
          </a:prstGeom>
          <a:ln w="0">
            <a:noFill/>
          </a:ln>
        </p:spPr>
      </p:pic>
      <p:sp>
        <p:nvSpPr>
          <p:cNvPr id="190" name="Нижний колонтитул 1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1.Строение кровеносной систем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2.Сосуды, их виды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3.Строение сосудов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4.Строение сердц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5.Круги кровообращения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05160"/>
          </a:xfrm>
          <a:prstGeom prst="rect">
            <a:avLst/>
          </a:prstGeom>
          <a:ln w="0">
            <a:noFill/>
          </a:ln>
        </p:spPr>
      </p:pic>
      <p:sp>
        <p:nvSpPr>
          <p:cNvPr id="193" name="Нижний колонтитул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500040" y="785880"/>
            <a:ext cx="4000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орта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и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ы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Капилляры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альная кровь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озная кровь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4" descr="INKPEN"/>
          <p:cNvPicPr/>
          <p:nvPr/>
        </p:nvPicPr>
        <p:blipFill>
          <a:blip r:embed="rId1"/>
          <a:stretch/>
        </p:blipFill>
        <p:spPr>
          <a:xfrm>
            <a:off x="7715160" y="5357880"/>
            <a:ext cx="928800" cy="9619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3"/>
          <p:cNvSpPr/>
          <p:nvPr/>
        </p:nvSpPr>
        <p:spPr>
          <a:xfrm>
            <a:off x="7286760" y="500040"/>
            <a:ext cx="115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ser-3"/>
          <p:cNvPicPr/>
          <p:nvPr/>
        </p:nvPicPr>
        <p:blipFill>
          <a:blip r:embed="rId2"/>
          <a:stretch/>
        </p:blipFill>
        <p:spPr>
          <a:xfrm>
            <a:off x="3857760" y="4643280"/>
            <a:ext cx="1639800" cy="1683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a_n_03_01_serce"/>
          <p:cNvPicPr/>
          <p:nvPr/>
        </p:nvPicPr>
        <p:blipFill>
          <a:blip r:embed="rId3"/>
          <a:stretch/>
        </p:blipFill>
        <p:spPr>
          <a:xfrm>
            <a:off x="5286240" y="1643040"/>
            <a:ext cx="1519200" cy="2184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7358040" y="1785960"/>
            <a:ext cx="85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аор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5"/>
          <p:cNvSpPr/>
          <p:nvPr/>
        </p:nvSpPr>
        <p:spPr>
          <a:xfrm flipH="1" flipV="1">
            <a:off x="4929120" y="4857840"/>
            <a:ext cx="1000080" cy="46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 flipH="1">
            <a:off x="4714920" y="4714920"/>
            <a:ext cx="1071360" cy="46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 flipV="1">
            <a:off x="3429000" y="5143320"/>
            <a:ext cx="1928880" cy="214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3429000" y="5572080"/>
            <a:ext cx="571680" cy="142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 flipV="1">
            <a:off x="3429000" y="4857480"/>
            <a:ext cx="795240" cy="2142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2571840" y="514368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е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6000840" y="46432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арте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 flipH="1">
            <a:off x="6286680" y="2000160"/>
            <a:ext cx="1000080" cy="142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Нижний колонтитул 1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642960" y="928800"/>
            <a:ext cx="607212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орта-са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мая крупная артер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и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сосуды, несущие кровь от сердц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ы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сосуды, несущие кровь к серд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Капилляры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мельчайшие кровеносные сосу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Артериальная кровь – 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кровь, насыщенная кислоро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2060"/>
                </a:solidFill>
                <a:latin typeface="Arial"/>
              </a:rPr>
              <a:t>Венозная кровь –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кровь</a:t>
            </a:r>
            <a:r>
              <a:rPr b="0" lang="be-BY" sz="2800" spc="-1" strike="noStrike">
                <a:solidFill>
                  <a:srgbClr val="0070c0"/>
                </a:solidFill>
                <a:latin typeface="Arial"/>
              </a:rPr>
              <a:t>, насыщенная углекислым газ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7286760" y="5716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AG_student"/>
          <p:cNvPicPr/>
          <p:nvPr/>
        </p:nvPicPr>
        <p:blipFill>
          <a:blip r:embed="rId1"/>
          <a:stretch/>
        </p:blipFill>
        <p:spPr>
          <a:xfrm>
            <a:off x="6929280" y="4071960"/>
            <a:ext cx="1357560" cy="2000160"/>
          </a:xfrm>
          <a:prstGeom prst="rect">
            <a:avLst/>
          </a:prstGeom>
          <a:ln w="0">
            <a:noFill/>
          </a:ln>
        </p:spPr>
      </p:pic>
      <p:sp>
        <p:nvSpPr>
          <p:cNvPr id="212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777\Мои документы\Мои рисунки\кровь и кровообращение\10020801.gif"/>
          <p:cNvPicPr/>
          <p:nvPr/>
        </p:nvPicPr>
        <p:blipFill>
          <a:blip r:embed="rId1"/>
          <a:stretch/>
        </p:blipFill>
        <p:spPr>
          <a:xfrm>
            <a:off x="571680" y="1714680"/>
            <a:ext cx="8001000" cy="40716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500040" y="7858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троение кровеносных сосуд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7500960" y="42876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3"/>
          <p:cNvSpPr/>
          <p:nvPr/>
        </p:nvSpPr>
        <p:spPr>
          <a:xfrm>
            <a:off x="714240" y="500040"/>
            <a:ext cx="55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роение сердца челове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C:\Documents and Settings\777\Мои документы\Мои рисунки\кровь и кровообращение\009.jpg"/>
          <p:cNvPicPr/>
          <p:nvPr/>
        </p:nvPicPr>
        <p:blipFill>
          <a:blip r:embed="rId1"/>
          <a:stretch/>
        </p:blipFill>
        <p:spPr>
          <a:xfrm>
            <a:off x="4572000" y="1571760"/>
            <a:ext cx="4048200" cy="30002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5"/>
          <p:cNvSpPr/>
          <p:nvPr/>
        </p:nvSpPr>
        <p:spPr>
          <a:xfrm>
            <a:off x="428760" y="1285920"/>
            <a:ext cx="400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Задание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1. Сколько сердечных камер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2. Как они называют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3. Одинакова ли толщина стенок обоих половин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4. Почему не одинаков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AG00317_"/>
          <p:cNvPicPr/>
          <p:nvPr/>
        </p:nvPicPr>
        <p:blipFill>
          <a:blip r:embed="rId2"/>
          <a:stretch/>
        </p:blipFill>
        <p:spPr>
          <a:xfrm>
            <a:off x="928800" y="4071960"/>
            <a:ext cx="1785960" cy="22147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6"/>
          <p:cNvSpPr/>
          <p:nvPr/>
        </p:nvSpPr>
        <p:spPr>
          <a:xfrm>
            <a:off x="7429680" y="57168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Нижний колонтитул 7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Documents and Settings\777\Мои документы\Мои рисунки\кровь и кровообращение\5.png"/>
          <p:cNvPicPr/>
          <p:nvPr/>
        </p:nvPicPr>
        <p:blipFill>
          <a:blip r:embed="rId1"/>
          <a:stretch/>
        </p:blipFill>
        <p:spPr>
          <a:xfrm>
            <a:off x="1500120" y="1357200"/>
            <a:ext cx="6143760" cy="49294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571680" y="42876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Движение  крови  внутри сердц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7291440" y="428760"/>
            <a:ext cx="11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Нижний колонтитул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 flipV="1" rot="10800000">
            <a:off x="856800" y="502884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 17 веке Вильям Гарвей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1578 – 165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крыл круги кровообра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Рисунок 4" descr="krov.jpg"/>
          <p:cNvPicPr/>
          <p:nvPr/>
        </p:nvPicPr>
        <p:blipFill>
          <a:blip r:embed="rId1"/>
          <a:stretch/>
        </p:blipFill>
        <p:spPr>
          <a:xfrm>
            <a:off x="642960" y="1214280"/>
            <a:ext cx="3357720" cy="3571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сканирование0062"/>
          <p:cNvPicPr/>
          <p:nvPr/>
        </p:nvPicPr>
        <p:blipFill>
          <a:blip r:embed="rId2"/>
          <a:stretch/>
        </p:blipFill>
        <p:spPr>
          <a:xfrm>
            <a:off x="4857840" y="1214280"/>
            <a:ext cx="3286080" cy="35719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5"/>
          <p:cNvSpPr/>
          <p:nvPr/>
        </p:nvSpPr>
        <p:spPr>
          <a:xfrm>
            <a:off x="7072200" y="500040"/>
            <a:ext cx="13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2 слай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Нижний колонтитул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  <a:ea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09:49:07Z</dcterms:created>
  <dc:creator>Слюсарь Т.Д.</dc:creator>
  <dc:description/>
  <dc:language>en-US</dc:language>
  <cp:lastModifiedBy>LEGION</cp:lastModifiedBy>
  <dcterms:modified xsi:type="dcterms:W3CDTF">2014-11-25T09:20:45Z</dcterms:modified>
  <cp:revision>141</cp:revision>
  <dc:subject>Класс птицы</dc:subject>
  <dc:title>Экологические группы птиц по способу питания</dc:title>
</cp:coreProperties>
</file>