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71A00-07F5-4D48-9592-3DC6A5B3AEA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АНТИ-СП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A59F2-8865-41E8-A253-38D49A8599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ртикальный пу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рез плаценту (во время беременно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 время р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кормлении грудью (грудным молоко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3C359-6233-4540-B0E8-C216793E846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овой пу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защищённый половой конта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A38C1-E01F-440B-9583-C3EC51712D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ычные факты о 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заразиться ВИЧ через слюну, её потребуется 3 литр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9F456-0048-4990-8A49-170BE1F7F17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заразиться ВИЧ через пот, потребуется целая ванна п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246B5-FB7E-443A-9B04-8D068FDAEF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заразиться ВИЧ через слёзы, их потребуется целый бассейн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7DB4C-95E5-41E0-8CE8-CAA97AF316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расная ленточ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мвол памяти о СПИД-умерших, ныне живущи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мвол надежды на исцел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мвол поддержки больным СПИД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FC685-E6DB-4358-A006-95535624047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Я стал наркоманом 5 лет назад, в последний год моё состояние сильно ухудшилось. Всё время я проводил в подвалах. Родители, узнав, что я наркоман, отправили меня на лечение. В больнице мне сказали, что у меня СПИД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Ровно 4 месяца назад я уснул в больнице, но так и не проснулся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..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E8717-45E5-44F2-AC24-F852EC63681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меня есть старший брат, я всегда гуляла с его компанией. Однажды мы отдыхали на даче, из девушек я была одна. Я слишком много выпила. Помню только, как надо мной издевались. Как оказалось позже, в тот вечер я заразилась СПИДом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чень скоро я умер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5A8A5-E7D0-4E28-86BC-20F34A294DA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– бизнесмен, у нас двое детей, красивая жена, которой я никогда не изменял. Однажды по работе я поехал в длинную командировку в курортный город. Там я познакомился с девушкой… Она была больна СПИДом, но об этом я узнал лишь вернувшись домо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ез 2 года я ум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4BB6A-43AC-4EB5-9298-4127C5C3650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йчас мне было бы 14 лет, я была бы высокой брюнеткой с карими глазами. Каждый день я бы ходила в школу, а вечером на улице с ребятами пела песни под гитару. Но, к сожалению, моя мама заболела СПИДом ещё до того, как я родилась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умерла вместе с мамой, когда на Планету пришла вес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84E75-84C8-455C-AF5C-B6A722C6A94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е было 10 лет, когда мы вместе с семьёй попали в автокатастрофу. Я истекала кровью, времени на проверку не было и мне сделали прямое переливание крови. Оказалось, что кровь  была заражена ВИЧ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BD5DD-1F56-4ABB-A87E-001F69F897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это страшное слово</a:t>
            </a:r>
            <a:r>
              <a:rPr b="0" lang="en-US" sz="1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СП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CD390-92E1-4AF6-9CAB-DF9C8FFD961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ути передачи ВИЧ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рентеральный (через кров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тикальный (от матери ребёнк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овой (при незащищённом половом контакт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E183A-4B38-4F65-83D8-35A062465E4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рентеральный пу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ливание крови и её компон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садка органов и тка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общих принадлежностей для инъек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CBD7A-FAAE-43A5-AD73-32F7EFDF94A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6EB4-E4F8-4EFF-BED1-4155725B8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C998-B767-4826-819E-B0A0CD5D7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E263-04A3-468F-80DB-7B2B9F82B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2788-4326-4FE0-8A7E-1E82DF8DE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5B63-3B8B-4E08-A397-77D43512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DA93-06A6-4E8C-B77E-3B2214B06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1175-FADA-43F0-B0A7-048CF898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0452-4DFD-411C-8340-FC9932965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FF9A-EAFC-4CEE-8F96-4FE5A7C18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8471-046C-4407-8AC1-46761338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4D33-FBAE-422E-AAAB-DEBF361F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53CD-7B25-4713-B6A3-8AE8B197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DBD3F-3267-469D-835D-AED02DFF182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FF82F-47A8-4FDA-9B31-CD034F59A9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Ennio Morricone - Tema.wav" descr=""/>
          <p:cNvPicPr/>
          <p:nvPr/>
        </p:nvPicPr>
        <p:blipFill>
          <a:blip r:embed="rId2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0" name="WordArt 6"/>
          <p:cNvSpPr txBox="1"/>
          <p:nvPr/>
        </p:nvSpPr>
        <p:spPr>
          <a:xfrm>
            <a:off x="684360" y="1700280"/>
            <a:ext cx="806436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НТИ-СПИД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ffffff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Вертикальный пут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ерез плаценту (во время беременности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 время род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 кормлении грудью (грудным молоком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ffffff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оловой пут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защищённый половой контакт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обычные факты о ВИ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заразиться ВИЧ через слюну, её потребуется 3 литра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5" descr="i?id=490102031-47-72&amp;n=21"/>
          <p:cNvPicPr/>
          <p:nvPr/>
        </p:nvPicPr>
        <p:blipFill>
          <a:blip r:embed="rId1"/>
          <a:srcRect l="14270" t="0" r="0" b="0"/>
          <a:stretch/>
        </p:blipFill>
        <p:spPr>
          <a:xfrm>
            <a:off x="324000" y="3141720"/>
            <a:ext cx="3024000" cy="259236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6"/>
          <p:cNvSpPr/>
          <p:nvPr/>
        </p:nvSpPr>
        <p:spPr>
          <a:xfrm>
            <a:off x="3708360" y="4149720"/>
            <a:ext cx="1623960" cy="792000"/>
          </a:xfrm>
          <a:prstGeom prst="rightArrow">
            <a:avLst>
              <a:gd name="adj1" fmla="val 50000"/>
              <a:gd name="adj2" fmla="val 5126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i?id=460823812-47-72&amp;n=21"/>
          <p:cNvPicPr/>
          <p:nvPr/>
        </p:nvPicPr>
        <p:blipFill>
          <a:blip r:embed="rId2"/>
          <a:srcRect l="12528" t="0" r="14248" b="0"/>
          <a:stretch/>
        </p:blipFill>
        <p:spPr>
          <a:xfrm>
            <a:off x="5580000" y="2997360"/>
            <a:ext cx="2952720" cy="302400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заразиться ВИЧ через пот, потребуется целая ванна п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6" descr="i?id=252091763-22-72&amp;n=21"/>
          <p:cNvPicPr/>
          <p:nvPr/>
        </p:nvPicPr>
        <p:blipFill>
          <a:blip r:embed="rId1"/>
          <a:srcRect l="21371" t="-15420" r="25635" b="0"/>
          <a:stretch/>
        </p:blipFill>
        <p:spPr>
          <a:xfrm>
            <a:off x="403200" y="2349360"/>
            <a:ext cx="2728800" cy="3946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i?id=351585194-39-72&amp;n=21"/>
          <p:cNvPicPr/>
          <p:nvPr/>
        </p:nvPicPr>
        <p:blipFill>
          <a:blip r:embed="rId2"/>
          <a:srcRect l="5167" t="0" r="20689" b="0"/>
          <a:stretch/>
        </p:blipFill>
        <p:spPr>
          <a:xfrm>
            <a:off x="5651640" y="2575080"/>
            <a:ext cx="3097080" cy="370656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9"/>
          <p:cNvSpPr/>
          <p:nvPr/>
        </p:nvSpPr>
        <p:spPr>
          <a:xfrm>
            <a:off x="3708360" y="4149720"/>
            <a:ext cx="1623960" cy="792000"/>
          </a:xfrm>
          <a:prstGeom prst="rightArrow">
            <a:avLst>
              <a:gd name="adj1" fmla="val 50000"/>
              <a:gd name="adj2" fmla="val 5126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заразиться ВИЧ через слёзы, их потребуется целый бассейн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5" descr="i?id=340326530-26-72&amp;n=21"/>
          <p:cNvPicPr/>
          <p:nvPr/>
        </p:nvPicPr>
        <p:blipFill>
          <a:blip r:embed="rId1"/>
          <a:srcRect l="7710" t="0" r="0" b="14941"/>
          <a:stretch/>
        </p:blipFill>
        <p:spPr>
          <a:xfrm>
            <a:off x="0" y="2924280"/>
            <a:ext cx="3456000" cy="266544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6"/>
          <p:cNvSpPr/>
          <p:nvPr/>
        </p:nvSpPr>
        <p:spPr>
          <a:xfrm>
            <a:off x="3708360" y="4149720"/>
            <a:ext cx="1623960" cy="792000"/>
          </a:xfrm>
          <a:prstGeom prst="rightArrow">
            <a:avLst>
              <a:gd name="adj1" fmla="val 50000"/>
              <a:gd name="adj2" fmla="val 5126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i?id=547279778-69-72&amp;n=21"/>
          <p:cNvPicPr/>
          <p:nvPr/>
        </p:nvPicPr>
        <p:blipFill>
          <a:blip r:embed="rId2"/>
          <a:stretch/>
        </p:blipFill>
        <p:spPr>
          <a:xfrm>
            <a:off x="5292720" y="2817720"/>
            <a:ext cx="3851280" cy="288936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мвол памяти о СПИД-умерших, ныне живущих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мвол надежды на исцеле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мвол поддержки больным СПИД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10" descr="mor1549"/>
          <p:cNvPicPr/>
          <p:nvPr/>
        </p:nvPicPr>
        <p:blipFill>
          <a:blip r:embed="rId1"/>
          <a:stretch/>
        </p:blipFill>
        <p:spPr>
          <a:xfrm>
            <a:off x="395280" y="177336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Красная ленточк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985320" y="6237360"/>
            <a:ext cx="372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.М. Арыкина. Учитель би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«Сибирячихинская СОШ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Тиуновы\Desktop\dn62-drd.jpg"/>
          <p:cNvPicPr/>
          <p:nvPr/>
        </p:nvPicPr>
        <p:blipFill>
          <a:blip r:embed="rId1"/>
          <a:stretch/>
        </p:blipFill>
        <p:spPr>
          <a:xfrm>
            <a:off x="-396720" y="-387360"/>
            <a:ext cx="102376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492280"/>
            <a:ext cx="93711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Я стал наркоманом 5 лет назад, в последний год моё состояние сильно ухудшилось. Всё время я проводил в подвалах. Родители, узнав, что я наркоман, отправили меня на лечение. В больнице мне сказали, что у меня СПИД.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Ровно 4 месяца назад я уснул в больнице, но так и не проснулся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..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Users\Тиуновы\Desktop\0_44710_43149529_XL.jpg"/>
          <p:cNvPicPr/>
          <p:nvPr/>
        </p:nvPicPr>
        <p:blipFill>
          <a:blip r:embed="rId1"/>
          <a:stretch/>
        </p:blipFill>
        <p:spPr>
          <a:xfrm>
            <a:off x="0" y="1700280"/>
            <a:ext cx="9167760" cy="51577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000" y="3068280"/>
            <a:ext cx="80737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 меня есть старший брат, я всегда гуляла с его компанией. Однажды мы отдыхали на даче, из девушек я была одна. Я слишком много выпила. Помню только, как надо мной издевались. Как оказалось позже, в тот вечер я заразилась СПИДом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чень скоро я умерл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C:\Users\Тиуновы\Desktop\x_5c8caa82.jpg"/>
          <p:cNvPicPr/>
          <p:nvPr/>
        </p:nvPicPr>
        <p:blipFill>
          <a:blip r:embed="rId1"/>
          <a:stretch/>
        </p:blipFill>
        <p:spPr>
          <a:xfrm>
            <a:off x="2124000" y="762120"/>
            <a:ext cx="4064040" cy="60958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Я – бизнесмен, у нас двое детей, красивая жена, которой я никогда не изменял. Однажды по работе я поехал в длинную командировку в курортный город. Там я познакомился с девушкой… Она была больна СПИДом, но об этом я узнал лишь вернувшись домой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ерез 2 года я умер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C:\Users\Тиуновы\Desktop\ce1947af74684bcdc78922ff9422ba55.jpg"/>
          <p:cNvPicPr/>
          <p:nvPr/>
        </p:nvPicPr>
        <p:blipFill>
          <a:blip r:embed="rId1"/>
          <a:stretch/>
        </p:blipFill>
        <p:spPr>
          <a:xfrm>
            <a:off x="0" y="0"/>
            <a:ext cx="1027584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ейчас мне было бы 14 лет, я была бы высокой брюнеткой с карими глазами. Каждый день я бы ходила в школу, а вечером на улице с ребятами пела песни под гитару. Но, к сожалению, моя мама заболела СПИДом ещё до того, как я родилась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Я умерла вместе с мамой, когда на Планету пришла весн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i"/>
          <p:cNvPicPr/>
          <p:nvPr/>
        </p:nvPicPr>
        <p:blipFill>
          <a:blip r:embed="rId1"/>
          <a:stretch/>
        </p:blipFill>
        <p:spPr>
          <a:xfrm>
            <a:off x="0" y="404640"/>
            <a:ext cx="8856720" cy="5904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не было 10 лет, когда мы вместе с семьёй попали в автокатастрофу. Я истекала кровью, времени на проверку не было и мне сделали прямое переливание крови. Оказалось, что кровь  была заражена ВИЧ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500280"/>
            <a:ext cx="82296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WordArt 6"/>
          <p:cNvSpPr txBox="1"/>
          <p:nvPr/>
        </p:nvSpPr>
        <p:spPr>
          <a:xfrm>
            <a:off x="826920" y="765000"/>
            <a:ext cx="7490160" cy="22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то страшное слово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" name="WordArt 7"/>
          <p:cNvSpPr txBox="1"/>
          <p:nvPr/>
        </p:nvSpPr>
        <p:spPr>
          <a:xfrm>
            <a:off x="2411280" y="3716280"/>
            <a:ext cx="482472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ИД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ffffff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ути передачи ВИЧ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арентеральный (через кровь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ертикальный (от матери ребёнку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ловой (при незащищённом половом контакте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ffffff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арентеральный пут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ереливание крови и её компонент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ересадка органов и ткане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спользование общих принадлежностей для инъекци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15:40:07Z</dcterms:created>
  <dc:creator>Тиуновы</dc:creator>
  <dc:description/>
  <dc:language>en-US</dc:language>
  <cp:lastModifiedBy>LEGION</cp:lastModifiedBy>
  <dcterms:modified xsi:type="dcterms:W3CDTF">2014-11-25T09:22:31Z</dcterms:modified>
  <cp:revision>24</cp:revision>
  <dc:subject/>
  <dc:title>Слайд 1</dc:title>
</cp:coreProperties>
</file>