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5D84-8EEE-4517-9626-4D99C59C55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НТИ-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CA6A-EF48-406D-8518-1FBB599AC6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E88E-0ED6-4814-9515-C00B28BF59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F0E9-6EF8-431E-8880-4EC11F0DCA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9FCD-0CBD-4DBC-AE1D-B2D3C9D4ED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AD00-C015-4BD4-80A4-B275FDF2C2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AAF4-898E-465E-B37F-F21D1BB15E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81C9-3639-44FD-BB5A-CD7AD16434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15F6-F10F-4828-9868-8F9F60A3B3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134C-E0ED-4822-ACC6-38336FC868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92C1-5CBE-46A8-9645-10FCC841F4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0429-189E-4383-95DD-39FCDC29DF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311B-AB7D-4841-87B9-9189FBFB3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это страшное слово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5AA7-6E4E-4DCC-BE8F-DE664FD11C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65B8-027B-40CA-ADA6-FC4F6AE8E3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3853-372C-478B-9893-B44BC483F3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AE4-9249-4A8B-8B45-C4A646A8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D06-A566-4C49-8094-E3C4AF09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0A6-726C-4EA7-88A9-386E0348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DBE-02BF-4181-AF71-C6B59C53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8EA-EA11-4F03-9ECC-02E1F282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4EF-4546-41B8-B0B2-646AD942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F3A-C53F-4F99-B012-5FDEE376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E75-DBC8-4D63-B7DB-AC0CE27F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BED-187D-4754-BE49-283F0ABB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9F3-D5CC-4A93-ACCD-22663B8B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1CF-7E84-4C4D-9A92-A96F6E1A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8C0-996D-404D-B3F8-815605A0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377E-C437-430A-A999-8ED0538040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9634-F7F3-417B-9E6A-72150B91E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Ennio Morricone - Tema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1700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-СПИД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i?id=490102031-47-72&amp;n=21"/>
          <p:cNvPicPr/>
          <p:nvPr/>
        </p:nvPicPr>
        <p:blipFill>
          <a:blip r:embed="rId1"/>
          <a:srcRect l="14270" t="0" r="0" b="0"/>
          <a:stretch/>
        </p:blipFill>
        <p:spPr>
          <a:xfrm>
            <a:off x="324000" y="3141720"/>
            <a:ext cx="3024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460823812-47-72&amp;n=21"/>
          <p:cNvPicPr/>
          <p:nvPr/>
        </p:nvPicPr>
        <p:blipFill>
          <a:blip r:embed="rId2"/>
          <a:srcRect l="12528" t="0" r="14248" b="0"/>
          <a:stretch/>
        </p:blipFill>
        <p:spPr>
          <a:xfrm>
            <a:off x="5580000" y="29973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i?id=252091763-22-72&amp;n=21"/>
          <p:cNvPicPr/>
          <p:nvPr/>
        </p:nvPicPr>
        <p:blipFill>
          <a:blip r:embed="rId1"/>
          <a:srcRect l="21371" t="-15420" r="25635" b="0"/>
          <a:stretch/>
        </p:blipFill>
        <p:spPr>
          <a:xfrm>
            <a:off x="403200" y="2349360"/>
            <a:ext cx="2728800" cy="39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351585194-39-72&amp;n=21"/>
          <p:cNvPicPr/>
          <p:nvPr/>
        </p:nvPicPr>
        <p:blipFill>
          <a:blip r:embed="rId2"/>
          <a:srcRect l="5167" t="0" r="20689" b="0"/>
          <a:stretch/>
        </p:blipFill>
        <p:spPr>
          <a:xfrm>
            <a:off x="5651640" y="2575080"/>
            <a:ext cx="3097080" cy="3706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i?id=340326530-26-72&amp;n=21"/>
          <p:cNvPicPr/>
          <p:nvPr/>
        </p:nvPicPr>
        <p:blipFill>
          <a:blip r:embed="rId1"/>
          <a:srcRect l="7710" t="0" r="0" b="14941"/>
          <a:stretch/>
        </p:blipFill>
        <p:spPr>
          <a:xfrm>
            <a:off x="0" y="2924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?id=547279778-69-72&amp;n=21"/>
          <p:cNvPicPr/>
          <p:nvPr/>
        </p:nvPicPr>
        <p:blipFill>
          <a:blip r:embed="rId2"/>
          <a:stretch/>
        </p:blipFill>
        <p:spPr>
          <a:xfrm>
            <a:off x="5292720" y="281772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mor154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85320" y="62373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М. Арыкина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ибирячихин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Тиуновы\Desktop\dn62-drd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23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937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Тиуновы\Desktop\0_44710_43149529_XL.jpg"/>
          <p:cNvPicPr/>
          <p:nvPr/>
        </p:nvPicPr>
        <p:blipFill>
          <a:blip r:embed="rId1"/>
          <a:stretch/>
        </p:blipFill>
        <p:spPr>
          <a:xfrm>
            <a:off x="0" y="1700280"/>
            <a:ext cx="91677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8073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Тиуновы\Desktop\x_5c8caa82.jpg"/>
          <p:cNvPicPr/>
          <p:nvPr/>
        </p:nvPicPr>
        <p:blipFill>
          <a:blip r:embed="rId1"/>
          <a:stretch/>
        </p:blipFill>
        <p:spPr>
          <a:xfrm>
            <a:off x="2124000" y="76212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Тиуновы\Desktop\ce1947af74684bcdc78922ff9422ba55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"/>
          <p:cNvPicPr/>
          <p:nvPr/>
        </p:nvPicPr>
        <p:blipFill>
          <a:blip r:embed="rId1"/>
          <a:stretch/>
        </p:blipFill>
        <p:spPr>
          <a:xfrm>
            <a:off x="0" y="404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826920" y="765000"/>
            <a:ext cx="74901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страшное слов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411280" y="3716280"/>
            <a:ext cx="48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5:40:07Z</dcterms:created>
  <dc:creator>Тиуновы</dc:creator>
  <dc:description/>
  <dc:language>en-US</dc:language>
  <cp:lastModifiedBy>LEGION</cp:lastModifiedBy>
  <dcterms:modified xsi:type="dcterms:W3CDTF">2014-11-25T09:22:31Z</dcterms:modified>
  <cp:revision>24</cp:revision>
  <dc:subject/>
  <dc:title>Слайд 1</dc:title>
</cp:coreProperties>
</file>