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A588-15E7-4AB1-8A56-F175B33F14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НТИ-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09F5-0481-40E7-9A5A-7796FAE363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3617-890E-4C09-B0F9-CFA87931C4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47B8-A04E-4114-B0F5-C84BD1E996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C31-E773-4DC1-904A-67D94340F2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89DF-3109-4858-8CED-962972A289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6179-93CB-4AD2-B3B3-71B723B75D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EFF4-1B8B-43F0-8B29-89F6985D1C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4B3E-0164-4321-B7AD-5DD2AF3AF4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3187-1C54-43AC-A0BE-85D120C917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461D-30A8-421D-A0C2-3A3B249C2C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AA88-4419-4179-BDC7-D37F78636C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EED6-1263-42FD-AB2B-AB630227C2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это страшное слово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715A-9F6D-47F3-ACDB-62338C7BB1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37E7-0EC1-4C5E-BD0F-A0486309C7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9034-CE95-42A4-BDE5-CCBEDE62C7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5B9-9CCF-442D-BD55-833032D8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38B-DC65-4CDC-8148-2E0F9533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949-B1D3-48AD-B209-F1C4E2E7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5DA-6D9E-4F4E-9418-3372D8D5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63C-8C5F-43C2-AD05-966D4C2A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DAD-92F2-4BD0-9828-898F8FE5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14E-6E0C-4A10-B759-76188021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023-FCEC-4B96-B428-8A0FBD54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A6F-F770-4E40-955C-F0D8B0BA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69F-04CB-45C5-9861-0AB4614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772-4E4C-4D8F-9664-D2A38343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926-1728-4F8D-AD76-989C8BC4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7CFF-CF3F-4585-A7CE-018FB7AA01B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9FE1-F833-4F3C-9C45-C9244EF617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Ennio Morricone - Tema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1700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-СПИД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i?id=490102031-47-72&amp;n=21"/>
          <p:cNvPicPr/>
          <p:nvPr/>
        </p:nvPicPr>
        <p:blipFill>
          <a:blip r:embed="rId1"/>
          <a:srcRect l="14270" t="0" r="0" b="0"/>
          <a:stretch/>
        </p:blipFill>
        <p:spPr>
          <a:xfrm>
            <a:off x="324000" y="3141720"/>
            <a:ext cx="3024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460823812-47-72&amp;n=21"/>
          <p:cNvPicPr/>
          <p:nvPr/>
        </p:nvPicPr>
        <p:blipFill>
          <a:blip r:embed="rId2"/>
          <a:srcRect l="12528" t="0" r="14248" b="0"/>
          <a:stretch/>
        </p:blipFill>
        <p:spPr>
          <a:xfrm>
            <a:off x="5580000" y="29973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i?id=252091763-22-72&amp;n=21"/>
          <p:cNvPicPr/>
          <p:nvPr/>
        </p:nvPicPr>
        <p:blipFill>
          <a:blip r:embed="rId1"/>
          <a:srcRect l="21371" t="-15420" r="25635" b="0"/>
          <a:stretch/>
        </p:blipFill>
        <p:spPr>
          <a:xfrm>
            <a:off x="403200" y="2349360"/>
            <a:ext cx="2728800" cy="39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351585194-39-72&amp;n=21"/>
          <p:cNvPicPr/>
          <p:nvPr/>
        </p:nvPicPr>
        <p:blipFill>
          <a:blip r:embed="rId2"/>
          <a:srcRect l="5167" t="0" r="20689" b="0"/>
          <a:stretch/>
        </p:blipFill>
        <p:spPr>
          <a:xfrm>
            <a:off x="5651640" y="2575080"/>
            <a:ext cx="3097080" cy="3706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i?id=340326530-26-72&amp;n=21"/>
          <p:cNvPicPr/>
          <p:nvPr/>
        </p:nvPicPr>
        <p:blipFill>
          <a:blip r:embed="rId1"/>
          <a:srcRect l="7710" t="0" r="0" b="14941"/>
          <a:stretch/>
        </p:blipFill>
        <p:spPr>
          <a:xfrm>
            <a:off x="0" y="2924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?id=547279778-69-72&amp;n=21"/>
          <p:cNvPicPr/>
          <p:nvPr/>
        </p:nvPicPr>
        <p:blipFill>
          <a:blip r:embed="rId2"/>
          <a:stretch/>
        </p:blipFill>
        <p:spPr>
          <a:xfrm>
            <a:off x="5292720" y="281772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mor154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85320" y="62373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М. Арыкина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ибирячихин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Тиуновы\Desktop\dn62-drd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23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937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Тиуновы\Desktop\0_44710_43149529_XL.jpg"/>
          <p:cNvPicPr/>
          <p:nvPr/>
        </p:nvPicPr>
        <p:blipFill>
          <a:blip r:embed="rId1"/>
          <a:stretch/>
        </p:blipFill>
        <p:spPr>
          <a:xfrm>
            <a:off x="0" y="1700280"/>
            <a:ext cx="91677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8073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Тиуновы\Desktop\x_5c8caa82.jpg"/>
          <p:cNvPicPr/>
          <p:nvPr/>
        </p:nvPicPr>
        <p:blipFill>
          <a:blip r:embed="rId1"/>
          <a:stretch/>
        </p:blipFill>
        <p:spPr>
          <a:xfrm>
            <a:off x="2124000" y="76212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Тиуновы\Desktop\ce1947af74684bcdc78922ff9422ba55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"/>
          <p:cNvPicPr/>
          <p:nvPr/>
        </p:nvPicPr>
        <p:blipFill>
          <a:blip r:embed="rId1"/>
          <a:stretch/>
        </p:blipFill>
        <p:spPr>
          <a:xfrm>
            <a:off x="0" y="404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826920" y="765000"/>
            <a:ext cx="74901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страшное слов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411280" y="3716280"/>
            <a:ext cx="48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5:40:07Z</dcterms:created>
  <dc:creator>Тиуновы</dc:creator>
  <dc:description/>
  <dc:language>en-US</dc:language>
  <cp:lastModifiedBy>LEGION</cp:lastModifiedBy>
  <dcterms:modified xsi:type="dcterms:W3CDTF">2014-11-25T09:22:31Z</dcterms:modified>
  <cp:revision>24</cp:revision>
  <dc:subject/>
  <dc:title>Слайд 1</dc:title>
</cp:coreProperties>
</file>