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80CA-6473-46EC-A59D-FD8B103C66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3d69b"/>
                </a:solidFill>
                <a:latin typeface="Calibri"/>
              </a:rPr>
              <a:t>ТЕМА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СТ- ЧАСТЬ ПОБЕГА. ВНЕШНЕЕ И ВНУТРЕННЕЕ СТРОЕНИЕ ЛИ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FF08-38AA-40EA-8FF2-37678CB9D4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ст – один из основных органов растения, занимающий боковое положение в побе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кции ли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▪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Газооб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▪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Испарение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▪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Образование 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(фотосинте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39F7-8F9F-4101-8D22-26E9693560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Какие приспособления имеет лист для осуществления процесса фотосинте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247E-0BCF-484A-9AAF-7B8ED7032E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Внешнее строение ли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1CD9-0163-413C-9FB3-167D78CEC5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b3a2c7"/>
                </a:solidFill>
                <a:latin typeface="Calibri"/>
              </a:rPr>
              <a:t>Простые листья</a:t>
            </a:r>
            <a:r>
              <a:rPr b="1" lang="en-US" sz="1200" spc="-1" strike="noStrike">
                <a:solidFill>
                  <a:srgbClr val="b3a2c7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(имеют одну листовую пластин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5FC8-C332-400A-BC35-8DF2EEC745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е лист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3152"/>
                </a:solidFill>
                <a:latin typeface="Calibri"/>
              </a:rPr>
              <a:t>(На одном черешке имеют несколько листовых пласти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F728-7EA7-458C-8FBC-3B60A0B314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4d097"/>
                </a:solidFill>
                <a:latin typeface="Calibri"/>
              </a:rPr>
              <a:t>Клеточное строение ли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8FB7-5D85-401A-ABD4-F1950A31D1D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A94-B415-4EC6-BA0E-0C6134E9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49D-D03C-4813-B36C-A559A89C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63B8-732F-4F92-890C-A674D6B6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227-056B-494E-9A21-6CA86F92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36393-7111-4D95-A671-C3EE485F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5001B-93D6-475D-950A-08AB04C3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695AF-ADFC-4DC6-80DF-3B4AA6A5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CBFB8-7330-41D2-91AC-769523DA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07830-B745-4368-8E04-1FC52F27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B7D68-5438-4D8F-83C7-36713CBD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6832B-E63D-41F9-BDA6-706C7CDE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E00-D955-4C84-8D52-0E08135A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2B55F-F7D5-4611-8B50-2430CD8B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2F28C-75AB-4161-92DA-20600D37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22BAA-0360-4FD6-AA4D-81925C8A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0BC2D-32AA-4422-93D4-39C73FA4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B888E-6B88-4CC3-893E-415CC402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BC7F5-F993-48D3-86F3-1811993D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6E580-B986-445E-836B-491B5ABD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8009-26A3-4DA0-8B6F-08FC03DF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95F87-CA42-4505-8355-D5378C39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259FE-483E-4938-829A-A9B1BB70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539-5955-4DC9-AB3E-B58BDC33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3FF26-4B25-4F25-A645-BF57E053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46EF-E5A0-4AE2-9FC9-A4AA29FB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D938A-79D6-4F4D-B153-56CB4026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595AD-5193-46A1-AA4A-2BED703F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B28AC-489D-43BD-9B31-B215F6E7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9097A-B328-4CC3-B5DB-D239ED56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60266-3078-4623-9FA3-8BF783AF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B6A9D9-7B75-4872-9D25-8884E39B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A0F816-4884-4661-B695-468B44AA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1C669B-294B-4017-BE14-BA292A40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3F4-0EAE-4E01-B441-A5B9EAC8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9EECBC-CB46-4E5A-85AA-E618EB06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12710B-4B5E-41AE-82F8-769D689F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4991B9-3CF5-48E0-9467-429DBA4C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20C99C-C6AC-4AD5-A313-627CC380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0A8165-B765-486D-B4B5-C97F13B3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408D0C-6A22-4C41-8D7C-66622A78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9351A3-BF76-4A6B-97E1-DA8B3FA1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D4FC79-1699-4D41-8D04-49175A11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51C11F-74D0-4F35-A19E-118A8132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01A8-5809-4CFC-ACDC-C3944ED9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85F-4A7E-4B2C-BE21-BC4FA3D6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7A7-B373-4DD4-B9EF-E2B8FA50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E699-55BE-41C1-A570-80CCF06A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A14-4105-475B-8FDB-F242E68E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0804-43F2-4777-9E5D-0ECDEBDC7450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7418-2067-4E8E-B308-58BA57CE605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8867-53FF-4A31-8334-2AF3AB6DDA61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1B6E-EF2D-4C8F-9FCF-44101176FFE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BE95-B43C-41E5-81A8-2AE94124FB7C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D7AC-CA62-42E3-A862-C81C1E3A633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8122-62E9-4E60-99CE-F69200409DC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F355-A906-46E0-8C75-B59884A4260D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Прямоугольник 3" descr=""/>
          <p:cNvPicPr/>
          <p:nvPr/>
        </p:nvPicPr>
        <p:blipFill>
          <a:blip r:embed="rId1"/>
          <a:stretch/>
        </p:blipFill>
        <p:spPr>
          <a:xfrm>
            <a:off x="1889280" y="401760"/>
            <a:ext cx="5370480" cy="15127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4572000" y="857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Прямоугольник 6" descr=""/>
          <p:cNvPicPr/>
          <p:nvPr/>
        </p:nvPicPr>
        <p:blipFill>
          <a:blip r:embed="rId2"/>
          <a:stretch/>
        </p:blipFill>
        <p:spPr>
          <a:xfrm>
            <a:off x="103320" y="2365200"/>
            <a:ext cx="9077040" cy="318168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Прямоугольник 2" descr=""/>
          <p:cNvPicPr/>
          <p:nvPr/>
        </p:nvPicPr>
        <p:blipFill>
          <a:blip r:embed="rId1"/>
          <a:stretch/>
        </p:blipFill>
        <p:spPr>
          <a:xfrm>
            <a:off x="487440" y="701640"/>
            <a:ext cx="8242200" cy="141300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оугольник 5" descr=""/>
          <p:cNvPicPr/>
          <p:nvPr/>
        </p:nvPicPr>
        <p:blipFill>
          <a:blip r:embed="rId2"/>
          <a:stretch/>
        </p:blipFill>
        <p:spPr>
          <a:xfrm>
            <a:off x="426960" y="2305080"/>
            <a:ext cx="8290080" cy="7491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357120" y="328608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Газообм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357120" y="400068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спарение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285840" y="4643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Образование органически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(фотосинтез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Прямоугольник 2" descr=""/>
          <p:cNvPicPr/>
          <p:nvPr/>
        </p:nvPicPr>
        <p:blipFill>
          <a:blip r:embed="rId1"/>
          <a:stretch/>
        </p:blipFill>
        <p:spPr>
          <a:xfrm>
            <a:off x="139680" y="536400"/>
            <a:ext cx="8955000" cy="52549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285840"/>
            <a:ext cx="8356680" cy="11412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3" descr="Простые и сложные листья.jpeg"/>
          <p:cNvPicPr/>
          <p:nvPr/>
        </p:nvPicPr>
        <p:blipFill>
          <a:blip r:embed="rId2"/>
          <a:stretch/>
        </p:blipFill>
        <p:spPr>
          <a:xfrm>
            <a:off x="1500120" y="1581120"/>
            <a:ext cx="6500880" cy="4562640"/>
          </a:xfrm>
          <a:prstGeom prst="rect">
            <a:avLst/>
          </a:prstGeom>
          <a:ln w="0">
            <a:noFill/>
          </a:ln>
        </p:spPr>
      </p:pic>
      <p:cxnSp>
        <p:nvCxnSpPr>
          <p:cNvPr id="191" name="Прямая со стрелкой 5"/>
          <p:cNvCxnSpPr/>
          <p:nvPr/>
        </p:nvCxnSpPr>
        <p:spPr>
          <a:xfrm flipH="1">
            <a:off x="4857120" y="2357280"/>
            <a:ext cx="1429560" cy="57240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2" name="TextBox 6"/>
          <p:cNvSpPr/>
          <p:nvPr/>
        </p:nvSpPr>
        <p:spPr>
          <a:xfrm>
            <a:off x="6357960" y="20718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череш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3" name="Прямая со стрелкой 8"/>
          <p:cNvCxnSpPr/>
          <p:nvPr/>
        </p:nvCxnSpPr>
        <p:spPr>
          <a:xfrm flipH="1" flipV="1">
            <a:off x="5857920" y="3857040"/>
            <a:ext cx="643320" cy="114372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4" name="TextBox 10"/>
          <p:cNvSpPr/>
          <p:nvPr/>
        </p:nvSpPr>
        <p:spPr>
          <a:xfrm>
            <a:off x="5429160" y="492912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листовая пласти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" name="Прямая со стрелкой 12"/>
          <p:cNvCxnSpPr/>
          <p:nvPr/>
        </p:nvCxnSpPr>
        <p:spPr>
          <a:xfrm>
            <a:off x="4856760" y="1785600"/>
            <a:ext cx="214920" cy="50076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6" name="TextBox 14"/>
          <p:cNvSpPr/>
          <p:nvPr/>
        </p:nvSpPr>
        <p:spPr>
          <a:xfrm>
            <a:off x="3143160" y="135720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основание ли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Прямая со стрелкой 16"/>
          <p:cNvCxnSpPr/>
          <p:nvPr/>
        </p:nvCxnSpPr>
        <p:spPr>
          <a:xfrm>
            <a:off x="3357360" y="2285640"/>
            <a:ext cx="1286280" cy="21492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8" name="TextBox 17"/>
          <p:cNvSpPr/>
          <p:nvPr/>
        </p:nvSpPr>
        <p:spPr>
          <a:xfrm>
            <a:off x="1214280" y="200016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прилист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9" name="Прямая со стрелкой 19"/>
          <p:cNvCxnSpPr/>
          <p:nvPr/>
        </p:nvCxnSpPr>
        <p:spPr>
          <a:xfrm flipV="1">
            <a:off x="2571480" y="4357080"/>
            <a:ext cx="1572120" cy="78660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cxnSp>
        <p:nvCxnSpPr>
          <p:cNvPr id="200" name="Прямая со стрелкой 21"/>
          <p:cNvCxnSpPr/>
          <p:nvPr/>
        </p:nvCxnSpPr>
        <p:spPr>
          <a:xfrm flipV="1">
            <a:off x="2571480" y="4428360"/>
            <a:ext cx="2143800" cy="71532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201" name="TextBox 22"/>
          <p:cNvSpPr/>
          <p:nvPr/>
        </p:nvSpPr>
        <p:spPr>
          <a:xfrm>
            <a:off x="1500120" y="507204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жил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2" name="Прямая со стрелкой 24"/>
          <p:cNvCxnSpPr/>
          <p:nvPr/>
        </p:nvCxnSpPr>
        <p:spPr>
          <a:xfrm flipH="1" flipV="1">
            <a:off x="5071320" y="4571280"/>
            <a:ext cx="1429560" cy="42948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203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212760"/>
            <a:ext cx="8143920" cy="9270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500040" y="10000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55475"/>
                </a:solidFill>
                <a:latin typeface="Constantia"/>
              </a:rPr>
              <a:t>(имеют одну листовую пластинк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Рисунок 4" descr="лист клена.jpeg"/>
          <p:cNvPicPr/>
          <p:nvPr/>
        </p:nvPicPr>
        <p:blipFill>
          <a:blip r:embed="rId2"/>
          <a:stretch/>
        </p:blipFill>
        <p:spPr>
          <a:xfrm>
            <a:off x="357120" y="150012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5" descr="лист одуванчика.jpeg"/>
          <p:cNvPicPr/>
          <p:nvPr/>
        </p:nvPicPr>
        <p:blipFill>
          <a:blip r:embed="rId3"/>
          <a:stretch/>
        </p:blipFill>
        <p:spPr>
          <a:xfrm rot="240600">
            <a:off x="4881600" y="1496520"/>
            <a:ext cx="2071800" cy="27860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6" descr="лист сирени.jpeg"/>
          <p:cNvPicPr/>
          <p:nvPr/>
        </p:nvPicPr>
        <p:blipFill>
          <a:blip r:embed="rId4"/>
          <a:stretch/>
        </p:blipFill>
        <p:spPr>
          <a:xfrm rot="1334400">
            <a:off x="6318000" y="3769920"/>
            <a:ext cx="1900080" cy="24289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7" descr="лист яблони.jpeg"/>
          <p:cNvPicPr/>
          <p:nvPr/>
        </p:nvPicPr>
        <p:blipFill>
          <a:blip r:embed="rId5"/>
          <a:stretch/>
        </p:blipFill>
        <p:spPr>
          <a:xfrm>
            <a:off x="2428920" y="3929040"/>
            <a:ext cx="217152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928800" y="371484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кл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9"/>
          <p:cNvSpPr/>
          <p:nvPr/>
        </p:nvSpPr>
        <p:spPr>
          <a:xfrm>
            <a:off x="3929040" y="414324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одуванч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2500200" y="592920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ябло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11"/>
          <p:cNvSpPr/>
          <p:nvPr/>
        </p:nvSpPr>
        <p:spPr>
          <a:xfrm>
            <a:off x="6000840" y="585792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сир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356680" cy="9255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"/>
          <p:cNvSpPr/>
          <p:nvPr/>
        </p:nvSpPr>
        <p:spPr>
          <a:xfrm>
            <a:off x="285840" y="928800"/>
            <a:ext cx="85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354d"/>
                </a:solidFill>
                <a:latin typeface="Constantia"/>
              </a:rPr>
              <a:t>(На одном черешке имеют несколько листовых пластино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Рисунок 3" descr="лист клевера.jpeg"/>
          <p:cNvPicPr/>
          <p:nvPr/>
        </p:nvPicPr>
        <p:blipFill>
          <a:blip r:embed="rId2"/>
          <a:stretch/>
        </p:blipFill>
        <p:spPr>
          <a:xfrm>
            <a:off x="714240" y="1428840"/>
            <a:ext cx="1981440" cy="18763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лист малины.jpeg"/>
          <p:cNvPicPr/>
          <p:nvPr/>
        </p:nvPicPr>
        <p:blipFill>
          <a:blip r:embed="rId3"/>
          <a:stretch/>
        </p:blipFill>
        <p:spPr>
          <a:xfrm>
            <a:off x="3286080" y="1357200"/>
            <a:ext cx="2225880" cy="24195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5" descr="Простые и сложные листья.jpeg"/>
          <p:cNvPicPr/>
          <p:nvPr/>
        </p:nvPicPr>
        <p:blipFill>
          <a:blip r:embed="rId4"/>
          <a:stretch/>
        </p:blipFill>
        <p:spPr>
          <a:xfrm>
            <a:off x="6215040" y="1357200"/>
            <a:ext cx="2271600" cy="22860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6" descr="лист шиповника.jpeg"/>
          <p:cNvPicPr/>
          <p:nvPr/>
        </p:nvPicPr>
        <p:blipFill>
          <a:blip r:embed="rId5"/>
          <a:stretch/>
        </p:blipFill>
        <p:spPr>
          <a:xfrm>
            <a:off x="2000160" y="3714840"/>
            <a:ext cx="2214720" cy="23572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7" descr="лист люпина.jpeg"/>
          <p:cNvPicPr/>
          <p:nvPr/>
        </p:nvPicPr>
        <p:blipFill>
          <a:blip r:embed="rId6"/>
          <a:stretch/>
        </p:blipFill>
        <p:spPr>
          <a:xfrm>
            <a:off x="5000760" y="3357720"/>
            <a:ext cx="3000240" cy="28573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8"/>
          <p:cNvSpPr/>
          <p:nvPr/>
        </p:nvSpPr>
        <p:spPr>
          <a:xfrm>
            <a:off x="642960" y="32860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клев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3857760" y="3714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мал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10"/>
          <p:cNvSpPr/>
          <p:nvPr/>
        </p:nvSpPr>
        <p:spPr>
          <a:xfrm>
            <a:off x="6500880" y="33577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земля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11"/>
          <p:cNvSpPr/>
          <p:nvPr/>
        </p:nvSpPr>
        <p:spPr>
          <a:xfrm>
            <a:off x="2071800" y="607212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шипов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6143760" y="60008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люп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2" descr=""/>
          <p:cNvPicPr/>
          <p:nvPr/>
        </p:nvPicPr>
        <p:blipFill>
          <a:blip r:embed="rId1"/>
          <a:stretch/>
        </p:blipFill>
        <p:spPr>
          <a:xfrm>
            <a:off x="360360" y="262080"/>
            <a:ext cx="8423280" cy="102384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4" descr="подушка 001.jpg"/>
          <p:cNvPicPr/>
          <p:nvPr/>
        </p:nvPicPr>
        <p:blipFill>
          <a:blip r:embed="rId2"/>
          <a:stretch/>
        </p:blipFill>
        <p:spPr>
          <a:xfrm>
            <a:off x="357120" y="1428840"/>
            <a:ext cx="4857840" cy="4429080"/>
          </a:xfrm>
          <a:prstGeom prst="rect">
            <a:avLst/>
          </a:prstGeom>
          <a:ln w="0">
            <a:noFill/>
          </a:ln>
        </p:spPr>
      </p:pic>
      <p:cxnSp>
        <p:nvCxnSpPr>
          <p:cNvPr id="230" name="Прямая со стрелкой 6"/>
          <p:cNvCxnSpPr/>
          <p:nvPr/>
        </p:nvCxnSpPr>
        <p:spPr>
          <a:xfrm>
            <a:off x="4928760" y="1643040"/>
            <a:ext cx="8578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1" name="TextBox 9"/>
          <p:cNvSpPr/>
          <p:nvPr/>
        </p:nvSpPr>
        <p:spPr>
          <a:xfrm>
            <a:off x="5786280" y="14288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Кожица (эпидер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2" name="Прямая со стрелкой 11"/>
          <p:cNvCxnSpPr/>
          <p:nvPr/>
        </p:nvCxnSpPr>
        <p:spPr>
          <a:xfrm>
            <a:off x="4928760" y="2428920"/>
            <a:ext cx="8578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3" name="TextBox 12"/>
          <p:cNvSpPr/>
          <p:nvPr/>
        </p:nvSpPr>
        <p:spPr>
          <a:xfrm>
            <a:off x="5929200" y="22860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Столбчатая тк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4" name="Прямая со стрелкой 14"/>
          <p:cNvCxnSpPr/>
          <p:nvPr/>
        </p:nvCxnSpPr>
        <p:spPr>
          <a:xfrm>
            <a:off x="5072040" y="3499920"/>
            <a:ext cx="643320" cy="2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5" name="TextBox 15"/>
          <p:cNvSpPr/>
          <p:nvPr/>
        </p:nvSpPr>
        <p:spPr>
          <a:xfrm>
            <a:off x="5786280" y="335772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Губчатая тк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6" name="Прямая со стрелкой 27"/>
          <p:cNvCxnSpPr/>
          <p:nvPr/>
        </p:nvCxnSpPr>
        <p:spPr>
          <a:xfrm>
            <a:off x="5143320" y="4214880"/>
            <a:ext cx="57204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7" name="TextBox 28"/>
          <p:cNvSpPr/>
          <p:nvPr/>
        </p:nvSpPr>
        <p:spPr>
          <a:xfrm>
            <a:off x="5786280" y="407196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Кожица (эпидер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8" name="Прямая со стрелкой 30"/>
          <p:cNvCxnSpPr/>
          <p:nvPr/>
        </p:nvCxnSpPr>
        <p:spPr>
          <a:xfrm>
            <a:off x="5072040" y="5143680"/>
            <a:ext cx="71496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9" name="TextBox 32"/>
          <p:cNvSpPr/>
          <p:nvPr/>
        </p:nvSpPr>
        <p:spPr>
          <a:xfrm>
            <a:off x="5786280" y="50007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Усть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Прямая со стрелкой 34"/>
          <p:cNvCxnSpPr/>
          <p:nvPr/>
        </p:nvCxnSpPr>
        <p:spPr>
          <a:xfrm>
            <a:off x="5000760" y="5643720"/>
            <a:ext cx="78624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1" name="TextBox 35"/>
          <p:cNvSpPr/>
          <p:nvPr/>
        </p:nvSpPr>
        <p:spPr>
          <a:xfrm>
            <a:off x="5786280" y="54291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Жи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Рисунок 36" descr="Копия устьце.jpg"/>
          <p:cNvPicPr/>
          <p:nvPr/>
        </p:nvPicPr>
        <p:blipFill>
          <a:blip r:embed="rId3"/>
          <a:stretch/>
        </p:blipFill>
        <p:spPr>
          <a:xfrm>
            <a:off x="5857920" y="4357800"/>
            <a:ext cx="2371680" cy="21333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8:36:38Z</dcterms:created>
  <dc:creator>Марина</dc:creator>
  <dc:description/>
  <dc:language>en-US</dc:language>
  <cp:lastModifiedBy>LEGION</cp:lastModifiedBy>
  <dcterms:modified xsi:type="dcterms:W3CDTF">2014-11-25T09:23:46Z</dcterms:modified>
  <cp:revision>69</cp:revision>
  <dc:subject/>
  <dc:title>Слайд 1</dc:title>
</cp:coreProperties>
</file>