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0375-E297-4DBB-80E0-C2BC280EFC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3d69b"/>
                </a:solidFill>
                <a:latin typeface="Calibri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- ЧАСТЬ ПОБЕГА. ВНЕШНЕЕ И ВНУТРЕННЕЕ СТРОЕНИЕ Л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B9A1-37D3-4BEA-B285-E25FFB8880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 – один из основных органов растения, занимающий боковое положение в побе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Газо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Испарение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Образование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(фотосинте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307A-663E-4C02-8619-80CF84A6C3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акие приспособления имеет лист для осуществления процесса фотосинте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BF4A-B4BE-47FC-9AA9-F99728A7FD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Внешнее строение л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9399-6393-49A7-93A6-6DE5CCDFA1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b3a2c7"/>
                </a:solidFill>
                <a:latin typeface="Calibri"/>
              </a:rPr>
              <a:t>Простые листья</a:t>
            </a:r>
            <a:r>
              <a:rPr b="1" lang="en-US" sz="1200" spc="-1" strike="noStrike">
                <a:solidFill>
                  <a:srgbClr val="b3a2c7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(имеют одну листовую пласти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D5DA-B314-41B3-9D93-093FB690AE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лист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3152"/>
                </a:solidFill>
                <a:latin typeface="Calibri"/>
              </a:rPr>
              <a:t>(На одном черешке имеют несколько листовых пласти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762C-BA3A-4761-8917-97DAB5DD1C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d097"/>
                </a:solidFill>
                <a:latin typeface="Calibri"/>
              </a:rPr>
              <a:t>Клеточное строение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C61F-B12C-431C-96E3-B4284FE6B0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D9E-EAB9-429C-AB1C-871005BC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628-C5D7-4DDE-AB5C-CFBC2666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CC0-E35F-49F9-AB33-30D86BFA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288-C2B1-4EB3-9876-32778139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2CFB4-20A5-4ABF-A8E4-B1D9B1B5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376E0-CC11-490A-B108-4F85B9CA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B2C45-2C23-4ECD-A336-BAFF014E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C5F6F-6B93-406E-8B31-B4575774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8DB2D-25CF-4089-81F8-A3813434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45B4D-DEED-40C9-9A5A-3BDCE566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0F9D9-489A-4EFC-A0D7-95B9965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678-6485-41FC-BAEB-EAF0F5BB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38011-741B-48D9-ABBE-7E220799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441BC-0FD7-4312-A91B-3F42F7C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4AC19-8142-4C95-89F2-84FC7D89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03239-AF5A-4264-B258-E6C6E7F2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4E7AE-1FFA-4069-B116-1101BE0B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B23CA-B9F7-4429-8067-73599FE0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DD4BF-50AE-4443-9C7E-443A1D41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AA1D-4672-471C-9BA8-FC30B14C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8737-6E66-42AE-9BBF-5D37353A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1679-E583-4178-A959-4BA68A4F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490-09D4-43EF-8629-4B0FB49D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03941-FBC8-422C-96B3-6E12FE80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EA62-BD96-4A26-B786-0ED6D121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D55C-9329-46FC-9DA8-E6A6A1A4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7EC5-880F-4F92-9DE1-95DDED16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F695-C4C8-4A1F-BA6E-C0DF015B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8CB99-4405-4A04-AD03-63AF9498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2855-9D14-4AB9-AA94-3C661A9A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DC3D60-D374-4A95-841C-ED0F28F0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98029-9093-46F9-BE77-998E738A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031302-FD40-45F4-9B31-9DBDBD97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D4C-F28F-42D9-9218-5118497A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E86C9F-D53C-472C-AD1A-B5B73BDE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2D5F2-5DD6-430A-A267-F955FEB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13349-59B8-48E0-BAE1-6AC877BC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3ED0B-0B0B-4918-A6B7-F0719A99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9818C-5A1D-4FA3-A52B-20244E5E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62F46-85B7-40E0-93EF-92F87560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A46C1-2F45-4621-A5B4-CFB5C7AE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7F85E1-2C3F-4D72-9316-47F3B68D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6CD77-72AB-48D6-BF98-173577F2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05D-E0EF-4DCE-A2A9-48CF03F5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FF2-8A68-4E93-BBBC-40B9D6CE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53E-BA8A-4257-8058-3F37CB3B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9DC-B07C-41ED-9D0A-420AF0E4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EB2-FE2F-4A17-8DA0-B51CBF3C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E5C0-BEA0-49D0-BCAE-47B83D243A08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3F37-1203-4B4E-B911-293E0DE6996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B7A6-631E-4BDB-82F4-8046AC705CCC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E0E1-CF0A-480D-912E-53FDE18E45F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718F-9225-4709-93C0-EC81080F2CC3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F62C-3EA8-4E7E-BEF3-6A3DC97C046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D7F9-71E9-4F87-A3E0-6A195128F9C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F281-347D-4A71-AAAD-DF711FCFCF5F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401760"/>
            <a:ext cx="5370480" cy="1512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457200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Прямоугольник 6" descr=""/>
          <p:cNvPicPr/>
          <p:nvPr/>
        </p:nvPicPr>
        <p:blipFill>
          <a:blip r:embed="rId2"/>
          <a:stretch/>
        </p:blipFill>
        <p:spPr>
          <a:xfrm>
            <a:off x="103320" y="2365200"/>
            <a:ext cx="9077040" cy="318168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701640"/>
            <a:ext cx="8242200" cy="141300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5" descr=""/>
          <p:cNvPicPr/>
          <p:nvPr/>
        </p:nvPicPr>
        <p:blipFill>
          <a:blip r:embed="rId2"/>
          <a:stretch/>
        </p:blipFill>
        <p:spPr>
          <a:xfrm>
            <a:off x="426960" y="2305080"/>
            <a:ext cx="8290080" cy="7491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357120" y="32860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Газообм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357120" y="40006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спарение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285840" y="4643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бразование органически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(фотосинтез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Прямоугольник 2" descr=""/>
          <p:cNvPicPr/>
          <p:nvPr/>
        </p:nvPicPr>
        <p:blipFill>
          <a:blip r:embed="rId1"/>
          <a:stretch/>
        </p:blipFill>
        <p:spPr>
          <a:xfrm>
            <a:off x="139680" y="536400"/>
            <a:ext cx="8955000" cy="5254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285840"/>
            <a:ext cx="8356680" cy="1141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" descr="Простые и сложные листья.jpeg"/>
          <p:cNvPicPr/>
          <p:nvPr/>
        </p:nvPicPr>
        <p:blipFill>
          <a:blip r:embed="rId2"/>
          <a:stretch/>
        </p:blipFill>
        <p:spPr>
          <a:xfrm>
            <a:off x="1500120" y="1581120"/>
            <a:ext cx="6500880" cy="4562640"/>
          </a:xfrm>
          <a:prstGeom prst="rect">
            <a:avLst/>
          </a:prstGeom>
          <a:ln w="0">
            <a:noFill/>
          </a:ln>
        </p:spPr>
      </p:pic>
      <p:cxnSp>
        <p:nvCxnSpPr>
          <p:cNvPr id="191" name="Прямая со стрелкой 5"/>
          <p:cNvCxnSpPr/>
          <p:nvPr/>
        </p:nvCxnSpPr>
        <p:spPr>
          <a:xfrm flipH="1">
            <a:off x="4857120" y="2357280"/>
            <a:ext cx="1429560" cy="5724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2" name="TextBox 6"/>
          <p:cNvSpPr/>
          <p:nvPr/>
        </p:nvSpPr>
        <p:spPr>
          <a:xfrm>
            <a:off x="6357960" y="2071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череш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3" name="Прямая со стрелкой 8"/>
          <p:cNvCxnSpPr/>
          <p:nvPr/>
        </p:nvCxnSpPr>
        <p:spPr>
          <a:xfrm flipH="1" flipV="1">
            <a:off x="5857920" y="3857040"/>
            <a:ext cx="643320" cy="11437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4" name="TextBox 10"/>
          <p:cNvSpPr/>
          <p:nvPr/>
        </p:nvSpPr>
        <p:spPr>
          <a:xfrm>
            <a:off x="5429160" y="49291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листовая пласти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Прямая со стрелкой 12"/>
          <p:cNvCxnSpPr/>
          <p:nvPr/>
        </p:nvCxnSpPr>
        <p:spPr>
          <a:xfrm>
            <a:off x="4856760" y="1785600"/>
            <a:ext cx="214920" cy="50076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6" name="TextBox 14"/>
          <p:cNvSpPr/>
          <p:nvPr/>
        </p:nvSpPr>
        <p:spPr>
          <a:xfrm>
            <a:off x="3143160" y="13572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основание ли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6"/>
          <p:cNvCxnSpPr/>
          <p:nvPr/>
        </p:nvCxnSpPr>
        <p:spPr>
          <a:xfrm>
            <a:off x="3357360" y="2285640"/>
            <a:ext cx="1286280" cy="2149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8" name="TextBox 17"/>
          <p:cNvSpPr/>
          <p:nvPr/>
        </p:nvSpPr>
        <p:spPr>
          <a:xfrm>
            <a:off x="1214280" y="200016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прилист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9" name="Прямая со стрелкой 19"/>
          <p:cNvCxnSpPr/>
          <p:nvPr/>
        </p:nvCxnSpPr>
        <p:spPr>
          <a:xfrm flipV="1">
            <a:off x="2571480" y="4357080"/>
            <a:ext cx="1572120" cy="7866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cxnSp>
        <p:nvCxnSpPr>
          <p:cNvPr id="200" name="Прямая со стрелкой 21"/>
          <p:cNvCxnSpPr/>
          <p:nvPr/>
        </p:nvCxnSpPr>
        <p:spPr>
          <a:xfrm flipV="1">
            <a:off x="2571480" y="4428360"/>
            <a:ext cx="2143800" cy="7153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1" name="TextBox 22"/>
          <p:cNvSpPr/>
          <p:nvPr/>
        </p:nvSpPr>
        <p:spPr>
          <a:xfrm>
            <a:off x="1500120" y="507204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жи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Прямая со стрелкой 24"/>
          <p:cNvCxnSpPr/>
          <p:nvPr/>
        </p:nvCxnSpPr>
        <p:spPr>
          <a:xfrm flipH="1" flipV="1">
            <a:off x="5071320" y="4571280"/>
            <a:ext cx="1429560" cy="42948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3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8143920" cy="927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500040" y="10000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5475"/>
                </a:solidFill>
                <a:latin typeface="Constantia"/>
              </a:rPr>
              <a:t>(имеют одну листовую пластинк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4" descr="лист клена.jpeg"/>
          <p:cNvPicPr/>
          <p:nvPr/>
        </p:nvPicPr>
        <p:blipFill>
          <a:blip r:embed="rId2"/>
          <a:stretch/>
        </p:blipFill>
        <p:spPr>
          <a:xfrm>
            <a:off x="357120" y="15001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лист одуванчика.jpeg"/>
          <p:cNvPicPr/>
          <p:nvPr/>
        </p:nvPicPr>
        <p:blipFill>
          <a:blip r:embed="rId3"/>
          <a:stretch/>
        </p:blipFill>
        <p:spPr>
          <a:xfrm rot="240600">
            <a:off x="4881600" y="1496520"/>
            <a:ext cx="2071800" cy="27860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6" descr="лист сирени.jpeg"/>
          <p:cNvPicPr/>
          <p:nvPr/>
        </p:nvPicPr>
        <p:blipFill>
          <a:blip r:embed="rId4"/>
          <a:stretch/>
        </p:blipFill>
        <p:spPr>
          <a:xfrm rot="1334400">
            <a:off x="6318000" y="3769920"/>
            <a:ext cx="1900080" cy="24289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лист яблони.jpeg"/>
          <p:cNvPicPr/>
          <p:nvPr/>
        </p:nvPicPr>
        <p:blipFill>
          <a:blip r:embed="rId5"/>
          <a:stretch/>
        </p:blipFill>
        <p:spPr>
          <a:xfrm>
            <a:off x="2428920" y="3929040"/>
            <a:ext cx="217152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928800" y="371484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кл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3929040" y="414324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одуванч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2500200" y="59292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ябло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6000840" y="585792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сир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356680" cy="9255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285840" y="92880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354d"/>
                </a:solidFill>
                <a:latin typeface="Constantia"/>
              </a:rPr>
              <a:t>(На одном черешке имеют несколько листовых пластино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3" descr="лист клевера.jpeg"/>
          <p:cNvPicPr/>
          <p:nvPr/>
        </p:nvPicPr>
        <p:blipFill>
          <a:blip r:embed="rId2"/>
          <a:stretch/>
        </p:blipFill>
        <p:spPr>
          <a:xfrm>
            <a:off x="714240" y="1428840"/>
            <a:ext cx="1981440" cy="1876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лист малины.jpeg"/>
          <p:cNvPicPr/>
          <p:nvPr/>
        </p:nvPicPr>
        <p:blipFill>
          <a:blip r:embed="rId3"/>
          <a:stretch/>
        </p:blipFill>
        <p:spPr>
          <a:xfrm>
            <a:off x="3286080" y="1357200"/>
            <a:ext cx="2225880" cy="2419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5" descr="Простые и сложные листья.jpeg"/>
          <p:cNvPicPr/>
          <p:nvPr/>
        </p:nvPicPr>
        <p:blipFill>
          <a:blip r:embed="rId4"/>
          <a:stretch/>
        </p:blipFill>
        <p:spPr>
          <a:xfrm>
            <a:off x="6215040" y="1357200"/>
            <a:ext cx="2271600" cy="22860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лист шиповника.jpeg"/>
          <p:cNvPicPr/>
          <p:nvPr/>
        </p:nvPicPr>
        <p:blipFill>
          <a:blip r:embed="rId5"/>
          <a:stretch/>
        </p:blipFill>
        <p:spPr>
          <a:xfrm>
            <a:off x="2000160" y="371484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7" descr="лист люпина.jpeg"/>
          <p:cNvPicPr/>
          <p:nvPr/>
        </p:nvPicPr>
        <p:blipFill>
          <a:blip r:embed="rId6"/>
          <a:stretch/>
        </p:blipFill>
        <p:spPr>
          <a:xfrm>
            <a:off x="5000760" y="3357720"/>
            <a:ext cx="3000240" cy="28573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642960" y="32860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клев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3857760" y="3714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мал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6500880" y="3357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земля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2071800" y="60721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шипов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6143760" y="60008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люп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2" descr=""/>
          <p:cNvPicPr/>
          <p:nvPr/>
        </p:nvPicPr>
        <p:blipFill>
          <a:blip r:embed="rId1"/>
          <a:stretch/>
        </p:blipFill>
        <p:spPr>
          <a:xfrm>
            <a:off x="360360" y="262080"/>
            <a:ext cx="8423280" cy="10238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подушка 001.jpg"/>
          <p:cNvPicPr/>
          <p:nvPr/>
        </p:nvPicPr>
        <p:blipFill>
          <a:blip r:embed="rId2"/>
          <a:stretch/>
        </p:blipFill>
        <p:spPr>
          <a:xfrm>
            <a:off x="357120" y="1428840"/>
            <a:ext cx="4857840" cy="4429080"/>
          </a:xfrm>
          <a:prstGeom prst="rect">
            <a:avLst/>
          </a:prstGeom>
          <a:ln w="0">
            <a:noFill/>
          </a:ln>
        </p:spPr>
      </p:pic>
      <p:cxnSp>
        <p:nvCxnSpPr>
          <p:cNvPr id="230" name="Прямая со стрелкой 6"/>
          <p:cNvCxnSpPr/>
          <p:nvPr/>
        </p:nvCxnSpPr>
        <p:spPr>
          <a:xfrm>
            <a:off x="4928760" y="164304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1" name="TextBox 9"/>
          <p:cNvSpPr/>
          <p:nvPr/>
        </p:nvSpPr>
        <p:spPr>
          <a:xfrm>
            <a:off x="5786280" y="14288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Прямая со стрелкой 11"/>
          <p:cNvCxnSpPr/>
          <p:nvPr/>
        </p:nvCxnSpPr>
        <p:spPr>
          <a:xfrm>
            <a:off x="4928760" y="242892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3" name="TextBox 12"/>
          <p:cNvSpPr/>
          <p:nvPr/>
        </p:nvSpPr>
        <p:spPr>
          <a:xfrm>
            <a:off x="5929200" y="22860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тол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" name="Прямая со стрелкой 14"/>
          <p:cNvCxnSpPr/>
          <p:nvPr/>
        </p:nvCxnSpPr>
        <p:spPr>
          <a:xfrm>
            <a:off x="5072040" y="3499920"/>
            <a:ext cx="643320" cy="2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5" name="TextBox 15"/>
          <p:cNvSpPr/>
          <p:nvPr/>
        </p:nvSpPr>
        <p:spPr>
          <a:xfrm>
            <a:off x="5786280" y="33577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Гу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Прямая со стрелкой 27"/>
          <p:cNvCxnSpPr/>
          <p:nvPr/>
        </p:nvCxnSpPr>
        <p:spPr>
          <a:xfrm>
            <a:off x="5143320" y="4214880"/>
            <a:ext cx="5720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7" name="TextBox 28"/>
          <p:cNvSpPr/>
          <p:nvPr/>
        </p:nvSpPr>
        <p:spPr>
          <a:xfrm>
            <a:off x="5786280" y="40719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Прямая со стрелкой 30"/>
          <p:cNvCxnSpPr/>
          <p:nvPr/>
        </p:nvCxnSpPr>
        <p:spPr>
          <a:xfrm>
            <a:off x="5072040" y="5143680"/>
            <a:ext cx="71496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9" name="TextBox 32"/>
          <p:cNvSpPr/>
          <p:nvPr/>
        </p:nvSpPr>
        <p:spPr>
          <a:xfrm>
            <a:off x="5786280" y="50007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Усть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Прямая со стрелкой 34"/>
          <p:cNvCxnSpPr/>
          <p:nvPr/>
        </p:nvCxnSpPr>
        <p:spPr>
          <a:xfrm>
            <a:off x="5000760" y="5643720"/>
            <a:ext cx="7862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1" name="TextBox 35"/>
          <p:cNvSpPr/>
          <p:nvPr/>
        </p:nvSpPr>
        <p:spPr>
          <a:xfrm>
            <a:off x="5786280" y="54291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Ж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36" descr="Копия устьце.jpg"/>
          <p:cNvPicPr/>
          <p:nvPr/>
        </p:nvPicPr>
        <p:blipFill>
          <a:blip r:embed="rId3"/>
          <a:stretch/>
        </p:blipFill>
        <p:spPr>
          <a:xfrm>
            <a:off x="5857920" y="4357800"/>
            <a:ext cx="2371680" cy="21333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8:36:38Z</dcterms:created>
  <dc:creator>Марина</dc:creator>
  <dc:description/>
  <dc:language>en-US</dc:language>
  <cp:lastModifiedBy>LEGION</cp:lastModifiedBy>
  <dcterms:modified xsi:type="dcterms:W3CDTF">2014-11-25T09:23:46Z</dcterms:modified>
  <cp:revision>69</cp:revision>
  <dc:subject/>
  <dc:title>Слайд 1</dc:title>
</cp:coreProperties>
</file>