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A48E-9F28-4BD2-8987-CBE39578B7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3d69b"/>
                </a:solidFill>
                <a:latin typeface="Calibri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СТ- ЧАСТЬ ПОБЕГА. ВНЕШНЕЕ И ВНУТРЕННЕЕ СТРОЕНИЕ ЛИ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E043-918C-401F-AF02-FA703D7787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ст – один из основных органов растения, занимающий боковое положение в побе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л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Газо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Испарение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Образование 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(фотосинте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DF22-6816-4878-AFAC-4CF374F86B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Какие приспособления имеет лист для осуществления процесса фотосинте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09BC-54B5-49CB-8A90-E63E8D7225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Внешнее строение ли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54C9-055F-4AB6-9184-F64F1E72AE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b3a2c7"/>
                </a:solidFill>
                <a:latin typeface="Calibri"/>
              </a:rPr>
              <a:t>Простые листья</a:t>
            </a:r>
            <a:r>
              <a:rPr b="1" lang="en-US" sz="1200" spc="-1" strike="noStrike">
                <a:solidFill>
                  <a:srgbClr val="b3a2c7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(имеют одну листовую пласти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3DAC-63BD-4989-AA20-5DC52ACF04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е лист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3152"/>
                </a:solidFill>
                <a:latin typeface="Calibri"/>
              </a:rPr>
              <a:t>(На одном черешке имеют несколько листовых пласти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3149-BF6C-4BC2-B8DF-0DDFFD7589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d097"/>
                </a:solidFill>
                <a:latin typeface="Calibri"/>
              </a:rPr>
              <a:t>Клеточное строение л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5E7D-7E58-499C-B2AA-0334569704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002-5D99-4972-9A87-9FAA1F0E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156-DD55-464D-80AA-BC84D176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5AA-B8F9-4660-A38B-C1675307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221F-047F-403F-8C62-DC0AA1F9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95B8B-F128-4328-BBE0-AC23B959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6E872-6CD9-482A-906C-E2C2EBBA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3DDAB-CDE0-450D-AAD3-A84A6229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65A13-2D17-4CEA-B377-7705DEF1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194A5-683B-4E5C-9FED-141CCE58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1AA2E-555B-4ECC-B1E6-E62D3AC0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55336-F8CC-4ED9-A491-DD0CD148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9E2D-0F79-4CE3-9ADE-F96AEDCC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16202-F865-4599-BD36-72729CF0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2CBAE-40A8-4B69-B905-B7B3BB81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C9256-FF14-47FB-A8AD-4A39FE3E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350E6-EEAC-4448-A81A-F3B228A7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280BB-8298-42BB-9DA6-6C099308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1E959-4880-414E-9A85-7C0C4D1C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B8A1-98FC-455A-B711-68F7837C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B3E2-CD8B-4D26-9D72-F8997D80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4D907-74B8-4E7C-9086-C9E86838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85680-FA70-4E13-B01B-AB1D9DE3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BD3-7FB8-47D9-8C28-F6A2F4AE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D5B17-AFBC-413D-A0E3-9A07D1C8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FDBD-E533-4C67-AF69-26E2A1D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7106-F314-41F8-A5A5-FDE31D53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B2D88-9A3A-414F-8D3F-D4833DA4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CC80-B6C7-4491-9AB5-0945D0CB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966A-9682-406F-9BE2-07219D8A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D23D2-EB8A-4A28-9547-3260203A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CFD67-7652-40AB-8CC6-CD2C5B85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AF6C1B-75F4-4409-A40A-4279E933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2D4D8F-DF4B-4409-A869-356F8E12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BB2-7065-4C78-BBED-266E1EBA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E66F37-099D-45C5-AEB5-697D2F89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609CCC-F5BE-4D31-A5E1-C2849511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83245C-5AF7-436F-A9D0-7C10F83F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3209EA-C9E9-4FBA-98B8-37052431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50B23F-23D7-4CCB-B087-C7657886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89DBF4-B0C9-4E00-AD14-21A1F652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80E5E4-F9E3-4981-9231-A77E1A22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EAC27E-ADA4-407E-8B55-B02A4C95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A73C7-584F-43E0-AF34-364BDCFF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94E-8A77-493D-96CA-6F5F5415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280-1B6C-420D-8103-04C37EB0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E6F-E8C6-4D43-915B-528FC92C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458-944D-4E90-AEDA-EA1F645F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E0D-E8E1-4471-AFD8-A3782AF6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313B-D33F-4FA5-8BAD-43E86EAD04E1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7D02-6B58-497F-BF78-046A229A846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0C67-2D41-45F4-9619-26607BDA6414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B21A-4C6D-4CF9-BB59-24673999C37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E686-C24B-45A8-839B-84DE6D95DEF9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C76D-2B65-409B-97E7-52F438E95FC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8663-EA33-4D41-8438-156657FF597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06E0-97A5-481C-9A8E-773D30FFFC27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Прямоугольник 3" descr=""/>
          <p:cNvPicPr/>
          <p:nvPr/>
        </p:nvPicPr>
        <p:blipFill>
          <a:blip r:embed="rId1"/>
          <a:stretch/>
        </p:blipFill>
        <p:spPr>
          <a:xfrm>
            <a:off x="1889280" y="401760"/>
            <a:ext cx="5370480" cy="1512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457200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Прямоугольник 6" descr=""/>
          <p:cNvPicPr/>
          <p:nvPr/>
        </p:nvPicPr>
        <p:blipFill>
          <a:blip r:embed="rId2"/>
          <a:stretch/>
        </p:blipFill>
        <p:spPr>
          <a:xfrm>
            <a:off x="103320" y="2365200"/>
            <a:ext cx="9077040" cy="318168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701640"/>
            <a:ext cx="8242200" cy="141300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5" descr=""/>
          <p:cNvPicPr/>
          <p:nvPr/>
        </p:nvPicPr>
        <p:blipFill>
          <a:blip r:embed="rId2"/>
          <a:stretch/>
        </p:blipFill>
        <p:spPr>
          <a:xfrm>
            <a:off x="426960" y="2305080"/>
            <a:ext cx="8290080" cy="7491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357120" y="32860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Газообм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357120" y="40006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спарение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285840" y="4643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Образование органически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(фотосинтез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Прямоугольник 2" descr=""/>
          <p:cNvPicPr/>
          <p:nvPr/>
        </p:nvPicPr>
        <p:blipFill>
          <a:blip r:embed="rId1"/>
          <a:stretch/>
        </p:blipFill>
        <p:spPr>
          <a:xfrm>
            <a:off x="139680" y="536400"/>
            <a:ext cx="8955000" cy="5254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285840"/>
            <a:ext cx="8356680" cy="11412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3" descr="Простые и сложные листья.jpeg"/>
          <p:cNvPicPr/>
          <p:nvPr/>
        </p:nvPicPr>
        <p:blipFill>
          <a:blip r:embed="rId2"/>
          <a:stretch/>
        </p:blipFill>
        <p:spPr>
          <a:xfrm>
            <a:off x="1500120" y="1581120"/>
            <a:ext cx="6500880" cy="4562640"/>
          </a:xfrm>
          <a:prstGeom prst="rect">
            <a:avLst/>
          </a:prstGeom>
          <a:ln w="0">
            <a:noFill/>
          </a:ln>
        </p:spPr>
      </p:pic>
      <p:cxnSp>
        <p:nvCxnSpPr>
          <p:cNvPr id="191" name="Прямая со стрелкой 5"/>
          <p:cNvCxnSpPr/>
          <p:nvPr/>
        </p:nvCxnSpPr>
        <p:spPr>
          <a:xfrm flipH="1">
            <a:off x="4857120" y="2357280"/>
            <a:ext cx="1429560" cy="57240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2" name="TextBox 6"/>
          <p:cNvSpPr/>
          <p:nvPr/>
        </p:nvSpPr>
        <p:spPr>
          <a:xfrm>
            <a:off x="6357960" y="20718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череш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3" name="Прямая со стрелкой 8"/>
          <p:cNvCxnSpPr/>
          <p:nvPr/>
        </p:nvCxnSpPr>
        <p:spPr>
          <a:xfrm flipH="1" flipV="1">
            <a:off x="5857920" y="3857040"/>
            <a:ext cx="643320" cy="11437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4" name="TextBox 10"/>
          <p:cNvSpPr/>
          <p:nvPr/>
        </p:nvSpPr>
        <p:spPr>
          <a:xfrm>
            <a:off x="5429160" y="49291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листовая пласти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" name="Прямая со стрелкой 12"/>
          <p:cNvCxnSpPr/>
          <p:nvPr/>
        </p:nvCxnSpPr>
        <p:spPr>
          <a:xfrm>
            <a:off x="4856760" y="1785600"/>
            <a:ext cx="214920" cy="50076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6" name="TextBox 14"/>
          <p:cNvSpPr/>
          <p:nvPr/>
        </p:nvSpPr>
        <p:spPr>
          <a:xfrm>
            <a:off x="3143160" y="135720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основание ли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6"/>
          <p:cNvCxnSpPr/>
          <p:nvPr/>
        </p:nvCxnSpPr>
        <p:spPr>
          <a:xfrm>
            <a:off x="3357360" y="2285640"/>
            <a:ext cx="1286280" cy="2149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8" name="TextBox 17"/>
          <p:cNvSpPr/>
          <p:nvPr/>
        </p:nvSpPr>
        <p:spPr>
          <a:xfrm>
            <a:off x="1214280" y="200016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прилист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9" name="Прямая со стрелкой 19"/>
          <p:cNvCxnSpPr/>
          <p:nvPr/>
        </p:nvCxnSpPr>
        <p:spPr>
          <a:xfrm flipV="1">
            <a:off x="2571480" y="4357080"/>
            <a:ext cx="1572120" cy="78660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cxnSp>
        <p:nvCxnSpPr>
          <p:cNvPr id="200" name="Прямая со стрелкой 21"/>
          <p:cNvCxnSpPr/>
          <p:nvPr/>
        </p:nvCxnSpPr>
        <p:spPr>
          <a:xfrm flipV="1">
            <a:off x="2571480" y="4428360"/>
            <a:ext cx="2143800" cy="7153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201" name="TextBox 22"/>
          <p:cNvSpPr/>
          <p:nvPr/>
        </p:nvSpPr>
        <p:spPr>
          <a:xfrm>
            <a:off x="1500120" y="507204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жи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2" name="Прямая со стрелкой 24"/>
          <p:cNvCxnSpPr/>
          <p:nvPr/>
        </p:nvCxnSpPr>
        <p:spPr>
          <a:xfrm flipH="1" flipV="1">
            <a:off x="5071320" y="4571280"/>
            <a:ext cx="1429560" cy="42948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203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8143920" cy="927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500040" y="10000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5475"/>
                </a:solidFill>
                <a:latin typeface="Constantia"/>
              </a:rPr>
              <a:t>(имеют одну листовую пластинк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4" descr="лист клена.jpeg"/>
          <p:cNvPicPr/>
          <p:nvPr/>
        </p:nvPicPr>
        <p:blipFill>
          <a:blip r:embed="rId2"/>
          <a:stretch/>
        </p:blipFill>
        <p:spPr>
          <a:xfrm>
            <a:off x="357120" y="15001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" descr="лист одуванчика.jpeg"/>
          <p:cNvPicPr/>
          <p:nvPr/>
        </p:nvPicPr>
        <p:blipFill>
          <a:blip r:embed="rId3"/>
          <a:stretch/>
        </p:blipFill>
        <p:spPr>
          <a:xfrm rot="240600">
            <a:off x="4881600" y="1496520"/>
            <a:ext cx="2071800" cy="27860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6" descr="лист сирени.jpeg"/>
          <p:cNvPicPr/>
          <p:nvPr/>
        </p:nvPicPr>
        <p:blipFill>
          <a:blip r:embed="rId4"/>
          <a:stretch/>
        </p:blipFill>
        <p:spPr>
          <a:xfrm rot="1334400">
            <a:off x="6318000" y="3769920"/>
            <a:ext cx="1900080" cy="24289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7" descr="лист яблони.jpeg"/>
          <p:cNvPicPr/>
          <p:nvPr/>
        </p:nvPicPr>
        <p:blipFill>
          <a:blip r:embed="rId5"/>
          <a:stretch/>
        </p:blipFill>
        <p:spPr>
          <a:xfrm>
            <a:off x="2428920" y="3929040"/>
            <a:ext cx="217152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928800" y="371484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кл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9"/>
          <p:cNvSpPr/>
          <p:nvPr/>
        </p:nvSpPr>
        <p:spPr>
          <a:xfrm>
            <a:off x="3929040" y="414324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одуванч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2500200" y="59292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ябло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6000840" y="585792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сир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356680" cy="9255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285840" y="92880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354d"/>
                </a:solidFill>
                <a:latin typeface="Constantia"/>
              </a:rPr>
              <a:t>(На одном черешке имеют несколько листовых пластино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Рисунок 3" descr="лист клевера.jpeg"/>
          <p:cNvPicPr/>
          <p:nvPr/>
        </p:nvPicPr>
        <p:blipFill>
          <a:blip r:embed="rId2"/>
          <a:stretch/>
        </p:blipFill>
        <p:spPr>
          <a:xfrm>
            <a:off x="714240" y="1428840"/>
            <a:ext cx="1981440" cy="18763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лист малины.jpeg"/>
          <p:cNvPicPr/>
          <p:nvPr/>
        </p:nvPicPr>
        <p:blipFill>
          <a:blip r:embed="rId3"/>
          <a:stretch/>
        </p:blipFill>
        <p:spPr>
          <a:xfrm>
            <a:off x="3286080" y="1357200"/>
            <a:ext cx="2225880" cy="2419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5" descr="Простые и сложные листья.jpeg"/>
          <p:cNvPicPr/>
          <p:nvPr/>
        </p:nvPicPr>
        <p:blipFill>
          <a:blip r:embed="rId4"/>
          <a:stretch/>
        </p:blipFill>
        <p:spPr>
          <a:xfrm>
            <a:off x="6215040" y="1357200"/>
            <a:ext cx="2271600" cy="22860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6" descr="лист шиповника.jpeg"/>
          <p:cNvPicPr/>
          <p:nvPr/>
        </p:nvPicPr>
        <p:blipFill>
          <a:blip r:embed="rId5"/>
          <a:stretch/>
        </p:blipFill>
        <p:spPr>
          <a:xfrm>
            <a:off x="2000160" y="371484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7" descr="лист люпина.jpeg"/>
          <p:cNvPicPr/>
          <p:nvPr/>
        </p:nvPicPr>
        <p:blipFill>
          <a:blip r:embed="rId6"/>
          <a:stretch/>
        </p:blipFill>
        <p:spPr>
          <a:xfrm>
            <a:off x="5000760" y="3357720"/>
            <a:ext cx="3000240" cy="28573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642960" y="32860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клев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3857760" y="3714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мал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6500880" y="3357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земля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2071800" y="60721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шипов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6143760" y="60008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люп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2" descr=""/>
          <p:cNvPicPr/>
          <p:nvPr/>
        </p:nvPicPr>
        <p:blipFill>
          <a:blip r:embed="rId1"/>
          <a:stretch/>
        </p:blipFill>
        <p:spPr>
          <a:xfrm>
            <a:off x="360360" y="262080"/>
            <a:ext cx="8423280" cy="10238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" descr="подушка 001.jpg"/>
          <p:cNvPicPr/>
          <p:nvPr/>
        </p:nvPicPr>
        <p:blipFill>
          <a:blip r:embed="rId2"/>
          <a:stretch/>
        </p:blipFill>
        <p:spPr>
          <a:xfrm>
            <a:off x="357120" y="1428840"/>
            <a:ext cx="4857840" cy="4429080"/>
          </a:xfrm>
          <a:prstGeom prst="rect">
            <a:avLst/>
          </a:prstGeom>
          <a:ln w="0">
            <a:noFill/>
          </a:ln>
        </p:spPr>
      </p:pic>
      <p:cxnSp>
        <p:nvCxnSpPr>
          <p:cNvPr id="230" name="Прямая со стрелкой 6"/>
          <p:cNvCxnSpPr/>
          <p:nvPr/>
        </p:nvCxnSpPr>
        <p:spPr>
          <a:xfrm>
            <a:off x="4928760" y="1643040"/>
            <a:ext cx="8578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1" name="TextBox 9"/>
          <p:cNvSpPr/>
          <p:nvPr/>
        </p:nvSpPr>
        <p:spPr>
          <a:xfrm>
            <a:off x="5786280" y="14288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ожица (эпидер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2" name="Прямая со стрелкой 11"/>
          <p:cNvCxnSpPr/>
          <p:nvPr/>
        </p:nvCxnSpPr>
        <p:spPr>
          <a:xfrm>
            <a:off x="4928760" y="2428920"/>
            <a:ext cx="8578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3" name="TextBox 12"/>
          <p:cNvSpPr/>
          <p:nvPr/>
        </p:nvSpPr>
        <p:spPr>
          <a:xfrm>
            <a:off x="5929200" y="22860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Столбчатая 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4" name="Прямая со стрелкой 14"/>
          <p:cNvCxnSpPr/>
          <p:nvPr/>
        </p:nvCxnSpPr>
        <p:spPr>
          <a:xfrm>
            <a:off x="5072040" y="3499920"/>
            <a:ext cx="643320" cy="2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5" name="TextBox 15"/>
          <p:cNvSpPr/>
          <p:nvPr/>
        </p:nvSpPr>
        <p:spPr>
          <a:xfrm>
            <a:off x="5786280" y="33577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Губчатая 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6" name="Прямая со стрелкой 27"/>
          <p:cNvCxnSpPr/>
          <p:nvPr/>
        </p:nvCxnSpPr>
        <p:spPr>
          <a:xfrm>
            <a:off x="5143320" y="4214880"/>
            <a:ext cx="57204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7" name="TextBox 28"/>
          <p:cNvSpPr/>
          <p:nvPr/>
        </p:nvSpPr>
        <p:spPr>
          <a:xfrm>
            <a:off x="5786280" y="40719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ожица (эпидер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8" name="Прямая со стрелкой 30"/>
          <p:cNvCxnSpPr/>
          <p:nvPr/>
        </p:nvCxnSpPr>
        <p:spPr>
          <a:xfrm>
            <a:off x="5072040" y="5143680"/>
            <a:ext cx="71496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9" name="TextBox 32"/>
          <p:cNvSpPr/>
          <p:nvPr/>
        </p:nvSpPr>
        <p:spPr>
          <a:xfrm>
            <a:off x="5786280" y="50007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Усть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Прямая со стрелкой 34"/>
          <p:cNvCxnSpPr/>
          <p:nvPr/>
        </p:nvCxnSpPr>
        <p:spPr>
          <a:xfrm>
            <a:off x="5000760" y="5643720"/>
            <a:ext cx="78624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1" name="TextBox 35"/>
          <p:cNvSpPr/>
          <p:nvPr/>
        </p:nvSpPr>
        <p:spPr>
          <a:xfrm>
            <a:off x="5786280" y="54291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Жи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36" descr="Копия устьце.jpg"/>
          <p:cNvPicPr/>
          <p:nvPr/>
        </p:nvPicPr>
        <p:blipFill>
          <a:blip r:embed="rId3"/>
          <a:stretch/>
        </p:blipFill>
        <p:spPr>
          <a:xfrm>
            <a:off x="5857920" y="4357800"/>
            <a:ext cx="2371680" cy="21333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8:36:38Z</dcterms:created>
  <dc:creator>Марина</dc:creator>
  <dc:description/>
  <dc:language>en-US</dc:language>
  <cp:lastModifiedBy>LEGION</cp:lastModifiedBy>
  <dcterms:modified xsi:type="dcterms:W3CDTF">2014-11-25T09:23:46Z</dcterms:modified>
  <cp:revision>69</cp:revision>
  <dc:subject/>
  <dc:title>Слайд 1</dc:title>
</cp:coreProperties>
</file>