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99943888"/>
        <c:axId val="78518117"/>
      </c:barChart>
      <c:catAx>
        <c:axId val="9994388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8518117"/>
        <c:crosses val="autoZero"/>
        <c:auto val="1"/>
        <c:lblAlgn val="ctr"/>
        <c:lblOffset val="100"/>
        <c:noMultiLvlLbl val="0"/>
      </c:catAx>
      <c:valAx>
        <c:axId val="7851811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9943888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EC76C-A7D1-4D19-84AA-782F0C8B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6A11CF-22C2-44BC-8272-201188B2EE4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4496C-335F-4316-B988-C4681B1DB0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031C7-22D9-4C4C-B107-B117C22F1E0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F2E9E9-CA7E-419A-9563-5FA46993378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18AD80-85CB-4721-B679-99FE725ABA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E2301-7241-4F74-AADE-A3AAF262DC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A3F41-A035-4D72-9FB5-B5EF67CE985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AD6501-F462-42EC-97E3-507913F5653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0B3787-D4C5-41F2-8BC6-49E07BF1A96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D43EB-302F-42BF-9134-5D79A6637F8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976EFE-DCCF-4D11-B67E-3D33BAC9683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8B7184-7298-4E62-ADF3-B66BA9E01D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E26C38-DA08-43F6-9AA7-C8CD29FC50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CD980B-A0BF-458F-B885-68E3A7417F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D2933-BB6E-4788-B363-7F21C82FC1B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7BF57E-07AE-4E55-A59E-70A0D39BFF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898F5-EEBA-4EED-81C7-EDABBF451A2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95540A-85A4-4C8F-88EE-DD9C4DD84A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2AE408-8209-40A0-8DC5-55A6A6946D9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9680C-485A-4ED6-9D16-DD8767930E8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473-8FAA-4A01-BC05-BDD5370A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E58-21C7-4A7F-AFC8-8939E78C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8D9-BE26-4433-B628-9E39FC65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A4A-EC1C-4ECB-8F75-50AD8475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D53-6537-47BA-A5DE-4AEBF97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17E0-6E65-429C-B57F-6F1B8EE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031-7E45-4EE8-8AF5-3B762C89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B31-89D7-4A59-8E9F-B08AF7E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F4B3-C9D2-4CB1-BA8A-13DDB8FC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7182-FEFD-44BC-BD7B-6C7F712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6F2-68C3-4F52-9CB5-9B4265A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315-A275-40F0-BB46-1E89B06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81B1-7119-4D4C-A95A-D01DD06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FC31-9723-4197-B5D1-2422394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4C80-F833-489C-88E0-5AF889E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2961-9651-4433-A993-BC12D7B8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5EEA-3529-45FC-A474-66F56A1D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E50-72E7-4BF0-B4AD-3896C335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EA1-F800-43AA-9F60-739FDB7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4A4-8EDD-4435-825B-1C7B6034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76A-3FE7-47DB-8386-E6AED277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2B3-6E5F-474E-A3F7-79EC99E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9FE-6371-489C-9F8D-F51CFEE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6DF-1426-41DE-9308-325F914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085E69-BA5C-4471-BBF5-6AE7F9ABB7A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6CD5C8-F217-40C5-8180-ED1E8893831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