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97371873"/>
        <c:axId val="10355450"/>
      </c:barChart>
      <c:catAx>
        <c:axId val="973718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10355450"/>
        <c:crosses val="autoZero"/>
        <c:auto val="1"/>
        <c:lblAlgn val="ctr"/>
        <c:lblOffset val="100"/>
        <c:noMultiLvlLbl val="0"/>
      </c:catAx>
      <c:valAx>
        <c:axId val="10355450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7371873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87CD15-2A6E-44FF-BC5F-7570ED9A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714839-7E91-42D6-AABF-E0301C4A485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6BE46-3603-4C33-84CD-0C527C9CCB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CB917A-1F46-4E7E-BD51-8C0F9FE885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7B3765-A852-4857-85AB-CC44DC53B89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0DB37-463D-4648-BE19-4C725C6262C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8D32B2-21D1-44F3-B749-142E5348E19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CA1C82-8497-43D0-8CDA-7DB31C70F61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0D3E62-333D-477F-8371-28E233497EA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BAC9B0-3030-4D5A-B964-5055CBAA192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338F63-F24D-4C3B-BAF3-324264B1546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8EA664-B06C-4870-9C7A-07817B1E97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336F5E-E0B8-46E3-880A-9F36918DF4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A86E5C-2A54-4C80-9A07-560E879C012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613D2E-2EDC-409F-AA05-0CEEE2F3BCD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E971C6-2C3E-4ECA-9987-4EC4680C42D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9127E-36BB-4738-9AF1-883AA98A79E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803E2C-1C7F-41B6-B0AD-D804E0ED4E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06AA19-3690-481E-8110-96B9D5FE834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EEC89B-1B62-432F-BE3D-02866771DA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4B53F-D93D-48F1-A88C-E380518975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939-888E-4492-88DC-8A4046FB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3EC-8CE0-44B5-944E-A5DB12A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7C3-8998-4782-A040-6696287D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C99-ABE3-4263-AD68-0056135E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2096-A8AA-4BD9-AB2C-A96A6CA2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B83C-9DE5-46AD-A72B-1067183B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6002-4692-415B-9871-8573C01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84C3-00CC-4539-B8BF-56FC138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79F6-D412-42E2-8163-837664D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3E3-3BE1-42CD-9EE9-3ED62D9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1AD9-91AA-457B-A8FC-13A37F7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CE9-2C06-40DD-A152-C448C339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564-28EA-4082-99B2-F1A66FEE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DF25-F97E-4894-ABE9-48AD6D9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AD36-C7D7-4C2C-A9D9-78C92AA4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C8D4-AC10-4F13-B608-78B19233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EE9D-579F-4A83-8E7A-70BBC652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A82-D375-4ED0-BCEC-F3B7E69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000-0D34-432B-8CDF-EB89DD9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BCB-B5DA-4C1C-B154-1710C405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996-D3F8-4667-9297-1E223B7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730-8DFD-48A9-A04E-E2C1258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EE8-F2AC-4091-9997-D1E5527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D47-0189-4BE1-A6BC-C1099283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D37F8F-DEA1-4F2E-9C0C-ED433FABC3E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678E86-D1F8-4A78-A2B8-3D31308D70D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