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8FBC-B71D-4A44-B4E7-32B36768862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яд Блох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став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биологии и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сше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чкова Ирина Анато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706D-017A-46EE-BC24-E940DBA0A6A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чья бло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DD90-DC83-4187-84D3-30A0E4B1A2D7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кусы бло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а поражения у человека – это ноги: подъём, лодыжки, щиколо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усы насекомых вызывают сильный зу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живание проходит долго, и на месте укусов длительное время остаются маленькие шра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D769-CD3C-47C9-9B4F-0B5FEDAD319F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ус крысиной блох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A929-52BB-4399-B220-1C37DDCA0D6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о блох сжато с боков, узкое, гладкое, снабжено щетинками и шип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о передвигаются прыжками, используя при этом для толчка вторую и третью пары ног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енны всегда располагаются позади простых глаз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охи — отряд кровососущих насекомых. Установлено, что около 60 видов блох может передавать в природе более 25 различных болез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охи вторично бескрылы. Они полностью утратили крылья в процессе приспособления к паразитиз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охи обладают ротовым аппаратом, предназначенным для прокалывания покровов хозяина и насасывания кров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о более 2380 видов блох. В Британском музее имеется коллекция блох британского банкира и энтомолога Чарльза Ротшильд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E0BD-0A84-47A3-95D0-2FF8F573C53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шачья блоха (увеличение в 250 раз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D560-464A-4E8B-B742-08E2DED2669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товой аппарат колюще-сосущего ти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37AE-7890-45C9-908E-218CAC74D90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икл развит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охи — это насекомые с полным превращением. Специальных мест для откладки яиц блохи не ищут. Блохи спариваются прямо на том животном, где они проживают и тут же откладывают яй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яйца выходит безногая, червеобразная, активно передвигающаяся личинка. Гусеницы, вылупившиеся из яиц, не питаются кровью, как взрослые особи, а поедают мертвую кожу, пыль, пропитанную потом, и другие биологически отходы на коже животного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инки линяют 3 раза. После этого они окружают себя шелкоподобным коконом и окукливаю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рослая блоха теоретически может жить 1,5 года, но реально — не более пары месяце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41F3-A0ED-49BD-924C-4669CB990232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шачья бло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5429-B7A1-40C5-8F56-8AB49AFE4D9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и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ох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8D11-BC18-452D-AAC0-D8F84358246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D122-82BD-4D8C-AF27-D8FA13C6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F2C9-87EC-4F9C-86E6-92FCF822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F669-9A49-4BEC-8B7F-D0334660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3F0B-ED57-447C-9F74-544B0FE1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2D4F-653A-464A-85DB-2875C670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AB5B-C76C-4AC9-ABED-64308F7B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6CE6-645C-433C-94DC-E3000175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8E8B-0745-4DF0-9346-E9FEF1EA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CC1F-151A-44F2-B803-D7CDA7C8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D990-A1DC-4489-851F-947F8FF7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58DC-EA92-4CA6-87FC-6667EBA8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C451-5393-4197-A9E6-3129BB19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642E-3C48-4461-AAC7-1057A1A1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4B43-66F0-4A8C-B6C0-A3CAA3CF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D976-614B-4A34-A7A3-C71FAE21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1464-1D72-44DE-B225-EA025F96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3F46-CA01-4E60-8860-03ADC7AA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DD6A-4414-49AB-9F07-323C1030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85A8-AF56-4A40-91B8-FC988973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63BB-9DC4-49EB-89BC-EF62C412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8E9B-4C1B-48E6-8E52-7DB469DD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7A33-4938-46FE-BFF4-2F321846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D698-A2C1-4A60-BE47-F88EB18A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5003-A5C7-4EF0-853D-6103E99A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9774-BAD6-4692-AF04-ACD6EEFB98E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FEF8-2FBC-4BB6-B636-284F48E5C011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560" y="1988640"/>
            <a:ext cx="43196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тряд Блох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8920" y="4869000"/>
            <a:ext cx="3565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Составила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учитель биологии и хими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высшей квалификационной категори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Бочкова Ирина Анатольевн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395280" y="333360"/>
            <a:ext cx="7272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Ленинградская область, Волховский район,</a:t>
            </a:r>
            <a:br>
              <a:rPr sz="1800"/>
            </a:b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МОБУ «Сясьстройская СОШ №2»</a:t>
            </a:r>
            <a:br>
              <a:rPr sz="1800"/>
            </a:b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1"/>
          <a:stretch/>
        </p:blipFill>
        <p:spPr>
          <a:xfrm>
            <a:off x="4846680" y="1052640"/>
            <a:ext cx="4141800" cy="567684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9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Человечья блох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6" name="Picture 7" descr="Картинка 15 из 57904"/>
          <p:cNvPicPr/>
          <p:nvPr/>
        </p:nvPicPr>
        <p:blipFill>
          <a:blip r:embed="rId1"/>
          <a:stretch/>
        </p:blipFill>
        <p:spPr>
          <a:xfrm>
            <a:off x="179280" y="1558800"/>
            <a:ext cx="8280360" cy="496908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8560" y="115560"/>
            <a:ext cx="6437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Укусы блох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9" name="Picture 7" descr="Картинка 16 из 57904"/>
          <p:cNvPicPr/>
          <p:nvPr/>
        </p:nvPicPr>
        <p:blipFill>
          <a:blip r:embed="rId1"/>
          <a:stretch/>
        </p:blipFill>
        <p:spPr>
          <a:xfrm>
            <a:off x="108000" y="2997360"/>
            <a:ext cx="3098880" cy="374472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788508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еста поражения у человека – это ноги: подъём, лодыжки, щиколотк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Укусы насекомых вызывают сильный зуд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Заживание проходит долго, и на месте укусов длительное время остаются маленькие шрамы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Picture 10" descr="Картинка 17 из 57904"/>
          <p:cNvPicPr/>
          <p:nvPr/>
        </p:nvPicPr>
        <p:blipFill>
          <a:blip r:embed="rId5"/>
          <a:stretch/>
        </p:blipFill>
        <p:spPr>
          <a:xfrm>
            <a:off x="3419640" y="2979720"/>
            <a:ext cx="4762440" cy="376236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3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Укус крысиной блох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4" name="Picture 5" descr="Картинка 3 из 17735"/>
          <p:cNvPicPr/>
          <p:nvPr/>
        </p:nvPicPr>
        <p:blipFill>
          <a:blip r:embed="rId1"/>
          <a:stretch/>
        </p:blipFill>
        <p:spPr>
          <a:xfrm>
            <a:off x="539640" y="871560"/>
            <a:ext cx="6337440" cy="587052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7812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ело блох сжато с боков, узкое, гладкое, снабжено щетинками и шипа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Часто передвигаются прыжками, используя при этом для толчка вторую и третью пары ног.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нтенны всегда располагаются позади простых глаз. 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лохи — отряд кровососущих насекомых. Установлено, что около 60 видов блох может передавать в природе более 25 различных болезне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лохи вторично бескрылы. Они полностью утратили крылья в процессе приспособления к паразитизму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лохи обладают ротовым аппаратом, предназначенным для прокалывания покровов хозяина и насасывания кров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звестно более 2380 видов блох. В Британском музее имеется коллекция блох британского банкира и энтомолога Чарльза Ротшильда.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Кошачья блоха (увеличение в 250 раз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7" name="Picture 3" descr="26247124_insects_05"/>
          <p:cNvPicPr/>
          <p:nvPr/>
        </p:nvPicPr>
        <p:blipFill>
          <a:blip r:embed="rId1"/>
          <a:stretch/>
        </p:blipFill>
        <p:spPr>
          <a:xfrm>
            <a:off x="395280" y="1509840"/>
            <a:ext cx="7632720" cy="504648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Картинка 52 из 57904"/>
          <p:cNvPicPr/>
          <p:nvPr/>
        </p:nvPicPr>
        <p:blipFill>
          <a:blip r:embed="rId1"/>
          <a:stretch/>
        </p:blipFill>
        <p:spPr>
          <a:xfrm>
            <a:off x="324000" y="352440"/>
            <a:ext cx="8280360" cy="621036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Ротовой аппарат колюще-сосущего тип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2" name="Picture 3" descr="0_3828d_c0209589_orig"/>
          <p:cNvPicPr/>
          <p:nvPr/>
        </p:nvPicPr>
        <p:blipFill>
          <a:blip r:embed="rId1"/>
          <a:stretch/>
        </p:blipFill>
        <p:spPr>
          <a:xfrm>
            <a:off x="324000" y="1174680"/>
            <a:ext cx="7343640" cy="539748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Цикл развити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-36720" y="1122120"/>
            <a:ext cx="78850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лохи — это насекомые с полным превращением. Специальных мест для откладки яиц блохи не ищут. Блохи спариваются прямо на том животном, где они проживают и тут же откладывают яйц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з яйца выходит безногая, червеобразная, активно передвигающаяся личинка. Гусеницы, вылупившиеся из яиц, не питаются кровью, как взрослые особи, а поедают мертвую кожу, пыль, пропитанную потом, и другие биологически отходы на коже животного. 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Личинки линяют 3 раза. После этого они окружают себя шелкоподобным коконом и окукливаются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зрослая блоха теоретически может жить 1,5 года, но реально — не более пары месяцев.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Картинка 32 из 57904"/>
          <p:cNvPicPr/>
          <p:nvPr/>
        </p:nvPicPr>
        <p:blipFill>
          <a:blip r:embed="rId1"/>
          <a:stretch/>
        </p:blipFill>
        <p:spPr>
          <a:xfrm>
            <a:off x="539640" y="204840"/>
            <a:ext cx="7704360" cy="641196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Кошачья блох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0" name="Picture 5" descr="Картинка 13 из 57904"/>
          <p:cNvPicPr/>
          <p:nvPr/>
        </p:nvPicPr>
        <p:blipFill>
          <a:blip r:embed="rId1"/>
          <a:stretch/>
        </p:blipFill>
        <p:spPr>
          <a:xfrm>
            <a:off x="179280" y="1467000"/>
            <a:ext cx="8137800" cy="5202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5" descr="556px-flea_larva"/>
          <p:cNvPicPr/>
          <p:nvPr/>
        </p:nvPicPr>
        <p:blipFill>
          <a:blip r:embed="rId1"/>
          <a:stretch/>
        </p:blipFill>
        <p:spPr>
          <a:xfrm>
            <a:off x="250920" y="189000"/>
            <a:ext cx="5983200" cy="645804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651280" y="226800"/>
            <a:ext cx="247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Личинка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блох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2:57:49Z</dcterms:created>
  <dc:creator>Бочкова И.А.</dc:creator>
  <dc:description/>
  <dc:language>en-US</dc:language>
  <cp:lastModifiedBy>LEGION</cp:lastModifiedBy>
  <dcterms:modified xsi:type="dcterms:W3CDTF">2014-11-25T09:28:07Z</dcterms:modified>
  <cp:revision>6</cp:revision>
  <dc:subject/>
  <dc:title>Отряд Блохи</dc:title>
</cp:coreProperties>
</file>