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88FE-D2C6-48F9-AF02-087357C1702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яд Бло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биологии и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чкова Ирина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BFA3-3C05-4C14-A369-186DF2827E0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ья бло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209B-08EA-4737-8DC5-4D0E24984B1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усы бло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а поражения у человека – это ноги: подъём, лодыжки, щиколо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усы насекомых вызывают сильный з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живание проходит долго, и на месте укусов длительное время остаются маленькие шра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BAD2-3412-4D52-832D-4A1E40A127D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ус крысиной бло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7C33-78DA-4B6F-967C-B59940745C5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о блох сжато с боков, узкое, гладкое, снабжено щетинками и шип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о передвигаются прыжками, используя при этом для толчка вторую и третью пары ног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енны всегда располагаются позади простых глаз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— отряд кровососущих насекомых. Установлено, что около 60 видов блох может передавать в природе более 25 различных болез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вторично бескрылы. Они полностью утратили крылья в процессе приспособления к паразитиз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обладают ротовым аппаратом, предназначенным для прокалывания покровов хозяина и насасывания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 более 2380 видов блох. В Британском музее имеется коллекция блох британского банкира и энтомолога Чарльза Ротшильд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CA33-3C1F-4E40-9CB3-68ECCC6F841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шачья блоха (увеличение в 250 ра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2B21-377C-4C14-BBBA-F4453C35DF1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овой аппарат колюще-сосущего ти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3360-DC9C-49C6-85F5-D4BF10441C6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икл разви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 — это насекомые с полным превращением. Специальных мест для откладки яиц блохи не ищут. Блохи спариваются прямо на том животном, где они проживают и тут же откладывают яй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яйца выходит безногая, червеобразная, активно передвигающаяся личинка. Гусеницы, вылупившиеся из яиц, не питаются кровью, как взрослые особи, а поедают мертвую кожу, пыль, пропитанную потом, и другие биологически отходы на коже животного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и линяют 3 раза. После этого они окружают себя шелкоподобным коконом и окукливаю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рослая блоха теоретически может жить 1,5 года, но реально — не более пары месяце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9313-667C-4F3E-B092-0E0D4014250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шачья бло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DD63-F489-4BD9-9399-250BF9D1752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х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606A-CC6D-4FE9-9FE7-18B121C8158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2080-53D2-4698-873E-6ADF620E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D5F6-9B9E-4905-AFE2-954B6C59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2096-180B-4CEB-9D7B-2A56CE1F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DE32-E838-4CD9-8F5C-30B746F3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51F1-B2A8-49A0-BE3A-54CD8F1C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5813-E086-4A4C-BDC9-09B5E2D1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C8DE-B6C4-446F-8D28-B586511F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8760-88E6-46FC-92AF-558553EC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2BFE-A0A5-45F1-9A10-BE193F64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3FA3-F986-4136-BF57-1C70DD13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360A-97A2-4685-BF98-D88BCAF6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545B-0A9E-4925-BA47-2F24EB2C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B4C1-5773-4D63-BCBC-E74D9F67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D80F-224D-4F94-A6F9-2EF93473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2DD9-9DF3-444E-949C-B3441142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518F-0CFB-4E6D-A3F4-EC88DCAB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87C8-B45B-4347-893F-2D68A7AB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75B1-50C1-4B95-A7A9-B49AF6AE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CA40-EE62-4F56-842F-14C55690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25A6-8781-4A2D-9C79-2FE37040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DF76-8BA9-400B-8035-E3D6E484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C922-E9C8-4A0B-9ED0-43BE83D6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C3FA-613D-402E-B4F6-BAF5C1A0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94C1-5E40-49CC-8FF0-518F27AA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91FF-CA34-4071-90E6-61E0F032C0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0F5F-3588-4836-92E6-2C2B4E9B2D99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1988640"/>
            <a:ext cx="43196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тряд Блох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8920" y="4869000"/>
            <a:ext cx="3565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Составила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учитель биологии и хим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высшей квалификационной категор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Бочкова Ирина Анатольев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95280" y="333360"/>
            <a:ext cx="7272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4846680" y="1052640"/>
            <a:ext cx="4141800" cy="567684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еловечья блох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6" name="Picture 7" descr="Картинка 15 из 57904"/>
          <p:cNvPicPr/>
          <p:nvPr/>
        </p:nvPicPr>
        <p:blipFill>
          <a:blip r:embed="rId1"/>
          <a:stretch/>
        </p:blipFill>
        <p:spPr>
          <a:xfrm>
            <a:off x="179280" y="1558800"/>
            <a:ext cx="8280360" cy="496908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8560" y="115560"/>
            <a:ext cx="6437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кусы блох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9" name="Picture 7" descr="Картинка 16 из 57904"/>
          <p:cNvPicPr/>
          <p:nvPr/>
        </p:nvPicPr>
        <p:blipFill>
          <a:blip r:embed="rId1"/>
          <a:stretch/>
        </p:blipFill>
        <p:spPr>
          <a:xfrm>
            <a:off x="108000" y="2997360"/>
            <a:ext cx="3098880" cy="374472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78850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Места поражения у человека – это ноги: подъём, лодыжки, щиколот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кусы насекомых вызывают сильный зуд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аживание проходит долго, и на месте укусов длительное время остаются маленькие шрамы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Picture 10" descr="Картинка 17 из 57904"/>
          <p:cNvPicPr/>
          <p:nvPr/>
        </p:nvPicPr>
        <p:blipFill>
          <a:blip r:embed="rId5"/>
          <a:stretch/>
        </p:blipFill>
        <p:spPr>
          <a:xfrm>
            <a:off x="3419640" y="2979720"/>
            <a:ext cx="4762440" cy="37623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кус крысиной блох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Picture 5" descr="Картинка 3 из 17735"/>
          <p:cNvPicPr/>
          <p:nvPr/>
        </p:nvPicPr>
        <p:blipFill>
          <a:blip r:embed="rId1"/>
          <a:stretch/>
        </p:blipFill>
        <p:spPr>
          <a:xfrm>
            <a:off x="539640" y="871560"/>
            <a:ext cx="6337440" cy="587052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7812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ело блох сжато с боков, узкое, гладкое, снабжено щетинками и шип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асто передвигаются прыжками, используя при этом для толчка вторую и третью пары ног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нтенны всегда располагаются позади простых глаз. 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— отряд кровососущих насекомых. Установлено, что около 60 видов блох может передавать в природе более 25 различных болезне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вторично бескрылы. Они полностью утратили крылья в процессе приспособления к паразитизму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обладают ротовым аппаратом, предназначенным для прокалывания покровов хозяина и насасывания кров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вестно более 2380 видов блох. В Британском музее имеется коллекция блох британского банкира и энтомолога Чарльза Ротшильда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ошачья блоха (увеличение в 250 раз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7" name="Picture 3" descr="26247124_insects_05"/>
          <p:cNvPicPr/>
          <p:nvPr/>
        </p:nvPicPr>
        <p:blipFill>
          <a:blip r:embed="rId1"/>
          <a:stretch/>
        </p:blipFill>
        <p:spPr>
          <a:xfrm>
            <a:off x="395280" y="1509840"/>
            <a:ext cx="7632720" cy="504648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Картинка 52 из 57904"/>
          <p:cNvPicPr/>
          <p:nvPr/>
        </p:nvPicPr>
        <p:blipFill>
          <a:blip r:embed="rId1"/>
          <a:stretch/>
        </p:blipFill>
        <p:spPr>
          <a:xfrm>
            <a:off x="324000" y="352440"/>
            <a:ext cx="8280360" cy="62103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отовой аппарат колюще-сосущего тип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Picture 3" descr="0_3828d_c0209589_orig"/>
          <p:cNvPicPr/>
          <p:nvPr/>
        </p:nvPicPr>
        <p:blipFill>
          <a:blip r:embed="rId1"/>
          <a:stretch/>
        </p:blipFill>
        <p:spPr>
          <a:xfrm>
            <a:off x="324000" y="1174680"/>
            <a:ext cx="7343640" cy="539748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Цикл развити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6720" y="1122120"/>
            <a:ext cx="78850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лохи — это насекомые с полным превращением. Специальных мест для откладки яиц блохи не ищут. Блохи спариваются прямо на том животном, где они проживают и тут же откладывают яйц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 яйца выходит безногая, червеобразная, активно передвигающаяся личинка. Гусеницы, вылупившиеся из яиц, не питаются кровью, как взрослые особи, а поедают мертвую кожу, пыль, пропитанную потом, и другие биологически отходы на коже животного. 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Личинки линяют 3 раза. После этого они окружают себя шелкоподобным коконом и окукливаютс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зрослая блоха теоретически может жить 1,5 года, но реально — не более пары месяцев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Картинка 32 из 57904"/>
          <p:cNvPicPr/>
          <p:nvPr/>
        </p:nvPicPr>
        <p:blipFill>
          <a:blip r:embed="rId1"/>
          <a:stretch/>
        </p:blipFill>
        <p:spPr>
          <a:xfrm>
            <a:off x="539640" y="204840"/>
            <a:ext cx="7704360" cy="64119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ошачья блох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0" name="Picture 5" descr="Картинка 13 из 57904"/>
          <p:cNvPicPr/>
          <p:nvPr/>
        </p:nvPicPr>
        <p:blipFill>
          <a:blip r:embed="rId1"/>
          <a:stretch/>
        </p:blipFill>
        <p:spPr>
          <a:xfrm>
            <a:off x="179280" y="1467000"/>
            <a:ext cx="8137800" cy="5202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" descr="556px-flea_larva"/>
          <p:cNvPicPr/>
          <p:nvPr/>
        </p:nvPicPr>
        <p:blipFill>
          <a:blip r:embed="rId1"/>
          <a:stretch/>
        </p:blipFill>
        <p:spPr>
          <a:xfrm>
            <a:off x="250920" y="189000"/>
            <a:ext cx="5983200" cy="645804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651280" y="226800"/>
            <a:ext cx="247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Личинка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блох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2:57:49Z</dcterms:created>
  <dc:creator>Бочкова И.А.</dc:creator>
  <dc:description/>
  <dc:language>en-US</dc:language>
  <cp:lastModifiedBy>LEGION</cp:lastModifiedBy>
  <dcterms:modified xsi:type="dcterms:W3CDTF">2014-11-25T09:28:07Z</dcterms:modified>
  <cp:revision>6</cp:revision>
  <dc:subject/>
  <dc:title>Отряд Блохи</dc:title>
</cp:coreProperties>
</file>