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7017-9CE1-4BE9-92E4-20FC65B803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560C-FADF-407B-A57D-7551478F344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C3A8-9253-41DC-9FD1-BDD92FDFEFB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бл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поражения у человека – это ноги: подъём, лодыжки, щикол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ы насекомых вызывают сильный з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8A12-D945-4E9F-BC01-1E0725AE4F5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 крысиной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BC63-6656-40C3-B85F-9D8806B57A3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блох сжато с боков, узкое, гладкое, снабжено щетин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передвигаются прыжками, используя при этом для толчка вторую и третью пары но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енны всегда располагаются позади простых глаз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95E-1A33-4B11-AE80-04087011577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 (увеличение в 250 р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B388-7C1B-4E82-9D20-2BCA8F47470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колюще-сос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C5E6-C57E-4CFB-97DD-1CEA24D558A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икл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рослая блоха теоретически может жить 1,5 года, но реально — не более пары месяц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2424-5E58-495C-AFC7-0B1A753A634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085B-50FE-45BA-B095-7140B4053A7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D3DF-0197-45F7-B0C6-803A5F668E6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F79-1641-4CCC-A7A1-1F99957D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18A-3494-4A95-908B-142A738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1B9-B87C-410D-BE94-F12E4F1A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AF9-ACD2-408D-8CB9-336B8A26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29F8-C330-4ADD-B31E-8105F17C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239F-B6E6-4F0F-95AE-C3E8B4CA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FD91-DE06-43DA-B082-C008150B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0DB8-BE94-446B-9ED0-BAC8B5D8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9E7E-988F-48AE-B065-F3D0C5A7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BC27-EFDE-4C3E-9C6E-B0AC01C7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3A04-BB0B-41A7-B219-3215D3D1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CD2-B0CD-4EBB-9888-398396D0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1A61-3757-4D04-8DC1-2F2D3255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042A-5A38-436D-B1B4-F588EA3F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A26B-D0A6-4C3F-A96B-3FE5DA33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EC90-220B-47CB-BD61-E84201B7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1BC3-3F55-427A-AC8A-C1AC8E9B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918-1470-490B-9DD7-B9751EB7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ECB-52F1-46AE-B531-B85B5F1A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538-6E00-42E1-8FF4-A440C4AD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750-F2FE-420B-9EF2-F0227644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98B-CB3E-4EEB-9374-054126E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C33-2BBB-4E3C-B8CF-0A0239A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DF7-55AE-4DC3-9475-FBF10556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5615-989E-4C29-8D17-67AB096573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7122-4D8C-45CD-94AA-05CDE1A7BEA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4319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Бло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8920" y="4869000"/>
            <a:ext cx="356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95280" y="33336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846680" y="1052640"/>
            <a:ext cx="4141800" cy="56768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еловечья блох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7" descr="Картинка 15 из 57904"/>
          <p:cNvPicPr/>
          <p:nvPr/>
        </p:nvPicPr>
        <p:blipFill>
          <a:blip r:embed="rId1"/>
          <a:stretch/>
        </p:blipFill>
        <p:spPr>
          <a:xfrm>
            <a:off x="179280" y="1558800"/>
            <a:ext cx="8280360" cy="49690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6437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ы бло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Picture 7" descr="Картинка 16 из 57904"/>
          <p:cNvPicPr/>
          <p:nvPr/>
        </p:nvPicPr>
        <p:blipFill>
          <a:blip r:embed="rId1"/>
          <a:stretch/>
        </p:blipFill>
        <p:spPr>
          <a:xfrm>
            <a:off x="108000" y="2997360"/>
            <a:ext cx="3098880" cy="37447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8850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ста поражения у человека – это ноги: подъём, лодыжки, щиколот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кусы насекомых вызывают сильный зу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0" descr="Картинка 17 из 57904"/>
          <p:cNvPicPr/>
          <p:nvPr/>
        </p:nvPicPr>
        <p:blipFill>
          <a:blip r:embed="rId5"/>
          <a:stretch/>
        </p:blipFill>
        <p:spPr>
          <a:xfrm>
            <a:off x="3419640" y="2979720"/>
            <a:ext cx="4762440" cy="3762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 крысиной 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5" descr="Картинка 3 из 17735"/>
          <p:cNvPicPr/>
          <p:nvPr/>
        </p:nvPicPr>
        <p:blipFill>
          <a:blip r:embed="rId1"/>
          <a:stretch/>
        </p:blipFill>
        <p:spPr>
          <a:xfrm>
            <a:off x="539640" y="871560"/>
            <a:ext cx="6337440" cy="58705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8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ло блох сжато с боков, узкое, гладкое, снабжено щетинками и шип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асто передвигаются прыжками, используя при этом для толчка вторую и третью пары ног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енны всегда располагаются позади простых глаз.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 (увеличение в 250 раз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3" descr="26247124_insects_05"/>
          <p:cNvPicPr/>
          <p:nvPr/>
        </p:nvPicPr>
        <p:blipFill>
          <a:blip r:embed="rId1"/>
          <a:stretch/>
        </p:blipFill>
        <p:spPr>
          <a:xfrm>
            <a:off x="395280" y="1509840"/>
            <a:ext cx="7632720" cy="5046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Картинка 52 из 57904"/>
          <p:cNvPicPr/>
          <p:nvPr/>
        </p:nvPicPr>
        <p:blipFill>
          <a:blip r:embed="rId1"/>
          <a:stretch/>
        </p:blipFill>
        <p:spPr>
          <a:xfrm>
            <a:off x="324000" y="352440"/>
            <a:ext cx="8280360" cy="6210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колюще-сос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3" descr="0_3828d_c0209589_orig"/>
          <p:cNvPicPr/>
          <p:nvPr/>
        </p:nvPicPr>
        <p:blipFill>
          <a:blip r:embed="rId1"/>
          <a:stretch/>
        </p:blipFill>
        <p:spPr>
          <a:xfrm>
            <a:off x="324000" y="1174680"/>
            <a:ext cx="7343640" cy="5397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икл развит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720" y="1122120"/>
            <a:ext cx="7885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зрослая блоха теоретически может жить 1,5 года, но реально — не более пары месяцев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Картинка 32 из 57904"/>
          <p:cNvPicPr/>
          <p:nvPr/>
        </p:nvPicPr>
        <p:blipFill>
          <a:blip r:embed="rId1"/>
          <a:stretch/>
        </p:blipFill>
        <p:spPr>
          <a:xfrm>
            <a:off x="539640" y="204840"/>
            <a:ext cx="7704360" cy="64119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5" descr="Картинка 13 из 57904"/>
          <p:cNvPicPr/>
          <p:nvPr/>
        </p:nvPicPr>
        <p:blipFill>
          <a:blip r:embed="rId1"/>
          <a:stretch/>
        </p:blipFill>
        <p:spPr>
          <a:xfrm>
            <a:off x="179280" y="1467000"/>
            <a:ext cx="8137800" cy="5202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556px-flea_larva"/>
          <p:cNvPicPr/>
          <p:nvPr/>
        </p:nvPicPr>
        <p:blipFill>
          <a:blip r:embed="rId1"/>
          <a:stretch/>
        </p:blipFill>
        <p:spPr>
          <a:xfrm>
            <a:off x="250920" y="189000"/>
            <a:ext cx="5983200" cy="64580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51280" y="226800"/>
            <a:ext cx="247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Личинк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2:57:49Z</dcterms:created>
  <dc:creator>Бочкова И.А.</dc:creator>
  <dc:description/>
  <dc:language>en-US</dc:language>
  <cp:lastModifiedBy>LEGION</cp:lastModifiedBy>
  <dcterms:modified xsi:type="dcterms:W3CDTF">2014-11-25T09:28:07Z</dcterms:modified>
  <cp:revision>6</cp:revision>
  <dc:subject/>
  <dc:title>Отряд Блохи</dc:title>
</cp:coreProperties>
</file>