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455C6-A2EC-412A-8BAA-9C20791147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FAA83-C4CB-4899-8CB1-AD1C70E17C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9CB67-A951-4ACD-A957-35FA302933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мелеон – это ящер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51D45-F6A7-44A7-B3C9-CF62F0511A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05192-D9A9-491C-BABD-9ABB0C9AC7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C18B8-048D-4224-8DEA-41EF76CF96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тном народном творчестве также часто упоминаются пресмыкающиеся. Так мы говори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ю на груди пригре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удьте мудры, как змии…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подколодна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меняет шкуру, но не меняет свою натуру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окодиловы слёз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 воде жить, с крокодилом речь ве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ерепашьим шаго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Мудрый, как черепаха, глупый, как слон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гда спросили, чья голова красивее, черепаха высунула свою»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7D41C-B9F8-4F5A-8967-16CE3798C3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часто становился героем детских сказок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A09C7-37BE-4FDB-BFD3-8E36307713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паха – любимый сказочный персонаж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27145-27EF-4236-9053-6EAFDDBD3C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8366F-28C6-4F19-8C95-E0A07C2975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акие пресмыкающие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меи, крокодилы, черепахи, ящерицы – всё это пресмыкающиеся или рептил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42A7E-4761-4BE3-96C5-14350DC2DD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м известно о пресмыкающих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го на Земле обитает около 8 тысяч видов пресмыкаю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мыкающиеся или рептилии относятся к позвоночным живо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ептилии живут в жарких странах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E73AB-7BC6-4A77-A6C2-EF8058D78B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ме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E702C-7218-4811-B3F4-33E9053101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9CB8B-4B7B-4B53-9511-C5F6BA3C39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5CF49-304F-43B9-B276-CDF339DAA7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5C44D-078E-4910-9CE5-F7788863DC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ECAE7-3439-4912-B758-EB1B538672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ACAA-2CB5-4971-B1FD-BA3D8C1E51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9F26D-942A-4BEF-BFBD-285C3AC3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7CBD-8A98-45CA-91DA-8E902FC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C242-3BB5-48F0-ADBE-4AA20A865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BA88F-4013-4D25-A4B3-0CB13034A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213D1-F78B-4973-9E38-FEBE5BFD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152A0-B61F-488D-A335-F4CC0EB2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05492-2360-463E-956D-750F5D24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68E78-D062-4A31-B701-B2D97AA8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3B8CB-D986-4DC5-BE56-B6FFFAC6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1344B-F0BB-432C-8C92-1F43F1F1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BB85-3CEA-49A7-A490-3AA299AA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E66A4-6CBF-4DE2-8BE3-461C5CE8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B6857-3DF7-404E-8793-6DE515FE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41337-2CFC-4344-842C-B23FC9E6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00E73-571D-41FE-9CF0-5BBE314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9A602-7375-4082-A70A-CA458B024A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8EF9-52B2-4B0B-ADC6-3A0B17ABF8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0FC3-9127-45B4-A620-86EABF0E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137E-83DE-45B5-9324-2DF71D7B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F94A-52FE-49F3-AF83-65E13FE7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E906-7495-4F9A-865C-9260F903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01B8-F1E0-449C-98F9-B080E0A2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8D63-7963-4DBA-9811-E06D52F3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9776-6CBB-48E8-B413-32E4349D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1376-3206-4957-A7A9-BCB3487F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F7C6-BAF1-419D-85FA-D6753206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F9BA-51B8-4A0E-AB1A-4D13D79F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8FAE-D024-4D24-8EBB-18B08806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ED76-3336-49BA-B420-CC543C86BB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B8B17-DB5F-4E5D-9081-33A7A9AC68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42F26-C99A-4694-8F7E-ED915E13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E1833-D5E0-443C-9CF2-B988A340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B4E8-F52B-4C2C-ABC9-813EEFF4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32986-076F-4AE3-8BD0-5433601F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8D579-2398-4B42-BC66-2713D33A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1DB58-E96D-42BC-AFBF-70397C6B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C91D1-053C-4EEB-81C0-B4E1B55C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E0298-6DD3-4BAC-A709-82958B93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8C9D1-1F95-450F-B0F2-79C6E8E4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9BF1E-C744-4FAF-8B72-0C4909F8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E9748-24F6-470F-A196-DF0A64F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A09DD5-E31B-44B3-94A5-07E7E81E5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9F34C-852F-4DCA-B043-3B6EAE1504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810B-AB46-4436-B76D-89AE6CC3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E5DEA-5764-481A-80B8-46DEDDA7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D6A76-8445-4E95-B6CF-A707FD94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81A9B-80A2-4B41-9420-84BA7C81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641EB-1AE5-4493-BD6A-AD0A65AD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978F3A-CCA0-4C59-B1BD-A928CD8C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E6DAF2-CA65-4309-BED9-A942E5F9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C6ED5-1793-4DC2-811E-0CEE233B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BF827-95E5-4BE3-BA49-AFC2A305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E6357-3B8A-4B2E-93D8-A5B5150C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D594B-31D9-4C09-B7C2-E88FF229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FBF6-99A0-4915-BCD6-5D37A6F6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7AF7CF-EC3E-49F9-AA31-B80135849C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B55A-288C-471C-B4C0-9D83EB4F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AE77-A8E7-458D-B552-E9F959F4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1C20-ABC8-432E-8671-EB8C8506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8032F5-508F-4A08-90F4-73E700BAC48C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15C1E4-CAE8-4E1B-9C70-0481BBA6220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1102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D4E8C8-53E1-459D-9BBB-71D9BA50BCF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D08482-B3B4-44C7-8BA1-08FA47B169A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197153-681E-4521-ABCA-FACEE478216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371600" y="4929120"/>
            <a:ext cx="6772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857160" y="2000160"/>
            <a:ext cx="831240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мелеон – это ящери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5716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214800" cy="19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4929120" y="221472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4929120" y="45007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4572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47865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643720" y="214200"/>
            <a:ext cx="3286080" cy="19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198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715000" y="4429080"/>
            <a:ext cx="31399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929120" y="428616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3500640" cy="24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857840" y="1714680"/>
            <a:ext cx="3571920" cy="24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714240" y="428616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тном народном творчестве также часто упоминаются пресмыкающиеся. Так мы говор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86080" y="11426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ю на груди пригре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удьте мудры, как зми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подколодн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меняет шкуру, но не меняет свою натур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рокодиловы слёз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воде жить, с крокодилом речь ве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Черепашьим шаг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удрый, как черепаха, глупый, как сло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огда спросили, чья голова красивее, черепаха высунула свою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28760" y="3357720"/>
            <a:ext cx="2286000" cy="1485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57120" y="1292400"/>
            <a:ext cx="2571840" cy="1884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357120" y="4929120"/>
            <a:ext cx="26431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57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часто становился героем детских сказ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1719360" cy="2428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858000" y="4500720"/>
            <a:ext cx="1643040" cy="217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3143160" y="4240080"/>
            <a:ext cx="3143520" cy="2184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1571760" cy="20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5"/>
          <a:stretch/>
        </p:blipFill>
        <p:spPr>
          <a:xfrm>
            <a:off x="6929280" y="1928880"/>
            <a:ext cx="1785960" cy="239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164304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– любимый сказочный персонаж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857680" y="1285920"/>
            <a:ext cx="3071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72160" y="1285920"/>
            <a:ext cx="2071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6000840" y="4214880"/>
            <a:ext cx="2928960" cy="227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428760" y="3786120"/>
            <a:ext cx="2214360" cy="282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792440" y="285840"/>
            <a:ext cx="548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310000" cy="3983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714840" y="5715000"/>
            <a:ext cx="5000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860480" y="285840"/>
            <a:ext cx="5424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такие пресмыкающие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462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, крокодилы, черепахи, ящерицы – всё это пресмыкающиеся или репти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2857320" cy="209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2928960" cy="2193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03696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м известно о пресмыкаю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71480" y="1142640"/>
            <a:ext cx="642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на Земле обитает около 8 тысяч видов пресмыкаю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мыкающиеся или рептилии относятся к позвоночным живо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рептилии живут в жарких стран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153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2241360" cy="171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428760" y="4857840"/>
            <a:ext cx="22590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ме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2880"/>
            <a:ext cx="447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500800" y="4643280"/>
            <a:ext cx="3071880" cy="1928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57200" y="428760"/>
            <a:ext cx="45435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429160" y="285840"/>
            <a:ext cx="314352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окоди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714760" y="464328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7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4780080" y="1714680"/>
            <a:ext cx="36241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28760" y="272880"/>
            <a:ext cx="4643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500800" y="442908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457200" y="1928880"/>
            <a:ext cx="46864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429160" y="2143080"/>
            <a:ext cx="3286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28760" y="0"/>
            <a:ext cx="40719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7280" y="2712960"/>
            <a:ext cx="1801800" cy="1357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428760" y="1571760"/>
            <a:ext cx="4000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6643800" y="250020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143680" y="214200"/>
            <a:ext cx="3000240" cy="212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5643720" y="4357800"/>
            <a:ext cx="30715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3500280" cy="3214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4292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357720" y="3071880"/>
            <a:ext cx="2087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29:21Z</dcterms:modified>
  <cp:revision>4</cp:revision>
  <dc:subject/>
  <dc:title>Презентація PowerPoint</dc:title>
</cp:coreProperties>
</file>