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1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084A0-EA89-41BE-8355-DB298B40B8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ABFA8-BF49-45E4-B515-0B250CBF9D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4886F-D433-43A8-AFD6-AD5E0FF6C6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мелеон – это ящериц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5A45E-99CB-4F33-AB99-5DDE58595C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71E65-6FB6-4C02-8918-37B1EC1C18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C554B-CEFC-4940-806A-38E3351EEE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тном народном творчестве также часто упоминаются пресмыкающиеся. Так мы говори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ю на груди пригре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удьте мудры, как змии…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подколодна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меняет шкуру, но не меняет свою натуру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окодиловы слёз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В воде жить, с крокодилом речь ве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ерепашьим шаго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Мудрый, как черепаха, глупый, как слон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гда спросили, чья голова красивее, черепаха высунула свою»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34366-2265-4472-8D2C-898B72801D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часто становился героем детских сказок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D4872-1BB3-41FF-9E50-9D75F66180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паха – любимый сказочный персонаж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72B7D-1732-4D38-BE14-2857D164AC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EDBE5-3588-4CE7-8B81-0C539AA307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такие пресмыкающие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меи, крокодилы, черепахи, ящерицы – всё это пресмыкающиеся или рептил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CCE32-A323-4443-8285-0A146D3FC7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нам известно о пресмыкающих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го на Земле обитает около 8 тысяч видов пресмыкаю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мыкающиеся или рептилии относятся к позвоночным живот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ептилии живут в жарких странах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C6B16-EF3F-4E2E-B422-74C76D3163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ме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5763C-7C49-4756-9966-311EA96F84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90071-4CD9-4E7C-A00E-B223D22E11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4C667-29E5-492C-B40B-CDD8BE089C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D961A-F099-4748-B14F-F01FA54616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22DF7-2782-4480-858D-63782859C2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3C91-8335-4DA6-91A5-D8F9047088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45385-4659-40E1-8AA6-C78D0EC7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BEB3-2FC2-4964-95E7-FB9946CB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C75D-5610-4169-8584-15F9A5B50C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3E653-E728-4747-8941-F6251C809D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C1B39-6071-409F-9807-829FB349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1D36C-FBE2-461D-8DC6-216687D2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8C9F4-D392-4EB0-8D89-514F10A8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33D5D-BCD5-4FA4-A408-560CD845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DBF3F-82FE-4083-8DE5-E5588059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F2C5B-0FE4-4382-8525-520A1B6A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2F7E-F2B8-4D64-A1AB-EC085822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F740D-FA03-4DD2-8E5B-680BEDDC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63BB3-FD74-4A13-81FE-2B976E16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FEBE6-8BE5-4E3D-B9BA-0C5E8741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5BBED-0398-427E-BD29-785913A2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C327E-536F-44A8-9B20-8CEB1C7094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7680-A5AC-4475-940C-DE086DA6CB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5FF5-1FC5-49F6-822C-6F18129C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CD6B-DF9F-40F4-AC72-61ADED7A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54F3-F056-4058-A764-EB189B7D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68B8-5E5E-46E0-BBF3-CE19E325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2A6C-F5E5-46FE-A434-84CB2B27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81F0-B140-49B0-999A-A44E2A3A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044A-3AB1-449D-9B07-4A0345BC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8354-7692-4F23-9E25-C9D57EA1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01EF-7CD4-49F4-BF5B-BA6B7126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0A77-4519-4E12-A9AE-9E7048DB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E9AD-E5A7-4AC3-85FC-1A07FA0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FF35-BC90-4D59-9712-6AAC8F8D3D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0C651-7B24-4678-85FF-76EFA88C30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58223-19D0-4917-9BD6-C5657BD3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8BFE7-9097-4599-9AD3-ED886EAB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CA56-C4D6-4373-BC2D-BC42A191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6B5EA-5FEE-44CB-820D-813FED27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B86D3-6372-4A74-A0CB-C08531EF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94BAF-5025-4F8A-A1CC-9AC72356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F024A-CE2B-4032-A231-201933AD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0D8CA-925D-4C4D-BC9A-BA6101BA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83CE3-DD22-4549-A82A-50CD3CBD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3792A-5F7E-4CD6-B140-539DFDCB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CA3DA-2524-4E9A-9426-951A0200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5269F-C74E-464C-936A-821D96D163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3E4B22-8BFA-44BE-B756-7D41A21D27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2291-38A8-4143-8CB7-34C99128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334C51-BE81-4B3A-9651-12258E2C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94D2D-C975-4528-B2CF-6ED0C5D2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70E82-8417-44C9-9EC7-693A6988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8CDED-8D4C-440F-82DA-861DD8A8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C3B56-8A45-469D-9E8A-12949300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5E3087-6E8F-4601-A3B6-A1754623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D055B8-2167-43B2-A694-E599311A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5F76E2-0C5C-4DB5-8F2B-9623E2C8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4689B-3E93-4A6F-997F-9938B75C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AC43B3-0917-40F4-80A0-F42CAD56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D2E6-40FE-45DB-9127-F4F95B5E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916473-EE19-4C96-9638-4A2A6CC2CF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8AB2-ABFC-4A54-8D0D-6902311A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B9BA-517D-48F0-86A6-561C0042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A24C9-E77A-43B7-9AF8-D171EC83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Образец под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26F275-D398-4E67-A03F-95F791EFB1A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6D37738-6721-4AC4-B8CC-EF483270602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67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574800" y="272520"/>
            <a:ext cx="51102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5DBA14-BA1F-497F-B31D-FCD370FE17D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897601-BFB2-41E1-BB01-08890FA160D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5000"/>
          </a:bodyPr>
          <a:p>
            <a:pPr marL="5112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0DD531-7303-4462-9E5A-FF5419D84C8D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371600" y="4929120"/>
            <a:ext cx="6772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Calibri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857160" y="2000160"/>
            <a:ext cx="831240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амелеон – это ящериц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857160" y="442908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214800" cy="19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4929120" y="2214720"/>
            <a:ext cx="3286080" cy="2000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4929120" y="45007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4572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47865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5643720" y="214200"/>
            <a:ext cx="3286080" cy="196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5786280" y="2286000"/>
            <a:ext cx="3143520" cy="1982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5715000" y="4429080"/>
            <a:ext cx="31399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4929120" y="428616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714240" y="1785960"/>
            <a:ext cx="3500640" cy="242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4857840" y="1714680"/>
            <a:ext cx="3571920" cy="249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4"/>
          <a:stretch/>
        </p:blipFill>
        <p:spPr>
          <a:xfrm>
            <a:off x="714240" y="4286160"/>
            <a:ext cx="3456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стном народном творчестве также часто упоминаются пресмыкающиеся. Так мы говори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86080" y="1142640"/>
            <a:ext cx="5400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ю на груди пригре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удьте мудры, как змии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подколодн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меняет шкуру, но не меняет свою натур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рокодиловы слёз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воде жить, с крокодилом речь ве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Черепашьим шаг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удрый, как черепаха, глупый, как сло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огда спросили, чья голова красивее, черепаха высунула свою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28760" y="3357720"/>
            <a:ext cx="2286000" cy="1485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357120" y="1292400"/>
            <a:ext cx="2571840" cy="1884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>
            <a:off x="357120" y="4929120"/>
            <a:ext cx="26431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143280" y="-360"/>
            <a:ext cx="95727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часто становился героем детских сказо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1719360" cy="2428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6858000" y="4500720"/>
            <a:ext cx="1643040" cy="2172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"/>
          <p:cNvPicPr/>
          <p:nvPr/>
        </p:nvPicPr>
        <p:blipFill>
          <a:blip r:embed="rId3"/>
          <a:stretch/>
        </p:blipFill>
        <p:spPr>
          <a:xfrm>
            <a:off x="3143160" y="4240080"/>
            <a:ext cx="3143520" cy="2184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1571760" cy="2085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5"/>
          <a:stretch/>
        </p:blipFill>
        <p:spPr>
          <a:xfrm>
            <a:off x="6929280" y="1928880"/>
            <a:ext cx="1785960" cy="239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1643040" cy="19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паха – любимый сказочный персонаж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2857680" y="1285920"/>
            <a:ext cx="30715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572160" y="1285920"/>
            <a:ext cx="2071800" cy="281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6000840" y="4214880"/>
            <a:ext cx="2928960" cy="2279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428760" y="3786120"/>
            <a:ext cx="2214360" cy="2825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4"/>
          <a:stretch/>
        </p:blipFill>
        <p:spPr>
          <a:xfrm>
            <a:off x="142920" y="142884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1792440" y="285840"/>
            <a:ext cx="5486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310000" cy="39830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3714840" y="5715000"/>
            <a:ext cx="5000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860480" y="285840"/>
            <a:ext cx="54244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такие пресмыкающие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857840" y="1143000"/>
            <a:ext cx="2946240" cy="2014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84297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, крокодилы, черепахи, ящерицы – всё это пресмыкающиеся или рептил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928800" y="1143000"/>
            <a:ext cx="2857320" cy="2093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928800" y="3429000"/>
            <a:ext cx="2928960" cy="2193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036960" cy="20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нам известно о пресмыкающих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71480" y="1142640"/>
            <a:ext cx="6429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о на Земле обитает около 8 тысяч видов пресмыкаю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смыкающиеся или рептилии относятся к позвоночным живо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рептилии живут в жарких страна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2214360" cy="1536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2241360" cy="171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428760" y="4857840"/>
            <a:ext cx="225900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ме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4071960" cy="414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786200" y="2143080"/>
            <a:ext cx="40006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2880"/>
            <a:ext cx="4471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500800" y="4643280"/>
            <a:ext cx="3071880" cy="1928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457200" y="428760"/>
            <a:ext cx="454356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429160" y="2571840"/>
            <a:ext cx="3143520" cy="1928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429160" y="285840"/>
            <a:ext cx="3143520" cy="21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окоди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714760" y="4643280"/>
            <a:ext cx="378612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3429000" cy="275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4780080" y="1714680"/>
            <a:ext cx="362412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28760" y="272880"/>
            <a:ext cx="4643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500800" y="442908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457200" y="1928880"/>
            <a:ext cx="46864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3286080" cy="1857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5429160" y="2143080"/>
            <a:ext cx="3286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28760" y="0"/>
            <a:ext cx="40719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97280" y="2712960"/>
            <a:ext cx="1801800" cy="13575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428760" y="1571760"/>
            <a:ext cx="400032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6643800" y="2500200"/>
            <a:ext cx="2357280" cy="1643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3"/>
          <a:stretch/>
        </p:blipFill>
        <p:spPr>
          <a:xfrm>
            <a:off x="5143680" y="214200"/>
            <a:ext cx="3000240" cy="2125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4"/>
          <a:stretch/>
        </p:blipFill>
        <p:spPr>
          <a:xfrm>
            <a:off x="5643720" y="4357800"/>
            <a:ext cx="30715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00800" y="3000240"/>
            <a:ext cx="3500280" cy="3214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142920" y="3071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3357720" y="3071880"/>
            <a:ext cx="2087280" cy="298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29:21Z</dcterms:modified>
  <cp:revision>4</cp:revision>
  <dc:subject/>
  <dc:title>Презентація PowerPoint</dc:title>
</cp:coreProperties>
</file>