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4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E885-6DFA-4E67-810E-C580B45629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Н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F871-F337-45DF-9D10-1029D00A6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ан проведения заседаний СНК в 2010 – 2011 гг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На кафедре запланировано на текущий учебный год 6 заседаний СНК (ежемесяч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6409-708A-4170-BE86-B7CF1469A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46c0a"/>
                </a:solidFill>
                <a:latin typeface="Calibri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казания к консервативным и оперативным методам при остром панкреатите, выбор тактики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Язвенные гастродуоденальные кровот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Кровотечения из варикознорасширенных вен пище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Малоинвазивные доступы в сосудистой хиру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9A78-1908-4DC8-A7D7-1D3A8BFF95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спективы дальнейшего развития и совершенств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58C-F309-40F3-9844-457B720934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формационный стен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9BDF-F300-45FA-A6BE-48CE96B481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Адрес: г.Ярославль, Тутаевское шоссе, д.95, клиническая больница №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Телефон: 54-27-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41A8-5F34-41BA-850B-A1941AAA7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ЖДЕМ ВСЕХ ЖЕЛАЮЩИХ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4FD1-38EE-47A8-8780-1E3841D96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федра госпитальной хирур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Заведующий кафедрой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В.В Рыбач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Руководитель СНК: д.м.н., професс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И.Г. Дряж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редседатель СНК: А.А. Уткина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ароста СНК: М.К. Костюченко 7 группа, </a:t>
            </a:r>
            <a:r>
              <a:rPr b="0" lang="en-US" sz="1200" spc="-1" strike="noStrike">
                <a:solidFill>
                  <a:srgbClr val="e46c0a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курс, лечебный факуль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Ответственный за работу молодых ученых: д.м.н., профессор   Н.Е. Руд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2BDA-CEFB-4AAF-A2D7-3A0B67808E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я СНК кафед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1200"/>
            </a:br>
            <a:r>
              <a:rPr b="0" lang="ru-RU" sz="1200" spc="-1" strike="noStrike">
                <a:solidFill>
                  <a:srgbClr val="222268"/>
                </a:solidFill>
                <a:latin typeface="Calibri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D180-20FA-4E09-ACC3-194727FD74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55 по I960 г. кафедрой заведовал профессор А.А.Троицк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D894-E79F-4380-9F12-E498D2CC03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1200"/>
            </a:b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иссертаций из них 5 доктор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С создания кафедры и по на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дни на ней функционирует СН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Благодаря которому студенты боле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углубленно изучают акту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вопросы хирургии, овладе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практическими хирургичес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навыками, занимаются научно-исследовательской деятель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8E16-A5C0-4E11-8CB2-1A8C41778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и задачи СН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Познакомить студентов с основами научно-исследовательской работы в хирургической пр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8E23-653D-4E0B-B131-9598A6B469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НИРС и УИР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6c0a"/>
                </a:solidFill>
                <a:latin typeface="Calibri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00A4-5F92-468A-93C9-8BF9F14CDC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Calibri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D83A-6DAC-47F7-ABDB-7575162BE1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16DE-8DFE-4ED3-B35E-32966980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3CF3-D4C1-42EC-8C3B-C890F16C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23A-7150-46C1-A4EC-18795543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A1A2-48B1-421F-A4EB-8AE90CCC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D77F-1D82-4166-80BF-E3A48D93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93D1-80BB-422F-855B-D61DAE2E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1B13-7359-467F-90D9-823EFA03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95DE-D2DE-41BC-A21B-482F3069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274E-4605-41B6-B7FF-6E1CEE86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647B7-6149-4449-B003-355F39A6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417F-2793-4E2B-B008-F0382C27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CA41-A2BE-4EDB-88A6-77439235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99E3-F6FF-4F62-A7E6-A907B615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E77B-13A9-43B9-8602-DA932A55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A1E4-D1A3-40DD-A070-63FC1F1A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B57B-FB19-4A7D-A8B6-3F723E7B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46880"/>
            <a:ext cx="2944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8CBE-0358-47EB-AC47-B638A7CD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867-1326-400F-A940-41994756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1FA-D091-4E3F-B924-EFE82B38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A63-1FAB-4F4B-AD41-4185E922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AC9-B784-4653-BA9C-35B76ABD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333-DC54-4F67-AFA7-859D7230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4688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CC3-7989-47F3-84F7-391333AF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46880"/>
            <a:ext cx="91440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095-F140-4F38-A4E3-6D6CBD6C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A330-22BB-45BC-9A69-4F3F139066FF}" type="slidenum">
              <a:rPr b="1" lang="en-US" sz="10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80808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6FE6-D66C-460C-9613-35D523525043}" type="slidenum">
              <a:rPr b="0" lang="en-US" sz="1000" spc="-1" strike="noStrike">
                <a:solidFill>
                  <a:srgbClr val="336699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5.gif"/><Relationship Id="rId6" Type="http://schemas.openxmlformats.org/officeDocument/2006/relationships/image" Target="../media/image24.gif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91440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6699"/>
                </a:solidFill>
                <a:latin typeface="Impact"/>
              </a:rPr>
              <a:t>СНК</a:t>
            </a:r>
            <a:endParaRPr b="0" lang="en-US" sz="9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0" name="Подзаголовок 6" descr=""/>
          <p:cNvPicPr/>
          <p:nvPr/>
        </p:nvPicPr>
        <p:blipFill>
          <a:blip r:embed="rId1"/>
          <a:stretch/>
        </p:blipFill>
        <p:spPr>
          <a:xfrm>
            <a:off x="-23760" y="2189160"/>
            <a:ext cx="9375840" cy="227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ems_star_shimmering_hg_clr"/>
          <p:cNvPicPr/>
          <p:nvPr/>
        </p:nvPicPr>
        <p:blipFill>
          <a:blip r:embed="rId2"/>
          <a:stretch/>
        </p:blipFill>
        <p:spPr>
          <a:xfrm>
            <a:off x="22860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лан проведения заседаний СНК в 2010 – 2011 гг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кафедре запланировано на текущий учебный год 6 заседаний СНК (ежемесячно)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планировано подготовить 2 – 3 доклада на итоговую научную студенческую конференцию и подготовить 2 – 3 статьи в студенческий сборник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0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На заседаниях кружка обсуждаются темы, посвященные наиболее актуальным вопросам экстренной и плановой хирургии, малоинвазивные технологии в хирургии:</a:t>
            </a:r>
            <a:endParaRPr b="0" lang="en-US" sz="28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78560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Заболевания щитовидной железы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Грыжи передней брюшной стенки: традиционные грыжесечения, грыжесечения с применением сетчатых эндопротезов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оказания к консервативным и оперативным методам при остром панкреатите, выбор тактики л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Язвенные гастродуоденальные кровотечения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Кровотечения из варикознорасширенных вен пищевода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22268"/>
              </a:buClr>
              <a:buSzPct val="20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Малоинвазивные доступы в сосудистой хирургии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99"/>
                </a:solidFill>
                <a:latin typeface="Impact"/>
              </a:rPr>
              <a:t>Перспективы дальнейшего развития и совершенствования:</a:t>
            </a:r>
            <a:endParaRPr b="0" lang="en-US" sz="32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Будет уделено внимание методологии проведения научно-исследовательской работы, более широкому знакомству студентов с пациентами с хирургической патологией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нформационный стенд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41" name="Рисунок 4" descr="P1290846.JP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Контактные данные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Адрес: г.Ярославль, Тутаевское шоссе, д.95, клиническая больница №9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Телефон: 54-27-64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24064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7" name="Picture 91" descr="medical_hero_sld"/>
          <p:cNvPicPr/>
          <p:nvPr/>
        </p:nvPicPr>
        <p:blipFill>
          <a:blip r:embed="rId1"/>
          <a:stretch/>
        </p:blipFill>
        <p:spPr>
          <a:xfrm>
            <a:off x="2411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2" descr="medical_hero_trs"/>
          <p:cNvPicPr/>
          <p:nvPr/>
        </p:nvPicPr>
        <p:blipFill>
          <a:blip r:embed="rId2"/>
          <a:stretch/>
        </p:blipFill>
        <p:spPr>
          <a:xfrm>
            <a:off x="4670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3" descr="medical_hero_prt"/>
          <p:cNvPicPr/>
          <p:nvPr/>
        </p:nvPicPr>
        <p:blipFill>
          <a:blip r:embed="rId3"/>
          <a:stretch/>
        </p:blipFill>
        <p:spPr>
          <a:xfrm>
            <a:off x="6929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4" descr="medical_hero_qx"/>
          <p:cNvPicPr/>
          <p:nvPr/>
        </p:nvPicPr>
        <p:blipFill>
          <a:blip r:embed="rId4"/>
          <a:stretch/>
        </p:blipFill>
        <p:spPr>
          <a:xfrm>
            <a:off x="152280" y="15228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5" descr="ems_rotating"/>
          <p:cNvPicPr/>
          <p:nvPr/>
        </p:nvPicPr>
        <p:blipFill>
          <a:blip r:embed="rId5"/>
          <a:stretch/>
        </p:blipFill>
        <p:spPr>
          <a:xfrm>
            <a:off x="5943600" y="3657600"/>
            <a:ext cx="3029040" cy="302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6" descr="ems_star_shimmering_hg_clr"/>
          <p:cNvPicPr/>
          <p:nvPr/>
        </p:nvPicPr>
        <p:blipFill>
          <a:blip r:embed="rId6"/>
          <a:stretch/>
        </p:blipFill>
        <p:spPr>
          <a:xfrm>
            <a:off x="152280" y="363852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22268"/>
                </a:solidFill>
                <a:latin typeface="Impact"/>
              </a:rPr>
              <a:t>ЖДЕМ ВСЕХ ЖЕЛАЮЩИХ!</a:t>
            </a:r>
            <a:endParaRPr b="1" lang="en-US" sz="66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54" name="Рисунок 10" descr="P1290850.JPG"/>
          <p:cNvPicPr/>
          <p:nvPr/>
        </p:nvPicPr>
        <p:blipFill>
          <a:blip r:embed="rId7"/>
          <a:stretch/>
        </p:blipFill>
        <p:spPr>
          <a:xfrm>
            <a:off x="2286000" y="142920"/>
            <a:ext cx="2214720" cy="15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1" descr="P1290853.JPG"/>
          <p:cNvPicPr/>
          <p:nvPr/>
        </p:nvPicPr>
        <p:blipFill>
          <a:blip r:embed="rId8"/>
          <a:stretch/>
        </p:blipFill>
        <p:spPr>
          <a:xfrm>
            <a:off x="4643280" y="142920"/>
            <a:ext cx="2143440" cy="1571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4" descr="P1290843.JPG"/>
          <p:cNvPicPr/>
          <p:nvPr/>
        </p:nvPicPr>
        <p:blipFill>
          <a:blip r:embed="rId9"/>
          <a:stretch/>
        </p:blipFill>
        <p:spPr>
          <a:xfrm>
            <a:off x="142920" y="14292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P1290849.JPG"/>
          <p:cNvPicPr/>
          <p:nvPr/>
        </p:nvPicPr>
        <p:blipFill>
          <a:blip r:embed="rId10"/>
          <a:stretch/>
        </p:blipFill>
        <p:spPr>
          <a:xfrm>
            <a:off x="6929280" y="142920"/>
            <a:ext cx="2071800" cy="15717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 Black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99"/>
                </a:solidFill>
                <a:latin typeface="Impact"/>
              </a:rPr>
              <a:t>Кафедра госпитальной хирургии</a:t>
            </a:r>
            <a:endParaRPr b="0" lang="en-US" sz="48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4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Заведующий кафедрой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В.В Рыбач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уководитель СНК: д.м.н., профессор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И.Г. Дряженко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редседатель СНК: А.А. Уткина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ароста СНК: М.К. Костюченко 7 группа, </a:t>
            </a:r>
            <a:r>
              <a:rPr b="1" lang="en-US" sz="2800" spc="-1" strike="noStrike">
                <a:solidFill>
                  <a:srgbClr val="222268"/>
                </a:solidFill>
                <a:latin typeface="Tahoma"/>
              </a:rPr>
              <a:t>VI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курс, лечебный факультет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Ответственный за работу молодых ученых: д.м.н., профессор   Н.Е. Руднев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История СНК кафедры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98" name="Picture 22" descr="ems_rotating"/>
          <p:cNvPicPr/>
          <p:nvPr/>
        </p:nvPicPr>
        <p:blipFill>
          <a:blip r:embed="rId1"/>
          <a:stretch/>
        </p:blipFill>
        <p:spPr>
          <a:xfrm>
            <a:off x="2905200" y="195264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ервым заведующим кафедрой госпитальной хирургии с 1944 по 1950 г. был профессор И.М.Перельман. На кафедре в то время уделялось большое внимание вопросам неотложной хирургии брюшной полости и изучению заболеваний сердечно-сосудистой системы.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С 1950 по 1951 г. кафедру возглавлял профессор А.А.Бусалов - ученик и воспитанник школы академика С.А.Спасокукоцкого. Основное внимание на кафедре было уделено вопросам хирургии желудка и гнойной хирургии легких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 С 1952 по 1954 г. кафедру госпитальной хирургии возглавляла доцент Е.В.Карпова - опытный клиницист, крупный специалист в абдоминальной хирургии и хирургии щитовидной железы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785520"/>
            <a:ext cx="91440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Tahoma"/>
              </a:rPr>
              <a:t> 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55 по I960 г. кафедрой заведовал профессор А.А.Троицк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0 по 1961 г. кафедру возглавил профессор В.П.Матешук. За этот, сравнительно короткий период времени на кафедре разрабатывались вопросы применения однорядного внутриузелкового шва в абдоминальной хирургии, техника выполнения, его показания к применению при различных операциях на органах брюшной полости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С 1961 по 1973 г. клинику госпитальной хирургии возглавлял Заслуженный деятель науки БССР профессор А.К.Шипов. Под его руководством на кафедре был сконструирован гипотерм и проведен ряд сложных операций под общей гипотермие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0" y="7858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1974 по 1999 г. кафедру возглавлял профессор Ю.Н.Белокуров. Под его руководством организован один из первых в стране межобластных центров гипербарической оксигенации и защищено 36 диссертаций. </a:t>
            </a:r>
            <a:br>
              <a:rPr sz="2400"/>
            </a:b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      С 1999 г. кафедрой заведует профессор В.В.Рыбачков.  Под его руководством защищено 2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иссертаций из них 5 докторск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С создания кафедры и по н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дни на ней функционирует СН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Благодаря которому студенты бол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углубленно изучают актуа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вопросы хирургии, овладев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практическими хирургическ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ahoma"/>
              </a:rPr>
              <a:t>навыками, занимаются научно-исследовательской деятель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P1290845.JPG"/>
          <p:cNvPicPr/>
          <p:nvPr/>
        </p:nvPicPr>
        <p:blipFill>
          <a:blip r:embed="rId1"/>
          <a:stretch/>
        </p:blipFill>
        <p:spPr>
          <a:xfrm>
            <a:off x="6643800" y="3357720"/>
            <a:ext cx="2071440" cy="27144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Цели и задачи СНК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Познакомить студентов с основами научно-исследовательской работы в хирургической практике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Рисунок 4" descr="P1290852.JPG"/>
          <p:cNvPicPr/>
          <p:nvPr/>
        </p:nvPicPr>
        <p:blipFill>
          <a:blip r:embed="rId1"/>
          <a:stretch/>
        </p:blipFill>
        <p:spPr>
          <a:xfrm>
            <a:off x="4714920" y="4000680"/>
            <a:ext cx="3429000" cy="24285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P1290849.JPG"/>
          <p:cNvPicPr/>
          <p:nvPr/>
        </p:nvPicPr>
        <p:blipFill>
          <a:blip r:embed="rId2"/>
          <a:stretch/>
        </p:blipFill>
        <p:spPr>
          <a:xfrm>
            <a:off x="571680" y="228600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99"/>
                </a:solidFill>
                <a:latin typeface="Impact"/>
              </a:rPr>
              <a:t>Основные направления НИРС и УИРС:</a:t>
            </a:r>
            <a:endParaRPr b="0" lang="en-US" sz="44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0" y="78588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Работа с медицинской документацией, архивными материалами, анализ полученных данных, анкетирование пациентов, участие в экспериментах, более углубленное знакомство с экстренной и плановой хирургической патологией, овладение практическими хирургическими навы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ahoma"/>
              </a:rPr>
              <a:t>Студенты помогают сотрудникам кафедры в научно-исследовательской работе, знакомятся с особенностями клинической картины у хирургических больных, готовят и выступают с докладами по актуальным вопросам хирургии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9" name="Рисунок 3" descr="x_8929a059.jpg"/>
          <p:cNvPicPr/>
          <p:nvPr/>
        </p:nvPicPr>
        <p:blipFill>
          <a:blip r:embed="rId2"/>
          <a:stretch/>
        </p:blipFill>
        <p:spPr>
          <a:xfrm>
            <a:off x="514368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P1290864.JPG"/>
          <p:cNvPicPr/>
          <p:nvPr/>
        </p:nvPicPr>
        <p:blipFill>
          <a:blip r:embed="rId3"/>
          <a:stretch/>
        </p:blipFill>
        <p:spPr>
          <a:xfrm>
            <a:off x="285840" y="342900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P1290865.JPG"/>
          <p:cNvPicPr/>
          <p:nvPr/>
        </p:nvPicPr>
        <p:blipFill>
          <a:blip r:embed="rId4"/>
          <a:stretch/>
        </p:blipFill>
        <p:spPr>
          <a:xfrm>
            <a:off x="2428920" y="435780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6699"/>
              </a:solidFill>
              <a:latin typeface="Impact"/>
            </a:endParaRPr>
          </a:p>
        </p:txBody>
      </p:sp>
      <p:pic>
        <p:nvPicPr>
          <p:cNvPr id="124" name="Содержимое 7" descr="x_9f3de834.jpg"/>
          <p:cNvPicPr/>
          <p:nvPr/>
        </p:nvPicPr>
        <p:blipFill>
          <a:blip r:embed="rId2"/>
          <a:stretch/>
        </p:blipFill>
        <p:spPr>
          <a:xfrm>
            <a:off x="4767120" y="0"/>
            <a:ext cx="4376880" cy="2843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x_370a7bd7.jpg"/>
          <p:cNvPicPr/>
          <p:nvPr/>
        </p:nvPicPr>
        <p:blipFill>
          <a:blip r:embed="rId3"/>
          <a:stretch/>
        </p:blipFill>
        <p:spPr>
          <a:xfrm>
            <a:off x="0" y="0"/>
            <a:ext cx="4357800" cy="2857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x_52958ca5.jpg"/>
          <p:cNvPicPr/>
          <p:nvPr/>
        </p:nvPicPr>
        <p:blipFill>
          <a:blip r:embed="rId4"/>
          <a:stretch/>
        </p:blipFill>
        <p:spPr>
          <a:xfrm>
            <a:off x="478620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x_a7a0ef3d.jpg"/>
          <p:cNvPicPr/>
          <p:nvPr/>
        </p:nvPicPr>
        <p:blipFill>
          <a:blip r:embed="rId5"/>
          <a:stretch/>
        </p:blipFill>
        <p:spPr>
          <a:xfrm>
            <a:off x="0" y="3786120"/>
            <a:ext cx="4357800" cy="3071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sbotnici_sovremennie.jpg"/>
          <p:cNvPicPr/>
          <p:nvPr/>
        </p:nvPicPr>
        <p:blipFill>
          <a:blip r:embed="rId6"/>
          <a:stretch/>
        </p:blipFill>
        <p:spPr>
          <a:xfrm>
            <a:off x="2357280" y="178596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9:12:36Z</dcterms:created>
  <dc:creator>Настя</dc:creator>
  <dc:description/>
  <dc:language>en-US</dc:language>
  <cp:lastModifiedBy>LEGION</cp:lastModifiedBy>
  <dcterms:modified xsi:type="dcterms:W3CDTF">2014-11-06T13:43:15Z</dcterms:modified>
  <cp:revision>34</cp:revision>
  <dc:subject/>
  <dc:title>СНО</dc:title>
</cp:coreProperties>
</file>