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6269-98C9-448C-9C28-4862FCFC2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лзучи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«Уса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ивучка ползуч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емля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лаки — некоторые в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апч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к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лорофит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CD03-2F24-4F8B-B422-7190B1BBCB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 надзем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одк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же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ыжов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13E-D5C5-4777-B701-4CCAA83CB5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ными 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убн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ртоф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пинамб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ргин, ба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02C-9113-432E-A8A3-1DA49BAAD8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ным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бегам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осле того как растение отцветет, его выкапывают, отделяют боковые отрост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Обрезают верхушки длинных листье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еви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Бегония королевск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Ири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Кан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Ландыш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Мя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ио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Пырей ползуч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F16-03DE-44E8-BB3D-23FD93970A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множение подзем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идоизмененными побе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кови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ци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дснежник</a:t>
            </a:r>
            <a:r>
              <a:rPr b="0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3B3-15F9-474C-843A-5E817A27A5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вивка(трансплант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вой-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и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брик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блон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D2A3-4A29-4AC0-A124-B6F0866C0C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35F-493B-4D8A-B0E6-B46695DB0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688-B405-4978-9DAF-7B053D94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044-339D-4DE2-84BB-243CE45D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E51-3F54-47FA-97B5-BF1601DF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3AB4-6595-472C-8C2F-CB7C2A05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FE2-AF04-42DC-A9C2-638ACB86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084-C8A9-41FE-AE8E-F6EA599E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D499-88AF-46FC-BBC6-D66FB2D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A43-9BE2-46FB-A5D1-239D62D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1C7-82B8-479F-B9A6-6D543D96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9533-4D5A-496A-BB4B-379CF6FD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C9F-46A8-4B6A-966F-04676866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7383-504C-4135-BE17-D6F83BF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C8FA-B6A7-451C-8D55-E6B422A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DC21-2EBF-4052-895D-1DD345CD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6A0-1C4B-4FD3-9441-359CD517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056-8B70-479F-9796-0FAF2312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CCF-C76E-4195-B795-C492CDC1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1AC-B85A-4A73-9228-F80C60C7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4CD-94AB-4A5C-BE8D-EE35700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8E0-0942-4E8E-BF7E-33459E86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EC4-B5D6-4E9F-8A47-B24F1258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050-2D61-4023-B614-8A762A5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947-BEEE-444C-8CBA-A916B0D2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CE82-0915-40DF-829E-E73CC26236F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C419-9838-4E8A-864F-5252349E49B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8645400" cy="70776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1"/>
          <p:cNvPicPr/>
          <p:nvPr/>
        </p:nvPicPr>
        <p:blipFill>
          <a:blip r:embed="rId2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858160" cy="70632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6"/>
          <p:cNvPicPr/>
          <p:nvPr/>
        </p:nvPicPr>
        <p:blipFill>
          <a:blip r:embed="rId2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4" descr=""/>
          <p:cNvPicPr/>
          <p:nvPr/>
        </p:nvPicPr>
        <p:blipFill>
          <a:blip r:embed="rId1"/>
          <a:stretch/>
        </p:blipFill>
        <p:spPr>
          <a:xfrm>
            <a:off x="1212840" y="0"/>
            <a:ext cx="6437160" cy="1322280"/>
          </a:xfrm>
          <a:prstGeom prst="rect">
            <a:avLst/>
          </a:prstGeom>
          <a:ln w="0">
            <a:noFill/>
          </a:ln>
        </p:spPr>
      </p:pic>
      <p:sp>
        <p:nvSpPr>
          <p:cNvPr id="100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4859280" y="213372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ргин, бат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5"/>
          <p:cNvPicPr/>
          <p:nvPr/>
        </p:nvPicPr>
        <p:blipFill>
          <a:blip r:embed="rId2"/>
          <a:stretch/>
        </p:blipFill>
        <p:spPr>
          <a:xfrm>
            <a:off x="5376960" y="3860640"/>
            <a:ext cx="3481200" cy="278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4"/>
          <p:cNvPicPr/>
          <p:nvPr/>
        </p:nvPicPr>
        <p:blipFill>
          <a:blip r:embed="rId3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4" descr=""/>
          <p:cNvPicPr/>
          <p:nvPr/>
        </p:nvPicPr>
        <p:blipFill>
          <a:blip r:embed="rId1"/>
          <a:stretch/>
        </p:blipFill>
        <p:spPr>
          <a:xfrm>
            <a:off x="2498760" y="0"/>
            <a:ext cx="6437160" cy="1938240"/>
          </a:xfrm>
          <a:prstGeom prst="rect">
            <a:avLst/>
          </a:prstGeom>
          <a:ln w="0">
            <a:noFill/>
          </a:ln>
        </p:spPr>
      </p:pic>
      <p:sp>
        <p:nvSpPr>
          <p:cNvPr id="106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1"/>
          <a:stretch/>
        </p:blipFill>
        <p:spPr>
          <a:xfrm>
            <a:off x="1285920" y="0"/>
            <a:ext cx="6791400" cy="132228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TextBox 14" descr=""/>
          <p:cNvPicPr/>
          <p:nvPr/>
        </p:nvPicPr>
        <p:blipFill>
          <a:blip r:embed="rId2"/>
          <a:stretch/>
        </p:blipFill>
        <p:spPr>
          <a:xfrm>
            <a:off x="535320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4" descr=""/>
          <p:cNvPicPr/>
          <p:nvPr/>
        </p:nvPicPr>
        <p:blipFill>
          <a:blip r:embed="rId1"/>
          <a:stretch/>
        </p:blipFill>
        <p:spPr>
          <a:xfrm>
            <a:off x="371520" y="285840"/>
            <a:ext cx="8772480" cy="707760"/>
          </a:xfrm>
          <a:prstGeom prst="rect">
            <a:avLst/>
          </a:prstGeom>
          <a:ln w="0">
            <a:noFill/>
          </a:ln>
        </p:spPr>
      </p:pic>
      <p:sp>
        <p:nvSpPr>
          <p:cNvPr id="122" name="Скругленный прямоугольник 2"/>
          <p:cNvSpPr/>
          <p:nvPr/>
        </p:nvSpPr>
        <p:spPr>
          <a:xfrm>
            <a:off x="6084720" y="1341360"/>
            <a:ext cx="2571840" cy="13604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ой-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8"/>
          <p:cNvPicPr/>
          <p:nvPr/>
        </p:nvPicPr>
        <p:blipFill>
          <a:blip r:embed="rId2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LEGION</cp:lastModifiedBy>
  <dcterms:modified xsi:type="dcterms:W3CDTF">2014-11-25T09:30:41Z</dcterms:modified>
  <cp:revision>120</cp:revision>
  <dc:subject/>
  <dc:title>Слайд 1</dc:title>
</cp:coreProperties>
</file>