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gif" ContentType="image/gif"/>
  <Override PartName="/ppt/media/image5.png" ContentType="image/png"/>
  <Override PartName="/ppt/media/image1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05B4-0A12-4C28-A167-D0EE6035E5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Лабораторная работ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«Строение растительной клетки на примере клеток кожицы чешуи лу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7F1B-CC61-4544-B860-7F15F10CB2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2DB0-A2F1-47B7-A1F8-69F5D84DFD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Образовательная тка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ункция: рост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дые клетки растущих частей растения, способные к быстрому делению, формируют образовательную ткань. Такая ткань находится на верхушках побегов и кончиках корней. Благодаря быстрому делению ее клеток, стебель и корень растут в длину. Образовательная ткань внутри стеблей и корней обеспечивает их рост в толщи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Домашнее задание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подготовиться к п/р по § </a:t>
            </a:r>
            <a:r>
              <a:rPr b="1" lang="en-US" sz="12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-4</a:t>
            </a:r>
            <a:br>
              <a:rPr sz="1200"/>
            </a:b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185B-C3D5-465E-8DF2-69B2A85BC3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борудование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скоп, микропрепарат, тетрадь, ручка, карандаш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Ц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ить особенности строения растительной клетки, используя современные увеличительные приб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D0D1-FF1F-4058-B1EC-60B5A197E0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Ход работ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астроить микроскоп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ассмотреть микропрепарат кожицы чешуи лука под микроскопом на малом увеличен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Зарисовать увиденное в поле зрения микроскопа в тетрад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88FD-32E9-4C58-87D8-6C9C9C25DC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4626-6BF1-42C3-8B6A-BF323A9A1D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ка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оверхности всех органов растения находится покровная тка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сающая ткань состоит из крупных, неплотно прилегающих друг к другу клеток, которые способны накапливать различные вещества в цитоплазме и вакуо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ая ткань состоит из клеток, имеющих толстые и прочные оболо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ая ткань состоит из небольших, плотно прилегающих друг к другу клеток, способных к быстрому де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астительные тка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DDAD-ECD3-451A-AA49-DF1BD155AB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0900-1D0E-4D86-B748-C05379DCD2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ровная ткань состоит из плотно прилегающих друг к другу клеток и выполняет защитную функ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етки кожицы лука плотно прилегают друг к другу и выполняют защитную функцию, ведь они находятся на поверхности чешуйки луковицы. Такая ткань называется покровной.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 Покровная тка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: защит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9FAC-3DF8-42DB-A5AE-02617D6AE1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Механическая тка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: опорная, придают прочность раст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ткани состоят из клеток, имеющих очень твердую, толстую оболочку. Поэтому и сама ткань очень прочная. Часто во взрослых клетках такой ткани уже нет цитоплазмы, а осталась только плотная оболочка. Это мертвая ткань. Помнишь, мы уже говорили об этом? Такая ткань образует кору деревьев, скорлупу орехов. Она называется опорной или механической ткан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7539-3A90-4881-BB56-DC5E5DAB3E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Запасающая тка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: запасающ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шь клетки мякоти арбуза? Они содержат много садкого клеточного сока. Когда арбуз созревает, в них накапливаются сахар и другие питательные вещества. В клетках клубня картофеля, например, накапливается крахм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47DE-3D42-440E-8C86-F2EAA9F60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B48C-2890-45D8-9A0E-CEC64189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9B53-F1EA-4739-89A7-F26BE4C4E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6803-1FE3-4D70-9EA1-C0676C5EF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3A993-1489-48CF-8137-2A079DE542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8F958-2B32-40D1-8B5D-7991369AB3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BE03E-C3EB-4C21-AD5C-981EEBFCED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E211B-356B-4205-B183-CD3A8748A9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65E67-521C-4C9C-8C46-F9BE75D66E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4AE95-B875-4A7A-8A40-7141B44E4E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A5ED8-15CC-46EE-86AC-B23153940C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F092-1C5A-4B4C-A4BF-32E72F28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E33E5-47B3-40F0-82EA-379DBD02ED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D248F5-4D94-4681-8E79-36C013908D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B1743-0ED6-485A-8638-C99B71BAAD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BFE08-F445-424A-93E3-23E1D14F0A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2CE01-535C-4AC2-ACFA-877C3E840E3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3EE13-B17E-4C9A-BD1D-C7A9C6CC093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CB094-8A73-458C-ACB8-E1E6E8E20A2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2DDF9-8CA9-4A39-A795-85A99D6E205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E4A02-687F-4C71-B96C-F362E4914C4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E887D-9304-4D7F-9757-AE8BA6C5BA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A59E-D49A-4198-AFB1-54126498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FF467-F3E0-4C60-A416-2E61F216E8E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09B11-527A-4CD5-851C-9B1E225A206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F7CE9-E975-41F4-8C05-393BB9A6219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E1238-6DFF-465A-9578-254836B1B07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7DDA6-1CBF-4D56-9EBA-2BEACF11AA9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F8859-3D60-4977-8498-8B946FA620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9BCB6-1A89-4169-93E6-5B3570D972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54C9-6DBE-4577-A3CB-FB390947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EC42-756C-4B13-852F-535841CE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631B-4307-4104-A9D0-A0EA9226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E8FC-D91D-4DA9-8233-0AA48536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527F-D2CA-419F-842E-F4EFED80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327B-37F1-4BAF-9303-C614F88A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01CF-836E-41B2-9241-6219FA839F0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707D-BE25-4611-92C7-0A7ADD90CB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7009920" y="63878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B0F0-2C74-472D-86CF-82100B98CA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7009920" y="63878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9C02-943D-4B2A-8D1A-CBBB1870F7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3" descr=""/>
          <p:cNvPicPr/>
          <p:nvPr/>
        </p:nvPicPr>
        <p:blipFill>
          <a:blip r:embed="rId1"/>
          <a:stretch/>
        </p:blipFill>
        <p:spPr>
          <a:xfrm>
            <a:off x="165240" y="274680"/>
            <a:ext cx="8935920" cy="51562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Rectangle 2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8229600" cy="15238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: рос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4" descr="ткань 4"/>
          <p:cNvPicPr/>
          <p:nvPr/>
        </p:nvPicPr>
        <p:blipFill>
          <a:blip r:embed="rId2"/>
          <a:stretch/>
        </p:blipFill>
        <p:spPr>
          <a:xfrm>
            <a:off x="5500800" y="2714760"/>
            <a:ext cx="3276360" cy="3198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Картинка 6 из 37985"/>
          <p:cNvPicPr/>
          <p:nvPr/>
        </p:nvPicPr>
        <p:blipFill>
          <a:blip r:embed="rId3"/>
          <a:stretch/>
        </p:blipFill>
        <p:spPr>
          <a:xfrm>
            <a:off x="428760" y="264312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головок 4" descr=""/>
          <p:cNvPicPr/>
          <p:nvPr/>
        </p:nvPicPr>
        <p:blipFill>
          <a:blip r:embed="rId1"/>
          <a:stretch/>
        </p:blipFill>
        <p:spPr>
          <a:xfrm>
            <a:off x="414360" y="274680"/>
            <a:ext cx="8296200" cy="4797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4954065"/>
          <p:cNvPicPr/>
          <p:nvPr/>
        </p:nvPicPr>
        <p:blipFill>
          <a:blip r:embed="rId2"/>
          <a:stretch/>
        </p:blipFill>
        <p:spPr>
          <a:xfrm>
            <a:off x="3143160" y="378612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борудование: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икроскоп, микропрепарат, тетрадь, ручка, карандаш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Цель: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учить особенности строения растительной клетки, используя современные увеличительные приб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Ход работы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. Настроить микроскоп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 Рассмотреть микропрепарат кожицы чешуи лука под микроскопом на малом увеличени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. Зарисовать увиденное в поле зрения микроскопа в тетрад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8" descr="пластиды 1"/>
          <p:cNvPicPr/>
          <p:nvPr/>
        </p:nvPicPr>
        <p:blipFill>
          <a:blip r:embed="rId1"/>
          <a:stretch/>
        </p:blipFill>
        <p:spPr>
          <a:xfrm>
            <a:off x="2071800" y="1357200"/>
            <a:ext cx="4495680" cy="44960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Rectangle 2" descr=""/>
          <p:cNvPicPr/>
          <p:nvPr/>
        </p:nvPicPr>
        <p:blipFill>
          <a:blip r:embed="rId1"/>
          <a:stretch/>
        </p:blipFill>
        <p:spPr>
          <a:xfrm>
            <a:off x="457200" y="133200"/>
            <a:ext cx="8229600" cy="1671840"/>
          </a:xfrm>
          <a:prstGeom prst="rect">
            <a:avLst/>
          </a:prstGeom>
          <a:ln w="0">
            <a:noFill/>
          </a:ln>
        </p:spPr>
      </p:pic>
      <p:grpSp>
        <p:nvGrpSpPr>
          <p:cNvPr id="136" name="Organization Chart 2"/>
          <p:cNvGrpSpPr/>
          <p:nvPr/>
        </p:nvGrpSpPr>
        <p:grpSpPr>
          <a:xfrm>
            <a:off x="431640" y="1568520"/>
            <a:ext cx="8208720" cy="2160000"/>
            <a:chOff x="431640" y="1568520"/>
            <a:chExt cx="8208720" cy="2160000"/>
          </a:xfrm>
        </p:grpSpPr>
        <p:cxnSp>
          <p:nvCxnSpPr>
            <p:cNvPr id="137" name="_s1028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5931000" y="1051560"/>
              <a:ext cx="402480" cy="319284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0" name="_s1029"/>
            <p:cNvCxnSpPr>
              <a:stCxn id="141" idx="0"/>
              <a:endCxn id="139" idx="2"/>
            </p:cNvCxnSpPr>
            <p:nvPr/>
          </p:nvCxnSpPr>
          <p:spPr>
            <a:xfrm flipV="1" rot="16200000">
              <a:off x="4866840" y="2115720"/>
              <a:ext cx="402480" cy="106452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2" name="_s1030"/>
            <p:cNvCxnSpPr>
              <a:stCxn id="143" idx="0"/>
              <a:endCxn id="139" idx="2"/>
            </p:cNvCxnSpPr>
            <p:nvPr/>
          </p:nvCxnSpPr>
          <p:spPr>
            <a:xfrm flipH="1" flipV="1" rot="5400000">
              <a:off x="3803760" y="2116800"/>
              <a:ext cx="402480" cy="106236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4" name="_s1031"/>
            <p:cNvCxnSpPr>
              <a:stCxn id="145" idx="0"/>
              <a:endCxn id="139" idx="2"/>
            </p:cNvCxnSpPr>
            <p:nvPr/>
          </p:nvCxnSpPr>
          <p:spPr>
            <a:xfrm flipH="1" flipV="1" rot="5400000">
              <a:off x="2738520" y="1051560"/>
              <a:ext cx="402480" cy="319320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39" name="_s1032"/>
            <p:cNvSpPr/>
            <p:nvPr/>
          </p:nvSpPr>
          <p:spPr>
            <a:xfrm>
              <a:off x="3624120" y="1568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Тка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33"/>
            <p:cNvSpPr/>
            <p:nvPr/>
          </p:nvSpPr>
          <p:spPr>
            <a:xfrm>
              <a:off x="431640" y="2864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00ff"/>
                  </a:solidFill>
                  <a:uFillTx/>
                  <a:latin typeface="Arial"/>
                  <a:hlinkClick r:id="rId2" action="ppaction://hlinksldjump"/>
                </a:rPr>
                <a:t>Покровн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34"/>
            <p:cNvSpPr/>
            <p:nvPr/>
          </p:nvSpPr>
          <p:spPr>
            <a:xfrm>
              <a:off x="2559600" y="2864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00ff"/>
                  </a:solidFill>
                  <a:uFillTx/>
                  <a:latin typeface="Arial"/>
                  <a:hlinkClick r:id="rId3" action="ppaction://hlinksldjump"/>
                </a:rPr>
                <a:t>Запасающ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5"/>
            <p:cNvSpPr/>
            <p:nvPr/>
          </p:nvSpPr>
          <p:spPr>
            <a:xfrm>
              <a:off x="4687920" y="2864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00ff"/>
                  </a:solidFill>
                  <a:uFillTx/>
                  <a:latin typeface="Arial"/>
                  <a:hlinkClick r:id="rId4" action="ppaction://hlinksldjump"/>
                </a:rPr>
                <a:t>Механическ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6"/>
            <p:cNvSpPr/>
            <p:nvPr/>
          </p:nvSpPr>
          <p:spPr>
            <a:xfrm>
              <a:off x="6816240" y="2864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00ff"/>
                  </a:solidFill>
                  <a:uFillTx/>
                  <a:latin typeface="Arial"/>
                  <a:hlinkClick r:id="rId5" action="ppaction://hlinksldjump"/>
                </a:rPr>
                <a:t>Образовательн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Picture 14" descr="ткань 1"/>
          <p:cNvPicPr/>
          <p:nvPr/>
        </p:nvPicPr>
        <p:blipFill>
          <a:blip r:embed="rId6"/>
          <a:stretch/>
        </p:blipFill>
        <p:spPr>
          <a:xfrm>
            <a:off x="395280" y="4221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ткань 2"/>
          <p:cNvPicPr/>
          <p:nvPr/>
        </p:nvPicPr>
        <p:blipFill>
          <a:blip r:embed="rId7"/>
          <a:stretch/>
        </p:blipFill>
        <p:spPr>
          <a:xfrm>
            <a:off x="2530440" y="4221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ткань 3"/>
          <p:cNvPicPr/>
          <p:nvPr/>
        </p:nvPicPr>
        <p:blipFill>
          <a:blip r:embed="rId8"/>
          <a:stretch/>
        </p:blipFill>
        <p:spPr>
          <a:xfrm>
            <a:off x="4667400" y="422100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ткань 4"/>
          <p:cNvPicPr/>
          <p:nvPr/>
        </p:nvPicPr>
        <p:blipFill>
          <a:blip r:embed="rId9"/>
          <a:stretch/>
        </p:blipFill>
        <p:spPr>
          <a:xfrm>
            <a:off x="6804000" y="422100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52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0" y="1428840"/>
          <a:ext cx="9144000" cy="3349440"/>
        </p:xfrm>
        <a:graphic>
          <a:graphicData uri="http://schemas.openxmlformats.org/drawingml/2006/table">
            <a:tbl>
              <a:tblPr/>
              <a:tblGrid>
                <a:gridCol w="2928960"/>
                <a:gridCol w="2214720"/>
                <a:gridCol w="2000160"/>
                <a:gridCol w="200016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ы ткан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м образова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ункц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суно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ров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ханическ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одящ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84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Сердце 3"/>
          <p:cNvSpPr/>
          <p:nvPr/>
        </p:nvSpPr>
        <p:spPr>
          <a:xfrm>
            <a:off x="5857920" y="5143680"/>
            <a:ext cx="2786040" cy="1500120"/>
          </a:xfrm>
          <a:custGeom>
            <a:avLst/>
            <a:gdLst/>
            <a:ahLst/>
            <a:rect l="l" t="t" r="r" b="b"/>
            <a:pathLst>
              <a:path w="2786063" h="1500188">
                <a:moveTo>
                  <a:pt x="1393032" y="375047"/>
                </a:moveTo>
                <a:cubicBezTo>
                  <a:pt x="1973461" y="-500063"/>
                  <a:pt x="4237137" y="375047"/>
                  <a:pt x="1393032" y="1500188"/>
                </a:cubicBezTo>
                <a:cubicBezTo>
                  <a:pt x="-1451074" y="375047"/>
                  <a:pt x="812602" y="-500063"/>
                  <a:pt x="1393032" y="375047"/>
                </a:cubicBezTo>
                <a:close/>
              </a:path>
            </a:pathLst>
          </a:custGeom>
          <a:solidFill>
            <a:srgbClr val="e6b9b8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6429240" y="5572080"/>
            <a:ext cx="18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. 25-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700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ункция: защитн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ткань 1"/>
          <p:cNvPicPr/>
          <p:nvPr/>
        </p:nvPicPr>
        <p:blipFill>
          <a:blip r:embed="rId2"/>
          <a:stretch/>
        </p:blipFill>
        <p:spPr>
          <a:xfrm>
            <a:off x="5021280" y="2995560"/>
            <a:ext cx="3193920" cy="316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лук"/>
          <p:cNvPicPr/>
          <p:nvPr/>
        </p:nvPicPr>
        <p:blipFill>
          <a:blip r:embed="rId3"/>
          <a:stretch/>
        </p:blipFill>
        <p:spPr>
          <a:xfrm>
            <a:off x="857160" y="2714760"/>
            <a:ext cx="2970360" cy="355752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700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: опорная, придают прочность растени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4" descr="ткань 3"/>
          <p:cNvPicPr/>
          <p:nvPr/>
        </p:nvPicPr>
        <p:blipFill>
          <a:blip r:embed="rId2"/>
          <a:stretch/>
        </p:blipFill>
        <p:spPr>
          <a:xfrm>
            <a:off x="5572080" y="2857680"/>
            <a:ext cx="3043440" cy="3019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0194"/>
          <p:cNvPicPr/>
          <p:nvPr/>
        </p:nvPicPr>
        <p:blipFill>
          <a:blip r:embed="rId3"/>
          <a:stretch/>
        </p:blipFill>
        <p:spPr>
          <a:xfrm>
            <a:off x="571680" y="2714760"/>
            <a:ext cx="4424040" cy="33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7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: запасающа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4" descr="ткань 2"/>
          <p:cNvPicPr/>
          <p:nvPr/>
        </p:nvPicPr>
        <p:blipFill>
          <a:blip r:embed="rId2"/>
          <a:stretch/>
        </p:blipFill>
        <p:spPr>
          <a:xfrm>
            <a:off x="5603760" y="3032280"/>
            <a:ext cx="3040200" cy="3016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img--i-17313-w-640"/>
          <p:cNvPicPr/>
          <p:nvPr/>
        </p:nvPicPr>
        <p:blipFill>
          <a:blip r:embed="rId3"/>
          <a:stretch/>
        </p:blipFill>
        <p:spPr>
          <a:xfrm>
            <a:off x="428760" y="2857680"/>
            <a:ext cx="450036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6:24:08Z</dcterms:created>
  <dc:creator>Admin</dc:creator>
  <dc:description/>
  <dc:language>en-US</dc:language>
  <cp:lastModifiedBy>LEGION</cp:lastModifiedBy>
  <dcterms:modified xsi:type="dcterms:W3CDTF">2014-11-25T09:33:12Z</dcterms:modified>
  <cp:revision>6</cp:revision>
  <dc:subject/>
  <dc:title>Лабораторная работа  «Строение растительной клетки на примере клеток кожицы чешуи лука»</dc:title>
</cp:coreProperties>
</file>