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E066-6ECA-4374-8ACF-904BDCA00C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Царство Гриб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Грибы-параз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7360-F65D-4322-8D31-10A1EA6A7DC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Times New Roman"/>
              </a:rPr>
              <a:t>Головневые гри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иболее опасные паразиты злаков. При поражении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головн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место зерна получается черная пыль, представляющая собой споры гриба. Колосья становятся похожими на обугленные голове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Зараж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екоторыми видами происходит на стадии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цветения злак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когда споры с пораженного растения попадают на рыльца пестиков здоровых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147C-2042-4D2F-8031-4557F952F61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Calibri"/>
              </a:rPr>
              <a:t>Мучнистую росу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лаков вызывает сумчатый гриб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Erysiphe gramini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каждой их видов злаковых культур паразитируют свои формы гриба, название которым дают с указанием на растение-хозяина.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Они поражают листья, стебли и колосья, мицелий гриба сначала имеет паутинообразный вид, а за тем превращается в подуше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4DDC-7FBE-4C81-A134-69FE8B48708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Calibri"/>
              </a:rPr>
              <a:t>Сферотека крыжовни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был завезен в начале 20 века в европу из Америки, </a:t>
            </a:r>
            <a:r>
              <a:rPr b="1" i="1" lang="ru-RU" sz="1400" spc="-1" strike="noStrike">
                <a:solidFill>
                  <a:srgbClr val="0000cc"/>
                </a:solidFill>
                <a:latin typeface="Calibri"/>
                <a:ea typeface="Arial"/>
              </a:rPr>
              <a:t>паразитирует на листьях, стеблях и ягодах образуя мучнистый нал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Сферотеку еще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мериканской мучнистой рос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Пораженные части растений обрезают и сжигают. А в борьбе со сферотекой применяют опрыскивание 3%-ным раствором железного купороса ранней весной до распускания почек или поздней осе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1208-F079-4C01-B000-9F98C478F59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3300"/>
                </a:solidFill>
                <a:uFillTx/>
                <a:latin typeface="Times New Roman"/>
              </a:rPr>
              <a:t>Фитофто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может поражать листья, стебли и клубни растений, особенно опасна для картофеля и том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конце лета на нижней стороне листьев появляются бурые пятна отмершей ткани с белым пушком по кра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Фитофт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рорастает по межклеточным ходам в пораженном органе и распространяется по всему растению. Пораженные части растения темнеют и отмир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Фитофто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пала в Европу в первой половине 19 века из Аме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ля борьбы с фитофторой применяют опрыскивание бордосской жидкостью и некоторыми другими фунгици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D52A-8BD9-4FA5-9A6B-8BA2C47F74C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Calibri"/>
              </a:rPr>
              <a:t>Синхитриу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дноклеточ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ызывает заболевание </a:t>
            </a:r>
            <a:r>
              <a:rPr b="1" i="1" lang="ru-RU" sz="1400" spc="-1" strike="noStrike">
                <a:solidFill>
                  <a:srgbClr val="ff3300"/>
                </a:solidFill>
                <a:latin typeface="Calibri"/>
                <a:ea typeface="Arial"/>
              </a:rPr>
              <a:t>рак картофел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Опознать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рак картофеля можно по бугристым выростам на клубнях.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Рак картофе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во многих странах является карантинным заболеванием. Считается, что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рак картофе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был занесен к нам во время второй мировой войны, так как появился он в основном в западных регионах.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Борь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с этим грибом проводится путем обработки почвы хлорпикрином и другими химикатами, а так же работой над селекцией новых ракоустойчивых сор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D0CB-31D3-4B05-87B2-A04E425AEC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лиго Fulig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слизистый гриб, который живет на гниющих пнях, заметен во второй половине лета и осенью. Образует подушковидные наплывы (их называют эталии) рыжеватого или сероватого ц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6EDD-C34D-4E45-91F8-9202FC38983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Times New Roman"/>
              </a:rPr>
              <a:t>Вентур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озбудитель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парши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 яблонях и грушах и других плодовых деревьях Инфицированная грибом мякоть плодов становится деревянистой, плоды часто не вызревают, трескаются. Деревья обрабатывают фунгици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F19F-45F2-4932-A54A-590291060DC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Еще один вид головни паразита — </a:t>
            </a: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Calibri"/>
                <a:ea typeface="Arial"/>
              </a:rPr>
              <a:t>пыльная головня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ревращающий колосья пшеницы в пылистую сажистую массу, а сами колосья издали имеют вид обгоревш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Пылистая гол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оражает все части колоса за исключением стержня.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Твердая гол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оражает лишь зерна в коло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FB75-11BE-4AC1-BAB0-FFDF74E52DF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Calibri"/>
              </a:rPr>
              <a:t>Грибы</a:t>
            </a:r>
            <a:r>
              <a:rPr b="1" i="1" lang="en-US" sz="1400" spc="-1" strike="noStrike">
                <a:solidFill>
                  <a:srgbClr val="ff3300"/>
                </a:solidFill>
                <a:latin typeface="Calibri"/>
              </a:rPr>
              <a:t>-</a:t>
            </a:r>
            <a:r>
              <a:rPr b="1" i="1" lang="ru-RU" sz="1400" spc="-1" strike="noStrike">
                <a:solidFill>
                  <a:srgbClr val="ff3300"/>
                </a:solidFill>
                <a:latin typeface="Calibri"/>
              </a:rPr>
              <a:t>паразиты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могут быть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факультативными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облигатными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аще паразитируют на растениях, чем на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Calibri"/>
              </a:rPr>
              <a:t>Облигатные паразиты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 вызывают гибели своих хозяев и ограничены узким кругом хозяев, от которых им нужен специфический набор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4856-E90F-4386-982F-9E480D8C0F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Факультативные парази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часто вызывают гибель своих хозяев и потом живут сапрофитно на мертвых остат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ни менее специализированы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Растут и развиваются на разных субстратах и разных хозяев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DAF3-86AE-4E95-B18E-042BF399E99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громное количество болезней растений возникает в результате их поражения разнообразными грибами-парази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Споры грибов,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образующиеся в огромных количествах, распространяются водой и воздушными потоками и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проникают в тело растения через повреждения покровов.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C340-CA0A-4E16-8B3F-9B51D66D90B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3300"/>
                </a:solidFill>
                <a:uFillTx/>
                <a:latin typeface="Calibri"/>
              </a:rPr>
              <a:t>Грибы-трутови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Спора трутов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, попав на ранку в дереве, прорастает в грибницу и разрушает древесину. Через несколько лет образуются многолетние копытообразные плодовые тела. Трутовики выделяют ферменты, разрушающие древесину и превращающие ее в трух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аже после 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гибели дере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гриб продолжает жить на мертвом субстрате (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как сапротроф)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ежегодно производя большое количество спор и заражая здоровые деревья. Поэтому погибшие деревья и плодовые тела трутовиков рекомендуется удалять из л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4D35-6A48-4FE6-9990-1FDC7FEF986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Times New Roman"/>
              </a:rPr>
              <a:t>Гриб-трутови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оторый растет на стволах берез. Этот гриб-паразит поселяется еще на живых деревьях, а когда они погибают, трутовик продолжает жить на мертвом субстрате, ведя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сапрофитн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AA69-A9C1-48EA-BF73-706FD5D16CE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Ржавчинные грибы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ые в процессе своего жизненного цикла меняют несколько хозяев. Благодаря жизнедеятельности грибов рода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пукциния Puccini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братной стороне листьев возникают подушечки или полосочки бурого и оранжевого цвета. На верхней поверхности гриб обнаружить можно лишь под микроскопом: возникают 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</a:rPr>
              <a:t>кувшинообразные вместилищ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Меры борьб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ржавчинными грибами — опыливание растений коллоидной (молотой) се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3D6B-6CDA-4A15-B4B9-95CCCE6DAF2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Спорын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 обнаруживается в период цветения: на колосьях среди зерновок хорошо заметны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черно-фиолетовые рожки, выступающие из кол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состоят из плотно переплетенных гифов. Это стадия покоя гриба. 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</a:rPr>
              <a:t>В период созревания ржи они опадают на землю и зимуют под снегом. Весной на них образуются шаровидные головки красноватого цвета на длинных ножках. Созревание спор происходит во время цветения р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5AD9-9031-471C-94C4-0B558E3FBB0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аспростра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ити гриба выделяют сладкую жидкость —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медвяную рос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, привлекающую насеком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Кониди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опав на завязь, образуют грибницу, которая к осени уплотняется, наружные слои ее окрашиваются, и вместо зерновки в колосе формируются ро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Рожки спорыньи содержат ядовитые алкалоиды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ещество-алкалоид эрготин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 которые, попадая в организм человека, вызывают отравление (иногда со смертельным исходом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Попадая в муку, гриб способен вызывать сужение кровеносных сосудов и судороги мышц. Действие этого алкалоида используют в гинекологической практике, поэтому спорынью даже выращивают на особо охраняемых участках для медицинских целей. Отравление грибом, содержание которого в муке составляет выше 0,06% может закончиться летальным исх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4040-80FB-4AED-AE8E-B1E6C885A2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96E-80B8-41E0-B80D-2D58479E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CE0-E659-4EF2-B5E6-1B1C09FE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FD31-EC7C-48E5-8792-9A02BDE9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946-2141-4B32-A0A4-80A17BDF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217B-79CA-4C89-A716-6A236ECE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187B-84D2-42FC-B3BE-E29594CF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9848-F9FF-4D7F-B56E-4B165DAF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AD5A-5C94-4584-9FFF-1E638EF7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2BF3-CC0F-4A85-8DC8-B1BEE163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49FD-BE25-4D11-BB24-3D9F47FD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EFD5-371D-4431-9741-78AC8D9F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DF28-575F-4130-87B4-A951F9F7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0921-FB05-46AC-B101-0224FF9A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8556-4488-4229-87EA-7EEB45D9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158B-3366-49D8-9E1C-83F4208D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688D-D17D-453A-B10D-3333A4FD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B360-9499-431D-AA9F-BB54ED8C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78D-16F9-4F36-A19E-7E1CD37F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306-DDD2-4EC0-9A46-59BCBD40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F16-612C-4365-9F9C-3C0110B6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6721-8B3B-4E79-8ACD-12E079D6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FBF-DA76-4B40-BF2B-C4FA2C1F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A129-5F0A-4B30-9A85-02B50E58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6FEC-9ACE-41CF-8AD7-C38CD02B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99EB-DFF4-4B2D-B32A-EE2577EBFD7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ABAB-4DB2-400A-8002-B0ABE1B327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imes New Roman"/>
              </a:rPr>
              <a:t>Царство Грибы.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07640" y="242100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Грибы-парази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1916280"/>
            <a:ext cx="2378160" cy="4752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гриб-паразит1"/>
          <p:cNvPicPr/>
          <p:nvPr/>
        </p:nvPicPr>
        <p:blipFill>
          <a:blip r:embed="rId2"/>
          <a:stretch/>
        </p:blipFill>
        <p:spPr>
          <a:xfrm>
            <a:off x="2357280" y="3714840"/>
            <a:ext cx="4067280" cy="299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7451640" y="1197000"/>
            <a:ext cx="1428840" cy="14079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8"/>
          <p:cNvSpPr/>
          <p:nvPr/>
        </p:nvSpPr>
        <p:spPr>
          <a:xfrm>
            <a:off x="6442560" y="4643280"/>
            <a:ext cx="22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ндаренко Е.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сшей категор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о.Сама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-17136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284360" y="836280"/>
            <a:ext cx="4530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Головневые гри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иболее опасные паразиты злаков. При поражении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головн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место зерна получается черная пыль, представляющая собой споры гриба. Колосья становятся похожими на обугленные голове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Зараж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которыми видами происходит на стадии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цветения злак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гда споры с пораженного растения попадают на рыльца пестиков здоровых раст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0" y="1341360"/>
            <a:ext cx="1282680" cy="4191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003-2"/>
          <p:cNvPicPr/>
          <p:nvPr/>
        </p:nvPicPr>
        <p:blipFill>
          <a:blip r:embed="rId2"/>
          <a:stretch/>
        </p:blipFill>
        <p:spPr>
          <a:xfrm>
            <a:off x="1403280" y="1989000"/>
            <a:ext cx="2772000" cy="31719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9"/>
          <p:cNvSpPr/>
          <p:nvPr/>
        </p:nvSpPr>
        <p:spPr>
          <a:xfrm>
            <a:off x="1332000" y="53002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атки кукурузы, пораженные головневым гриб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920" y="-45900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11280" y="1483920"/>
            <a:ext cx="493236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Мучнистую рос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лаков вызывает сумчатый гриб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rysiphe gramin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каждой их видов злаковых культур паразитируют свои формы гриба, название которым дают с указанием на растение-хозяина.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Они поражают листья, стебли и колосья, мицелий гриба сначала имеет паутинообразный вид, а за тем превращается в подуш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Гриб склеротиния"/>
          <p:cNvPicPr/>
          <p:nvPr/>
        </p:nvPicPr>
        <p:blipFill>
          <a:blip r:embed="rId1"/>
          <a:stretch/>
        </p:blipFill>
        <p:spPr>
          <a:xfrm>
            <a:off x="611280" y="1700280"/>
            <a:ext cx="3600360" cy="47530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64000" y="1599840"/>
            <a:ext cx="512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Сферотека крыжовн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ыл завезен в начале 20 века в европу из Америки,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паразитирует на листьях, стеблях и ягодах образуя мучнистый на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Сферотеку еще называю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мериканской мучнистой рос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Пораженные части растений обрезают и сжигают. А в борьбе со сферотекой применяют опрыскивание 3%-ным раствором железного купороса ранней весной до распускания почек или поздней осе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Сферотека крыжовника"/>
          <p:cNvPicPr/>
          <p:nvPr/>
        </p:nvPicPr>
        <p:blipFill>
          <a:blip r:embed="rId1"/>
          <a:stretch/>
        </p:blipFill>
        <p:spPr>
          <a:xfrm>
            <a:off x="0" y="1557360"/>
            <a:ext cx="3456000" cy="49672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067280" y="836640"/>
            <a:ext cx="507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Фитоф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жет поражать листья, стебли и клубни растений, особенно опасна для картофеля и том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конце лета на нижней стороне листьев появляются бурые пятна отмершей ткани с белым пушком по кра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Фитофто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прорастает по межклеточным ходам в пораженном органе и распространяется по всему растению. Пораженные части растения темнеют и отмир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Фитофто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пала в Европу в первой половине 19 века из Амер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борьбы с фитофторой применяют опрыскивание бордосской жидкостью и некоторыми другими фунгици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Гриб-паразит ризопус"/>
          <p:cNvPicPr/>
          <p:nvPr/>
        </p:nvPicPr>
        <p:blipFill>
          <a:blip r:embed="rId1"/>
          <a:stretch/>
        </p:blipFill>
        <p:spPr>
          <a:xfrm>
            <a:off x="0" y="1557360"/>
            <a:ext cx="3924360" cy="4824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211280" y="907560"/>
            <a:ext cx="475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Синхитриу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дноклеточ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зывает заболевание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рак картоф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Опознать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к картофеля можно по бугристым выростам на клубнях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Рак картоф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о многих странах является карантинным заболеванием. Считается, что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рак картоф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был занесен к нам во время второй мировой войны, так как появился он в основном в западных регионах.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Борьб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этим грибом проводится путем обработки почвы хлорпикрином и другими химикатами, а так же работой над селекцией новых ракоустойчивых сор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1" descr="Рак катрофеля вызывает гриб синхитриум"/>
          <p:cNvPicPr/>
          <p:nvPr/>
        </p:nvPicPr>
        <p:blipFill>
          <a:blip r:embed="rId1"/>
          <a:stretch/>
        </p:blipFill>
        <p:spPr>
          <a:xfrm>
            <a:off x="250920" y="1557360"/>
            <a:ext cx="4033800" cy="43927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лиго Fulig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слизистый гриб, который живет на гниющих пнях, заметен во второй половине лета и осенью. Образует подушковидные наплывы (их называют эталии) рыжеватого или сероват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Фулиго гриб-сапрофит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43927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42880" y="907920"/>
            <a:ext cx="454356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Венту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будитель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парши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яблонях и грушах и других плодовых деревьях Инфицированная грибом мякоть плодов становится деревянистой, плоды часто не вызревают, трескаются. Деревья обрабатывают фунгици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Гриб-паразит вентурия вызывает паршу"/>
          <p:cNvPicPr/>
          <p:nvPr/>
        </p:nvPicPr>
        <p:blipFill>
          <a:blip r:embed="rId1"/>
          <a:stretch/>
        </p:blipFill>
        <p:spPr>
          <a:xfrm>
            <a:off x="179280" y="1773360"/>
            <a:ext cx="3745080" cy="424800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00320" y="1628640"/>
            <a:ext cx="4454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ще один вид головни паразита —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пыльная головня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евращающий колосья пшеницы в пылистую сажистую массу, а сами колосья издали имеют вид обгоревш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Пылистая голов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ажает все части колоса за исключением стержня.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Твердая голов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ажает лишь зерна в коло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Пыльная головня у злаков"/>
          <p:cNvPicPr/>
          <p:nvPr/>
        </p:nvPicPr>
        <p:blipFill>
          <a:blip r:embed="rId1"/>
          <a:stretch/>
        </p:blipFill>
        <p:spPr>
          <a:xfrm>
            <a:off x="826920" y="1700280"/>
            <a:ext cx="2930760" cy="489744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Грибы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разиты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могут быть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факультативным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блигатным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аще паразитируют на растениях, чем на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блигатные паразиты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вызывают гибели своих хозяев и ограничены узким кругом хозяев, от которых им нужен специфический набор питательных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915840" y="1600200"/>
            <a:ext cx="3808440" cy="45306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57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Факультативные параз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асто вызывают гибель своих хозяев и потом живут сапрофитно на мертвых остат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менее специализированы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ут и развиваются на разных субстратах и разных хозяе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Гриб-паразит ризопус"/>
          <p:cNvPicPr/>
          <p:nvPr/>
        </p:nvPicPr>
        <p:blipFill>
          <a:blip r:embed="rId1"/>
          <a:stretch/>
        </p:blipFill>
        <p:spPr>
          <a:xfrm>
            <a:off x="900000" y="2133720"/>
            <a:ext cx="345600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громное количество болезней растений возникает в результате их поражения разнообразными грибами-парази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Споры грибов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образующиеся в огромных количествах, распространяются водой и воздушными потоками и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роникают в тело растения через повреждения покровов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3600720" cy="57326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00680" y="999720"/>
            <a:ext cx="469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Грибы-трутов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Спора трутов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попав на ранку в дереве, прорастает в грибницу и разрушает древесину. Через несколько лет образуются многолетние копытообразные плодовые тела. Трутовики выделяют ферменты, разрушающие древесину и превращающие ее в трух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аже после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гибели дере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гриб продолжает жить на мертвом субстрате (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как сапротроф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ежегодно производя большое количество спор и заражая здоровые деревья. Поэтому погибшие деревья и плодовые тела трутовиков рекомендуется удалять из л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811680" cy="40575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75120" y="836640"/>
            <a:ext cx="381168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Гриб-трутов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торый растет на стволах берез. Этот гриб-паразит поселяется еще на живых деревьях, а когда они погибают, трутовик продолжает жить на мертвом субстрате, ведя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сапрофитный образ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Гриб-трутовик"/>
          <p:cNvPicPr/>
          <p:nvPr/>
        </p:nvPicPr>
        <p:blipFill>
          <a:blip r:embed="rId1"/>
          <a:stretch/>
        </p:blipFill>
        <p:spPr>
          <a:xfrm>
            <a:off x="539640" y="1700280"/>
            <a:ext cx="3240360" cy="43927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100"/>
            </a:br>
            <a:endParaRPr b="0" lang="en-US" sz="5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51280" y="980640"/>
            <a:ext cx="5292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жавчинные грибы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торые в процессе своего жизненного цикла меняют несколько хозяев. Благодаря жизнедеятельности грибов рода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укциния Puccin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обратной стороне листьев возникают подушечки или полосочки бурого и оранжевого цвета. На верхней поверхности гриб обнаружить можно лишь под микроскопом: возникают </a:t>
            </a:r>
            <a:r>
              <a:rPr b="0" i="1" lang="ru-RU" sz="2400" spc="-1" strike="noStrike">
                <a:solidFill>
                  <a:srgbClr val="0000cc"/>
                </a:solidFill>
                <a:latin typeface="Arial"/>
              </a:rPr>
              <a:t>кувшинообразные вместилищ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Меры борьб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ржавчинными грибами — опыливание растений коллоидной (молотой) се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479760" cy="4530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24360" y="980640"/>
            <a:ext cx="4935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Спорын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гко обнаруживается в период цветения: на колосьях среди зерновок хорошо заметны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черно-фиолетовые рожки, выступающие из коло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состоят из плотно переплетенных гифов. Это стадия покоя гриба.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В период созревания ржи они опадают на землю и зимуют под снегом. Весной на них образуются шаровидные головки красноватого цвета на длинных ножках. Созревание спор происходит во время цветения рж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2664000" cy="48178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4000" y="980640"/>
            <a:ext cx="5122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Распрост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ити гриба выделяют сладкую жидкость —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медвяную ро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привлекающую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Конидии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пав на завязь, образуют грибницу, которая к осени уплотняется, наружные слои ее окрашиваются, и вместо зерновки в колосе формируются 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Рожки спорыньи содержат ядовитые алкалоиды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щество-алкалоид эрготин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которые, попадая в организм человека, вызывают отравление (иногда со смертельным исходом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Попадая в муку, гриб способен вызывать сужение кровеносных сосудов и судороги мышц. Действие этого алкалоида используют в гинекологической практике, поэтому спорынью даже выращивают на особо охраняемых участках для медицинских целей. Отравление грибом, содержание которого в муке составляет выше 0,06% может закончиться летальным исх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335400" cy="482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0:02:01Z</dcterms:created>
  <dc:creator>Admin</dc:creator>
  <dc:description/>
  <dc:language>en-US</dc:language>
  <cp:lastModifiedBy>LEGION</cp:lastModifiedBy>
  <dcterms:modified xsi:type="dcterms:W3CDTF">2014-11-25T09:33:51Z</dcterms:modified>
  <cp:revision>6</cp:revision>
  <dc:subject/>
  <dc:title>Царство Грибы.</dc:title>
</cp:coreProperties>
</file>