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9A34-C1B8-4072-B0CE-DA7B209692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Царство Гри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Грибы-параз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B4B8-8313-48AD-BCBB-184FAD853F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иболее опасные паразиты злаков. При поражении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головн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Зараж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екоторыми видами происходит на стадии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цветения злак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2AA8-D039-4C3C-BA3E-E60FC03FB2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</a:rPr>
              <a:t>Мучнистую росу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аков вызывает сумчатый гриб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Erysiphe gramini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58C8-D58B-411A-8EC8-A1B86646557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Сферотека крыжовни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был завезен в начале 20 века в европу из Америки, </a:t>
            </a:r>
            <a:r>
              <a:rPr b="1" i="1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Сферотеку еще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мериканской мучнистой рос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8209-F199-44BB-A92B-9929BDE94A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итофт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итофто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пала в Европу в первой половине 19 века из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DB89-E7E9-4BAB-8FE1-1A8194C416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</a:rPr>
              <a:t>Синхитриу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дноклеточ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ызывает заболевание </a:t>
            </a:r>
            <a:r>
              <a:rPr b="1" i="1" lang="ru-RU" sz="1400" spc="-1" strike="noStrike">
                <a:solidFill>
                  <a:srgbClr val="ff3300"/>
                </a:solidFill>
                <a:latin typeface="Calibri"/>
                <a:ea typeface="Arial"/>
              </a:rPr>
              <a:t>рак картофел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Опознать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ак картоф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ак картоф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Борь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5BE8-8F47-4637-947C-84EA6199B5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лиго Fulig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9FC6-23E9-4B42-95E9-BF744C583F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озбудитель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парш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B3F4-2F07-47A1-B6AC-1A96CFA4F1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Еще один вид головни паразита — </a:t>
            </a: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  <a:ea typeface="Arial"/>
              </a:rPr>
              <a:t>пыльная головня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Пылистая гол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ражает все части колоса за исключением стержня.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Твердая гол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ражает лишь зерна в коло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6CC8-5E34-42D4-9B15-96339D6A86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Грибы</a:t>
            </a:r>
            <a:r>
              <a:rPr b="1" i="1" lang="en-US" sz="1400" spc="-1" strike="noStrike">
                <a:solidFill>
                  <a:srgbClr val="ff3300"/>
                </a:solidFill>
                <a:latin typeface="Calibri"/>
              </a:rPr>
              <a:t>-</a:t>
            </a: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паразиты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факультативным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блигатным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аще паразитируют на растениях, чем на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Облигатные паразиты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16B4-284E-4C54-A519-98F580003C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акультативные парази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ни менее специализирова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астут и развиваются на разных субстратах и разных хозяе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1D1C-6B9F-4179-84D8-7589E8523C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Споры грибов,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проникают в тело растения через повреждения покровов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EE26-2E81-4C4C-A6A3-56760C7DED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Calibri"/>
              </a:rPr>
              <a:t>Грибы-трутов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Спора трутов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аже после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гибели дере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гриб продолжает жить на мертвом субстрате (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как сапротроф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8DB1-918B-43B1-9F07-0827CAF089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сапрофитн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A322-A146-4F0F-B1D2-D69E110689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Ржавчинные грибы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пукциния Puccini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</a:rPr>
              <a:t>кувшинообразные вместилищ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Меры борьб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ржавчинными грибами — опыливание растений коллоидной (молотой) се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785F-DA54-4CA4-B251-FE005A0B29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Споры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черно-фиолетовые рожки, выступающие из кол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стоят из плотно переплетенных гифов. Это стадия покоя гриба.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5365-82CC-422B-A539-434FC1B2235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ити гриба выделяют сладкую жидкость —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медвяную ро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 привлекающую насеком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Кониди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ожки спорыньи содержат ядовитые алкалоид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ещество-алкалоид эрготин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9085-0F6E-48B2-8B8E-E4326B9F341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94B-2586-4541-A194-7C57E3B2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11F-80F8-4F21-9800-EDCA7276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20CD-7038-4AC4-B71C-0C1022D8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54DE-31A2-4F2B-BE01-1357B7D8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79C8-5E11-4463-8EC2-448CDD5D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205B-E9EE-4C82-A5ED-3020B76B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EB2F-DC0D-47A8-A739-2C8E217D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EA04-20A4-4BB8-BB12-BB22B779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A98A-1B80-41CA-A71C-FC1FB66A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CACB-B492-4EDE-8C78-0EC38EC8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E048-E8EC-4B61-B71F-10ED7803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CDB-CE5B-454C-B65E-9D80DA83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D9E5-22DD-4650-87A9-711D3511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874B-DFFD-4CCC-8E31-C7872A02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80F9-C45E-4492-BD69-DC80FAD8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E3CE-548D-4CD9-A2EB-40F59618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5A17-8445-494E-B5F0-08D224D9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DA9-1D63-4C12-B1A8-CB3BE054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A16-9A83-4C8F-B168-32F678B4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EE6-61E7-4DC5-8BF9-CBB208A0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FEC-2385-4E93-AE88-0629E67D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E6F-1004-4D0A-A738-4B9E60F0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F88-16DF-4324-A50F-0B9FE7E4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838-0690-4914-A0C1-4DD2E514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FFC3-F44B-47A5-B9AD-6B1F655148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57D7-B395-4B8D-920D-0401A7AD19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Царство Грибы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07640" y="24210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1916280"/>
            <a:ext cx="2378160" cy="47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гриб-паразит1"/>
          <p:cNvPicPr/>
          <p:nvPr/>
        </p:nvPicPr>
        <p:blipFill>
          <a:blip r:embed="rId2"/>
          <a:stretch/>
        </p:blipFill>
        <p:spPr>
          <a:xfrm>
            <a:off x="2357280" y="3714840"/>
            <a:ext cx="4067280" cy="299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7451640" y="1197000"/>
            <a:ext cx="1428840" cy="1407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8"/>
          <p:cNvSpPr/>
          <p:nvPr/>
        </p:nvSpPr>
        <p:spPr>
          <a:xfrm>
            <a:off x="6442560" y="4643280"/>
            <a:ext cx="22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ндаренко Е.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о.Сама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-17136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84360" y="836280"/>
            <a:ext cx="4530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опасные паразиты злаков. При поражении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головн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Зара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ми видами происходит на стад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цветения злак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1282680" cy="4191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003-2"/>
          <p:cNvPicPr/>
          <p:nvPr/>
        </p:nvPicPr>
        <p:blipFill>
          <a:blip r:embed="rId2"/>
          <a:stretch/>
        </p:blipFill>
        <p:spPr>
          <a:xfrm>
            <a:off x="1403280" y="1989000"/>
            <a:ext cx="2772000" cy="31719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9"/>
          <p:cNvSpPr/>
          <p:nvPr/>
        </p:nvSpPr>
        <p:spPr>
          <a:xfrm>
            <a:off x="1332000" y="5300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атки кукурузы, пораженные головневым гриб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-45900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11280" y="1483920"/>
            <a:ext cx="493236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Мучнистую рос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аков вызывает сумчатый гриб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rysiphe gramin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Гриб склеротиния"/>
          <p:cNvPicPr/>
          <p:nvPr/>
        </p:nvPicPr>
        <p:blipFill>
          <a:blip r:embed="rId1"/>
          <a:stretch/>
        </p:blipFill>
        <p:spPr>
          <a:xfrm>
            <a:off x="611280" y="1700280"/>
            <a:ext cx="3600360" cy="47530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640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феротека крыжовн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ыл завезен в начале 20 века в европу из Америки,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Сферотеку еще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ериканской мучнистой рос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Сферотека крыжовника"/>
          <p:cNvPicPr/>
          <p:nvPr/>
        </p:nvPicPr>
        <p:blipFill>
          <a:blip r:embed="rId1"/>
          <a:stretch/>
        </p:blipFill>
        <p:spPr>
          <a:xfrm>
            <a:off x="0" y="1557360"/>
            <a:ext cx="3456000" cy="4967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67280" y="836640"/>
            <a:ext cx="507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пала в Европу в первой половине 19 века из Амер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Гриб-паразит ризопус"/>
          <p:cNvPicPr/>
          <p:nvPr/>
        </p:nvPicPr>
        <p:blipFill>
          <a:blip r:embed="rId1"/>
          <a:stretch/>
        </p:blipFill>
        <p:spPr>
          <a:xfrm>
            <a:off x="0" y="1557360"/>
            <a:ext cx="3924360" cy="4824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211280" y="907560"/>
            <a:ext cx="475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Синхитриу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клеточ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зывает заболевание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рак картоф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Опозна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Борьб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Рак катрофеля вызывает гриб синхитриум"/>
          <p:cNvPicPr/>
          <p:nvPr/>
        </p:nvPicPr>
        <p:blipFill>
          <a:blip r:embed="rId1"/>
          <a:stretch/>
        </p:blipFill>
        <p:spPr>
          <a:xfrm>
            <a:off x="250920" y="1557360"/>
            <a:ext cx="4033800" cy="43927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лиго Fulig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Фулиго гриб-сапрофит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4392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42880" y="907920"/>
            <a:ext cx="45435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будитель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ши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Гриб-паразит вентурия вызывает паршу"/>
          <p:cNvPicPr/>
          <p:nvPr/>
        </p:nvPicPr>
        <p:blipFill>
          <a:blip r:embed="rId1"/>
          <a:stretch/>
        </p:blipFill>
        <p:spPr>
          <a:xfrm>
            <a:off x="179280" y="1773360"/>
            <a:ext cx="3745080" cy="4248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00320" y="1628640"/>
            <a:ext cx="4454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ще один вид головни паразита —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пыльная головня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Пылист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все части колоса за исключением стержня.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Тверд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лишь зерна в коло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Пыльная головня у злаков"/>
          <p:cNvPicPr/>
          <p:nvPr/>
        </p:nvPicPr>
        <p:blipFill>
          <a:blip r:embed="rId1"/>
          <a:stretch/>
        </p:blipFill>
        <p:spPr>
          <a:xfrm>
            <a:off x="826920" y="1700280"/>
            <a:ext cx="2930760" cy="489744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рибы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зиты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могут быть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факультатив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блигат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аще паразитируют на растениях, чем на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блигатные паразиты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915840" y="1600200"/>
            <a:ext cx="3808440" cy="4530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5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Факультативные параз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менее специализирован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ут и развиваются на разных субстратах и разных хозяе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Гриб-паразит ризопус"/>
          <p:cNvPicPr/>
          <p:nvPr/>
        </p:nvPicPr>
        <p:blipFill>
          <a:blip r:embed="rId1"/>
          <a:stretch/>
        </p:blipFill>
        <p:spPr>
          <a:xfrm>
            <a:off x="900000" y="2133720"/>
            <a:ext cx="345600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Споры грибов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никают в тело растения через повреждения покровов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600720" cy="5732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00680" y="999720"/>
            <a:ext cx="469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Грибы-трутов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Спора трутов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же после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гибели дере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риб продолжает жить на мертвом субстрате (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как сапротроф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811680" cy="40575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75120" y="836640"/>
            <a:ext cx="381168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апрофитн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Гриб-трутовик"/>
          <p:cNvPicPr/>
          <p:nvPr/>
        </p:nvPicPr>
        <p:blipFill>
          <a:blip r:embed="rId1"/>
          <a:stretch/>
        </p:blipFill>
        <p:spPr>
          <a:xfrm>
            <a:off x="539640" y="1700280"/>
            <a:ext cx="3240360" cy="43927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100"/>
            </a:b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51280" y="980640"/>
            <a:ext cx="5292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жавчинные грибы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укциния Puccin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кувшинообразные вместилищ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Меры борь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ржавчинными грибами — опыливание растений коллоидной (молотой) с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479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24360" y="980640"/>
            <a:ext cx="4935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Споры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черно-фиолетовые рожки, выступающие из коло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остоят из плотно переплетенных гифов. Это стадия покоя гриба.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2664000" cy="48178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4000" y="980640"/>
            <a:ext cx="5122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ити гриба выделяют сладкую жидкость —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медвяную ро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привлекающую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Кониди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Рожки спорыньи содержат ядовитые алкалоиды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о-алкалоид эрготин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335400" cy="482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0:02:01Z</dcterms:created>
  <dc:creator>Admin</dc:creator>
  <dc:description/>
  <dc:language>en-US</dc:language>
  <cp:lastModifiedBy>LEGION</cp:lastModifiedBy>
  <dcterms:modified xsi:type="dcterms:W3CDTF">2014-11-25T09:33:51Z</dcterms:modified>
  <cp:revision>6</cp:revision>
  <dc:subject/>
  <dc:title>Царство Грибы.</dc:title>
</cp:coreProperties>
</file>