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0BB7-A095-4854-BE94-7A4D570993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я. Многообразие живых организм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DBA6-C815-43AE-8D18-2E45F60CE5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гменты и пласт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DAA0-C4EC-48F2-AA90-A8EA4628EF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стительные горм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Аукси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от др.-греч. αὔξω — увеличиваюсь, расту) — стимуляторы роста плодов (побегов) растений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ладают высокой физиологической активностью («Гетероауксин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рост клетки в фазах раст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т рост клеток кам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авливают взаимодействие отдель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коррелятив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 влияет на скорость созревания пл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Гиббереллин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остовые вещества растений («Завязь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AC52-90EF-4DDE-839D-EB09F49421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горм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Фитогормоны регулируют многие процессы жизнедеятельности раст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растание семян, рост, дифференциацию тканей и органов, цветение, созревание плодов и т. п. Являются сильными биостимуляторами, т.е.  повышают иммунитет, укоренение черенков, увеличивают всхожесть и ускоряют прорастание семян, снижают отрицательное воздействие неблагоприятных внешних факторов как похолодание или засуха, стимулируют образование завязей, ускоряют созревание плодов. Все это действительно имеет место только в том случае, если не нарушаются общие принципы у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7EBE-5C62-461E-85CA-73627A45CD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Целлюлоза – основа клеточной ст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77B6-7682-4F6D-9E74-E3A60CCBD9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Клеточный 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 органических веществ: аминокислот, белков, углеводов, дубильных веще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ённые неорганические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ург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апряжение клеточной ст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CC88-AE33-431B-8445-A37F65C6B8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Неограничен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DDC2-159A-4BC7-A371-0EE4C1DB05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знаки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аличие в клетках пиг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ыделение растительных горм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Клетки окружены клеточной стенкой, образованной целлюлоз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бязательный продукт обмена – клеточный 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еограничен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F53F-664A-4E13-9908-D91B1BEB81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B03E-3CA2-4513-AD11-7534B296D0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4B9D-5013-4E95-A840-A122220E3D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9D42-4399-43F2-8D66-2B1B347E5B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м мире насчитывается более 350 тыс. видов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оставляют около 95% от всей </a:t>
            </a:r>
            <a:r>
              <a:rPr b="0" lang="ru-RU" sz="1200" spc="-1" strike="noStrike" u="sng">
                <a:solidFill>
                  <a:srgbClr val="4f81bd"/>
                </a:solidFill>
                <a:uFillTx/>
                <a:latin typeface="Calibri"/>
              </a:rPr>
              <a:t>биома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f81bd"/>
                </a:solidFill>
                <a:uFillTx/>
                <a:latin typeface="Calibri"/>
              </a:rPr>
              <a:t>Фл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овокупность всех растений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FC16-75F1-4240-AF0F-490F58D0BC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зши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одоро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ысши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х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лаун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хвоще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поротник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олос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крытос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0B32-4072-4A06-866A-04A204875D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Это совокупность живых организмов (животных, растений, грибов, микроорганизмов), населяющих определённую местность: тундру, лиственный лес, степь и т.д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E510-FD9D-4F9D-B7E1-ACC355E517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астения –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автотро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образуют органическую биомассу (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одуц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340F-1FDC-4E5E-9EE6-B25650A8CB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иг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B3EA-D215-4EFE-B9BE-992FC9AB33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EF9-295C-4E14-822E-1989D85A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4D4-067F-4486-A201-D753CE0F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EAE-7B0C-4243-9F72-DD71C346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8C0-84AC-42CE-9CDB-8EFA0C88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28D7-4003-4156-B284-2A273A6E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D0BD-B8EB-42AB-979C-4FEC66A8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2C1E-2503-4582-A13A-73EE6E51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4F0B-C673-41B9-B6FA-359823B9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E72B-4C39-44CF-9E66-7D35957A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D1FC-6C66-4F74-B60B-224B653A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BB22-47DD-4A4A-923E-418C417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256-AFEC-4C5F-8BCF-05325A6F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5CEF-064E-4954-95C4-5D36D518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EBF6-7C06-480D-8B1A-3E4F74E5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6F77-AFF8-498E-95E2-B67D492A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2F6F-7394-407C-8596-3D25E00C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F507-2647-43E5-BDAD-B4FEE0D8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54C-1E51-4246-9AD5-CA31E2C7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8E5-CE56-4E7E-A4DD-2ABA3B51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A92-635B-46A2-B4A0-4CDC0ED6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0F9-7CB8-470D-96B5-F8123368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58E-3C71-473B-8160-BE44EDF8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B5DC-A576-488C-AC4A-D18B79EF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989-34BC-4FD4-8140-0E9BF8F7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00FE-4D59-4F2E-8EA4-875BF45914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3075-6C79-4D25-B4A8-9DE39654A8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792468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Биология. Многообразие живых организмов.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7 класс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дел №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Царство Раст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590920" y="4648320"/>
            <a:ext cx="4495680" cy="1600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010-2011 учебный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шак Ольга Михайл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игменты и пластид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53640" cy="51814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3.Растительные гормон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55623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5000"/>
                </a:solidFill>
                <a:latin typeface="Arial"/>
              </a:rPr>
              <a:t>Аукси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от др.-греч. αὔξω — увеличиваюсь, расту) — стимуляторы роста плодов (побегов) растений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бладают высокой физиологической активностью («Гетероауксин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ияют на рост клетки в фазах растя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мулируют рост клеток камб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славливают взаимодействие отдельных орга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ируют коррелятивный 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лен влияет на скорость созревания пл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5000"/>
                </a:solidFill>
                <a:latin typeface="Arial"/>
              </a:rPr>
              <a:t>Гиббереллин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остовые вещества растений («Завязь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791320" y="2819520"/>
            <a:ext cx="3114720" cy="20764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Растительные гормон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6095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5000"/>
                </a:solidFill>
                <a:latin typeface="Arial"/>
              </a:rPr>
              <a:t>Фитогормоны регулируют многие процессы жизнедеятельности растени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растание семян, рост, дифференциацию тканей и органов, цветение, созревание плодов и т. п. Являются сильными биостимуляторами, т.е.  повышают иммунитет, укоренение черенков, увеличивают всхожесть и ускоряют прорастание семян, снижают отрицательное воздействие неблагоприятных внешних факторов как похолодание или засуха, стимулируют образование завязей, ускоряют созревание плодов. Все это действительно имеет место только в том случае, если не нарушаются общие принципы у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860560" cy="3581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4.Целлюлоза – основа клеточной стенк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36960" cy="4448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8"/>
          <p:cNvSpPr/>
          <p:nvPr/>
        </p:nvSpPr>
        <p:spPr>
          <a:xfrm>
            <a:off x="4800600" y="5257800"/>
            <a:ext cx="4114800" cy="9907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люлоза – это основа древес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5.Клеточный со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вор органических веществ: аминокислот, белков, углеводов, дубильных веществ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ворённые неорганические ве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Турго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напряжение клеточной сте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637000" cy="3834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4648320" y="6248520"/>
            <a:ext cx="4038480" cy="3808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ьице закрытое и открыт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6.Неограниченный рост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4419720" y="6019920"/>
            <a:ext cx="4419360" cy="53316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гантские секвой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8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657600" cy="29113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0"/>
          <p:cNvSpPr/>
          <p:nvPr/>
        </p:nvSpPr>
        <p:spPr>
          <a:xfrm>
            <a:off x="457200" y="5181480"/>
            <a:ext cx="3429000" cy="6858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я Ре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Основные признаки растений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Фотосинт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Наличие в клетках пиг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Выделение растительных гормо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Клетки окружены клеточной стенкой, образованной целлюлоз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Обязательный продукт обмена – клеточный с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Неограниченный р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2971800" cy="221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6781680" y="1143000"/>
            <a:ext cx="197964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533520" y="4017960"/>
            <a:ext cx="2666880" cy="2101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685800" y="3352680"/>
            <a:ext cx="2362320" cy="381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6324480"/>
            <a:ext cx="2286000" cy="381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пи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800600" y="2666880"/>
            <a:ext cx="1676520" cy="457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рё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0" descr="кролик"/>
          <p:cNvPicPr/>
          <p:nvPr/>
        </p:nvPicPr>
        <p:blipFill>
          <a:blip r:embed="rId4"/>
          <a:stretch/>
        </p:blipFill>
        <p:spPr>
          <a:xfrm>
            <a:off x="4191120" y="3962520"/>
            <a:ext cx="3047760" cy="2457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7315200" y="5029200"/>
            <a:ext cx="1600200" cy="5335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ол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то лишний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2395440" cy="24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3009960" cy="2257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76720" y="3581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457200" y="4419720"/>
            <a:ext cx="198108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553080" y="4419720"/>
            <a:ext cx="205740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ма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24080" y="6095880"/>
            <a:ext cx="2590920" cy="457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порот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то лишний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АРСТВО РАСТ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бщая характеристика растен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5105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временном мире насчитывается более 350 тыс. видов раст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ения составляют около 95% от всей </a:t>
            </a:r>
            <a:r>
              <a:rPr b="0" lang="ru-RU" sz="3200" spc="-1" strike="noStrike" u="sng">
                <a:solidFill>
                  <a:srgbClr val="f05000"/>
                </a:solidFill>
                <a:uFillTx/>
                <a:latin typeface="Arial"/>
              </a:rPr>
              <a:t>биомасс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5000"/>
                </a:solidFill>
                <a:uFillTx/>
                <a:latin typeface="Arial"/>
              </a:rPr>
              <a:t>Фло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совокупность всех растений нашей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257800" y="304920"/>
            <a:ext cx="3247920" cy="3217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арство Раст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Низшие раст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дорос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57440" y="19047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Высшие раст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ох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лаун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воще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апоротник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голосем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окрытосем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2819520" cy="1838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3124080" y="380988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биом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537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Это совокупность живых организмов (животных, растений, грибов, микроорганизмов), населяющих определённую местность: тундру, лиственный лес, степь и т.д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4917960" y="1905120"/>
            <a:ext cx="3927600" cy="2438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1. фотосинтез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46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растения – </a:t>
            </a: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автотроф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ения образуют органическую биомассу (</a:t>
            </a: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продуцен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вишня№2"/>
          <p:cNvPicPr/>
          <p:nvPr/>
        </p:nvPicPr>
        <p:blipFill>
          <a:blip r:embed="rId1"/>
          <a:stretch/>
        </p:blipFill>
        <p:spPr>
          <a:xfrm>
            <a:off x="4952880" y="1828800"/>
            <a:ext cx="3927600" cy="2946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4952880" y="5105520"/>
            <a:ext cx="388620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ды виш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2743200" cy="2065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380880" y="6248520"/>
            <a:ext cx="4191120" cy="30456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дровые ши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2. пигмент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152280" y="472428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80880" y="4724280"/>
            <a:ext cx="3581640" cy="1524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лёный пигмент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лорофи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4419720" y="5029200"/>
            <a:ext cx="4495680" cy="13716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нжевые, желтые, 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отино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1" descr="помидор"/>
          <p:cNvPicPr/>
          <p:nvPr/>
        </p:nvPicPr>
        <p:blipFill>
          <a:blip r:embed="rId2"/>
          <a:stretch/>
        </p:blipFill>
        <p:spPr>
          <a:xfrm>
            <a:off x="6553080" y="1143000"/>
            <a:ext cx="2362320" cy="176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перец"/>
          <p:cNvPicPr/>
          <p:nvPr/>
        </p:nvPicPr>
        <p:blipFill>
          <a:blip r:embed="rId3"/>
          <a:stretch/>
        </p:blipFill>
        <p:spPr>
          <a:xfrm>
            <a:off x="4648320" y="2971800"/>
            <a:ext cx="2514600" cy="17510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34:3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