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4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8F7E-F26B-4BF3-8CBA-CCCC7EADD4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я. Многообразие живых организм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 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F20AD-70DE-4589-8F63-93CBE1B39AD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гменты и пласт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C1E4-1343-4D89-9066-5F596A1B89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Аукси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ладают высокой физиологической активностью («Гетероауксин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ют на рост клетки в фазах растя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т рост клеток камб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авливают взаимодействие отдельных орг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т коррелятив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 влияет на скорость созревания пл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Гиббереллин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остовые вещества растений («Завязь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BB6F-4290-4FEF-81EA-046BFA35BA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горм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итогормоны регулируют многие процессы жизнедеятельности растений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8DA8-A48D-451C-9785-D8D1627BCE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Целлюлоза – основа клеточной ст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D713-E9FE-4961-9630-5A34E824A4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 органических веществ: аминокислот, белков, углеводов, дубильных веще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ённые неорганические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Тург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напряжение клеточной сте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205BB-690B-4794-8196-459D5C6A8A0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47F7-1C73-4690-966C-AB02B33DBD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знаки раст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аличие в клетках пиг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деление растительных горм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Клетки окружены клеточной стенкой, образованной целлюлоз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Обязательный продукт обмена – клеточный с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еограниченный ро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EF74-5626-4FAE-973A-524EABB22F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C601-D446-4C7D-AD70-F20F5372044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лиш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AEC4-35D4-4261-8FA7-60593759CD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характеристика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E10D-07A8-4912-9BD9-B0C57AF315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м мире насчитывается более 350 тыс. видов раст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составляют около 95% от всей </a:t>
            </a: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биомасс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4f81bd"/>
                </a:solidFill>
                <a:uFillTx/>
                <a:latin typeface="Calibri"/>
              </a:rPr>
              <a:t>Флор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совокупность всех растений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31E1-DEA0-466E-A171-A38D7DC587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Рас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Низ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водоро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Высши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мох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лаун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хвоще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апоротников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гол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80008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крытос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DA36-050E-497C-A6BA-717314EC61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AE143-8911-42D9-830B-656BF69FA8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фотосинте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растения – 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автотроф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ения образуют органическую биомассу (</a:t>
            </a:r>
            <a:r>
              <a:rPr b="0" lang="ru-RU" sz="1200" spc="-1" strike="noStrike">
                <a:solidFill>
                  <a:srgbClr val="4f81bd"/>
                </a:solidFill>
                <a:latin typeface="Calibri"/>
              </a:rPr>
              <a:t>продуц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A7599-EA6C-4A9F-AA97-03276E15F5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иг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FCB2-6BDE-43A1-A3FF-6FB64452B9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242-94E0-4332-80E0-F5DFCEC6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35CE-B4FE-4151-AD4D-8083F547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2AE8-BFC1-4A07-9EFD-DDA929E5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8861-C328-428B-9FA8-B7EA0D1B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ABA6-D9B8-4B0C-A5B4-3355C9FE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8BFC9-348E-4ACB-BA97-692E69B1F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A7FD-8F09-4516-A38B-1B0E3A8F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73BFB-221F-4291-9448-F8664861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1343-48D5-4D6B-B9CB-7213904E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CE79-7757-4B1B-BC36-FAD1E34D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43A0-BD07-4B1E-83C3-F1FC24C5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8DD6-19B4-4A68-9DAA-B289CA06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8E24-E9B9-4BA3-B640-F1F10B3F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D41B0-0653-4293-ABDE-23794B3D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C2DF1-4AA0-47A8-96AC-7CB20363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157C-87D5-4944-9BBD-4F32BD5D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04DC-C0C0-4BC4-97E1-D103DC7E4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23F2-A247-4739-9D44-2142AF03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F9DC-3B17-4CF3-A0C3-FB416B8E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506-A5FE-47BC-8842-97BFC4B4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1CDC-E168-4B73-85E1-C0BCA80D3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28BD-BE04-4020-90B3-144FB4CD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409C-587C-4E26-A4B1-4F5CACC4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6AD-CFD8-47E5-A5CE-2848A724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EC7C-F439-4EDC-934D-0A2DB514ED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>
                    <a:alpha val="0"/>
                  </a:srgbClr>
                </a:gs>
                <a:gs pos="100000">
                  <a:srgbClr val="d17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a51f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B6B5-38D6-443A-A1DA-3FD70E1021E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7924680" cy="18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Биология. Многообразие живых организмов. </a:t>
            </a:r>
            <a:br>
              <a:rPr sz="4000"/>
            </a:br>
            <a:r>
              <a:rPr b="1" lang="ru-RU" sz="4000" spc="-1" strike="noStrike">
                <a:solidFill>
                  <a:srgbClr val="cc6600"/>
                </a:solidFill>
                <a:latin typeface="Arial Black"/>
              </a:rPr>
              <a:t>7 класс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Раздел №3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Царство Раст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2590920" y="4648320"/>
            <a:ext cx="4495680" cy="1600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010-2011 учебный 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ушак Ольга Михайло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Пигменты и пластид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8153640" cy="518148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3.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556236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05000"/>
                </a:solidFill>
                <a:latin typeface="Arial"/>
              </a:rPr>
              <a:t>Ауксины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от др.-греч. αὔξω — увеличиваюсь, расту) — стимуляторы роста плодов (побегов) растений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бладают высокой физиологической активностью («Гетероауксин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лияют на рост клетки в фазах растя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уют рост клеток камб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уславливают взаимодействие отдельных орган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улируют коррелятивный 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лен влияет на скорость созревания плод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Гиббереллины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Ростовые вещества растений («Завязь»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3114720" cy="20764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Растительные гормон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6095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05000"/>
                </a:solidFill>
                <a:latin typeface="Arial"/>
              </a:rPr>
              <a:t>Фитогормоны регулируют многие процессы жизнедеятельности растений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растание семян, рост, дифференциацию тканей и органов, цветение, созревание плодов и т. п. Являются сильными биостимуляторами, т.е.  повышают иммунитет, укоренение черенков, увеличивают всхожесть и ускоряют прорастание семян, снижают отрицательное воздействие неблагоприятных внешних факторов как похолодание или засуха, стимулируют образование завязей, ускоряют созревание плодов. Все это действительно имеет место только в том случае, если не нарушаются общие принципы ух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860560" cy="35816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4.Целлюлоза – основа клеточной стенк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936960" cy="4448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2"/>
          <a:stretch/>
        </p:blipFill>
        <p:spPr>
          <a:xfrm>
            <a:off x="4952880" y="21337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8"/>
          <p:cNvSpPr/>
          <p:nvPr/>
        </p:nvSpPr>
        <p:spPr>
          <a:xfrm>
            <a:off x="4800600" y="5257800"/>
            <a:ext cx="4114800" cy="9907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люлоза – это основа древес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5.Клеточный со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495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 органических веществ: аминокислот, белков, углеводов, дубильных веществ и т.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ворённые неорганические веще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Тургор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напряжение клеточной стен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7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637000" cy="383400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8"/>
          <p:cNvSpPr/>
          <p:nvPr/>
        </p:nvSpPr>
        <p:spPr>
          <a:xfrm>
            <a:off x="4648320" y="6248520"/>
            <a:ext cx="4038480" cy="3808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ьице закрытое и открыт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6.Неограниченный рост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80" name="Picture 9" descr=""/>
          <p:cNvPicPr/>
          <p:nvPr/>
        </p:nvPicPr>
        <p:blipFill>
          <a:blip r:embed="rId1"/>
          <a:stretch/>
        </p:blipFill>
        <p:spPr>
          <a:xfrm>
            <a:off x="4343400" y="1371600"/>
            <a:ext cx="4419720" cy="4419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4419720" y="6019920"/>
            <a:ext cx="4419360" cy="5331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игантские секвой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8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3657600" cy="2911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0"/>
          <p:cNvSpPr/>
          <p:nvPr/>
        </p:nvSpPr>
        <p:spPr>
          <a:xfrm>
            <a:off x="457200" y="5181480"/>
            <a:ext cx="3429000" cy="6858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ктория Ре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Основные признаки растений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Фотосинте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аличие в клетках пигмен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Выделение растительных гормон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Клетки окружены клеточной стенкой, образованной целлюлоз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Обязательный продукт обмена – клеточный с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05000"/>
                </a:solidFill>
                <a:latin typeface="Arial"/>
              </a:rPr>
              <a:t>Неограниченный рос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971800" cy="2212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6781680" y="1143000"/>
            <a:ext cx="1979640" cy="2743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3"/>
          <a:stretch/>
        </p:blipFill>
        <p:spPr>
          <a:xfrm>
            <a:off x="533520" y="4017960"/>
            <a:ext cx="2666880" cy="21016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7"/>
          <p:cNvSpPr/>
          <p:nvPr/>
        </p:nvSpPr>
        <p:spPr>
          <a:xfrm>
            <a:off x="685800" y="3352680"/>
            <a:ext cx="236232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6324480"/>
            <a:ext cx="2286000" cy="381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ап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800600" y="2666880"/>
            <a:ext cx="16765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рё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0" descr="кролик"/>
          <p:cNvPicPr/>
          <p:nvPr/>
        </p:nvPicPr>
        <p:blipFill>
          <a:blip r:embed="rId4"/>
          <a:stretch/>
        </p:blipFill>
        <p:spPr>
          <a:xfrm>
            <a:off x="4191120" y="3962520"/>
            <a:ext cx="3047760" cy="24573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11"/>
          <p:cNvSpPr/>
          <p:nvPr/>
        </p:nvSpPr>
        <p:spPr>
          <a:xfrm>
            <a:off x="7315200" y="5029200"/>
            <a:ext cx="1600200" cy="53352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л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2395440" cy="2438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"/>
          <p:cNvPicPr/>
          <p:nvPr/>
        </p:nvPicPr>
        <p:blipFill>
          <a:blip r:embed="rId2"/>
          <a:stretch/>
        </p:blipFill>
        <p:spPr>
          <a:xfrm>
            <a:off x="5867280" y="1981080"/>
            <a:ext cx="3009960" cy="22575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7"/>
          <p:cNvSpPr/>
          <p:nvPr/>
        </p:nvSpPr>
        <p:spPr>
          <a:xfrm>
            <a:off x="457200" y="4419720"/>
            <a:ext cx="198108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553080" y="4419720"/>
            <a:ext cx="20574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ма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3124080" y="6095880"/>
            <a:ext cx="2590920" cy="4572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апорот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Кто лишний?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Общая характеристика растений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5105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современном мире насчитывается более 350 тыс. видов раст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тения составляют около 95% от всей </a:t>
            </a: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биомасс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05000"/>
                </a:solidFill>
                <a:uFillTx/>
                <a:latin typeface="Arial"/>
              </a:rPr>
              <a:t>Фло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это совокупность всех растений нашей плане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5257800" y="304920"/>
            <a:ext cx="3247920" cy="3217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Царство Растения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Низ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одорос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257440" y="1904760"/>
            <a:ext cx="3886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Высшие раст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ох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лаун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хвоще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апоротниковид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гол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99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покрытосемен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6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2819520" cy="1838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12408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биом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537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Это совокупность живых организмов (животных, растений, грибов, микроорганизмов), населяющих определённую местность: тундру, лиственный лес, степь и т.д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"/>
          <p:cNvPicPr/>
          <p:nvPr/>
        </p:nvPicPr>
        <p:blipFill>
          <a:blip r:embed="rId1"/>
          <a:stretch/>
        </p:blipFill>
        <p:spPr>
          <a:xfrm>
            <a:off x="4917960" y="1905120"/>
            <a:ext cx="3927600" cy="243828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1. фотосинтез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460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е растения – 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автотроф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стения образуют органическую биомассу (</a:t>
            </a:r>
            <a:r>
              <a:rPr b="0" lang="ru-RU" sz="2800" spc="-1" strike="noStrike">
                <a:solidFill>
                  <a:srgbClr val="f05000"/>
                </a:solidFill>
                <a:latin typeface="Arial"/>
              </a:rPr>
              <a:t>продуцент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6" descr="вишня№2"/>
          <p:cNvPicPr/>
          <p:nvPr/>
        </p:nvPicPr>
        <p:blipFill>
          <a:blip r:embed="rId1"/>
          <a:stretch/>
        </p:blipFill>
        <p:spPr>
          <a:xfrm>
            <a:off x="4952880" y="1828800"/>
            <a:ext cx="3927600" cy="2946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4952880" y="5105520"/>
            <a:ext cx="3886200" cy="60948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оды виш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tretch/>
        </p:blipFill>
        <p:spPr>
          <a:xfrm>
            <a:off x="990720" y="3962520"/>
            <a:ext cx="2743200" cy="20653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380880" y="6248520"/>
            <a:ext cx="4191120" cy="30456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едровые ши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6600"/>
                </a:solidFill>
                <a:latin typeface="Arial Black"/>
              </a:rPr>
              <a:t>2. пигменты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pic>
        <p:nvPicPr>
          <p:cNvPr id="151" name="Picture 7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52280" y="472428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380880" y="4724280"/>
            <a:ext cx="3581640" cy="152424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елёный пигмент 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лорофил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4419720" y="5029200"/>
            <a:ext cx="4495680" cy="1371600"/>
          </a:xfrm>
          <a:prstGeom prst="rect">
            <a:avLst/>
          </a:prstGeom>
          <a:solidFill>
            <a:srgbClr val="f05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анжевые, желтые, красны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отиноид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1" descr="помидор"/>
          <p:cNvPicPr/>
          <p:nvPr/>
        </p:nvPicPr>
        <p:blipFill>
          <a:blip r:embed="rId2"/>
          <a:stretch/>
        </p:blipFill>
        <p:spPr>
          <a:xfrm>
            <a:off x="6553080" y="1143000"/>
            <a:ext cx="2362320" cy="1763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перец"/>
          <p:cNvPicPr/>
          <p:nvPr/>
        </p:nvPicPr>
        <p:blipFill>
          <a:blip r:embed="rId3"/>
          <a:stretch/>
        </p:blipFill>
        <p:spPr>
          <a:xfrm>
            <a:off x="4648320" y="2971800"/>
            <a:ext cx="2514600" cy="175104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5T09:34:34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