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1207-C998-4419-A1BB-1F464B2458F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мноводные - амфиб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СХВ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ягушки, жабы, квакши, жерлянки, шпорцевые лягушки, п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ХВОСТАТЫЕ, 340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тритоны, саламандры, амбис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ЗНОГИЕ, 165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- червя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1BB6-DA66-421C-995E-91E04358BB1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Строение и функци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еспечив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дополнительный газооб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ля этого голая, влажная, с большим количеством капилля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ь обеспечивает увлажнение,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щиту от инфекции, от кровосо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часто ядовита для защиты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от крупных плотояд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лад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рецепторной функ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Звездчатые клетки с пигментами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- окра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6FCF-90F9-45FD-9DB4-1598866D054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роение скелета 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017D-CD21-4D98-83A3-DBEB75ECE68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делы скелета лягуш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ере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звоноч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вободные коне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: кости плеча, предплечья, к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яя: кости бедра, голени, с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яса конеч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ий: лопатка, ключица, воронья кость; соединены с гру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ий: кости таза, соединены с крестц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F9AD-7D93-4152-B3E7-0B445015EF2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552-E1C1-41BD-B55D-9611A77AF9F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ыха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FD49-7356-4CD9-B8F7-225B6400264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E809-28A7-49E4-A4A0-99AAB3079C4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ка перемещением хрусталика; зрение обычно цве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объекты при их перемещ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F2B-4816-4825-9050-5CC402C4A15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рган сл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86C7-F858-4A86-B28D-EED7A2F5871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Раздельноп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наружное, наружно-внутреннее или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рождение, яйцеживорождение или живор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способны к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от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ловому размножению на личиночной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74CF-E126-4C97-92E5-A39F8342B7F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олотль – личинка амбистомы (хвостатые амфиб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5C51-3D4A-45FA-9DD5-D2BE9C2AAF3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пидистиевые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ресноводные кистепе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тегоцефалы (панцирноголовые</a:t>
            </a:r>
            <a:r>
              <a:rPr b="0" lang="ru-RU" sz="900" spc="-1" strike="noStrike">
                <a:solidFill>
                  <a:srgbClr val="a50021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00A9-9EA2-4405-A6F4-6A50EBF00A8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хтиостега – представитель стегоцеф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AF7B-6A2B-49B7-8314-18665BEDD26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меры земнов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ног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6,5-15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Хвостатые  в  средн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– 7-3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Самые маленьк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а (карликовая мексиканская 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езлегочная саламанд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самые больш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 ме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ольшой  сир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,5 ме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исполинские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аламанд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Бесхвостые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т 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а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карликовая кубинск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а)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 25-3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жабы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ага и колумбийская гигантск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Рекорд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лягушка-голиаф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0702-041C-4A63-B2C6-1CAD3D5BFA2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Внешнее строение </a:t>
            </a:r>
            <a:br>
              <a:rPr sz="1200"/>
            </a:b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ации к наземно-воздушной сре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ED4A-FE05-46D8-9997-1A4B54D6BB8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ивущие на деревьях лягушки хорошо лаз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1000" spc="-1" strike="noStrike">
                <a:solidFill>
                  <a:srgbClr val="006600"/>
                </a:solidFill>
                <a:latin typeface="Calibri"/>
              </a:rPr>
              <a:t>.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FB1C-B660-408B-AE93-907EC14B00E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ерепрыгивают с ветки на ветк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F236-2837-4252-9AAE-7CA2E882168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схвостые плавают «брассо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8032-9A5C-435C-800D-E3C852BAD43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67F-FE0A-4350-8473-FEBDB3A5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456-E248-421B-A298-E0C4B5A6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629-63C2-47CA-B7D9-E1779938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A5E-919F-4982-9D26-FE3F311E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23A-7F99-44F7-B5E8-E4B04ABB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53B-05A2-4788-84D8-F6830BE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037-7F62-473F-AE2C-671F24C3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D29-2F87-4456-B143-8ACDC701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FBB-4CAD-4AAD-B379-EFB4DC6B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925-54BB-4FEF-98C2-912FDE7D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420-E6F4-41D4-997A-3C153A2D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E5A-8A98-497B-92DF-D36533DB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8EA9-221E-4537-AA5D-F8D773289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емноводные - амфи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Безымянный"/>
          <p:cNvPicPr/>
          <p:nvPr/>
        </p:nvPicPr>
        <p:blipFill>
          <a:blip r:embed="rId1"/>
          <a:stretch/>
        </p:blipFill>
        <p:spPr>
          <a:xfrm>
            <a:off x="5029200" y="3886200"/>
            <a:ext cx="35053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еленая лягушка"/>
          <p:cNvPicPr/>
          <p:nvPr/>
        </p:nvPicPr>
        <p:blipFill>
          <a:blip r:embed="rId2"/>
          <a:stretch/>
        </p:blipFill>
        <p:spPr>
          <a:xfrm>
            <a:off x="0" y="838080"/>
            <a:ext cx="3276720" cy="247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1776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СХВ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и, жабы, квакши, жерлянки, шпорцевые лягушки, пип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352680" y="20574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ХВОСТАТЫЕ, 340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- тритоны, саламандры, амбисто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6200" y="57801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ЗНОГИЕ, 165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 - червя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тритон"/>
          <p:cNvPicPr/>
          <p:nvPr/>
        </p:nvPicPr>
        <p:blipFill>
          <a:blip r:embed="rId3"/>
          <a:stretch/>
        </p:blipFill>
        <p:spPr>
          <a:xfrm>
            <a:off x="3886200" y="457200"/>
            <a:ext cx="3962520" cy="164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457200"/>
            <a:ext cx="2514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троение и функции кож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-6480" y="792000"/>
            <a:ext cx="952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еспечив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ополнительный газообм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ля этого голая, влажная, с большим количеством капилля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изь обеспечивает увлажнение,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защиту от инфекции, от кровосос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часто ядовита для защиты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от крупных плотояд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лад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цепторной функ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Звездчатые клетки с пигментами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- окрас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скелет лягушк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38280" y="838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19320" y="228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ение скелета лягуш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57200"/>
            <a:ext cx="5791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елы скелета лягушк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звоноч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бодные конечно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няя: кости плеча, предплечья, ки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няя: кости бедра, голени, сто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91320" y="3276720"/>
            <a:ext cx="3124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ояса конечнос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ий: лопатка, ключица, воронья кость; соединены с груд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й: кости таза, соединены с крестц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3600" y="2819520"/>
            <a:ext cx="6858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52880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ыхание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99072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3317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62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0" y="-152280"/>
            <a:ext cx="533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0" y="2286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ы зр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кусировка перемещением хрусталика; зрение обычно цветово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ят объекты при их перемещ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238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Орган слух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12952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0020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ножение и разви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7150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-76320" y="148104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здельнопо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одотворение наружное, наружно-внутреннее или внутренн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ерождение, яйцеживорождение или живоро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860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е виды способны к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т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оловому размножению на личиночной стад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аксол"/>
          <p:cNvPicPr/>
          <p:nvPr/>
        </p:nvPicPr>
        <p:blipFill>
          <a:blip r:embed="rId1"/>
          <a:srcRect l="0" t="0" r="0" b="7418"/>
          <a:stretch/>
        </p:blipFill>
        <p:spPr>
          <a:xfrm>
            <a:off x="952560" y="4286160"/>
            <a:ext cx="7467480" cy="2571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33216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солотль – личинка амбистомы (хвостатые амфиб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пидистиевые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сноводные кистепер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стегоцефалы (панцирноголовы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Безымянный"/>
          <p:cNvPicPr/>
          <p:nvPr/>
        </p:nvPicPr>
        <p:blipFill>
          <a:blip r:embed="rId1"/>
          <a:srcRect l="0" t="0" r="0" b="18253"/>
          <a:stretch/>
        </p:blipFill>
        <p:spPr>
          <a:xfrm>
            <a:off x="1600200" y="0"/>
            <a:ext cx="6019920" cy="22860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0" y="261144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хтиостега – представитель стегоцефа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67652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уппа, переходная от кистеперых рыб к стегоцефал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244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трахозав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тиосте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24080" y="3733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поспондил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00200" y="4648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600200" y="3504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581280" y="4876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525780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6172200" y="4876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7620120" y="21333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525780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1600200" y="243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H="1" flipV="1">
            <a:off x="1371240" y="106632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324480" y="990720"/>
            <a:ext cx="259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мур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мыкающиеся) 270 млн. лет 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58128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Бесхвост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810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востат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Безног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1536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ры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3818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ног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,5-1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Хвостатые  в  средн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– 7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Самые маленьк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а (карликовая мексиканская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злегочная саламанд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самые больш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ме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ольшой  сир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5 мет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сполинские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ламандр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Бесхвостые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а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ликовая кубинск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а)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 25-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жабы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га и колумбийская гигантск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Рекорд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ягушка-голи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7280" y="1324080"/>
            <a:ext cx="52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нешнее строение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ляг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троение лягушки"/>
          <p:cNvPicPr/>
          <p:nvPr/>
        </p:nvPicPr>
        <p:blipFill>
          <a:blip r:embed="rId1"/>
          <a:stretch/>
        </p:blipFill>
        <p:spPr>
          <a:xfrm>
            <a:off x="228600" y="353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308720" y="1125360"/>
            <a:ext cx="115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3071880"/>
            <a:ext cx="8686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аптации к наземно-воздушной сред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67816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24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азание ляг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прыгивают с ветки на в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594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ланир ляг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схвостые плавают «брасс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лаван ляг"/>
          <p:cNvPicPr/>
          <p:nvPr/>
        </p:nvPicPr>
        <p:blipFill>
          <a:blip r:embed="rId1"/>
          <a:stretch/>
        </p:blipFill>
        <p:spPr>
          <a:xfrm>
            <a:off x="1219320" y="609480"/>
            <a:ext cx="63370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7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