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BA46-7EB8-427B-A0A3-D3DAD831DCE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емноводные - амфиб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СХВОСТ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лягушки, жабы, квакши, жерлянки, шпорцевые лягушки, п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ХВОСТАТЫЕ, 340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- тритоны, саламандры, амбис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ряд БЕЗНОГИЕ, 165 ви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- червя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7650-9EAB-444E-BE94-630038A6423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Строение и функци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еспечив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дополнительный газооб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для этого голая, влажная, с большим количеством капилля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зь обеспечивает увлажнение,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защиту от инфекции, от кровосо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часто ядовита для защиты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от крупных плотояд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обладает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рецепторной функц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Звездчатые клетки с пигментами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- окра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4BB0-06CD-470B-9F57-70A0424EBCB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роение скелета 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F6A5-FA9D-4829-BF40-30B3672A693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делы скелета лягуш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ере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звоноч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вободные коне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яя: кости плеча, предплечья, ки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яя: кости бедра, голени, с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ояса конеч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ний: лопатка, ключица, воронья кость; соединены с груд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ний: кости таза, соединены с крестц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D096-194A-4944-9DC3-F86AF39A945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ищевари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8613-BFDF-4047-9AC5-7E38C92683E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ыхатель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B241-4D79-4EC1-8DDE-22A78CECD76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рв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5761-37EA-43EA-A9CD-8304F58DD2E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га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ка перемещением хрусталика; зрение обычно цвет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объекты при их перемещ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5142-1AC4-4015-B0BA-D724EE95921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рган сл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6719-0C9C-41F5-8FDC-A8E12C87570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множение и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Раздельноп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одотворение наружное, наружно-внутреннее или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йцерождение, яйцеживорождение или живоро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способны к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еот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ловому размножению на личиночной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9285-BFF3-4BC1-8D16-4064787924F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олотль – личинка амбистомы (хвостатые амфиб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E18C-40C3-485C-8325-EF77F0E2915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пидистиевые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пресноводные кистепер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стегоцефалы (панцирноголовые</a:t>
            </a:r>
            <a:r>
              <a:rPr b="0" lang="ru-RU" sz="900" spc="-1" strike="noStrike">
                <a:solidFill>
                  <a:srgbClr val="a50021"/>
                </a:solidFill>
                <a:latin typeface="Calibr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4A89-4F13-40A5-8284-2F7EEC026C3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хтиостега – представитель стегоцеф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6C38-5F3C-4E11-8A7F-46D182E51DF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меры земново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ног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6,5-15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Хвостатые  в  среднем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– 7-3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ов. Самые маленьк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а (карликовая мексиканская 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езлегочная саламанд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, самые большие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 ме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большой  сир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,5 ме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исполинские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аламандр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Бесхвостые: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т 1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антиметра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карликовая кубинск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а)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 25-3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жабы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ага и колумбийская гигантск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Рекорд –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40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тиметров (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лягушка-голиаф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772D-1C4A-400A-AE46-6ABAE797D79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Внешнее строение </a:t>
            </a:r>
            <a:br>
              <a:rPr sz="1200"/>
            </a:br>
            <a:r>
              <a:rPr b="1" lang="ru-RU" sz="1200" spc="-1" strike="noStrike">
                <a:solidFill>
                  <a:srgbClr val="953735"/>
                </a:solidFill>
                <a:latin typeface="Calibri"/>
              </a:rPr>
              <a:t>лягу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аптации к наземно-воздушной сред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F235-B906-4117-A468-1058B6E6BB0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ивущие на деревьях лягушки хорошо лаз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1000" spc="-1" strike="noStrike">
                <a:solidFill>
                  <a:srgbClr val="006600"/>
                </a:solidFill>
                <a:latin typeface="Calibri"/>
              </a:rPr>
              <a:t>.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E100-75A8-4123-8DF1-27316574777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ерепрыгивают с ветки на ветк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9E04-77FC-4820-A27A-4501D425B2D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схвостые плавают «брассо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6600"/>
                </a:solidFill>
                <a:latin typeface="Calibri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D6B5-A80C-4872-AD2F-E3AC2E4CB08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8E2-D910-4876-B9AF-0B3BE824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E1C-4199-41C8-AB6C-FEF4A5A3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27A-BB8C-43E5-B8D3-ED1FC460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863-6615-4586-A523-D2AFC4FC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E7C-C1D4-427E-B131-C43FAC31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73A-C5B7-46CC-BD12-9C89BC9F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F02-37E7-4AE0-92A7-399C3483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19D-35F5-406C-A860-38D59BF2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A3B-2025-4B7E-811E-E547CD9E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DFA-DC78-4996-88C9-06230C33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91A-2D8D-4A3A-8EFF-8CDBE2B6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DD2-D6A1-4DA8-8A22-A8871181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B9A1-A19A-49EE-B681-480AF099B9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емноводные - амфи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Безымянный"/>
          <p:cNvPicPr/>
          <p:nvPr/>
        </p:nvPicPr>
        <p:blipFill>
          <a:blip r:embed="rId1"/>
          <a:stretch/>
        </p:blipFill>
        <p:spPr>
          <a:xfrm>
            <a:off x="5029200" y="3886200"/>
            <a:ext cx="3505320" cy="164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зеленая лягушка"/>
          <p:cNvPicPr/>
          <p:nvPr/>
        </p:nvPicPr>
        <p:blipFill>
          <a:blip r:embed="rId2"/>
          <a:stretch/>
        </p:blipFill>
        <p:spPr>
          <a:xfrm>
            <a:off x="0" y="838080"/>
            <a:ext cx="3276720" cy="2479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0" y="331776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СХВОСТ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и, жабы, квакши, жерлянки, шпорцевые лягушки, пип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352680" y="20574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ХВОСТАТЫЕ, 340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- тритоны, саламандры, амбистом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886200" y="578016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яд БЕЗНОГИЕ, 165 вид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 - червя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тритон"/>
          <p:cNvPicPr/>
          <p:nvPr/>
        </p:nvPicPr>
        <p:blipFill>
          <a:blip r:embed="rId3"/>
          <a:stretch/>
        </p:blipFill>
        <p:spPr>
          <a:xfrm>
            <a:off x="3886200" y="457200"/>
            <a:ext cx="3962520" cy="1644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0" y="457200"/>
            <a:ext cx="2514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7"/>
          <p:cNvSpPr/>
          <p:nvPr/>
        </p:nvSpPr>
        <p:spPr>
          <a:xfrm>
            <a:off x="0" y="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Строение и функции кож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-6480" y="792000"/>
            <a:ext cx="95252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еспечив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дополнительный газообме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для этого голая, влажная, с большим количеством капилляр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изь обеспечивает увлажнение,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защиту от инфекции, от кровосос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часто ядовита для защиты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от крупных плотоядных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жа обладает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рецепторной функцие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Звездчатые клетки с пигментами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- окрас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скелет лягушки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438280" y="838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>
            <a:hlinkClick r:id="rId2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219320" y="228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роение скелета лягуш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943600" y="457200"/>
            <a:ext cx="2857680" cy="2828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0" y="457200"/>
            <a:ext cx="5791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делы скелета лягушк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ре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широкий для ротоглоточного дыхания, большие глазницы, соединен с позвоночником двумя мыщелк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звоночн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обычно имеет 4 отдела: шейный (1), туловищный (7, без ребер),  крестцовый (1), хвостовой (12 соединены в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вободные конечност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няя: кости плеча, предплечья, ки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няя: кости бедра, голени, стоп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791320" y="3276720"/>
            <a:ext cx="3124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Пояса конечностей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ний: лопатка, ключица, воронья кость; соединены с грудин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ний: кости таза, соединены с крестцо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9528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943600" y="2819520"/>
            <a:ext cx="6858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2280" y="528804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новодные имеют конические зубы, расположенные на челюстных, зубных, нёбных костях и сошнике и облегчающие схватывание добыч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дыхание"/>
          <p:cNvPicPr/>
          <p:nvPr/>
        </p:nvPicPr>
        <p:blipFill>
          <a:blip r:embed="rId1"/>
          <a:stretch/>
        </p:blipFill>
        <p:spPr>
          <a:xfrm>
            <a:off x="0" y="533520"/>
            <a:ext cx="853452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990720" y="3808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4792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ыхатель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0" y="33177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товая полость – гортань - легкие (ячеистые мешки) Дополнительный газообмен – через влажную кожу; у безлегочной саламандры – только так, у когтистого тритона из горных ручьев – через кожу, слизистую ротовой полости и плавниковую складку вокруг хвос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724640" cy="6248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0" y="-152280"/>
            <a:ext cx="5335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7"/>
          <p:cNvSpPr/>
          <p:nvPr/>
        </p:nvSpPr>
        <p:spPr>
          <a:xfrm>
            <a:off x="0" y="228600"/>
            <a:ext cx="914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рганы зрени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аза прикрыты веками и нижней мигательной перепонкой; есть слезные железы                                                  (у шпорцевой лягушки веки редуцированы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кусировка перемещением хрусталика; зрение обычно цветово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ят объекты при их перемещен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1523880" y="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</a:rPr>
              <a:t>Орган слух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1295280"/>
            <a:ext cx="8686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стоит из двух отделов – внутреннего уха и среднего уха со слуховой косточкой. Снаружи среднее ухо прикрыто барабанной перепонко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00200" y="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ножение и развит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715000" y="11430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-76320" y="148104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аздельнопол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лодотворение наружное, наружно-внутреннее или внутренне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ерождение, яйцеживорождение или живорождени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28600" y="51037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которые виды способны к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отени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половому размножению на личиночной стад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аксол"/>
          <p:cNvPicPr/>
          <p:nvPr/>
        </p:nvPicPr>
        <p:blipFill>
          <a:blip r:embed="rId1"/>
          <a:srcRect l="0" t="0" r="0" b="7418"/>
          <a:stretch/>
        </p:blipFill>
        <p:spPr>
          <a:xfrm>
            <a:off x="952560" y="4286160"/>
            <a:ext cx="7467480" cy="2571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333216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солотль – личинка амбистомы (хвостатые амфиби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0" y="0"/>
            <a:ext cx="944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отения – задержка в развитии личинки с приобретением способности к половому размножению; характерна при необходимости смены среды обитания (протей остался на стадии личинки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8377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ипидистиевые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пресноводные кистеперы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мели легкие, развившиеся из плавательного пузыря. Обитали в мелких озерах и речках, ползали при помощи  мускулистых плавников. От этих рыб и произошли первые наземные позвоночные –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стегоцефалы (панцирноголовые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Безымянный"/>
          <p:cNvPicPr/>
          <p:nvPr/>
        </p:nvPicPr>
        <p:blipFill>
          <a:blip r:embed="rId1"/>
          <a:srcRect l="0" t="0" r="0" b="18253"/>
          <a:stretch/>
        </p:blipFill>
        <p:spPr>
          <a:xfrm>
            <a:off x="1600200" y="0"/>
            <a:ext cx="6019920" cy="2286000"/>
          </a:xfrm>
          <a:prstGeom prst="rect">
            <a:avLst/>
          </a:prstGeom>
          <a:ln w="19080">
            <a:solidFill>
              <a:srgbClr val="669900"/>
            </a:solidFill>
            <a:miter/>
          </a:ln>
        </p:spPr>
      </p:pic>
      <p:sp>
        <p:nvSpPr>
          <p:cNvPr id="60" name="Text Box 4"/>
          <p:cNvSpPr/>
          <p:nvPr/>
        </p:nvSpPr>
        <p:spPr>
          <a:xfrm>
            <a:off x="0" y="2611440"/>
            <a:ext cx="9144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хтиостега – представитель стегоцефало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350-300 млн. лет назад, каменноугольный период. Бесхвостые произошли от хвостатых позже – 140 млн. лет наза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676520" y="5410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руппа, переходная от кистеперых рыб к стегоцефала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324480" y="4419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трахозав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2860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хтиостег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124080" y="3733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иринтодон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0" y="3048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поспондил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600200" y="46483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1600200" y="3504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3581280" y="4876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 flipV="1">
            <a:off x="525780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V="1">
            <a:off x="6172200" y="48769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V="1">
            <a:off x="7620120" y="213336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 flipV="1">
            <a:off x="5257800" y="9907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7"/>
          <p:cNvSpPr/>
          <p:nvPr/>
        </p:nvSpPr>
        <p:spPr>
          <a:xfrm flipV="1">
            <a:off x="1600200" y="24379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 flipH="1" flipV="1">
            <a:off x="1371240" y="106632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6324480" y="990720"/>
            <a:ext cx="25909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ймури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смыкающиеся) 270 млн. лет наза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58128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Бесхвост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1981080" y="1828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Хвостат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04920" y="5335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Безног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15364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меры земновод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240" y="609480"/>
            <a:ext cx="838188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ног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6,5-15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Хвостатые  в  среднем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– 7-3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ов. Самые маленьк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а (карликовая мексиканская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езлегочная саламанд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, самые большие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 метр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ольшой  сире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,5 метр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исполинские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аламандр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Бесхвостые: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 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нтиметра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арликовая кубинска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ягушка)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 25-3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жабы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ага и колумбийская гигантск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Рекорд –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4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тиметров (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лягушка-голиаф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87280" y="1324080"/>
            <a:ext cx="5256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Внешнее строение 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ляг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cтроение лягушки"/>
          <p:cNvPicPr/>
          <p:nvPr/>
        </p:nvPicPr>
        <p:blipFill>
          <a:blip r:embed="rId1"/>
          <a:stretch/>
        </p:blipFill>
        <p:spPr>
          <a:xfrm>
            <a:off x="228600" y="353880"/>
            <a:ext cx="380988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7308720" y="1125360"/>
            <a:ext cx="1150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3071880"/>
            <a:ext cx="8686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аптации к наземно-воздушной среде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ечности рычажного типа, легкие, среднее ухо с барабанной перепонкой, веки, язык, слюнные железы, подвижное сочленение черепа с позвоночником, пояс задних конечностей срастается с позвоночнико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685800"/>
            <a:ext cx="678168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ивущие на деревьях лягушки хорошо лаз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6324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ятнистая веслоногая лягушка лазает по стеблям, обхватывая стебли длинными гибкими пальцами с липкими дисками на концах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лазание ляг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прыгивают с ветки на ветк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4114440"/>
            <a:ext cx="8594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еслоногие лягушки при прыжке могут планировать в воздухе на растопыренных между пальцами перепонках, пролетая до 10 –15 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планир ляг"/>
          <p:cNvPicPr/>
          <p:nvPr/>
        </p:nvPicPr>
        <p:blipFill>
          <a:blip r:embed="rId1"/>
          <a:stretch/>
        </p:blipFill>
        <p:spPr>
          <a:xfrm>
            <a:off x="2209680" y="609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есхвостые плавают «брассом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4572000"/>
            <a:ext cx="8496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Шпорцевая лягушка одновременно отталкивается от воды задними конечностями с перепонками между пальц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плаван ляг"/>
          <p:cNvPicPr/>
          <p:nvPr/>
        </p:nvPicPr>
        <p:blipFill>
          <a:blip r:embed="rId1"/>
          <a:stretch/>
        </p:blipFill>
        <p:spPr>
          <a:xfrm>
            <a:off x="1219320" y="609480"/>
            <a:ext cx="6337080" cy="40388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7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