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DD24-97C2-4402-80AC-569E5A89C0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в медицине и здравоо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4ADE-E031-4AE5-A56A-55CE75AD530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вязанное со здоровь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Не связанное со здоровь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а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1E69-CADB-4C09-9C0B-4A6878E2341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олное физическое, психологическое и социальное благополучие человека, а не просто отсутстви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, 19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8555-371D-47A9-A112-62C4AF2A178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характеристики понятия «качество жиз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сть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емость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больного в оценке своего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97A5-F6B6-4EA4-B23E-23E90212FFB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представление параметр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7D6B-094B-4E52-B377-A88B9D1814C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представление параметр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0EBE-D641-47AB-8A90-C293CB46423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просник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епени специализиров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укту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91CF-3F54-46AB-A36E-5EAB093F7D0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назначены для оценки качества жизни как здоровых, так и больных независимо от вида заболе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F-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ckness Impact 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tingham Health 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QoL-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A266-F7E1-45F0-8377-A660DFC5A30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ы для изучения качества жизни у отдельных категорий и групп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trointestinal Symptom Ratin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hritis Impact Measuremen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al Assessment of Multiple Scler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Health Qualit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16B4-B161-4A21-AAFF-2D23C5EBEEA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опросникам оценки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та и крат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лемость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имость в различных языковых и социальных культу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91AC-293D-4A82-BBC8-9E230CAB4A2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сылки развития концепции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й прогресс в диагностике и лечении одних заболеваний и скромные успехи в лечении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кая специализация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уровневая структура благополуч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7A7C-A4BF-4DFE-BC39-E95D59C3635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метрические свойства опросника оценки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ежность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abil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valid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ительн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nsitiv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82B8-C055-46EA-BA27-8B03340CEFB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еж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reliability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казатель точности и постоянства измер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05B2-D919-4CD3-B243-889C0BCFF9C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ность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id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опросника измерять ту характеристику, для измерения которой он предназнач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FD9F-66A3-47D4-8606-51FA5B81531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итель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sensitiv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опросника выявлять изменения или различия показателей КЖ в соответствии с изменениями в состоянии больного или различиями в состоянии групп бо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20B9-BA46-4640-BE04-1EC6E338FDC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ая и языковая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2594-570A-4F02-A061-02C9113CB00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верка психометрических свойств опросника, т.е. проверка надежности, валидности и чув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6320-1AC5-4DBE-B2C6-CF28F8C54EB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апы разработки опросника К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перечня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тес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психометрических характеристик (валид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ая и языковая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9A3E-0CDD-4FE4-8DA2-B69A4CE945C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опросн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КЖ-100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состоит из 6 доме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здоров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независ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FF57-B5C8-4C2B-A3EC-9A00AE6360B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опросн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КЖ-10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омен подразделяется на субсферы, например домен «Физическое состояние» включает следующие суб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и 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и дискомф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 и отд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4FB0-2A32-407D-B68D-4537B2C9F21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вопроса ВОЗКЖ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64D7-CBE2-4939-A76C-4A98E012852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мые варианты лечения сарком мягких ткан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я с сохранением конечности с последующей лучевой терап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путация коне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EED6-A17D-4FF4-A3B6-972214BA5FB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этапы исследования К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токол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инструмент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азы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ирование данных опрос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ая обработка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интерпретация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A272-036C-4953-9108-31FF74AE709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 исследования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включения бо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зайн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клинического обследования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инструмент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бъема выб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рандом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 для участников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ное согласие пац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8DAF-2A0B-47E3-9713-5CB354C562E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исследования качества жизни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влияния заболевания на физическое, психологическое и социальное функционирование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влияния лечения на параметры качества жизни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лекарственных препаратов и методов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стическое значение параметров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как критерий ремиссии и выздор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мониторинг показателей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социально-медицинских популяцион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335E-FE05-4DE9-A215-82AB063DA18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фармакоэкономики и концеп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ABD3-E335-487E-A12B-E9231302B6F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необходим фармакоэкономический анали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D5E1-03E1-4EFB-96F6-CD7A432892A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(quality-adjusted life year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 жизни с поправкой на его ка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ет значения от 0 до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год абсолютно здоровой жизни оценивается как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 жизни, прожитый с проблемами со здоровьем, оценивается меньше 1,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года жизни, оцененные как 0,5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вняются одному году здоровой жизни, т.е.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0A9B-CC53-45C8-A8EB-ADC1FF6D467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заболевания на качество и продолжительност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6E33-658C-4967-B0AE-CF55857F33C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анализа «стоимость-эффектив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1000 руб в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 качество жизни с 0,5 до 0,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10 лет лечения больной приобретает 10х(0,6-0,5)=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 расчете на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ет 10000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4000 руб в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 качество жизни с 0,5 до 0,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10 лет лечения больной приобретает 10х(0,7-0,5)=2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 расчете на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авляет 20000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7D54-CCBF-4496-8D41-0FE07C5C3D9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– сохранение конечности в отличие от ампутации приводит к улучшению качества жизни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16E0-27A3-422C-836C-199A63AC20E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– операция с сохранением конечности с последующей лучевой терапией приводила к значимому снижению двигательной активности и социального функционирования пациента по сравнению с альтернативным вариантом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D636-BC83-4896-8B5F-748F4FFD0E6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определение 1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восприятие индивидуумами своего положения в жизни в контексте культуры и системы ценностей той среды, в которой они живут, в неразрывной связи с их целями, ожиданиями, стандартами и забо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, 19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561E-5810-4803-ACDD-A0A435A8B69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определение 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интегральная характеристика физического, психологического, эмоционального и социального функционирования больного, основанная на его субъективном восприят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F2B9-7650-49CC-86E7-2AE9474018B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ACC3-A4FB-413C-99B2-465D3D668BC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Arial"/>
              </a:rPr>
              <a:t>Социаль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7BAA-BE28-49FF-A47F-F654CFE6115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491-D808-435C-9805-042D5ED9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491E-1C6F-42CE-9B15-7C1D6B5A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C76-7E3D-4095-84AF-14ACB1EC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788-9741-4046-813B-C31CD5A7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841B-E5E0-461C-9CDF-FF57012D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3DEC-CC32-4D05-94FD-986DBF8F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071C-094D-4894-AE7D-252EFFA1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ED6E-0B16-43E1-8FEE-FA492A2E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930F-3D9B-4503-924B-9A9E34E0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B7B0-46D7-4CAE-AFF7-9279DECA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53AD-90C7-4E9B-94E1-7DB399DD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0EF4-6227-4097-8EC0-48645EBE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6ABB-B1FF-49A7-AC0E-CA77E4B6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5B4A-2F75-479B-AB23-7BF22C11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B399-4819-4874-9DFE-1F4ECDDA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8E8C-4F39-4707-8E7C-FCCD1657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B0D0-A7C5-42DC-B8C5-C699945B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023-F621-4B69-854F-EA175C98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072-5714-449F-A563-84E430C1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5BE-F1F9-41F6-AB60-2FE67EEF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C9B-DBEB-4EBC-94A4-3CACA525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7A7-15BC-49C4-855C-EB83627B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273-B5FC-43C1-91B1-2312D404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5C7-E398-42C2-92A0-ABDCBBF5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31E2-B5C6-47EB-8F34-625D7BD9286F}" type="slidenum">
              <a:rPr b="0" lang="ru-RU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C740-822B-451A-9A5E-C985ADAC2743}" type="slidenum">
              <a:rPr b="0" lang="ru-RU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615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в медицине и здравоохранени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601992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Program Files\Common Files\Microsoft Shared\Clipart\cagcat50\PE01023_.wmf"/>
          <p:cNvPicPr/>
          <p:nvPr/>
        </p:nvPicPr>
        <p:blipFill>
          <a:blip r:embed="rId1"/>
          <a:stretch/>
        </p:blipFill>
        <p:spPr>
          <a:xfrm>
            <a:off x="1828800" y="2612880"/>
            <a:ext cx="2363760" cy="37116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4"/>
          <p:cNvSpPr/>
          <p:nvPr/>
        </p:nvSpPr>
        <p:spPr>
          <a:xfrm>
            <a:off x="3809880" y="533520"/>
            <a:ext cx="2971800" cy="2209680"/>
          </a:xfrm>
          <a:prstGeom prst="cloudCallout">
            <a:avLst>
              <a:gd name="adj1" fmla="val -42629"/>
              <a:gd name="adj2" fmla="val 69972"/>
            </a:avLst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6" descr="C:\Documents and Settings\Andrey\My Documents\My Pictures\80378801.jpg"/>
          <p:cNvPicPr/>
          <p:nvPr/>
        </p:nvPicPr>
        <p:blipFill>
          <a:blip r:embed="rId2"/>
          <a:stretch/>
        </p:blipFill>
        <p:spPr>
          <a:xfrm>
            <a:off x="4495680" y="838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2133720"/>
            <a:ext cx="3276360" cy="2931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Связанное со здоровьем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сихологическ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оциальн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Духовн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638320" y="1980720"/>
            <a:ext cx="3203640" cy="25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Не связанное со здоровьем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бразован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Экономическая безопасност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кружающая среда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Физическая безопасност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1676520" y="0"/>
            <a:ext cx="6933960" cy="693432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Здоровь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полное физическое, психологическое и социальное благополучие человека, а не просто отсутствие заболе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З, 19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характеристики понятия «качество жизни»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мерность качества жизн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Изменяемость во времен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частие больного в оценке своего состоя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Графическое представление параметр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328680" y="1941480"/>
          <a:ext cx="82087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941480"/>
                    <a:ext cx="82087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Графическое представление параметр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9" name="Object 1027"/>
          <p:cNvGraphicFramePr/>
          <p:nvPr/>
        </p:nvGraphicFramePr>
        <p:xfrm>
          <a:off x="336600" y="1792440"/>
          <a:ext cx="821700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1792440"/>
                    <a:ext cx="821700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лассификация опросник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 степени специализированн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бщие опросни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пециальные опросни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 структур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офильны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декс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бщие опросник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едназначены для оценки качества жизни как здоровых, так и больных независимо от вида заболе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F-3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OQoL-10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ckness Impact Profi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ttingham Health Profi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uroQoL-5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пециальные опросник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дназначены для изучения качества жизни у отдельных категорий и групп пациен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astrointestinal Symptom Rating Sca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rthritis Impact Measurement Sca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unctional Assessment of Multiple Sclero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ral Health Quality of Lif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Требования к опросникам оценки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мерн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остота и кратк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емлемость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менимость в различных языковых и социальных культура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едпосылки развития концепции качества жизн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ехнологический прогресс в диагностике и лечении одних заболеваний и скромные успехи в лечении други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зкая специализация в медицин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уровневая структура благополучия человек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сихометрические свойства опросника оценки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Надежность (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liabil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алидность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(valid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Чувствительность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sensitiv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адежность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reliability)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Это показатель точности и постоянства измерени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алидность 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lidit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особность опросника измерять ту характеристику, для измерения которой он предназначен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Чувствительность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sensitivit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особность опросника выявлять изменения или различия показателей КЖ в соответствии с изменениями в состоянии больного или различиями в состоянии групп боль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ультурная и языковая адаптация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80880" y="2133720"/>
            <a:ext cx="221004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гина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80880" y="312408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Два независимых прямых перевода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429000" y="2209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Согласование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352680" y="3048120"/>
            <a:ext cx="205740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варите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352680" y="41148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Обратный перевод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400800" y="22860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Экспертиза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24480" y="3124080"/>
            <a:ext cx="213372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-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6324480" y="39625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Пилотное тестирование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324480" y="5029200"/>
            <a:ext cx="213372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ончате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1066680" y="2743200"/>
            <a:ext cx="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1752480" y="2743200"/>
            <a:ext cx="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2438280" y="2514240"/>
            <a:ext cx="121932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4343400" y="25146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Line 17"/>
          <p:cNvSpPr/>
          <p:nvPr/>
        </p:nvSpPr>
        <p:spPr>
          <a:xfrm flipV="1">
            <a:off x="5334120" y="2590560"/>
            <a:ext cx="1295280" cy="1523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7315200" y="259092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7315200" y="3505320"/>
            <a:ext cx="0" cy="53316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7315200" y="449568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Line 21"/>
          <p:cNvSpPr/>
          <p:nvPr/>
        </p:nvSpPr>
        <p:spPr>
          <a:xfrm flipH="1">
            <a:off x="5562720" y="2590920"/>
            <a:ext cx="91440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алидаци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Это проверка психометрических свойств опросника, т.е. проверка надежности, валидности и чувствительн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Этапы разработки опросника КЖ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азработка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окращение перечня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дварительное тестирова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ценка психометрических характеристик (валидация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ультурная и языковая адаптац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руктура опросник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ЗКЖ-100 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QOL-100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просник состоит из 6 доменов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изическое здоровь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сихологическое состоя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ровень независим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оциальные отнош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кружающая сред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уховная сфер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руктура опросник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ЗКЖ-100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QOL-100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ждый домен подразделяется на субсферы, например домен «Физическое состояние» включает следующие субсфер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Энергия и слабость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Боль и дискомфор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он и отды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имер вопроса ВОЗКЖ-10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2606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1.2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Беспокоитесь ли Вы по поводу физических болей или дискомфорта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1" name="Group 9"/>
          <p:cNvGrpSpPr/>
          <p:nvPr/>
        </p:nvGrpSpPr>
        <p:grpSpPr>
          <a:xfrm>
            <a:off x="68400" y="3300480"/>
            <a:ext cx="8694000" cy="950760"/>
            <a:chOff x="68400" y="3300480"/>
            <a:chExt cx="8694000" cy="950760"/>
          </a:xfrm>
        </p:grpSpPr>
        <p:sp>
          <p:nvSpPr>
            <p:cNvPr id="212" name="Rectangle 4"/>
            <p:cNvSpPr/>
            <p:nvPr/>
          </p:nvSpPr>
          <p:spPr>
            <a:xfrm>
              <a:off x="6840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совсем нет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1806840" y="3300480"/>
              <a:ext cx="173916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относительно мал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Rectangle 6"/>
            <p:cNvSpPr/>
            <p:nvPr/>
          </p:nvSpPr>
          <p:spPr>
            <a:xfrm>
              <a:off x="354600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средн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5284800" y="3300480"/>
              <a:ext cx="173916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относительно мног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702396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предельно мног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Исследуемые варианты лечения сарком мягких тканей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перация с сохранением конечности с последующей лучевой терапи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Ампутация конечности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Основные этапы исследования КЖ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азработка протокола исследо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ыбор инструмента исследо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бор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ормирование базы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Шкалирование данных опросник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татистическая обработка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нализ и интерпретация результа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отокол исследования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Цели и задачи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ритерии включения больны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изайн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рта клинического обследования больног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писание инструмента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пределение объема выбор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Метод рандомизаци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струкция для участников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формированное согласие пациент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аправления исследования качества жизни в медицин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зучение влияния заболевания на физическое, психологическое и социальное функционирование больног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зучение влияния лечения на параметры качества жизни больног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ценка эффективности лекарственных препаратов и методов леч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гностическое значение параметров качества жизн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Качество жизни как критерий ремиссии и выздоровл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ндивидуальный мониторинг показателей качества жизн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ведение социально-медицинских популяционных исследований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615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ы фармакоэкономики и концепция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A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601992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огда необходим фармакоэкономический анализ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8680" y="1941480"/>
          <a:ext cx="8208720" cy="4114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6720"/>
              </a:tblGrid>
              <a:tr h="13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овый метод лечения по сравнению со стандартным …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Дорож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817e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Дешевл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817e00"/>
                    </a:solidFill>
                  </a:tcPr>
                </a:tc>
              </a:tr>
              <a:tr h="13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Менее эффективен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твергаетс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еобходим анализ «стоимость-эффективность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Более эффективен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еобходим анализ «стоимость-эффективность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Принимаетс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онцепция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A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 (quality-adjusted life year) –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д жизни с поправкой на его качеств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инимает значения от 0 до 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дин год абсолютно здоровой жизни оценивается как 1,0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д жизни, прожитый с проблемами со здоровьем, оценивается меньше 1,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ва года жизни, оцененные как 0,5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, равняются одному году здоровой жизни, т.е. 1,0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7160" y="293400"/>
            <a:ext cx="863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Влияние заболевания на качество и продолжительность жизни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7" name="Object 0"/>
          <p:cNvGraphicFramePr/>
          <p:nvPr/>
        </p:nvGraphicFramePr>
        <p:xfrm>
          <a:off x="345960" y="1943280"/>
          <a:ext cx="819792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1943280"/>
                    <a:ext cx="819792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имер анализа «стоимость-эффективность»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Лечение 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1000 руб в год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лучшает качество жизни с 0,5 до 0,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а 10 лет лечения больной приобретает 10х(0,6-0,5)=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в расчете на 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оставляет 10000 рубл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Лечение Б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4000 руб в год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лучшает качество жизни с 0,5 до 0,7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а 10 лет лечения больной приобретает 10х(0,7-0,5)=2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в расчете на 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составляет 20000 рубл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Гипотеза – сохранение конечности в отличие от ампутации приводит к улучшению качества жизни больног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езультаты исследования – операция с сохранением конечности с последующей лучевой терапией приводила к значимому снижению двигательной активности и социального функционирования пациента по сравнению с альтернативным вариантом леч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(определение 1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восприятие индивидуумами своего положения в жизни в контексте культуры и системы ценностей той среды, в которой они живут, в неразрывной связи с их целями, ожиданиями, стандартами и заботам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З, 1996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(определение 2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интегральная характеристика физического, психологического, эмоционального и социального функционирования больного, основанная на его субъективном восприятии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8"/>
          <p:cNvSpPr/>
          <p:nvPr/>
        </p:nvSpPr>
        <p:spPr>
          <a:xfrm>
            <a:off x="1143000" y="228600"/>
            <a:ext cx="6629400" cy="66294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2286000" y="1447920"/>
            <a:ext cx="4419720" cy="4267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3276720" y="2438280"/>
            <a:ext cx="2514600" cy="2362320"/>
          </a:xfrm>
          <a:prstGeom prst="ellipse">
            <a:avLst/>
          </a:prstGeom>
          <a:solidFill>
            <a:srgbClr val="cc66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429000" y="32767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76720" y="16765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200400" y="609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1828800" y="1066680"/>
            <a:ext cx="5638680" cy="5639040"/>
          </a:xfrm>
          <a:custGeom>
            <a:avLst/>
            <a:gdLst>
              <a:gd name="textAreaLeft" fmla="*/ 157680 w 5638680"/>
              <a:gd name="textAreaRight" fmla="*/ 5481000 w 5638680"/>
              <a:gd name="textAreaTop" fmla="*/ 0 h 5639040"/>
              <a:gd name="textAreaBottom" fmla="*/ 2354400 h 5639040"/>
            </a:gdLst>
            <a:ahLst/>
            <a:rect l="textAreaLeft" t="textAreaTop" r="textAreaRight" b="textAreaBottom"/>
            <a:pathLst>
              <a:path w="21600" h="21600">
                <a:moveTo>
                  <a:pt x="6257" y="7869"/>
                </a:moveTo>
                <a:cubicBezTo>
                  <a:pt x="7252" y="6326"/>
                  <a:pt x="8963" y="5393"/>
                  <a:pt x="10800" y="5394"/>
                </a:cubicBezTo>
                <a:cubicBezTo>
                  <a:pt x="12636" y="5394"/>
                  <a:pt x="14347" y="6326"/>
                  <a:pt x="15342" y="7869"/>
                </a:cubicBezTo>
                <a:lnTo>
                  <a:pt x="19875" y="4944"/>
                </a:lnTo>
                <a:cubicBezTo>
                  <a:pt x="17886" y="1862"/>
                  <a:pt x="14468" y="-1"/>
                  <a:pt x="10799" y="0"/>
                </a:cubicBezTo>
                <a:cubicBezTo>
                  <a:pt x="7131" y="0"/>
                  <a:pt x="3713" y="1862"/>
                  <a:pt x="1724" y="4944"/>
                </a:cubicBezTo>
                <a:lnTo>
                  <a:pt x="6257" y="7869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 rot="7159200">
            <a:off x="1984320" y="1139400"/>
            <a:ext cx="5479920" cy="5486400"/>
          </a:xfrm>
          <a:custGeom>
            <a:avLst/>
            <a:gdLst>
              <a:gd name="textAreaLeft" fmla="*/ 99360 w 5479920"/>
              <a:gd name="textAreaRight" fmla="*/ 5380560 w 5479920"/>
              <a:gd name="textAreaTop" fmla="*/ 0 h 5486400"/>
              <a:gd name="textAreaBottom" fmla="*/ 2390760 h 5486400"/>
            </a:gdLst>
            <a:ahLst/>
            <a:rect l="textAreaLeft" t="textAreaTop" r="textAreaRight" b="textAreaBottom"/>
            <a:pathLst>
              <a:path w="21600" h="21600">
                <a:moveTo>
                  <a:pt x="6283" y="8254"/>
                </a:moveTo>
                <a:cubicBezTo>
                  <a:pt x="7202" y="6623"/>
                  <a:pt x="8928" y="5614"/>
                  <a:pt x="10800" y="5615"/>
                </a:cubicBezTo>
                <a:cubicBezTo>
                  <a:pt x="12671" y="5615"/>
                  <a:pt x="14397" y="6623"/>
                  <a:pt x="15316" y="8254"/>
                </a:cubicBezTo>
                <a:lnTo>
                  <a:pt x="20208" y="5496"/>
                </a:lnTo>
                <a:cubicBezTo>
                  <a:pt x="18294" y="2100"/>
                  <a:pt x="14698" y="-1"/>
                  <a:pt x="10799" y="0"/>
                </a:cubicBezTo>
                <a:cubicBezTo>
                  <a:pt x="6901" y="0"/>
                  <a:pt x="3305" y="2100"/>
                  <a:pt x="1391" y="5496"/>
                </a:cubicBezTo>
                <a:lnTo>
                  <a:pt x="6283" y="8254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 rot="14405400">
            <a:off x="1828800" y="1143000"/>
            <a:ext cx="5486400" cy="5486400"/>
          </a:xfrm>
          <a:custGeom>
            <a:avLst/>
            <a:gdLst>
              <a:gd name="textAreaLeft" fmla="*/ 78120 w 5486400"/>
              <a:gd name="textAreaRight" fmla="*/ 5408280 w 5486400"/>
              <a:gd name="textAreaTop" fmla="*/ 0 h 5486400"/>
              <a:gd name="textAreaBottom" fmla="*/ 2434680 h 5486400"/>
            </a:gdLst>
            <a:ahLst/>
            <a:rect l="textAreaLeft" t="textAreaTop" r="textAreaRight" b="textAreaBottom"/>
            <a:pathLst>
              <a:path w="21600" h="21600">
                <a:moveTo>
                  <a:pt x="6269" y="8414"/>
                </a:moveTo>
                <a:cubicBezTo>
                  <a:pt x="7155" y="6732"/>
                  <a:pt x="8899" y="5679"/>
                  <a:pt x="10800" y="5680"/>
                </a:cubicBezTo>
                <a:cubicBezTo>
                  <a:pt x="12700" y="5680"/>
                  <a:pt x="14444" y="6732"/>
                  <a:pt x="15330" y="8414"/>
                </a:cubicBezTo>
                <a:lnTo>
                  <a:pt x="20356" y="5767"/>
                </a:lnTo>
                <a:cubicBezTo>
                  <a:pt x="18488" y="2220"/>
                  <a:pt x="14808" y="-1"/>
                  <a:pt x="10799" y="0"/>
                </a:cubicBezTo>
                <a:cubicBezTo>
                  <a:pt x="6791" y="0"/>
                  <a:pt x="3111" y="2220"/>
                  <a:pt x="1243" y="5767"/>
                </a:cubicBezTo>
                <a:lnTo>
                  <a:pt x="6269" y="8414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 rot="2745000">
            <a:off x="1781280" y="45410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 rot="18451200">
            <a:off x="5060520" y="446436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48120" y="13874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7:27:38Z</dcterms:created>
  <dc:creator>НОО1</dc:creator>
  <dc:description/>
  <dc:language>en-US</dc:language>
  <cp:lastModifiedBy>RomaK</cp:lastModifiedBy>
  <dcterms:modified xsi:type="dcterms:W3CDTF">2014-10-31T12:30:00Z</dcterms:modified>
  <cp:revision>26</cp:revision>
  <dc:subject/>
  <dc:title>Качество жизни в медицине и здравоохранении</dc:title>
</cp:coreProperties>
</file>