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B765-60B4-4937-A8AA-D3CB58365E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о-педагогическое сопровождение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доцент , к.п.н. Черкасова О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Кузнецо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EDFE-3BBE-4611-84A9-3F98AEC0A8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ический компонент гестационной доминанты (ПКГ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40B6-0D46-4613-8622-B437763E7F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Оптимальный тип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02E1-8B3B-446B-804A-6B4BA868A4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ипогестогноз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69F2-739F-4335-B137-E8A4293D29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Эйфор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33A2-BF82-48E7-BD3F-8C191CAA95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ревожны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2BB9-A991-4343-AD9A-5537CBD34B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F25E-D31C-41F1-A945-B070E6CDBA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ое, воспитательное, оздоро­вите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3F86-EDD1-467B-82A4-27E8CA532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ъект работы - беременные женщины со сроком беременности начиная от 20 - 25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орма работы: групп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участников группы - 6 - 8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работы: 12 занятий (2 раза в неделю по 2,5 — 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ограмме принимают участие: психолог,  педагог, акушер-гинек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2FBF-475B-4217-B26F-D38D11EDC7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етоды и приемы работ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утогенная трен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лесно-ориентированная 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Арттерапия (рисование, пение, тан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Ролевые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изу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атическая гимнастика с элементами массажа, палс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Гопнотомия, голо­совые упражнения, приемы дыхательной гимнас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Арома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покойная медленна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35FD-3207-4B22-B1F2-5CA2B7E75F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эффектив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Усиление конструктив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а себя ответственности за семью, ребенка, процесс 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анализ и самосовершен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родительской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е к ребенку и взаимодействие с н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позитивных чувств: радости, уверенности, спокой­ствия,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слабление деструкти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го безраз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ребенку как к объек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абление негативных чувств: вины, страха, тревоги, агрес­сии, уны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21E5-5E66-49E9-BABD-24242F370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38A2-1E11-476B-A8F4-0F41790FF1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261B-EC0B-4068-9B48-CE3355C64E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ми перинатальной педагогики и психологии занимались такие учёные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вич В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ев А.С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иппова Г.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мурак Ю.И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ед Н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ин А.М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гай К.Н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хман Г.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ич Р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йнз Д. 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72C4-9B02-4E36-B2B3-A3C165EFAE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8E09-7218-461C-90C7-1F7EA6EAD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оретические подходы к рассмотрению перинатальной психологии и педагоги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еринатальная псих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AD73-C563-4052-A87B-FDF26B1E4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ренатальная педагог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48A7-E463-4B54-AB38-723A9C59AB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Условия психолого-педагогического сопровождения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F59D-D024-4714-9D6E-F150B56556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индром беременности </a:t>
            </a:r>
            <a:br>
              <a:rPr sz="1200"/>
            </a:br>
            <a:r>
              <a:rPr b="0" lang="ru-RU" sz="1000" spc="-1" strike="noStrike">
                <a:solidFill>
                  <a:srgbClr val="11488b"/>
                </a:solidFill>
                <a:latin typeface="Calibri"/>
              </a:rPr>
              <a:t>(Боровикова Н.В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481F-D0EB-4AC3-BBC6-87681408B0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. А. Арша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акт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286F-3AC5-47A5-A3D3-F1935F14C4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16A-8921-4DD0-88D9-314AD06A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DA5-E79C-4E33-A586-C70B6B43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B71-2B37-4479-AD24-3886DAB0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16E-8FF8-4FF1-9D1A-4E0D2DAF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942D-4798-4B1F-848B-CE7534C5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13A4-C21A-464A-BC02-88B7F25C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8C75-E540-49AE-8F2F-BFEA1EEA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3833-80F7-4873-B01F-F98DF78D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79F7-5600-40E1-AFBB-7DE02056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FEA3-B14C-42EA-ADC5-94B9A9BF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F1F3-003E-4555-953F-0BCEB640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5B3-D0A0-45DA-B227-92EC2B30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7876-C27B-42C7-BD5F-BBDA7BD8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7B03-C3E5-4276-A217-D4D3E6AA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5672-A23C-4B1D-883B-14487831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58B9-D7CF-4C9D-9629-89EB10AE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A2DB-43DD-4876-912D-14DF0F89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538D-65AB-4E5F-B517-D9BC738D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FA2B-9C3A-4E8B-BDF1-A4CA5CC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48D6A-290F-428A-8D44-C55CD1DB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30EB-DA20-4DFD-AD28-960638E2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8323-7B53-40E2-AC0B-EA25BB2B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115-323E-4DE3-890E-47EF0140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5F12-3DC7-4A1E-8B72-4D5A07EA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E65F-23D7-46D8-8E31-DC98DC1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C2E1-6165-463B-B586-BD136009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09B7-7EBE-4A17-98A5-09DF6FCA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9DAD-D4A7-4524-A095-0C361D61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9DD8-859A-40E8-9C13-C11728E8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3796-5A56-49B8-8555-8107617F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A2AE7-3AE3-45ED-924B-D5533747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0B4D-0553-40B0-BC3C-7C39FBCA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90CE-0780-48AD-A4D8-4529873D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206-82EB-4B44-97D9-E3754463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01AE-40EA-41AC-A0E1-31EA9F39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6F3C-C60D-4281-847A-C49C56B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6B2F-70C9-4D33-9BC3-FA101AA3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3D532-21A2-40C2-810E-052A626D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9326-8847-4182-95BC-B1D76420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9C26A-5D4F-4A91-8272-905DA3A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8F00-016A-4EE0-9465-7487BC6E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F625-80A4-494E-BB59-E59EB215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8601D-E281-4F3A-95EE-F4681891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9D1DB-648B-46CC-A342-D6DC8573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7E7-46DF-478E-B280-36285563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CF73E-241A-42DD-933D-5C1D09D3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275F-2059-4AFB-86DD-8230B533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A139-01DC-4CAD-8F5E-C4276FED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C9AB7-BD02-4CA0-8365-03BA2F79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44DD-7528-4B39-B7B0-91A1898B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D589-7B4C-4C93-ABBA-0BE1A796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3F4FE-A695-434E-AEC4-9FCD28A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34B65-B4AA-4D47-94B4-46FCF8F0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8698-0918-4475-9414-E9C3CA5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57CB6-CFB5-4CB8-8DCE-8937622A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0F8-7A4E-493A-B552-04347E00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7E56D-A513-4D76-9CAB-0DD6742C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C834F-8435-4B21-A5E9-3C87946B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06C0-894C-47E6-BAC1-D08B7ADB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3624-8476-4107-ACD1-6CF63EBF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67320-F0A8-40C4-8AC3-1F287D67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A517-4CAD-48FE-9E8A-7B7CE14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49E3B-EEFE-474E-BAA5-697D0A82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32AE-6926-4941-954E-CD9E596F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B0BD5-F290-4CAE-B6BD-050DBCA9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CF6D8-6CF2-4F70-B2EE-F09E1CF4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67C-4A7B-4AE6-9AE1-47E36F4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8B0B2-38B2-40DF-83C0-43888E68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9E0D-D331-49D9-9E58-CD87A57A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6D0C9-FBF1-4CF9-B278-AF5D959F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2462F-9153-4C16-9949-C53845B4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8EB20-C672-4EC0-A0C3-90A73466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539F3-BC79-4517-A7F2-1C2DFBAA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7D981-B3DA-4F3A-80C6-AEF1215A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AB44A-6B48-4BDB-8962-88B6255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47C9C-E666-463E-BD8B-2557574F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CA99A-69AA-4C1B-8368-D9A00ACF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B69-8BBB-4598-92C6-24D864A1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5C8C-0096-4CF3-9188-8528478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096B2-461F-4924-9600-765B15FB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1B9AB-48FC-4D4B-9946-BA7594F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D0E4-15C2-4462-8A46-1A98F12D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FB318-020B-4D65-BEE9-E01E8853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3A1-39BB-4343-BFDD-060AF928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3AAD-D51A-468E-8A7E-00C2B1305547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7B42-A062-4114-A581-8383CBC0FA65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8D62-D6B0-49E1-9CCE-BF47FC36CFEC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ED5A-3519-40D1-87AE-268547C112A4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B28F-D324-4C01-89AE-93063B1DD96A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5EBA-8916-4F4A-97E8-54C4EFD0F996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F77E-0C73-422E-8036-8D3B914AEA7D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74D4-F8A4-45C0-82E6-D067A9CA7B8D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B2B3-6582-4B25-875A-34F3ED5353E1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E5FE-E025-48A5-90D4-B8C28F0EAEF0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886E-17CA-4FAB-B0A3-97190B43A15F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71CD-24DA-42FE-A9CD-8C1917854281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DD41-F049-4739-B149-92E1118CA0D4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BBF-A4CC-40F4-B895-FE10588D1A2A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07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о-педагогическое сопровождение беременности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928520" y="5505120"/>
            <a:ext cx="6429240" cy="94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Научный руководитель: доцент , к.п.н. Черкасова О.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Выполнила: Кузнецова М.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12" descr="4.jpg"/>
          <p:cNvPicPr/>
          <p:nvPr/>
        </p:nvPicPr>
        <p:blipFill>
          <a:blip r:embed="rId1"/>
          <a:stretch/>
        </p:blipFill>
        <p:spPr>
          <a:xfrm>
            <a:off x="2000160" y="1747800"/>
            <a:ext cx="5483160" cy="35593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ический компонент гестационной доминанты (ПКГД)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900000" y="1860480"/>
            <a:ext cx="792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Оптимальный тип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1143000" y="15001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embarazo.jpg"/>
          <p:cNvPicPr/>
          <p:nvPr/>
        </p:nvPicPr>
        <p:blipFill>
          <a:blip r:embed="rId1"/>
          <a:stretch/>
        </p:blipFill>
        <p:spPr>
          <a:xfrm>
            <a:off x="3209760" y="2924280"/>
            <a:ext cx="5577120" cy="372276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Гипогестогнозический вариант ПКГД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1143000" y="1428840"/>
            <a:ext cx="60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4" descr="pregnant-belly.jpg"/>
          <p:cNvPicPr/>
          <p:nvPr/>
        </p:nvPicPr>
        <p:blipFill>
          <a:blip r:embed="rId1"/>
          <a:stretch/>
        </p:blipFill>
        <p:spPr>
          <a:xfrm>
            <a:off x="3900600" y="3244680"/>
            <a:ext cx="4867200" cy="3327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Эйфорически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1071720" y="135720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4" descr="image111.png"/>
          <p:cNvPicPr/>
          <p:nvPr/>
        </p:nvPicPr>
        <p:blipFill>
          <a:blip r:embed="rId1"/>
          <a:stretch/>
        </p:blipFill>
        <p:spPr>
          <a:xfrm>
            <a:off x="1500120" y="2766960"/>
            <a:ext cx="3854520" cy="37562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Тревожны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214280" y="2000160"/>
            <a:ext cx="4786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285920" y="128592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1" descr="6a00e5536e2024883301127938699028a4-320wi.jpg"/>
          <p:cNvPicPr/>
          <p:nvPr/>
        </p:nvPicPr>
        <p:blipFill>
          <a:blip r:embed="rId1"/>
          <a:stretch/>
        </p:blipFill>
        <p:spPr>
          <a:xfrm>
            <a:off x="1357200" y="235728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Диаграмма 2" descr=""/>
          <p:cNvPicPr/>
          <p:nvPr/>
        </p:nvPicPr>
        <p:blipFill>
          <a:blip r:embed="rId1"/>
          <a:stretch/>
        </p:blipFill>
        <p:spPr>
          <a:xfrm>
            <a:off x="1425600" y="1577880"/>
            <a:ext cx="7108920" cy="4654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"/>
          <p:cNvSpPr/>
          <p:nvPr/>
        </p:nvSpPr>
        <p:spPr>
          <a:xfrm>
            <a:off x="1187280" y="47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ребёнка для Вас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3024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1187280" y="33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ременность для Вас проход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966000" cy="51580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971640" y="522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ещаете ли Вы курсы дородовой подготов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Диаграмма 1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7373880" cy="5157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332000" y="40464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каких источников Вы черпаете информацию о беременности, родах и развитии малы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846000" y="31284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 отношений беременной  Добря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Диаграмма 3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15808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8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Актуальность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6240" y="1197000"/>
            <a:ext cx="77868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-20880"/>
            <a:ext cx="70246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Программа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1116000" y="905040"/>
            <a:ext cx="80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работ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е, воспитательное, оздоро­в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3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4476600" cy="28576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1046160" y="476280"/>
            <a:ext cx="81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бъект работы - беременные женщины со сроком беременности начиная от 20 - 25 не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Форма работы: групп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став участников группы - 6 - 8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ремя работы: 12 занятий (2 раза в неделю по 2,5 — 3 ча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 программе принимают участие: психолог,  педагог, акушер-гинеко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1187280" y="260280"/>
            <a:ext cx="7632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 прием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ематические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утогенная тренир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лесно-ориентированная 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Арттерапия (рисование, пение, тане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олев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изу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татическая гимнастика с элементами массажа, палс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Гопнотомия, голо­совые упражнения, приемы дыхательной гимна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Арома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Спокойная медленная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042920" y="179280"/>
            <a:ext cx="810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ка эффектив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Усиление конструктивны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на себя ответственности за семью, ребенка, процесс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анализ и самосовершенств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родительской компет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ение к ребенку и взаимодействие с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позитивных чувств: радости, уверенности, спокой­ствия,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лабление деструктивных факт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го безразлич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к ребенку как к объек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абление негативных чувств: вины, страха, тревоги, агрес­сии, уны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716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157400" y="692280"/>
            <a:ext cx="757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688b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5f688b"/>
              </a:solidFill>
              <a:latin typeface="Corbel"/>
            </a:endParaRPr>
          </a:p>
        </p:txBody>
      </p:sp>
      <p:pic>
        <p:nvPicPr>
          <p:cNvPr id="408" name="Рисунок 2" descr=""/>
          <p:cNvPicPr/>
          <p:nvPr/>
        </p:nvPicPr>
        <p:blipFill>
          <a:blip r:embed="rId1"/>
          <a:stretch/>
        </p:blipFill>
        <p:spPr>
          <a:xfrm>
            <a:off x="1695600" y="1197000"/>
            <a:ext cx="6140160" cy="53085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Проблемами перинатальной педагогики и психологии занимались такие учёные как: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1357200" y="202572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делевич В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туев А.С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иппова Г.Г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мурак Ю.И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ед Н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тин А.М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гай К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ехман Г.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ич Р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йнз Д. и д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9" descr="cuidados_embarazo.jpg"/>
          <p:cNvPicPr/>
          <p:nvPr/>
        </p:nvPicPr>
        <p:blipFill>
          <a:blip r:embed="rId1"/>
          <a:stretch/>
        </p:blipFill>
        <p:spPr>
          <a:xfrm>
            <a:off x="4572000" y="3571920"/>
            <a:ext cx="3905280" cy="26002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1020600" y="98280"/>
            <a:ext cx="81439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97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688b"/>
                </a:solidFill>
                <a:latin typeface="Corbel"/>
              </a:rPr>
              <a:t>Теоретические подходы к рассмотрению перинатальной психологии и педагогики</a:t>
            </a:r>
            <a:br>
              <a:rPr sz="3900"/>
            </a:br>
            <a:endParaRPr b="0" lang="en-US" sz="28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1042920" y="1360440"/>
            <a:ext cx="7962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546d7a"/>
                </a:solidFill>
                <a:latin typeface="Corbel"/>
              </a:rPr>
              <a:t>Перинатальная психологи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143000" y="28584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Пренатальная педагогика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6" descr="pregnantbelly.jpg"/>
          <p:cNvPicPr/>
          <p:nvPr/>
        </p:nvPicPr>
        <p:blipFill>
          <a:blip r:embed="rId1"/>
          <a:stretch/>
        </p:blipFill>
        <p:spPr>
          <a:xfrm>
            <a:off x="1571760" y="3071880"/>
            <a:ext cx="6823080" cy="324792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Условия психолого-педагогического сопровождения беременности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500120" y="1500120"/>
            <a:ext cx="7143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7" descr="embarazo_blog.jpg"/>
          <p:cNvPicPr/>
          <p:nvPr/>
        </p:nvPicPr>
        <p:blipFill>
          <a:blip r:embed="rId1"/>
          <a:stretch/>
        </p:blipFill>
        <p:spPr>
          <a:xfrm>
            <a:off x="2143080" y="3714840"/>
            <a:ext cx="5429160" cy="28573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Синдром беременности </a:t>
            </a:r>
            <a:br>
              <a:rPr sz="3900"/>
            </a:b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(Боровикова Н.В.)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1357200" y="1643040"/>
            <a:ext cx="7500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688b"/>
                </a:solidFill>
                <a:latin typeface="Corbel"/>
              </a:rPr>
              <a:t>И. А. Аршавский</a:t>
            </a:r>
            <a:endParaRPr b="0" lang="en-US" sz="40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214280" y="92880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актаци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2643120" y="33577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Гестационная домин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7"/>
          <p:cNvCxnSpPr/>
          <p:nvPr/>
        </p:nvCxnSpPr>
        <p:spPr>
          <a:xfrm flipH="1">
            <a:off x="221436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cxnSp>
        <p:nvCxnSpPr>
          <p:cNvPr id="355" name="Прямая со стрелкой 11"/>
          <p:cNvCxnSpPr/>
          <p:nvPr/>
        </p:nvCxnSpPr>
        <p:spPr>
          <a:xfrm>
            <a:off x="678672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sp>
        <p:nvSpPr>
          <p:cNvPr id="356" name="TextBox 12"/>
          <p:cNvSpPr/>
          <p:nvPr/>
        </p:nvSpPr>
        <p:spPr>
          <a:xfrm>
            <a:off x="1071720" y="485784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сих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786280" y="48578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изи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25:57Z</dcterms:created>
  <dc:creator>Сё</dc:creator>
  <dc:description/>
  <dc:language>en-US</dc:language>
  <cp:lastModifiedBy>LEGION</cp:lastModifiedBy>
  <dcterms:modified xsi:type="dcterms:W3CDTF">2014-11-06T13:54:38Z</dcterms:modified>
  <cp:revision>68</cp:revision>
  <dc:subject/>
  <dc:title>Психолого-педагогическое сопровождение беременности</dc:title>
</cp:coreProperties>
</file>