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BE29-5081-40CB-BEA2-A26F387536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сихолого-педагогическое сопровождение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доцент , к.п.н. Черкасова О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Кузнецо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8548-F1E3-4921-BF55-6EBD693174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сихологический компонент гестационной доминанты (ПКГ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едставляет собой совокупность механизмов психической саморегуляции, включающихся у женщины при возникновении беременности, направленных на сохранение гестации и создание условий для развития будущего ребенка, формирующих отношение женщины к своей беременности, ее поведенческие стереот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C45C-A124-489C-B8CE-0C5AB67B98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Оптимальный тип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декватный стиль восприят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A38A-DD65-41BA-A676-C8472D32E7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ипогестогнозически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игнорирующий стиль пережива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779E-7406-4695-8639-0C71E1C09E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Эйфорически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йфорический стиль пережива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1896-1E89-4042-A4B3-7E7E7A2AEB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ревожны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мбивалентный и тревожный ст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E2A1-B867-41D5-A5E4-DCBF63073B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 результатам исследования Овчаровой Р.В. можно сделать вывод, что существует достаточно большой процент женщин, не готовых  к материнству, для которых характерным является:  недооценивание важности эмоционального контакта с не рождённым ребёнком,  неправильный образ жизни, негативные мотивы сохранения беременности, недостаточный уровень педагогической компетенции и т.д.. Что в последствии может привести к нарушению родительско-детских отношений, неправильному стилю воспитания, к возникновению у детей неврозов, на почве эмоциональной депривации и депривации родительской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BE93-F69F-4287-A6D5-82BC742FC0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сихолого-педагогическая деятельность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ое, воспитательное, оздоро­вите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4E0D-F3E1-4292-A358-9D207C3719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ъект работы - беременные женщины со сроком беременности начиная от 20 - 25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орма работы: групп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участников группы - 6 - 8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работы: 12 занятий (2 раза в неделю по 2,5 — 3 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ограмме принимают участие: психолог,  педагог, акушер-гинек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BF51-3B6E-4F80-8CA9-E7091588AB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етоды и приемы работ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бес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утогенная трен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лесно-ориентированная тера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Арттерапия (рисование, пение, тан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Ролевые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изу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атическая гимнастика с элементами массажа, палс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Гопнотомия, голо­совые упражнения, приемы дыхательной гимнас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Ароматера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покойная медленна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A4FB-5F34-455A-8B3F-D695A8B2DC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а эффективности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Усиление конструктив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а себя ответственности за семью, ребенка, процесс 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анализ и самосовершен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родительской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е к ребенку и взаимодействие с н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позитивных чувств: радости, уверенности, спокой­ствия,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слабление деструкти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го безраз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ребенку как к объек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абление негативных чувств: вины, страха, тревоги, агрес­сии, уны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DE40-6435-4C31-9C91-FF2D606387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живание беременности и динамика стиля переживания беременности отражает ценность ребенка, является прогностическим для выявления особенностей материнского отношения и динамики ценности ребенка после родов. Это позволяет строить гипотезу о возможных осложнениях материнско-детского взаимодействия в родах и после родов. Диагностика содержания и развития материнской сферы позволяют выявить группу риска (нарушения материнско-детского взаимодействия, девиантное материнство, послеродовые депресии и т.п.) и оказать своевременную помощь по формированию готовности к рождению и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A693-642B-4751-8BFE-D140284161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1350-305E-4300-B1F9-03C63CF34E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ми перинатальной педагогики и психологии занимались такие учёные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делевич В.Д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ев А.С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иппова Г.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мурак Ю.И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ед Н.Д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ин А.М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гай К.Н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хман Г.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ич Р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йнз Д. 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CED7-F97F-4412-968F-3B6D704D01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ль работы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: рассмотрение психолого-педагогической деятельности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Объект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сихолого-педагогическое сопровождение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редмет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: программа психолого-педагогической деятельности по  подготовке беременных женщин к рождению и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Задачи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) изучить научную литературу по данной пробл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) выявить теоретические подходы к рассмотрению перинатальной психологии   и педагог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) определить условия психолого-педагогического сопровожде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) разработать программу психолого-педагогической деятельности 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труктура работы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ведение, 2 главы, заключение, список использованных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F7EB-C627-4046-9390-D252D62FB2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еоретические подходы к рассмотрению перинатальной психологии и педагоги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Перинатальная псих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область психологической науки, изучающая возникновение, динамику и особенности психологического и психического развития системы «мать - дитя», закономерности самых ранних этапов онтогенеза человека от зачатия до первых лет жизни после рождения в его взаимодействии с матер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DF61-6694-498A-A7F2-0F4E2D4053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Пренатальная педагог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комплексное воздействие (через музыку, эстетические впечатления, положительные эмоции) на беременную, плод, семейную систему в целом, с целью оптимизации внутриутробн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9568-941B-455B-A9CC-3FE0BA16C5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Условия психолого-педагогического сопровождения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«мать-дит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       </a:t>
            </a: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общие теле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и психические г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7CE6-437A-465C-8B32-C5CC5960E5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индром беременности </a:t>
            </a:r>
            <a:br>
              <a:rPr sz="1200"/>
            </a:br>
            <a:r>
              <a:rPr b="0" lang="ru-RU" sz="1000" spc="-1" strike="noStrike">
                <a:solidFill>
                  <a:srgbClr val="11488b"/>
                </a:solidFill>
                <a:latin typeface="Calibri"/>
              </a:rPr>
              <a:t>(Боровикова Н.В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импто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ффект осознания себя беремен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инятия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ового «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моциональной лаби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тиворечивого отношения к бе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инятия новой жизни в себ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завышенных притязаний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щущения деприв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траха перед р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игмалионизация родившегося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5B30-352E-4185-8D03-2BE89FD88F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. А. Арша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Материнская домина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Гестацио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Родов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акт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3836-B9B0-4120-8C4F-6324C4A747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9C0-3DDC-4BE0-8249-D50AAF34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1F3-8528-441C-B668-9FC83361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FBC-31E3-4886-B045-84EA5A0F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06C-34CF-469B-8D59-48DE187B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00E7-4121-4C4A-88D7-38F120B0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2495-A87A-47D4-BFED-6D23ECDE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46D2-F0DA-4026-AA1D-55C18379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539D-45F3-4BEE-9AE8-DD7B2581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3EB8-E7DC-485F-A033-BFC92BCF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0421-D58C-4651-80D8-1BB3BB44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1301-88CC-4E3C-B1E5-15077A64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146-6690-497F-8388-47048449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DBCC-A533-43D5-AF84-F34B4986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21AB-30EA-4DED-87B1-61FA4AD5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5E50-028D-4671-9B92-09014C22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99C0-D364-4ABC-B37A-4F941891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4247-8B6E-4E44-B1D6-9F2F71D7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3B53-0D16-46E5-BFD7-7029491F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7F89-FFE3-48A1-AA13-90EB1740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E8AC-9FCF-4139-B81C-5F865DA2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8F02-D2E9-4C9B-9C9B-3F167C0A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E8FE-0093-4588-95CE-312AAB82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790-CFB0-4CFE-A867-44C21086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5DE17-34FA-4781-A8A6-266DC4FE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05FF-08FB-4E33-8500-FBF417FC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B52D-B19D-4219-9B5C-B4B38D82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D000-51F2-45D7-96F3-D5FBF394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B0B7-6A49-4188-97FB-540C1301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AE61D-04FD-402A-A17E-014D45B8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11BB-6CEB-44D3-A657-EA33CB3A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F8C5F-7067-4FCD-A920-5E9BDEF7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11D66-4756-4A45-B67C-E27AB3E8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EDEB2-997B-42FD-8A13-7DB737EF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030-E9DF-48E2-BC8D-40137F92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E090-1CDA-4EFD-A361-B8D3F518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F86E-779D-4C2F-8B30-E6DBEBEC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9AF6-9C1D-4E0B-9065-2257E4F0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153B1-B3C7-44E9-B0EF-37E3410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8CC4-5802-4E04-92BA-E0C60208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68E7-4C39-4B41-9663-8717FE40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1465B-EFF0-4A7F-8AE0-1B4F94DD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1108-DC80-4245-83FE-82AF9650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848D-52A2-44F3-9681-982C8B74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8A35B-E970-48CC-B134-B167AA6F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C96-E4EA-433A-98DE-B24CFD3D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E5F34-72BA-4C47-8EF3-EA037782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A97C-B366-4907-9048-7779FAD9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82F7C-F6D3-4909-8482-35B2CB58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C4C06-E796-4DB5-85E7-28DA2E97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A8154-C988-4816-82C9-3E789749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C230-BD32-42A8-A0D5-665A0002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C450C-ABF3-4906-8F1E-00108163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0800E-48FA-4CB4-ACE6-1D8266E2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CA1D-8DA7-4B4E-AFEC-C16A1A4E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B4226-B2A4-4C67-A63C-92FF4C73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5A0-5D0A-4717-8EAC-8D0D8265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F344E-51D8-4585-AB7C-B60022A8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D8D09-28F7-4565-B1AF-0B101B62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7BEE6-2B46-45A8-BCAD-E1DC40D7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2BD68-6759-4768-A793-F4442041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F362C-5976-4C0A-B20E-8C983EF3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8722C-9FF7-49B4-BBEE-4A0A8DE5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334A5-95E0-4D6A-BA8A-6ED34C21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522B4-BB7F-4D4E-81C6-D0A1A380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94A52-6145-4748-9ACF-3014822A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A8A19-6919-4AD6-B6EB-2590057E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79C-F976-45C7-A68C-E4DBFC86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139CA-DB3C-4D46-B307-C797D0B0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70A1F-17C2-430D-AB1C-CE1FA7A8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56A02-53A7-49BB-AFEA-2A6482DD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B74D2-7201-4759-A829-FA51A3DF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F8666-5433-4D17-8F02-92565C6D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AE9DC-3554-483C-AB59-C60A4418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CDEA5-067F-42D7-AC9D-540541BB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9144A-3D76-4B90-B475-C8719036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D5449-868D-47FC-819C-634000C6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983A8-EB7D-4265-8D2D-5E3CB881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4B0-0C0D-4B1B-A92D-1DCC8D71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0CC6C-FB0D-4F34-A889-7A125DF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CA4EF-A9F8-4259-B0B1-E58A8747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42200-0E14-44DA-B8AD-4FC12A64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A6A58-5C87-41B5-89A4-EB4E9676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FA4BE-6590-4991-92ED-BD249A53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FB6-6F65-4C26-B022-04C0B888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1B7A-24FB-4FE6-A45F-5069DF5F6A7D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4AEA-A6C8-419D-8A19-A7B115DD93D8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F4D6-79D5-4456-AD7D-1DA211CC39E7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2BC4-3F7B-4409-BAC3-771BA410FEB3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E8A0-B794-471B-BD4C-9B0AEBCCB564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683B-6B67-4D8A-93F6-3C0507F6F1E7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6539-C25F-4BCB-9A11-4C5F9B10F728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4F17-FB40-428D-AB89-8F5483EE890D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8DAF-4E01-421A-82CA-B779CAC6EB5D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0C02-3CDA-46B9-9DD9-C21FEEBF4DC3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8E99-1CF9-4655-BC53-B3F434868AE5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5FDD-84E0-4F34-8192-2DE292708442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EE68-48D0-4672-A24D-3993A0CACF7C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0512-EC34-4B3B-BA7D-0E130BE46F4E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07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Психолого-педагогическое сопровождение беременности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928520" y="5505120"/>
            <a:ext cx="6429240" cy="94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851"/>
                </a:solidFill>
                <a:latin typeface="Corbel"/>
              </a:rPr>
              <a:t>Научный руководитель: доцент , к.п.н. Черкасова О.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851"/>
                </a:solidFill>
                <a:latin typeface="Corbel"/>
              </a:rPr>
              <a:t>Выполнила: Кузнецова М.С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12" descr="4.jpg"/>
          <p:cNvPicPr/>
          <p:nvPr/>
        </p:nvPicPr>
        <p:blipFill>
          <a:blip r:embed="rId1"/>
          <a:stretch/>
        </p:blipFill>
        <p:spPr>
          <a:xfrm>
            <a:off x="2000160" y="1747800"/>
            <a:ext cx="5483160" cy="35593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Психологический компонент гестационной доминанты (ПКГД)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900000" y="1860480"/>
            <a:ext cx="792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ляет собой совокупность механизмов психической саморегуляции, включающихся у женщины при возникновении беременности, направленных на сохранение гестации и создание условий для развития будущего ребенка, формирующих отношение женщины к своей беременности, ее поведенческие стереоти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Оптимальный тип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1143000" y="15001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декватный стиль восприят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embarazo.jpg"/>
          <p:cNvPicPr/>
          <p:nvPr/>
        </p:nvPicPr>
        <p:blipFill>
          <a:blip r:embed="rId1"/>
          <a:stretch/>
        </p:blipFill>
        <p:spPr>
          <a:xfrm>
            <a:off x="3209760" y="2924280"/>
            <a:ext cx="5577120" cy="372276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Гипогестогнозический вариант ПКГД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1143000" y="1428840"/>
            <a:ext cx="607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гнорирующий стиль переживан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Рисунок 4" descr="pregnant-belly.jpg"/>
          <p:cNvPicPr/>
          <p:nvPr/>
        </p:nvPicPr>
        <p:blipFill>
          <a:blip r:embed="rId1"/>
          <a:stretch/>
        </p:blipFill>
        <p:spPr>
          <a:xfrm>
            <a:off x="3900600" y="3244680"/>
            <a:ext cx="4867200" cy="33274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Эйфорический вариант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1071720" y="135720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йфорический стиль переживан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4" descr="image111.png"/>
          <p:cNvPicPr/>
          <p:nvPr/>
        </p:nvPicPr>
        <p:blipFill>
          <a:blip r:embed="rId1"/>
          <a:stretch/>
        </p:blipFill>
        <p:spPr>
          <a:xfrm>
            <a:off x="1500120" y="2766960"/>
            <a:ext cx="3854520" cy="37562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Тревожный вариант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1214280" y="2000160"/>
            <a:ext cx="4786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1285920" y="128592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мбивалентный и тревожный ст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11" descr="6a00e5536e2024883301127938699028a4-320wi.jpg"/>
          <p:cNvPicPr/>
          <p:nvPr/>
        </p:nvPicPr>
        <p:blipFill>
          <a:blip r:embed="rId1"/>
          <a:stretch/>
        </p:blipFill>
        <p:spPr>
          <a:xfrm>
            <a:off x="1357200" y="2357280"/>
            <a:ext cx="4064040" cy="406404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Диаграмма 2" descr=""/>
          <p:cNvPicPr/>
          <p:nvPr/>
        </p:nvPicPr>
        <p:blipFill>
          <a:blip r:embed="rId1"/>
          <a:stretch/>
        </p:blipFill>
        <p:spPr>
          <a:xfrm>
            <a:off x="1425600" y="1577880"/>
            <a:ext cx="7108920" cy="46548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3"/>
          <p:cNvSpPr/>
          <p:nvPr/>
        </p:nvSpPr>
        <p:spPr>
          <a:xfrm>
            <a:off x="1187280" y="47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ребёнка для Вас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7326360" cy="53024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"/>
          <p:cNvSpPr/>
          <p:nvPr/>
        </p:nvSpPr>
        <p:spPr>
          <a:xfrm>
            <a:off x="1187280" y="33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ременность для Вас проход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966000" cy="51580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971640" y="522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ещаете ли Вы курсы дородовой подготов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Диаграмма 1" descr=""/>
          <p:cNvPicPr/>
          <p:nvPr/>
        </p:nvPicPr>
        <p:blipFill>
          <a:blip r:embed="rId1"/>
          <a:stretch/>
        </p:blipFill>
        <p:spPr>
          <a:xfrm>
            <a:off x="1352520" y="1362240"/>
            <a:ext cx="7373880" cy="5157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332000" y="404640"/>
            <a:ext cx="74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з каких источников Вы черпаете информацию о беременности, родах и развитии малы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2"/>
          <p:cNvSpPr/>
          <p:nvPr/>
        </p:nvSpPr>
        <p:spPr>
          <a:xfrm>
            <a:off x="846000" y="31284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ст отношений беременной  Добряк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Диаграмма 3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7326360" cy="515808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498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Актуальность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146240" y="1197000"/>
            <a:ext cx="77868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 результатам исследования Овчаровой Р.В. можно сделать вывод, что существует достаточно большой процент женщин, не готовых  к материнству, для которых характерным является:  недооценивание важности эмоционального контакта с не рождённым ребёнком,  неправильный образ жизни, негативные мотивы сохранения беременности, недостаточный уровень педагогической компетенции и т.д.. Что в последствии может привести к нарушению родительско-детских отношений, неправильному стилю воспитания, к возникновению у детей неврозов, на почве эмоциональной депривации и депривации родительской любв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5640" y="-20880"/>
            <a:ext cx="70246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Программа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1116000" y="905040"/>
            <a:ext cx="80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психолого-педагогическая деятельность по подготовке беременных женщин к рождению и воспитанию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работы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ое, воспитательное, оздоро­в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3" descr=""/>
          <p:cNvPicPr/>
          <p:nvPr/>
        </p:nvPicPr>
        <p:blipFill>
          <a:blip r:embed="rId1"/>
          <a:stretch/>
        </p:blipFill>
        <p:spPr>
          <a:xfrm>
            <a:off x="4067280" y="3789360"/>
            <a:ext cx="4476600" cy="28576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1046160" y="476280"/>
            <a:ext cx="81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бъект работы - беременные женщины со сроком беременности начиная от 20 - 25 нед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Форма работы: группо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став участников группы - 6 - 8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ремя работы: 12 занятий (2 раза в неделю по 2,5 — 3 час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 программе принимают участие: психолог,  педагог, акушер-гинекол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1187280" y="260280"/>
            <a:ext cx="76327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 прием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Тематические бес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Аутогенная тренир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лесно-ориентированная 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Арттерапия (рисование, пение, танец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Ролев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изу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Статическая гимнастика с элементами массажа, палси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Гопнотомия, голо­совые упражнения, приемы дыхательной гимна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Арома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Спокойная медленная му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1042920" y="179280"/>
            <a:ext cx="8101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ка эффективности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Усиление конструктивны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на себя ответственности за семью, ребенка, процесс р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анализ и самосовершенств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родительской компет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ажение к ребенку и взаимодействие с н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позитивных чувств: радости, уверенности, спокой­ствия,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слабление деструктивных факт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ого безразлич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 к ребенку как к объек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абление негативных чувств: вины, страха, тревоги, агрес­сии, уны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7160" y="-171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Заключение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157400" y="692280"/>
            <a:ext cx="757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живание беременности и динамика стиля переживания беременности отражает ценность ребенка, является прогностическим для выявления особенностей материнского отношения и динамики ценности ребенка после родов. Это позволяет строить гипотезу о возможных осложнениях материнско-детского взаимодействия в родах и после родов. Диагностика содержания и развития материнской сферы позволяют выявить группу риска (нарушения материнско-детского взаимодействия, девиантное материнство, послеродовые депресии и т.п.) и оказать своевременную помощь по формированию готовности к рождению и воспитанию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688b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5f688b"/>
              </a:solidFill>
              <a:latin typeface="Corbel"/>
            </a:endParaRPr>
          </a:p>
        </p:txBody>
      </p:sp>
      <p:pic>
        <p:nvPicPr>
          <p:cNvPr id="408" name="Рисунок 2" descr=""/>
          <p:cNvPicPr/>
          <p:nvPr/>
        </p:nvPicPr>
        <p:blipFill>
          <a:blip r:embed="rId1"/>
          <a:stretch/>
        </p:blipFill>
        <p:spPr>
          <a:xfrm>
            <a:off x="1695600" y="1197000"/>
            <a:ext cx="6140160" cy="53085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4977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Проблемами перинатальной педагогики и психологии занимались такие учёные как: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1357200" y="2025720"/>
            <a:ext cx="7643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делевич В.Д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туев А.С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иппова Г.Г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мурак Ю.И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бед Н.Д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тин А.М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гай К.Н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ехман Г.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ич Р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йнз Д. и др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9" descr="cuidados_embarazo.jpg"/>
          <p:cNvPicPr/>
          <p:nvPr/>
        </p:nvPicPr>
        <p:blipFill>
          <a:blip r:embed="rId1"/>
          <a:stretch/>
        </p:blipFill>
        <p:spPr>
          <a:xfrm>
            <a:off x="4572000" y="3571920"/>
            <a:ext cx="3905280" cy="26002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1"/>
          <p:cNvSpPr/>
          <p:nvPr/>
        </p:nvSpPr>
        <p:spPr>
          <a:xfrm>
            <a:off x="1020600" y="98280"/>
            <a:ext cx="81439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Цель работы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: рассмотрение психолого-педагогической деятельности по подготовке беременных женщин к рождению и воспитанию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бъект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сихолого-педагогическое сопровождение беременных женщ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Предмет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: программа психолого-педагогической деятельности по  подготовке беременных женщин к рождению и воспитанию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адачи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) изучить научную литературу по данной пробл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) выявить теоретические подходы к рассмотрению перинатальной психологии   и педагоги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) определить условия психолого-педагогического сопровождения берем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4) разработать программу психолого-педагогической деятельности  по подготовке беременных женщин к рождению и воспитанию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труктура работы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ведение, 2 главы, заключение, список использованных источ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497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688b"/>
                </a:solidFill>
                <a:latin typeface="Corbel"/>
              </a:rPr>
              <a:t>Теоретические подходы к рассмотрению перинатальной психологии и педагогики</a:t>
            </a:r>
            <a:br>
              <a:rPr sz="3900"/>
            </a:br>
            <a:endParaRPr b="0" lang="en-US" sz="28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1042920" y="1360440"/>
            <a:ext cx="7962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546d7a"/>
                </a:solidFill>
                <a:latin typeface="Corbel"/>
              </a:rPr>
              <a:t>Перинатальная психология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это область психологической науки, изучающая возникновение, динамику и особенности психологического и психического развития системы «мать - дитя», закономерности самых ранних этапов онтогенеза человека от зачатия до первых лет жизни после рождения в его взаимодействии с матер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143000" y="28584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Corbel"/>
              </a:rPr>
              <a:t>Пренатальная педагогика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ставляет собой комплексное воздействие (через музыку, эстетические впечатления, положительные эмоции) на беременную, плод, семейную систему в целом, с целью оптимизации внутриутробного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6" descr="pregnantbelly.jpg"/>
          <p:cNvPicPr/>
          <p:nvPr/>
        </p:nvPicPr>
        <p:blipFill>
          <a:blip r:embed="rId1"/>
          <a:stretch/>
        </p:blipFill>
        <p:spPr>
          <a:xfrm>
            <a:off x="1571760" y="3071880"/>
            <a:ext cx="6823080" cy="324792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Условия психолого-педагогического сопровождения беременности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500120" y="1500120"/>
            <a:ext cx="7143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            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«мать-дит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     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общие теле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и психические гра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7" descr="embarazo_blog.jpg"/>
          <p:cNvPicPr/>
          <p:nvPr/>
        </p:nvPicPr>
        <p:blipFill>
          <a:blip r:embed="rId1"/>
          <a:stretch/>
        </p:blipFill>
        <p:spPr>
          <a:xfrm>
            <a:off x="2143080" y="3714840"/>
            <a:ext cx="5429160" cy="28573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Синдром беременности </a:t>
            </a:r>
            <a:br>
              <a:rPr sz="3900"/>
            </a:b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(Боровикова Н.В.)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1357200" y="1643040"/>
            <a:ext cx="7500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мпто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ффект осознания себя б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я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вого «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моциональной лаби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тиворечивого отношения к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я новой жизни в себ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вышенных притязаний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щущения деприв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а перед ро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игмалионизация родившегос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977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688b"/>
                </a:solidFill>
                <a:latin typeface="Corbel"/>
              </a:rPr>
              <a:t>И. А. Аршавский</a:t>
            </a:r>
            <a:endParaRPr b="0" lang="en-US" sz="40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1214280" y="928800"/>
            <a:ext cx="728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теринская домина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естацион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дов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актаци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2643120" y="33577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Corbel"/>
              </a:rPr>
              <a:t>Гестационная домин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7"/>
          <p:cNvCxnSpPr/>
          <p:nvPr/>
        </p:nvCxnSpPr>
        <p:spPr>
          <a:xfrm flipH="1">
            <a:off x="2214360" y="4071600"/>
            <a:ext cx="429120" cy="572040"/>
          </a:xfrm>
          <a:prstGeom prst="straightConnector1">
            <a:avLst/>
          </a:prstGeom>
          <a:ln w="15840">
            <a:solidFill>
              <a:srgbClr val="6920fa"/>
            </a:solidFill>
            <a:miter/>
            <a:tailEnd len="med" type="arrow" w="med"/>
          </a:ln>
        </p:spPr>
      </p:cxnSp>
      <p:cxnSp>
        <p:nvCxnSpPr>
          <p:cNvPr id="355" name="Прямая со стрелкой 11"/>
          <p:cNvCxnSpPr/>
          <p:nvPr/>
        </p:nvCxnSpPr>
        <p:spPr>
          <a:xfrm>
            <a:off x="6786720" y="4071600"/>
            <a:ext cx="429120" cy="572040"/>
          </a:xfrm>
          <a:prstGeom prst="straightConnector1">
            <a:avLst/>
          </a:prstGeom>
          <a:ln w="15840">
            <a:solidFill>
              <a:srgbClr val="6920fa"/>
            </a:solidFill>
            <a:miter/>
            <a:tailEnd len="med" type="arrow" w="med"/>
          </a:ln>
        </p:spPr>
      </p:cxnSp>
      <p:sp>
        <p:nvSpPr>
          <p:cNvPr id="356" name="TextBox 12"/>
          <p:cNvSpPr/>
          <p:nvPr/>
        </p:nvSpPr>
        <p:spPr>
          <a:xfrm>
            <a:off x="1071720" y="485784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сихологически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5786280" y="485784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изиологически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8:25:57Z</dcterms:created>
  <dc:creator>Сё</dc:creator>
  <dc:description/>
  <dc:language>en-US</dc:language>
  <cp:lastModifiedBy>LEGION</cp:lastModifiedBy>
  <dcterms:modified xsi:type="dcterms:W3CDTF">2014-11-06T13:54:38Z</dcterms:modified>
  <cp:revision>68</cp:revision>
  <dc:subject/>
  <dc:title>Психолого-педагогическое сопровождение беременности</dc:title>
</cp:coreProperties>
</file>