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4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media/image7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9DDE-25CD-417D-BE17-D950F5679E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INTERNATIONAL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GEO-ASSOC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ая географическая ассоци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Дата основания: 8 мая 2007 год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ой Географический Фестива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-6 апреля 2008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8A13-4BF8-418B-8FF6-6359524E1F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к почетным Президентом IIGA и ее научным руководителем является бывший зам. главного редактора "Известия РАН (серия географическая)", кандидат географических на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нненков В.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43FB-BAF4-4FC6-9BA2-ED5615F3FA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вестные люди ассоци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четными руководителями Ассоциации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ндидат географических наук, доцент географического  факультета МПГУ, Президент Российской Ассоциации Учителей Географ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обжанидзе А.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ндидат географических наук МП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шевой В. 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A3E6-7FCF-4828-8CB1-30F5BA7370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тодист методической лаборатории географии Московского института открытого образования. Руководитель Виртуального методического объединения учителей географии (ВМОУГ), координатор Дистанционной обучающей олимпиады по географии, координатор сообщества учителей географии портала «Сеть творческих учителей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рылов А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ван Затевахин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дио- и телеведущий передач о животных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биологических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6778-45EC-4DCD-BE5E-8B8F75B3FE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.А. Вол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седатель Океанографической комиссии Р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рис Мурав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йствительный член РГО, сектор эколо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8C63-0475-4BB4-BC5E-4277298918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игорий  Кубатья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утешественник, журналист «GEO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иколай Баландин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рганизатор съемок на местах географических передач НТВ, автор сайта "GEO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RAFIA.RU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ED6C-F5F9-4BD7-846D-FBA769C719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меститель главного редак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зеты  «Коммерса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горь Трос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и известных людей в географической среде , котор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кликнулись на приглаш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Баринова И.И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главный редактор журнала "География и экология в школе 21 века", профессор МПГ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мирнягин Л. В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 к.г.н., доцент географического факультета МГУ, научный консультант Фонда «Институт экономики города»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Чупина Л.Б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к.г.н., доцент географического факультета ПГ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Чмерёва Г.В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ответственный секретарь объединения выпускников географического факультета МГУ им. М.В. Ломоносо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C5A5-F6D1-4D1F-BF01-6300E724F3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ктивные рядовые члены организ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удент факультета географии и геоэкологии Санкт-Петербургского Государственного Университета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митрий Са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лексей Желез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систент кафедры геоморфологии  Санкт-Петербургского Государственн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C12F-ED55-47B5-84F7-B566072FE8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пирант кафедры отечественной истории Красноярского Государственного Педагогического Университета В.П. Астафь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ргей Бахт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пирант кафедры экономической и социальной географии России Московского Государственного Университета им. М.В. Ломонос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лексей Сидорен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пирант Института наследия имени Дмитрия Лихач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ктор Мат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пирант Таврического Национа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ниверситета  (Украи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ргей Гу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9647-8339-4DB1-8E47-0F5FDF1B38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удент географического факультета Московского Государственного Университета им. М.В. Ломоносова, призер международной олимпиады по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ван Прох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удент факультета естественных наук и природных ресурсов Новгородского Государственн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лексей Саб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915C-1F92-41B4-96CE-7C2D8DF6EF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йтинг тем, кол-во человек принявших в обсуждениях,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раз идеального географа – 3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ессия географа – 8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матические отрасли  в географии - 20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ездки, путешествия, туризм - 10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рода России – 3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астие в различных географических организациях - 7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тупление на географические факультеты страны – 13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графическое мышление – 4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ы трудоустройства – 15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учение географии в школе – 3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циальный статус и его роль в географии – 6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графический софт и игры – 8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графический юмор – 3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дминистративно-территориальное деление России 10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ИС- 6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графическая культура – 15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F521-A58F-4272-9F7D-6D56F8C191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006D-429B-4BAF-A0BF-C8C4B59943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ди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рия развития социального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е информационные средства общ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тевые кни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у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о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е сети (Вконтакте, Википедия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тоги работы организации за год существо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) Намечена стратегия развития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) Создан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форум-каталог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географических ресурсов http://geoforumkatalog.5bk.org/ , сотрудничающий с Елисеевским географическим обществом (руководителем которого является Николай Баландинск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) В рамках Ассоциации предпринята попытка создания дистанционного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оциального географического университет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http://vkontakte.ru/club1859707 ), состоящего из ряда дистанционных кафедр и лабораторий (дистанционное тьюторств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) Подготавливаются база для создания первого в России географического движения (несколько видных географов уже высказали свой интерес к этому проект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) Сформирован Банк географической информации (http://vkontakte.ru/club92697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) Постоянно обновляется географический фото-, аудио- и видеоархив (в нашем архиве есть и эксклюзивные материалы с путешествий Григория Кубатьян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) Началось постепенное формирование географических компьютерных презента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) В рамках ассоциированной с IIGA виртуальной кафедрой этнологии (http://vkontakte.ru/club258245 ) создана Инициативная группа по "проталкиванию" нового школьного предмета под условным названием "Народоведение" (http://vkontakte.ru/club147522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) Организован ряд интересных встреч, конкурсов, фестивалей и этнографических полевых практикумов (см. раздел "Наши мероприятия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0) Вынесены на обсуждение актуальные теоретические и практические вопросы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1) По целому ряду географических проблем среди участников Ассоциации проводятся социологические опро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) Оперативно помещается самая свежая информация географического плана (раздел "Новости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3) Создан уникальный банк данных по российским и зарубежным знаменитостям с высшим географическим образованием, но не ставших профессиональными географ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6C06-E56C-4340-A7DE-972EB34532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станционный Социальный Географически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 началось с создания гео-национального проекта "Вконтакте с Географией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ект с марта месяца 2008 года поменял свою направленность. Главной его сферой стала социальная, ориентированная на потребности человека в географ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и поставлены 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) Развитие единой электронной библиотеки по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) Создание рекламной афиши по купле и продажи географических книг и пособ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) Консультации по спектру вопросов, касающихся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) Обучение информационным технологиям в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) Обсуждение проблем в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) Развитие отдельных отраслей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) Помощь в трудоустройстве (единая справочная сеть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) Создание нового информационного класса для обучения и создание единого виртуального дистанционного географического университета;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8996-C543-4677-B78C-BC0FC1330D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ые све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оциальный (Интерактивный) Географический Университет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службы "Вконтакте" был основан 4 марта 2008 года. Его состав включает все социальные слои в географии, геологии, картографии, истории, политологии и туризме и в других естественнонаучных и гуманитарных науках, тесно соприкасающихся с географие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ем заявок на вступление происходит по следующим критериям отб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раз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еная степен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ублик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е дости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5FCE-B71D-4EFF-BF82-A59E73E48B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уктура СИА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сегодняшний день созда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5 кафед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 лаборатор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электронно-книжная библиот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центр электронных географических ресурсов Интерне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видео-географический архи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сколько подшефных организаций (фан-клубы, известных организаций и печатных изданий страны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E142-53DF-49F7-9DE0-CC034D772A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вание структурных подразделений (СИАГУ)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истории географической науки и образования стран ми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занимается изучением истоков зарождения науки и развития гео. образования в мире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географии урбанизации ми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занимается проблемами исследования  урбанизации в мире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политической географии (геополитики) и регионалис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занимается  геополитическими исследованиями стран мир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вузовской географии и трудоустройства (занимается вопросами качества высшего гео. образования и проблемами постдипломного трудоустрой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Географической визуализации (занимается вопросами картографии и ГИС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медийной географии (занимается изучением распространения СМИ и мультимедийной продукции в географ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культурной географии (география культуры и искус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географии религий мир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электоральной географии (занимается изучением политики с точки зрения социально-экономической географ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страноведения и м.д. ту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2532-D5A7-4568-9E6F-C4E0435501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ографический Форум-Каталог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Geographical Forum-Cat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ум представляет собой информационный ресурс. Состоит из 6 категорий. В основных темах форума представлены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G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ссоциация, на которой основан форум, «Географическая библиотека», «Гео-образование», кафедры Социально-Интерактивного Географического Университета, темы по направлениям географи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ь форума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динение географов, геологов, почвоведов, картографов, специалистов в сфере туризма, историков, политологов, экономистов и всех любителей науки, кому не безразлична судьба современной географии, её проблем и дальнейших перспекти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дачи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ие в форум по средствам интернет-общения сторонников национальной географической идеи, обсуждение актуальных проблем нынешней географии, её теоретических и практических вопро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ум могут вступить все желающие, кому дорога география. Это могут быть: студенты, школьники,учителя,преподаватели школ и вузов, путешественники, туристы и просто любител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A10B-1E5F-4144-B848-FEC1E5BC3C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Ассоци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9AAF-0DE6-450F-8E43-E8D414128C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ервисы Web 2.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им  из многофункциональных лидеров социальных сетей в России стала  служб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контакт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. Созданная Ивановым Алексеем, российский аналог англоязычного сервиса «Facebook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йт был изначально создан для студентов и выпускников российских вузов и помогает им поддерживать связь между собой. В нынешнее время происходит расширение аудитории сайта для всех слоев пользователей Интерн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Автором проекта является стипендиат премии Потанина Павел Дур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Википедия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язычная общедоступная свободно распространяемая энциклопедия, публикуемая в Интернете. Создаётся на многих языках мира коллективным трудом добровольных авторов, использующих технологию в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Вики — веб-сайт, структуру и содержимое которого пользователи могут сообща изменять с помощью инструментов, предоставляемых самим сайтом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8FF4-19D0-41B5-9E25-1886024F0C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тори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весне 2007 года, когда шло развитие самой социальной службы, энтузиастами разрабатывалась сама концепция построения международной географической ассоци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легом Сычевым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 учителем географии московской шко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ниченко Владимиром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студентом геолого-географического факультета Астраханского государственн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392A-E2EA-4039-84A0-BDA3FF8149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и создания Ассоци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ышение уровня географического образования различного стату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ышения статуса географии как нау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ние единого Географического профсоюза (в дальнейшем - Движения Географов), который служил бы исполнительным органом за надзором качества преподаваемой дисципли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решения проблем трудоустрой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ышения статуса предмета в школ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ждународное географическое сотрудничество между различными социальными статусами в географии и смежных наук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F612-0790-45DE-8A34-58A2285089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фессиональный соста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Географ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лог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чвовед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ртограф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ециалисты по ГИС и в сфере туризм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р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литолог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с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тноло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Ассоциацию могут войти не только профессиональные географы, но и представители других смежных с географией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3869-C86D-491E-B926-D1D8C64F25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ие с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конец марта 2008 года в Ассоциации насчитывается более 4650 чел. В основном из России и в основном студенты-географы. Но также есть участники из Украины, Белоруссии, Грузии, Азербайджана, Киргизии, Узбекистана, Казахстана, США, Израиля и Герм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реди участников и руководителей Ассоциации есть и известные лю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4A10-A45D-4CBA-B640-FA9E68ADA8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1863-84A3-4983-A3D6-7257AFD9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E2FB-0631-40DE-B4AB-5C739B94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B523-A26E-408D-997F-FB3C8A87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A3D9-F308-4080-A6EB-0AB3437F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63C7-084D-40E6-BE8A-3CA4FE65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A4B7-3DCD-488D-AAC0-B6D93F7E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10C1-DAB8-4FB9-88FB-BBAF9A1B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C14F-BAB1-4FCB-9638-16A109F1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C5DE-22D5-4D16-8EF5-60EB2F17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E39F-82B3-4386-AE18-4E68F836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2419-CE2E-46AC-BE93-D6E25D95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B55B-BC4B-4C64-9507-3781E541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C74E-D3D9-405B-9B3A-85747275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541E-A707-4699-9D44-EA7AF38D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C435-9544-47D5-8324-7C04A06C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58DE-EE5E-440E-A70B-11A568A2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417F-59A8-4A27-959B-3E6BA78A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7F89-33E0-442E-9BC5-40F3A300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7F0B-67CC-4C6D-80DA-FBBF5D0B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8896-F672-4858-8EE9-3277A09D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C178-B3C2-49D0-89EF-93ECF999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2E6C-1DD2-43FC-8009-D635F339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FB2F-3EF2-4792-A6BC-75EA6415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7526-0412-4CF1-ADD4-5AD5D9B3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121D-150D-4D54-9337-7720F2B03A8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6C5F-D22D-4A69-AEDF-CEEF4566068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wiki/Facebook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INTERNATIONAL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GEO-ASSOCI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03280" y="3573360"/>
            <a:ext cx="640080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ждународная географическая ассоциац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Дата основания: 8 мая 2007 года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ьшой Географический Фестивал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-6 апреля 2008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нкт-Петербург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11" descr="95084_lzn"/>
          <p:cNvPicPr/>
          <p:nvPr/>
        </p:nvPicPr>
        <p:blipFill>
          <a:blip r:embed="rId1"/>
          <a:stretch/>
        </p:blipFill>
        <p:spPr>
          <a:xfrm>
            <a:off x="3492360" y="2349360"/>
            <a:ext cx="2303640" cy="1216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zast_lzn"/>
          <p:cNvPicPr/>
          <p:nvPr/>
        </p:nvPicPr>
        <p:blipFill>
          <a:blip r:embed="rId2"/>
          <a:stretch/>
        </p:blipFill>
        <p:spPr>
          <a:xfrm>
            <a:off x="3419640" y="0"/>
            <a:ext cx="2304720" cy="144144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ак почетным Президентом IIGA и ее научным руководителем является бывший зам. главного редактора "Известия РАН (серия географическая)", кандидат географических нау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нненков В. 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4" descr="a_c58d422_lzn"/>
          <p:cNvPicPr/>
          <p:nvPr/>
        </p:nvPicPr>
        <p:blipFill>
          <a:blip r:embed="rId1"/>
          <a:stretch/>
        </p:blipFill>
        <p:spPr>
          <a:xfrm>
            <a:off x="755640" y="2781360"/>
            <a:ext cx="1905120" cy="27907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Известные люди ассоциаци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четными руководителями Ассоциации являются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андидат географических наук, доцент географического  факультета МПГУ, Президент Российской Ассоциации Учителей Географии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обжанидзе А. 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ндидат географических наук МПГ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шевой В. 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6" descr="x_4a52be9f_lzn"/>
          <p:cNvPicPr/>
          <p:nvPr/>
        </p:nvPicPr>
        <p:blipFill>
          <a:blip r:embed="rId1"/>
          <a:stretch/>
        </p:blipFill>
        <p:spPr>
          <a:xfrm>
            <a:off x="1403280" y="1700280"/>
            <a:ext cx="3024360" cy="1871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a_52c98944_lzn"/>
          <p:cNvPicPr/>
          <p:nvPr/>
        </p:nvPicPr>
        <p:blipFill>
          <a:blip r:embed="rId2"/>
          <a:stretch/>
        </p:blipFill>
        <p:spPr>
          <a:xfrm>
            <a:off x="5364000" y="1989000"/>
            <a:ext cx="2294280" cy="395928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тодист методической лаборатории географии Московского института открытого образования. Руководитель Виртуального методического объединения учителей географии (ВМОУГ), координатор Дистанционной обучающей олимпиады по географии, координатор сообщества учителей географии портала «Сеть творческих учителей»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рылов А.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ван Затевахин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Радио- и телеведущий передач о животных,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Кандидат биологических наук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4" descr="krylov-teleclass-mini_lzn"/>
          <p:cNvPicPr/>
          <p:nvPr/>
        </p:nvPicPr>
        <p:blipFill>
          <a:blip r:embed="rId1"/>
          <a:stretch/>
        </p:blipFill>
        <p:spPr>
          <a:xfrm>
            <a:off x="4284720" y="1773360"/>
            <a:ext cx="1879560" cy="2447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x_5d28e08e_lzn"/>
          <p:cNvPicPr/>
          <p:nvPr/>
        </p:nvPicPr>
        <p:blipFill>
          <a:blip r:embed="rId2"/>
          <a:stretch/>
        </p:blipFill>
        <p:spPr>
          <a:xfrm>
            <a:off x="6012000" y="4481640"/>
            <a:ext cx="2447640" cy="237636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.А. Волков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едседатель Океанографической комиссии РГО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орис Муравье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ействительный член РГО, сектор экологии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4" descr="88_lzn"/>
          <p:cNvPicPr/>
          <p:nvPr/>
        </p:nvPicPr>
        <p:blipFill>
          <a:blip r:embed="rId1"/>
          <a:stretch/>
        </p:blipFill>
        <p:spPr>
          <a:xfrm>
            <a:off x="2124000" y="1052640"/>
            <a:ext cx="4248360" cy="2717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a_9c512e0a_lzn"/>
          <p:cNvPicPr/>
          <p:nvPr/>
        </p:nvPicPr>
        <p:blipFill>
          <a:blip r:embed="rId2"/>
          <a:stretch/>
        </p:blipFill>
        <p:spPr>
          <a:xfrm>
            <a:off x="4859280" y="4221000"/>
            <a:ext cx="2233800" cy="263700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ригорий  Кубатьян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утешественник, журналист «GEO»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иколай Баландински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рганизатор съемок на местах географических передач НТВ, автор сайта "GE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RAFIA.RU"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Picture 4" descr="a_339b4e1_lzn"/>
          <p:cNvPicPr/>
          <p:nvPr/>
        </p:nvPicPr>
        <p:blipFill>
          <a:blip r:embed="rId1"/>
          <a:stretch/>
        </p:blipFill>
        <p:spPr>
          <a:xfrm>
            <a:off x="5796000" y="189000"/>
            <a:ext cx="3130560" cy="2232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nb-portret_lzn"/>
          <p:cNvPicPr/>
          <p:nvPr/>
        </p:nvPicPr>
        <p:blipFill>
          <a:blip r:embed="rId2"/>
          <a:stretch/>
        </p:blipFill>
        <p:spPr>
          <a:xfrm>
            <a:off x="5292720" y="3564000"/>
            <a:ext cx="3560760" cy="32940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Заместитель главного редактора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газеты  «Коммерсант»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горь Тросник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реди известных людей в географической среде , которы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ткликнулись на приглашение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Баринова И.И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(главный редактор журнала "География и экология в школе 21 века", профессор МПГУ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Смирнягин Л. В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( к.г.н., доцент географического факультета МГУ, научный консультант Фонда «Институт экономики города»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Чупина Л.Б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(к.г.н., доцент географического факультета ПГУ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Чмерёва Г.В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(ответственный секретарь объединения выпускников географического факультета МГУ им. М.В. Ломоносова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Picture 4" descr="x_0f1d8a68_lzn"/>
          <p:cNvPicPr/>
          <p:nvPr/>
        </p:nvPicPr>
        <p:blipFill>
          <a:blip r:embed="rId1"/>
          <a:stretch/>
        </p:blipFill>
        <p:spPr>
          <a:xfrm>
            <a:off x="4140360" y="189000"/>
            <a:ext cx="3457440" cy="288756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Активные рядовые члены организаци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793116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удент факультета географии и геоэкологии Санкт-Петербургского Государственного Университета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митрий Сальнико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лексей Железно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ссистент кафедры геоморфологии  Санкт-Петербургского Государственного Университет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пирант кафедры отечественной истории Красноярского Государственного Педагогического Университета В.П. Астафьев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ергей Бахти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пирант кафедры экономической и социальной географии России Московского Государственного Университета им. М.В. Ломоносов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лексей Сидоренк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пирант Института наследия имени Дмитрия Лихачев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иктор Матас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пирант Таврического Национальног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ниверситета  (Украина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ергей Гур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удент географического факультета Московского Государственного Университета им. М.В. Ломоносова, призер международной олимпиады по географ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ван Прохор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удент факультета естественных наук и природных ресурсов Новгородского Государственного Университе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лексей Сабельск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Рейтинг тем, кол-во человек принявших в обсуждениях, (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%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раз идеального географа – 3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фессия географа – 8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ематические отрасли  в географии - 20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ездки, путешествия, туризм - 10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орода России – 3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частие в различных географических организациях - 7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ступление на географические факультеты страны – 13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графическое мышление – 4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блемы трудоустройства – 15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учение географии в школе – 3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циальный статус и его роль в географии – 6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графический софт и игры – 8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графический юмор – 3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дминистративно-территориальное деление России 10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ИС- 6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графическая культура – 15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редислови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 развития социального обще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временные информационные средства общения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остевые книг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рум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лог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ые сети (Вконтакте, Википедия и др.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ecff"/>
                </a:solidFill>
                <a:uFillTx/>
                <a:latin typeface="Times New Roman"/>
              </a:rPr>
              <a:t>Итоги работы организации за год существования: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1280" y="549000"/>
            <a:ext cx="8229600" cy="60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) Намечена стратегия развития проекта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2) Создан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форум-каталог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географических ресурсов http://geoforumkatalog.5bk.org/ , сотрудничающий с Елисеевским географическим обществом (руководителем которого является Николай Баландинский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3) В рамках Ассоциации предпринята попытка создания дистанционного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социального географического университета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(http://vkontakte.ru/club1859707 ), состоящего из ряда дистанционных кафедр и лабораторий (дистанционное тьюторство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4) Подготавливаются база для создания первого в России географического движения (несколько видных географов уже высказали свой интерес к этому проекту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5) Сформирован Банк географической информации (http://vkontakte.ru/club926972 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6) Постоянно обновляется географический фото-, аудио- и видеоархив (в нашем архиве есть и эксклюзивные материалы с путешествий Григория Кубатьяна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7) Началось постепенное формирование географических компьютерных презентаций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8) В рамках ассоциированной с IIGA виртуальной кафедрой этнологии (http://vkontakte.ru/club258245 ) создана Инициативная группа по "проталкиванию" нового школьного предмета под условным названием "Народоведение" (http://vkontakte.ru/club1475221 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9) Организован ряд интересных встреч, конкурсов, фестивалей и этнографических полевых практикумов (см. раздел "Наши мероприятия"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0) Вынесены на обсуждение актуальные теоретические и практические вопросы географии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1) По целому ряду географических проблем среди участников Ассоциации проводятся социологические опросы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2) Оперативно помещается самая свежая информация географического плана (раздел "Новости"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3) Создан уникальный банк данных по российским и зарубежным знаменитостям с высшим географическим образованием, но не ставших профессиональными географам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Дистанционный Социальный Географический Университет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е началось с создания гео-национального проекта "Вконтакте с Географией"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ект с марта месяца 2008 года поменял свою направленность. Главной его сферой стала социальная, ориентированная на потребности человека в географ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ыли поставлены задачи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) Развитие единой электронной библиотеки по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) Создание рекламной афиши по купле и продажи географических книг и пособий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) Консультации по спектру вопросов, касающихся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4) Обучение информационным технологиям в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5) Обсуждение проблем в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6) Развитие отдельных отраслей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7) Помощь в трудоустройстве (единая справочная сеть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8) Создание нового информационного класса для обучения и создание единого виртуального дистанционного географического университета;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-38736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Основные сведения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Социальный (Интерактивный) Географический Университет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службы "Вконтакте" был основан 4 марта 2008 года. Его состав включает все социальные слои в географии, геологии, картографии, истории, политологии и туризме и в других естественнонаучных и гуманитарных науках, тесно соприкасающихся с географией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ем заявок на вступление происходит по следующим критериям отбор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ИО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разование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ченая степень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убликаци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фессиональные достиже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Структура СИАГУ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сегодняшний день создано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5 кафедр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8 лаборатори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электронно-книжная библиотек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центр электронных географических ресурсов Интернет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видео-географический архив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сколько подшефных организаций (фан-клубы, известных организаций и печатных изданий страны)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Название структурных подразделений (СИАГУ)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истории географической науки и образования стран мира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(занимается изучением истоков зарождения науки и развития гео. образования в мире);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географии урбанизации мира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(занимается проблемами исследования  урбанизации в мире);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политической географии (геополитики) и регионалистики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(занимается  геополитическими исследованиями стран мира)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вузовской географии и трудоустройства (занимается вопросами качества высшего гео. образования и проблемами постдипломного трудоустройства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Географической визуализации (занимается вопросами картографии и ГИС)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медийной географии (занимается изучением распространения СМИ и мультимедийной продукции в географии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культурной географии (география культуры и искусства)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географии религий мира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электоральной географии (занимается изучением политики с точки зрения социально-экономической географии)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страноведения и м.д. туризма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Географический Форум-Каталог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Geographical Forum-Catalog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Форум представляет собой информационный ресурс. Состоит из 6 категорий. В основных темах форума представлены: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IGA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Ассоциация, на которой основан форум, «Географическая библиотека», «Гео-образование», кафедры Социально-Интерактивного Географического Университета, темы по направлениям географии и др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Цель форума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: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бъединение географов, геологов, почвоведов, картографов, специалистов в сфере туризма, историков, политологов, экономистов и всех любителей науки, кому не безразлична судьба современной географии, её проблем и дальнейших перспектив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Задач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ривлечение в форум по средствам интернет-общения сторонников национальной географической идеи, обсуждение актуальных проблем нынешней географии, её теоретических и практических вопросов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Форум могут вступить все желающие, кому дорога география. Это могут быть: студенты, школьники,учителя,преподаватели школ и вузов, путешественники, туристы и просто любители!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став Ассоциа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Rectangle 10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Object 1028"/>
          <p:cNvGraphicFramePr/>
          <p:nvPr/>
        </p:nvGraphicFramePr>
        <p:xfrm>
          <a:off x="0" y="981000"/>
          <a:ext cx="479124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47912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Rectangle 1031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0" name="Object 1030"/>
          <p:cNvGraphicFramePr/>
          <p:nvPr/>
        </p:nvGraphicFramePr>
        <p:xfrm>
          <a:off x="4705200" y="1413000"/>
          <a:ext cx="4438800" cy="367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1" name="Object 10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5200" y="1413000"/>
                    <a:ext cx="443880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0" y="0"/>
          <a:ext cx="4429080" cy="30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42908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7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9" name="Object 6"/>
          <p:cNvGraphicFramePr/>
          <p:nvPr/>
        </p:nvGraphicFramePr>
        <p:xfrm>
          <a:off x="4572000" y="0"/>
          <a:ext cx="4438800" cy="3095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0"/>
                    <a:ext cx="443880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9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2" name="Object 8"/>
          <p:cNvGraphicFramePr/>
          <p:nvPr/>
        </p:nvGraphicFramePr>
        <p:xfrm>
          <a:off x="0" y="3357720"/>
          <a:ext cx="4438800" cy="3095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6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357720"/>
                    <a:ext cx="443880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Rectangle 11"/>
          <p:cNvSpPr/>
          <p:nvPr/>
        </p:nvSpPr>
        <p:spPr>
          <a:xfrm>
            <a:off x="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5" name="Object 10"/>
          <p:cNvGraphicFramePr/>
          <p:nvPr/>
        </p:nvGraphicFramePr>
        <p:xfrm>
          <a:off x="4500720" y="3357720"/>
          <a:ext cx="4448160" cy="31050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6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0720" y="3357720"/>
                    <a:ext cx="444816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12" descr="картаа"/>
          <p:cNvPicPr/>
          <p:nvPr/>
        </p:nvPicPr>
        <p:blipFill>
          <a:blip r:embed="rId1"/>
          <a:stretch/>
        </p:blipFill>
        <p:spPr>
          <a:xfrm>
            <a:off x="0" y="0"/>
            <a:ext cx="9144000" cy="591660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Сервисы Web 2.0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им  из многофункциональных лидеров социальных сетей в России стала  служб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контакт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». Созданная Ивановым Алексеем, российский аналог англоязычного сервиса «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Facebook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йт был изначально создан для студентов и выпускников российских вузов и помогает им поддерживать связь между собой. В нынешнее время происходит расширение аудитории сайта для всех слоев пользователей Интерне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ом проекта является стипендиат премии Потанина Павел Дур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Википед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огоязычная общедоступная свободно распространяемая энциклопедия, публикуемая в Интернете. Создаётся на многих языках мира коллективным трудом добровольных авторов, использующих технологию ви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Вики — веб-сайт, структуру и содержимое которого пользователи могут сообща изменять с помощью инструментов, предоставляемых самим сайтом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История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IGA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весне 2007 года, когда шло развитие самой социальной службы, энтузиастами разрабатывалась сама концепция построения международной географической ассоциац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легом Сычевым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,  учителем географии московской школы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ниченко Владимиром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, студентом геолого-географического факультета Астраханского государственного университе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Цели создания Ассоциаци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е уровня географического образования различного статус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я статуса географии как наук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здание единого Географического профсоюза (в дальнейшем - Движения Географов), который служил бы исполнительным органом за надзором качества преподаваемой дисциплин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решения проблем трудоустройств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я статуса предмета в школ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ждународное географическое сотрудничество между различными социальными статусами в географии и смежных науках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Цели создания Ассоциаци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е уровня географического образования различного статус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я статуса географии как наук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здание единого Географического профсоюза (в дальнейшем - Движения Географов), который служил бы исполнительным органом за надзором качества преподаваемой дисциплин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решения проблем трудоустройств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я статуса предмета в школ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ждународное географическое сотрудничество между различными социальными статусами в географии и смежных науках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Задачи Ассоциации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влечение в Ассоциацию посредством виртуального общения сторонников национальной географической идеи, обсуждение актуальных проблем нынешней географии, её теоретических и практических вопросов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самого большого в Интернете в первую очередь научно-образовательного и общественного профессионального географического сообщества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дание официального статуса Ассоциации (юридическая её регистрация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своего географического движения (Профсоюз географов России и стран СНГ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виртуального Географического университета, направленного на формирование географической культуры в самых широких слоях населения (популяризация географии, дистанционное консультирование (тьюторство)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влечение к проекту известных ученых-естественников и знаменитых путешественников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мобильных творческих групп для решения конкретных задач, например, написание пособий и учебников по географии и другим смежным дисциплинам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иск спонсоров, в том числе информационных (установление связей с географическими СМИ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рганизация разных конкурсов, олимпиад (различного социального уровня), дружеских встреч, научных конференций, туристических поездок, экспедиций, образовательных полевых практикумов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своего мощного сайта на основе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ki-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ехнологий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перспективе: установление дружественных и деловых связей с зарубежными географическими структурами; их привлечение к проекту в качестве партнеров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рофессиональный состав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Географы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лог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чвоведы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ртограф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пециалисты по ГИС и в сфере туризм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сторик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литолог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кономисты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тнолог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иолог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Ассоциацию могут войти не только профессиональные географы, но и представители других смежных с географией нау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Общие сведения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 конец марта 2008 года в Ассоциации насчитывается более 4650 чел. В основном из России и в основном студенты-географы. Но также есть участники из Украины, Белоруссии, Грузии, Азербайджана, Киргизии, Узбекистана, Казахстана, США, Израиля и Герман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реди участников и руководителей Ассоциации есть и известные люд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2:03:48Z</dcterms:created>
  <dc:creator>USER</dc:creator>
  <dc:description/>
  <dc:language>en-US</dc:language>
  <cp:lastModifiedBy>LEGION</cp:lastModifiedBy>
  <dcterms:modified xsi:type="dcterms:W3CDTF">2014-12-29T08:36:47Z</dcterms:modified>
  <cp:revision>22</cp:revision>
  <dc:subject/>
  <dc:title>INTERNATIONAL-INTERNET GEO-ASSOCIATION</dc:title>
</cp:coreProperties>
</file>