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A7C9-432A-44E4-80F7-E3B62A6493B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ГЕОГРАФИЯ – ЭТ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 НАУК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ИЙ ВЗАИМОДЕЙСТВИЕ ПРИРОДЫ И ОБЩЕСТВА В ПРОЦЕССЕ ПРОИЗВОДСТВА МАТЕРИАЛЬНЫХ БЛАГ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8B29-4528-4574-A11B-E5C4856192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8.                                                                                                                                             Зарубежная Азия.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,2 Мы даем общую характеристику Зарубеж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   Мы изучаем Кита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  Мы познаем Япо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  Мы «открываем» Инд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6,7 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знакомимся с Австралией и Океан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ая Америк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даем общую характеристику стран Латинской Америки. 3. Мы знакомимся с Бразил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7670-3A97-4661-A7A4-F5E674DD658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Часть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1. Глобальные проблемы человечества .     (4 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обосновываем глобальные проблемы человечества. Проблемы сохранения мира на Земле.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емографическая 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нергетическая и сырьевая проблемы. Проблемы отсталости развевающихся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блемы Мирового океана.                                     10  часов на подготовку к экзамену по материалам ЕГЭ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6883-2257-43B1-9D0F-D700D013F2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ЭКОНОМИЧЕСКАЯ ГЕ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АСТНЫЕ ЭКОНОМИКО-ГЕОГРАФ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С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/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ГЕОГРАФИЯ ТРАНСПО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ДРУ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КАЖДАЯ ИМЕЕТ СВОЙ ОСОБЫЙ МЕТ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ССЛЕД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БЩАЯ ЭКОНОМИЧЕСК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(ИЗУЧЕНИЕ ХОЗЯЙСТВЕННО-ТЕРРИТОРИАЛЬНЫХ КОМПЛЕКСОВ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F92B-3113-45C1-9A66-9457B8078B7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алендарно- тематическое  факультативных уроков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10 кла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асть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мира (34 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8B10-B7D5-4B5D-9D8E-A462CC73D4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асть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мира (34 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2. Современная политическая карта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дготовка к экзамену  с использованием диска «Репетитор по географ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ждение и анализ последних территориальных изменений на политической карте мира с использованием карт атласа, ресурсов  Интерн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FEE6-9661-4439-9E1D-99A47B0A6D8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я мировых природных ресурсов. Загрязнение и охрана окружающей среды (8 час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оцениваем мировые природные ресурсы. Мировые ресурсы минерального топл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емель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Лес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сурсы пресной воды и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смические   и   агроклиматические   ресурсы.   Альтернативные   источник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ы рассматриваем загрязнения окружающей среды.                                                                            7,8.  Подготовка к экзамену с помощью материалов ЕГ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таблиц, картосхем атласа, составление  диаграмм, использование  тематического диска         « География – 2007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0666-5AB7-4984-A5C5-F1A956650A8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География населения мира. (5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2. Мы знакомимся с численностью и воспроизводством населения, структура населения, размещение и миграции населения, городское и сельское насе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« Урбанизация - зло или благо?».                                                                                      4,5.  Подготовка к экзамену с помощью материалов ЕГ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оловозрастных пирамид, моделирование половозрастных пирами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нформационного материала диска «Социальная и экономическая география ,         10 кл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B141-CF73-4AC6-AF28-6BF7A199B4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техническая революция и мировое хозяйство. (  7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Характеристика 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Изучение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Отраслевая и территориальная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 Факторы размещения промышленно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,6,7.  Подготовка к экзамену с помощью материалов ЕГЭ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дополнительной литера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DAB7-F732-48F8-9E07-4772A30A7DD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е   хозяйство.   География   отраслей   мирового   хозяйства. (11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пливно-энергетическая промышленность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лектроэнергетик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Металлургия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ашинострое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Химическая промышленность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есная и легкая отрасли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льское хозяйство и земледелие.    8.Животноводство. Рыболов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Мы занимаемся географией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,11.Подготовка к экзамену с использованием материалов ЕГ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5BE1-4680-468A-A06F-CE8CDB189E8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Часть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характеристика мира. (34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даем общую характеристику С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ерриториальная структура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ельскохозяйственные районы С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знакомимся с Кана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Зарубежная Европ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даем общую характеристику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ерриториальная структура хозяйства стран                    Зарубеж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Мы изучаем географический рисунок расселения и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ы знакомимся с субрегионами и странами Зарубежной Европы. Страны Запад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траны Восточ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778E-AD75-4884-A23B-E1CF8E653DA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76F-EC6A-4BD0-86BB-106B7D8C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EF6-57D0-4A63-A98D-CC1ACE9C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B8EB-8905-4E3B-A19D-FB799FE7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77B-DE73-4C64-B078-03935A3B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6CCAC-C4D8-4C1A-916C-BDA5410B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529A2-302C-44D1-8C0C-D1274550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CF3DE-1415-40F1-991F-029F4689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469B0-95CB-4B0E-BA36-8C9EDFAD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89BD1-1B51-46F9-A4CB-3F8F3207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9F5F4-99EE-489D-9907-E3F7CF25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EF773-0B92-48C2-94F9-074DC177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CE9-F46D-453C-9207-B9F7BE70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90925-21C3-4B9F-8AA8-2E0DE797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449AF-8E75-4BD4-8A51-FE019517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37F3A-CB13-4E3E-818B-E6140D9C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C3AEC-73C9-40D6-9CB1-2691DC84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FA070-B5D3-4A10-AC35-53D0D9F0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F28-0127-46F2-B175-4D0206B7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61D-41C9-4583-B980-3A28852D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BAC-3D8B-4E53-886A-B7BF799B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7CE-B28A-4384-8F15-F23D858C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025-E200-4D8F-9387-A8F5165B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CFB-4CE3-47CC-8C9F-2DDCE6B5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E47-2151-4FAC-A079-4A42DE25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226E-236B-4CBA-9951-F7AC243EE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BB5A-EDB0-45C9-AC9D-3B7F1BA257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258480"/>
            <a:ext cx="8642160" cy="62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cc"/>
                </a:solidFill>
                <a:latin typeface="Tahoma"/>
              </a:rPr>
              <a:t>ГЕОГРАФИЯ –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МПЛЕКС НАУК,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ЗУЧАЮЩИЙ ВЗАИМОДЕЙСТВИЕ ПРИРОДЫ И ОБЩЕСТВА В ПРОЦЕССЕ ПРОИЗВОДСТВА МАТЕРИАЛЬНЫХ БЛАГ И УСЛУ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4046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 8.                                                                                                                                             Зарубежная Азия.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,2 Мы даем общую характеристику Зарубежной А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   Мы изучаем Китай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  Мы познаем Япо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  Мы «открываем» Инд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6,7 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познакомимся с Австралией и Океани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тинская Америка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,2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даем общую характеристику стран Латинской Америки. 3. Мы знакомимся с Бразили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79280" y="479520"/>
            <a:ext cx="874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асть 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11. Глобальные проблемы человечества .     (4 час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Мы обосновываем глобальные проблемы человечества. Проблемы сохранения мира на Земле. Экологические пробл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емографическая продовольственная пробл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Энергетическая и сырьевая проблемы. Проблемы отсталости развевающихся стр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Проблемы Мирового океана.                                     10  часов на подготовку к экзамену по материалам ЕГЭ.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ahoma"/>
              </a:rPr>
              <a:t>ЭКОНОМИЧЕСКАЯ ГЕОГРАФ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ЧАСТНЫЕ ЭКОНОМИКО-ГЕОГРАФ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АУ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ГРАФИЯ НАСЕ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ГРАФИЯ ПРОМЫШЛ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ГРАФИЯ С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/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ГЕОГРАФИЯ ТРАНСПОР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КАЖДАЯ ИМЕЕТ СВОЙ ОСОБЫЙ МЕТ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ИССЛЕД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0" y="1915920"/>
            <a:ext cx="4114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БЩАЯ ЭКОНОМ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ГЕОГРАФ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ИЗУЧЕНИЕ ХОЗЯЙСТВЕННО-ТЕРРИТОРИАЛЬНЫХ КОМПЛЕКСО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395280" y="98172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алендарно- тематическое  факультативных уроков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 10 класса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асть 1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щая характеристика мира (34 часа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24000" y="695160"/>
            <a:ext cx="86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асть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ая характеристика мира (34 час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час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2. Современная политическая карта ми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Подготовка к экзамену  с использованием диска «Репетитор по географ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суждение и анализ последних территориальных изменений на политической карте мира с использованием карт атласа, ресурсов  Интерн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684360" y="370080"/>
            <a:ext cx="7920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графия мировых природных ресурсов. Загрязнение и охрана окружающей среды (8 часов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ы оцениваем мировые природные ресурсы. Мировые ресурсы минерального топли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Земельные ресур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Лесные ресур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Ресурсы пресной воды и Мирового океа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осмические   и   агроклиматические   ресурсы.   Альтернативные   источники энерг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Мы рассматриваем загрязнения окружающей среды.                                                                            7,8.  Подготовка к экзамену с помощью материалов ЕГ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 таблиц, картосхем атласа, составление  диаграмм, использование  тематического диска         « География – 2007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324000" y="253800"/>
            <a:ext cx="8569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3. География населения мира. (5 ча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2. Мы знакомимся с численностью и воспроизводством населения, структура населения, размещение и миграции населения, городское и сельское насе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« Урбанизация - зло или благо?».                                                                                      4,5.  Подготовка к экзамену с помощью материалов ЕГ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з половозрастных пирамид, моделирование половозрастных пирами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з информационного материала диска «Социальная и экономическая география ,         10 кл.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179280" y="430560"/>
            <a:ext cx="8640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а 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-техническая революция и мировое хозяйство. (  7 час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Характеристика  НТ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 Изучение мирового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 Отраслевая и территориальная структура мирового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 Факторы размещения промышленного произ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,6,7.  Подготовка к экзамену с помощью материалов ЕГЭ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дополнительной литератур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60280" y="175320"/>
            <a:ext cx="862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ровое   хозяйство.   География   отраслей   мирового   хозяйства. (11 ча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Топливно-энергетическая промышленность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Электроэнергетика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Металлургия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ашиностроение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Химическая промышленность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Лесная и легкая отрасли промышлен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Сельское хозяйство и земледелие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Животноводство. Рыболов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 Мы занимаемся географией транспор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,11.Подготовка к экзамену с использованием материалов ЕГ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763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Часть 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ональная характеристика мира. (34ча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ы даем общую характеристику С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Территориальная структура промышле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ельскохозяйственные районы С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ы знакомимся с Кана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7. Зарубежная Европ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ы даем общую характеристику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Территориальная структура хозяйства стран                    Зарубежной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Мы изучаем географический рисунок расселения и хозяй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Мы знакомимся с субрегионами и странами Зарубежной Европы. Страны Западной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Страны Восточной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1:25:19Z</dcterms:created>
  <dc:creator>Nemo</dc:creator>
  <dc:description/>
  <dc:language>en-US</dc:language>
  <cp:lastModifiedBy>LEGION</cp:lastModifiedBy>
  <dcterms:modified xsi:type="dcterms:W3CDTF">2014-12-29T08:38:08Z</dcterms:modified>
  <cp:revision>12</cp:revision>
  <dc:subject/>
  <dc:title>Слайд 1</dc:title>
</cp:coreProperties>
</file>