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4D58-D3D7-451C-A259-A3CE06E8141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ГЕОГРАФИЯ – ЭТ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 НАУК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ЩИЙ ВЗАИМОДЕЙСТВИЕ ПРИРОДЫ И ОБЩЕСТВА В ПРОЦЕССЕ ПРОИЗВОДСТВА МАТЕРИАЛЬНЫХ БЛАГ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22A8-C90A-4CA7-ACE6-C725B09DC73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8.                                                                                                                                             Зарубежная Азия.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,2 Мы даем общую характеристику Зарубежно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   Мы изучаем Китай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  Мы познаем Япо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  Мы «открываем» Инд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6,7 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познакомимся с Австралией и Океан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ая Америк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даем общую характеристику стран Латинской Америки. 3. Мы знакомимся с Бразил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AB16-1402-45AD-8929-3EDAEA5587E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асть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1. Глобальные проблемы человечества .     (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обосновываем глобальные проблемы человечества. Проблемы сохранения мира на Земле.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емографическая 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нергетическая и сырьевая проблемы. Проблемы отсталости развевающихся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блемы Мирового океана.                                     10  часов на подготовку к экзамену по материалам ЕГЭ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450B-8495-4356-9FAD-16F0C34D526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ЭКОНОМИЧЕСКАЯ ГЕ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АСТНЫЕ ЭКОНОМИКО-ГЕОГРАФ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ЕОГРАФИЯ С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/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ГЕОГРАФИЯ ТРАНСПО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ДРУГ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КАЖДАЯ ИМЕЕТ СВОЙ ОСОБЫЙ МЕТ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ИССЛЕД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БЩАЯ ЭКОНОМИЧЕСК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ЕОГРАФ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(ИЗУЧЕНИЕ ХОЗЯЙСТВЕННО-ТЕРРИТОРИАЛЬНЫХ КОМПЛЕКСОВ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934B-F436-4445-BE9F-124BF311AA8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Календарно- тематическое  факультативных уроков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 10 кла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мира (3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D5C4-6B01-4254-9D63-EF70DF35CA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асть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характеристика мира (34 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ча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2. Современная политическая карта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Подготовка к экзамену  с использованием диска «Репетитор по географ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ждение и анализ последних территориальных изменений на политической карте мира с использованием карт атласа, ресурсов  Интерн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3248-1144-4931-A66C-A61F07D5873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я мировых природных ресурсов. Загрязнение и охрана окружающей среды (8 час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оцениваем мировые природные ресурсы. Мировые ресурсы минерального топл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емель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Лесны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Ресурсы пресной воды и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смические   и   агроклиматические   ресурсы.   Альтернативные   источник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ы рассматриваем загрязнения окружающей среды.                                                                            7,8.  Подготовка к экзамену с помощью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таблиц, картосхем атласа, составление  диаграмм, использование  тематического диска         « География – 2007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678E-2413-470D-83FA-DB5BCB04090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География населения мира. (5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2. Мы знакомимся с численностью и воспроизводством населения, структура населения, размещение и миграции населения, городское и сельское насе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« Урбанизация - зло или благо?».                                                                                      4,5.  Подготовка к экзамену с помощью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половозрастных пирамид, моделирование половозрастных пирами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нформационного материала диска «Социальная и экономическая география ,         10 кл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2FF4-C265-40E5-94EB-1896392640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о-техническая революция и мировое хозяйство. (  7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Характеристика 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Изучение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Отраслевая и территориальная структура мирового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 Факторы размещения промышленно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,6,7.  Подготовка к экзамену с помощью материалов ЕГЭ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с дополнительной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224C-37C5-462E-928B-9EBCBFC4866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е   хозяйство.   География   отраслей   мирового   хозяйства. (11 час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пливно-энергетическая промышленность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лектроэнергетик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Металлургия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ашинострое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Химическая промышленность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есная и легкая отрасли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ельское хозяйство и земледелие.    8.Животноводство. Рыболов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Мы занимаемся географией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,11.Подготовка к экзамену с использованием материалов ЕГ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38BF-54F5-41A0-9153-123AA8D6F2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Часть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характеристика мира. (34час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даем общую характеристику С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ерриториальная структура промыш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ельскохозяйственные районы С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знакомимся с Кана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Зарубежная Европа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Мы даем общую характеристику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ерриториальная структура хозяйства стран                    Зарубеж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Мы изучаем географический рисунок расселения и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ы знакомимся с субрегионами и странами Зарубежной Европы. Страны Запад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траны Восточной Евр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BB16-9BB6-45AC-B7E2-B8463EEECF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3C0-AEC3-4A08-AB89-E5A4E51A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3904-6A5D-4051-9F79-12906FBC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E2F-3E97-4F1D-ABCC-FA7889D2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72D-E585-4A39-98E1-559E7FDE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EBF601-80F3-48CB-89FB-B15A01B1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2D080-1BFE-4865-A5AE-557463C5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4C5DC-62DA-47C0-93EA-B278AADC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EFAAF-3EB7-4234-A001-3F832EA8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A6E2D-259B-4D74-BE62-79044CC1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2D978-8584-478E-88AB-8DF38A72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2588A-5F44-42D7-9860-9ABD1E53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9EA-35A3-4901-B32A-7D8BCB6D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010DE-9188-405F-AE4C-3C1F25F1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2F9CB-FE13-4818-842C-14E67145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15F1D-2BD8-41DB-BD26-5E923A74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7D052-B037-4ACA-867B-6D10FC1A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B8D1E-5E3F-40B6-9F0D-917BCED57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372-1421-4739-8C57-522609E0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A388-4C1D-4AC4-8AD0-B9A2FC17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E38-C302-4597-85A7-3C6303A9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807-2A18-4FBC-8C14-6AA3EA53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0555-C03E-4AB0-B42F-FC804368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49C-1C93-4F2F-AE86-512BF62A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3A2-6750-4BC4-8221-3AEE6878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D4FF-019A-4E6D-B572-8262E43AA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C7F1-8485-4A77-AEC4-8A6ECC893F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016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258480"/>
            <a:ext cx="8642160" cy="62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cc"/>
                </a:solidFill>
                <a:latin typeface="Tahoma"/>
              </a:rPr>
              <a:t>ГЕОГРАФИЯ – Э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МПЛЕКС НАУК,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ЗУЧАЮЩИЙ ВЗАИМОДЕЙСТВИЕ ПРИРОДЫ И ОБЩЕСТВА В ПРОЦЕССЕ ПРОИЗВОДСТВА МАТЕРИАЛЬНЫХ БЛАГ И УСЛУ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4046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 8.                                                                                                                                             Зарубежная Азия.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,2 Мы даем общую характеристику Зарубежной А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   Мы изучаем Китай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  Мы познаем Япон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  Мы «открываем» Инди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6,7 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познакомимся с Австралией и Океани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ма 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атинская Америка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,2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даем общую характеристику стран Латинской Америки. 3. Мы знакомимся с Бразили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79280" y="479520"/>
            <a:ext cx="874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асть 3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11. Глобальные проблемы человечества .     (4 час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Мы обосновываем глобальные проблемы человечества. Проблемы сохранения мира на Земле. Экологические пробл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емографическая продовольственная пробле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Энергетическая и сырьевая проблемы. Проблемы отсталости развевающихся стр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Проблемы Мирового океана.                                     10  часов на подготовку к экзамену по материалам ЕГЭ.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ff"/>
                </a:solidFill>
                <a:latin typeface="Tahoma"/>
              </a:rPr>
              <a:t>ЭКОНОМИЧЕСКАЯ ГЕОГРАФ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ЧАСТНЫЕ ЭКОНОМИКО-ГЕОГРАФИЧЕСК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НАУ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НАС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ПРОМЫШЛ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ГЕОГРАФИЯ С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/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  <a:ea typeface="Arial"/>
              </a:rPr>
              <a:t>ГЕОГРАФИЯ ТРАНСПОРТ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КАЖДАЯ ИМЕЕТ СВОЙ ОСОБЫЙ МЕТ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ИССЛЕД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0" y="1915920"/>
            <a:ext cx="4114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БЩАЯ ЭКОНОМ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ГЕОГРАФ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ИЗУЧЕНИЕ ХОЗЯЙСТВЕННО-ТЕРРИТОРИАЛЬНЫХ КОМПЛЕКСОВ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395280" y="98172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алендарно- тематическое  факультативных уроков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 10 класс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асть 1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щая характеристика мира (34 часа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24000" y="695160"/>
            <a:ext cx="864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Часть 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щая характеристика мира (34 час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час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. Современная политическая карта ми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одготовка к экзамену  с использованием диска «Репетитор по географи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суждение и анализ последних территориальных изменений на политической карте мира с использованием карт атласа, ресурсов  Интерн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684360" y="370080"/>
            <a:ext cx="7920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графия мировых природных ресурсов. Загрязнение и охрана окружающей среды (8 час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оцениваем мировые природные ресурсы. Мировые ресурсы минерального топли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Земельные ресур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Лесные ресур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Ресурсы пресной воды и Мирового оке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осмические   и   агроклиматические   ресурсы.   Альтернативные   источники энер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Мы рассматриваем загрязнения окружающей среды.                                                                            7,8.  Подготовка к экзамену с помощью материалов ЕГЭ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таблиц, картосхем атласа, составление  диаграмм, использование  тематического диска         « География – 2007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324000" y="253800"/>
            <a:ext cx="8569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3. География населения мира. (5 ча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,2. Мы знакомимся с численностью и воспроизводством населения, структура населения, размещение и миграции населения, городское и сельское насел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« Урбанизация - зло или благо?».                                                                                      4,5.  Подготовка к экзамену с помощью материалов ЕГ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 половозрастных пирамид, моделирование половозрастных пирами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 информационного материала диска «Социальная и экономическая география ,         10 кл.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179280" y="430560"/>
            <a:ext cx="8640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ма 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-техническая революция и мировое хозяйство. (  7 часо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Характеристика  НТ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 Изучение мирового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 Отраслевая и территориальная структура мирового хозя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 Факторы размещения промышленного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,6,7.  Подготовка к экзамену с помощью материалов ЕГЭ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 с дополнительной литератур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260280" y="175320"/>
            <a:ext cx="862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ма 5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ровое   хозяйство.   География   отраслей   мирового   хозяйства. (11 ча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Топливно-энергетическая промышленность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Электроэнергетика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Металлургия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Машиностроение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Химическая промышленность ми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Лесная и легкая отрасли промышлен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 Сельское хозяйство и земледелие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.Животноводство. Рыболов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. Мы занимаемся географией транспор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0,11.Подготовка к экзамену с использованием материалов ЕГЭ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0" y="7632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Часть 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ональная характеристика мира. (34ча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6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даем общую характеристику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Территориальная структура промышлен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ельскохозяйственные районы С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ы знакомимся с Кана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7. Зарубежная Европа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Мы даем общую характеристику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Территориальная структура хозяйства стран                    Зарубеж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Мы изучаем географический рисунок расселения и хозяй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Мы знакомимся с субрегионами и странами Зарубежной Европы. Страны Запад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Страны Восточной Европ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1:25:19Z</dcterms:created>
  <dc:creator>Nemo</dc:creator>
  <dc:description/>
  <dc:language>en-US</dc:language>
  <cp:lastModifiedBy>LEGION</cp:lastModifiedBy>
  <dcterms:modified xsi:type="dcterms:W3CDTF">2014-12-29T08:38:08Z</dcterms:modified>
  <cp:revision>12</cp:revision>
  <dc:subject/>
  <dc:title>Слайд 1</dc:title>
</cp:coreProperties>
</file>