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5EA0-36D7-4EC0-A230-8E4709E7E3C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ГЕОГРАФИЯ – Э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НАУ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785-71B1-4C70-BAB9-5EC68073FB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 Мы даем общую характеристику Зарубе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   Мы изучаем Кита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  Мы познаем Яп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  Мы «открываем» Инд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6,7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накомимся с Австралией и Океа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ая Америк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даем общую характеристику стран Латинской Америки. 3. Мы знакомимся с Бразил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FEB9-ADC6-4BD3-AF7C-F6CBA887FE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ь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A678-480D-483A-9A55-463DCC9FAA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СТНЫЕ ЭКОНОМИКО-ГЕО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С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/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ТРАН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ЖДАЯ ИМЕЕТ СВОЙ ОСОБЫЙ МЕТ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ЩАЯ ЭКОНОМИЧЕ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ИЗУЧЕНИЕ ХОЗЯЙСТВЕННО-ТЕРРИТОРИАЛЬНЫХ КОМПЛЕК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3AF0-1545-430C-8210-D59B86D2BD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10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D06-A154-4041-83A6-9EACC0FAA2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Современная политическая карта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4B71-3A38-4DDF-8E27-33238C8B9E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емель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Лес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сурсы пресной воды и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E100-F4E2-4BA5-BC6E-3F8192111F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География населения мира. (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E4D6-84B7-4139-B5C3-4221636429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Характеристика 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Изучение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дополнительной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7694-A933-4334-99D2-A299C62D5C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лектроэнергетик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еталлургия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шинострое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Хим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есная и легкая отрасли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льское хозяйство и земледелие.    8.Животноводство. Рыболов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Мы занимаемся географией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5671-EC18-4A9E-90E2-ABA2FB9EF0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Часть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характеристика мира. (34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ельскохозяйственные районы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комимся с Кана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Зарубежная Европ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траны Восточ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41E-14B3-4A00-88C5-8D5CB709AF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64E-94B3-4007-9E8A-0C0632DF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FF9-A150-4C82-8430-5A502789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796-0026-42D1-ADA4-9688F9D5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728-39D8-423C-BAF2-8C4536FA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C10F7-7FF4-4391-86D0-DBD9363D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31067-822E-43E2-84FB-6AFA0850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AE853-C51C-4A89-A4E1-89A16B6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48F49-F5C8-484C-9069-6F432AC1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C9EE2-F963-4ACA-A710-84CDB64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1A32D-F023-45E9-BE26-A776E60F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443D2-1838-4B3B-A668-169119AE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123-49ED-49E0-B3C2-4548038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F3E85-08DB-44A8-9233-FF673514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FDF82-91BA-408F-AE39-6C0A026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CF5B-5385-4067-984A-B857391B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B274B-6C6E-4B09-B756-38F3C1E8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E7437-817E-4B90-981E-B3F9BAFB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1CF-35B0-4835-B4F2-82E7034B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4BA-C34C-441A-A82B-6744F5D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B8F-240B-4161-BB76-E0AFE4F4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F6D-57C9-4365-8681-154D2366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AC5-5D15-4CF3-B3F6-8CE86DAA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863-67D2-468A-927B-F054F36E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2B4-4368-4DBF-A711-6FC7F33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ABE4-F5F2-41F5-836F-D0491C068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E523-E7DB-4D77-B443-9BEAD76565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258480"/>
            <a:ext cx="864216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Tahoma"/>
              </a:rPr>
              <a:t>ГЕОГРАФИЯ –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МПЛЕКС НАУК,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2 Мы даем общую характеристику Зарубежной А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  Мы изучаем Китай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 Мы познаем Япо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 Мы «открываем» Инд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,7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познакомимся с Австралией и Океан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тинская Америк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даем общую характеристику стран Латинской Америки. 3. Мы знакомимся с Бразил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9280" y="47952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ь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ЭКОНОМИЧЕСКАЯ 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ЧАСТНЫЕ ЭКОНОМИКО-ГЕОГРАФ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С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/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ЕОГРАФИЯ ТРАНСПОР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КАЖДАЯ ИМЕЕТ СВОЙ ОСОБЫ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ЩАЯ 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ИЗУЧЕНИЕ ХОЗЯЙСТВЕННО-ТЕРРИТОРИАЛЬНЫХ КОМПЛЕКС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98172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10 класс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24000" y="69516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ча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Современная политическая карта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3700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ель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с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сурсы пресной воды и 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24000" y="25380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3. География населения мира. (5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79280" y="4305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Характеристика  Н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Изучение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ополнительной литера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60280" y="175320"/>
            <a:ext cx="862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Электроэнергетика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таллургия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ашиностроение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им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Лесная и легкая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ельское хозяйство и земледели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Животноводство. Рыбол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Мы занимаемся географией транспо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763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асть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ая характеристика мира. (34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промышл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ельскохозяйственные районы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знакомимся с Кана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7. Зарубежная Европ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траны Восточ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1:25:19Z</dcterms:created>
  <dc:creator>Nemo</dc:creator>
  <dc:description/>
  <dc:language>en-US</dc:language>
  <cp:lastModifiedBy>LEGION</cp:lastModifiedBy>
  <dcterms:modified xsi:type="dcterms:W3CDTF">2014-12-29T08:38:08Z</dcterms:modified>
  <cp:revision>12</cp:revision>
  <dc:subject/>
  <dc:title>Слайд 1</dc:title>
</cp:coreProperties>
</file>