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A865-11D6-47A4-AC85-39E552A900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ИВНОГО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Россия и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8F9D-0C27-4BD1-9E1B-E386E9DDA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2C76-275D-4AF7-B97B-40DF6555E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A676-34EE-458F-BA7A-6BAB4E0A8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6F97-28B7-4C04-9C76-DF1E0DBC5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труктура кур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E8DC-F037-4EA5-9F00-91E3F68AA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AD11-385B-4C41-A616-2BB856988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ED7-1AE7-47C6-A77F-F29F99EFC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CFAA-1E38-487B-9C3B-E1850FA8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7BC3-B086-4EE6-A664-8C5237AE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E946-57B6-4FA0-8092-1C004002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B3AC-BA6E-4175-BE14-B7AD49F8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1354-AEB5-47E7-8E5E-D007DCC6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AB4E-DAE7-4A88-A2EC-E253146A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CFCA-BA9E-4996-A8DA-41EE303C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04D6-968C-43CA-BA47-9781BE81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83BE-8AFA-474C-BB27-7E111BCE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7CDB-3939-463E-A011-7E230FC2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115B-B4A1-41AF-B3E9-038BE34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6CF4-0E27-4187-AFE6-28B6C772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148A-8095-42DF-A032-F3F471F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E1CF-DCCE-448A-A386-CADCD161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042C-C34C-4A57-A981-FE52B9C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57C2-EFEF-40B8-8390-226E0F34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D351-8230-4AB5-8C00-6E9F8FF5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69A2-7AF2-4064-B55F-B1C42462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9BED-F42B-4A7C-939E-E0CCD33A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02CF-4360-48A0-83F3-576FB80B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7FD4-07E9-4E1E-BFE2-AC29D29D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98AC-90D9-4031-8D66-47C9318C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A58E-7FD7-4546-8CEF-ED163C39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000B-72D2-49BC-8427-62A0EBBD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859C-B332-4C02-BE5E-3DA6B97403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CA02-3E10-4ACD-A832-645E915697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Коммерческая география.</a:t>
            </a:r>
            <a:br>
              <a:rPr sz="3500"/>
            </a:b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Россия и мировой рын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H01046J"/>
          <p:cNvPicPr/>
          <p:nvPr/>
        </p:nvPicPr>
        <p:blipFill>
          <a:blip r:embed="rId1"/>
          <a:stretch/>
        </p:blipFill>
        <p:spPr>
          <a:xfrm>
            <a:off x="7308720" y="4292640"/>
            <a:ext cx="154332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800"/>
            </a:b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800"/>
            </a:b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S01635_"/>
          <p:cNvPicPr/>
          <p:nvPr/>
        </p:nvPicPr>
        <p:blipFill>
          <a:blip r:embed="rId1"/>
          <a:stretch/>
        </p:blipFill>
        <p:spPr>
          <a:xfrm>
            <a:off x="6804000" y="404640"/>
            <a:ext cx="19810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Структура кур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37_"/>
          <p:cNvPicPr/>
          <p:nvPr/>
        </p:nvPicPr>
        <p:blipFill>
          <a:blip r:embed="rId1"/>
          <a:stretch/>
        </p:blipFill>
        <p:spPr>
          <a:xfrm>
            <a:off x="6372360" y="3213000"/>
            <a:ext cx="2771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5:51:57Z</dcterms:created>
  <dc:creator>user</dc:creator>
  <dc:description/>
  <dc:language>en-US</dc:language>
  <cp:lastModifiedBy>LEGION</cp:lastModifiedBy>
  <dcterms:modified xsi:type="dcterms:W3CDTF">2014-12-29T09:02:52Z</dcterms:modified>
  <cp:revision>8</cp:revision>
  <dc:subject/>
  <dc:title>Коммерческая ге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1000000000001024140</vt:lpwstr>
  </property>
</Properties>
</file>