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DBFB2-C81A-4F04-A31B-4851348ED3F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ГРАММА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ЭЛЕКТИВНОГО КУРС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be0e3"/>
                </a:solidFill>
                <a:latin typeface="Arial"/>
              </a:rPr>
              <a:t>Коммерческая география.</a:t>
            </a:r>
            <a:br>
              <a:rPr sz="1200"/>
            </a:br>
            <a:r>
              <a:rPr b="0" lang="ru-RU" sz="1200" spc="-1" strike="noStrike">
                <a:solidFill>
                  <a:srgbClr val="bbe0e3"/>
                </a:solidFill>
                <a:latin typeface="Arial"/>
              </a:rPr>
              <a:t>Россия и мировой рыно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902F2-EC69-499E-8F0F-76B06E0F27F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be0e3"/>
                </a:solidFill>
                <a:latin typeface="Arial"/>
              </a:rPr>
              <a:t>ПРОГРАММА </a:t>
            </a:r>
            <a:br>
              <a:rPr sz="1200"/>
            </a:br>
            <a:r>
              <a:rPr b="0" lang="ru-RU" sz="1200" spc="-1" strike="noStrike">
                <a:solidFill>
                  <a:srgbClr val="bbe0e3"/>
                </a:solidFill>
                <a:latin typeface="Arial"/>
              </a:rPr>
              <a:t>ЭЛЕКТИВНОГО КУРСА</a:t>
            </a:r>
            <a:br>
              <a:rPr sz="1200"/>
            </a:br>
            <a:r>
              <a:rPr b="1" i="1" lang="ru-RU" sz="1200" spc="-1" strike="noStrike">
                <a:solidFill>
                  <a:srgbClr val="bbe0e3"/>
                </a:solidFill>
                <a:latin typeface="Arial"/>
              </a:rPr>
              <a:t>Коммерческая география. Россия  и  мировой рыно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ективный курс предпрофильной подготовки для учащихся 9-х клас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 34 час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иление базового кур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работан на основе авторской программы и учебника Е.Л.Плисецкого «Коммерческая география. Россия и мировой рынок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B405F-515E-4D17-AA02-4D9849E0258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bbe0e3"/>
                </a:solidFill>
                <a:latin typeface="Arial"/>
              </a:rPr>
              <a:t>Цел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ная цель – формирование у учащихся представлений о коммерческой географии как научном направлении, имеющем важное практическое значение в условиях современных рыночных отнош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ирование представлений об особенностях и тенденциях развития рынка в России, ее месте в мировом хозяйств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C89C3-13F0-47E5-B119-67B9B3A0122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be0e3"/>
                </a:solidFill>
                <a:latin typeface="Arial"/>
              </a:rPr>
              <a:t>Задач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учить основы коммерческой географ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ть общее представление об условиях и факторах территориальной организации рынка и развития предпринимательства в Росс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смотреть особенности отраслевых рынков, в том числе финансовой и инвестиционной дея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основе статистических данных научить строить и анализировать графики и диаграм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D985C-178B-4C3F-B1CA-EB74DF0281E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bbe0e3"/>
                </a:solidFill>
                <a:latin typeface="Arial"/>
              </a:rPr>
              <a:t>Структура курс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оретическая часть – 18 час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ктическая часть – 14 час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четные занятия – 2 ча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55465-EF01-4893-89C6-6560F03D8FF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bbe0e3"/>
                </a:solidFill>
                <a:latin typeface="Arial"/>
              </a:rPr>
              <a:t>ПРОГРАММА </a:t>
            </a:r>
            <a:br>
              <a:rPr sz="1400"/>
            </a:br>
            <a:r>
              <a:rPr b="0" lang="ru-RU" sz="1400" spc="-1" strike="noStrike">
                <a:solidFill>
                  <a:srgbClr val="bbe0e3"/>
                </a:solidFill>
                <a:latin typeface="Arial"/>
              </a:rPr>
              <a:t>ЭЛЕКТИВНОГО КУРСА</a:t>
            </a:r>
            <a:br>
              <a:rPr sz="1400"/>
            </a:br>
            <a:r>
              <a:rPr b="1" i="1" lang="ru-RU" sz="1400" spc="-1" strike="noStrike">
                <a:solidFill>
                  <a:srgbClr val="bbe0e3"/>
                </a:solidFill>
                <a:latin typeface="Arial"/>
              </a:rPr>
              <a:t>Коммерческая география. </a:t>
            </a:r>
            <a:br>
              <a:rPr sz="1400"/>
            </a:br>
            <a:r>
              <a:rPr b="1" i="1" lang="ru-RU" sz="1400" spc="-1" strike="noStrike">
                <a:solidFill>
                  <a:srgbClr val="bbe0e3"/>
                </a:solidFill>
                <a:latin typeface="Arial"/>
              </a:rPr>
              <a:t>Россия  и  мировой рыно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ояснительная записка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к элективному курсу в 9 класс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«Коммерческая география. Россия и мировой рынок»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ективный курс разработан на основе авторской программы и учебника Евгения Леонидовича Плисецкого «Коммерческая география. Россия и мировой рынок». Предназначен для изучения в профильных классах общеобразовательной школы социально-гуманитарной направленности, а также в учебных заведениях с углубленным изучением географических и экономических дисциплин – гимназиях, лицеях, колледж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ной целью курса является формирование у учащихся представлений о коммерческой географии как научном направлении, имеющим важное практическое значение в условиях современных рыночных отношений, о факторах, особенностях и тенденциях формирования рынка в России, ее месте в мировом хозяйств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DD80B-34CE-4D7A-89D3-6CB757348B6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bbe0e3"/>
                </a:solidFill>
                <a:latin typeface="Arial"/>
              </a:rPr>
              <a:t>ПРОГРАММА </a:t>
            </a:r>
            <a:br>
              <a:rPr sz="1400"/>
            </a:br>
            <a:r>
              <a:rPr b="0" lang="ru-RU" sz="1400" spc="-1" strike="noStrike">
                <a:solidFill>
                  <a:srgbClr val="bbe0e3"/>
                </a:solidFill>
                <a:latin typeface="Arial"/>
              </a:rPr>
              <a:t>ЭЛЕКТИВНОГО КУРСА</a:t>
            </a:r>
            <a:br>
              <a:rPr sz="1400"/>
            </a:br>
            <a:r>
              <a:rPr b="1" i="1" lang="ru-RU" sz="1400" spc="-1" strike="noStrike">
                <a:solidFill>
                  <a:srgbClr val="bbe0e3"/>
                </a:solidFill>
                <a:latin typeface="Arial"/>
              </a:rPr>
              <a:t>Коммерческая география. </a:t>
            </a:r>
            <a:br>
              <a:rPr sz="1400"/>
            </a:br>
            <a:r>
              <a:rPr b="1" i="1" lang="ru-RU" sz="1400" spc="-1" strike="noStrike">
                <a:solidFill>
                  <a:srgbClr val="bbe0e3"/>
                </a:solidFill>
                <a:latin typeface="Arial"/>
              </a:rPr>
              <a:t>Россия  и  мировой рыно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курсе изучаются основы коммерческой географии, дается общее представление об условиях и факторах территориальной организации рынка и развития предпринимательства в России; рассматриваются особенности отраслевых рынков промышленной и сельскохозяйственной продукции, потребительских товаров и услуг, инфраструктуры рынка, в том числе сферы торговли, финансовой и инвестиционной деятельности, транспор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урс состоит из лекционного материала, рассчитанного на 18 часов изучения, практической части – 14 часов и двух зачетных занят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о-методический комплект соответствует требованиям профильного обучения в средней школе и современной концепции географического образования в Росс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C9B39-0C64-4174-92DE-3D58F1A187B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6CFB34-D6A9-4DA1-86F1-FADA864BF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2413D2-2358-4F0F-9D1A-32DB4A5B0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FA56E2-10A4-4E7B-8B0F-E88845149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CFB99B-E42C-4553-B645-24565B839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2936A-9021-4C87-A8CF-1839C7A4D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20D58-55C3-4F8B-AFCD-4DD6011C5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CA6C9-B3C5-40B3-9ED6-807D4BA87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5ACD4-00B1-4B39-B8F8-3868C0531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72651-CFA5-49DF-8290-A88616365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BE1B0-1399-4C71-BC0C-B8E00FEE5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22085-5BC3-4615-9FF5-10ACD051B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471196-16AB-4702-9F9F-74A442956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41D73-339D-45F0-9793-C0C66F48D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C6967-412D-4266-9DDE-492D2560E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D1B27-9925-4D86-BC8A-39A2A1C4C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DA838-A5B3-42AE-BB1B-4A0FACA17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B22C2-C3D5-48AB-8AA5-0AB063949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21ADCC-54A6-4D08-B066-CDA12C8BC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B5AA81-6CAB-4CF1-A854-64F2FB05B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6949A7-E46C-4C06-B36D-3B7A626ED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AB96E-671E-40CB-BCD0-0F639483B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33FB15-1BF4-439C-A74C-0C7D22C92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CF1BBE-BD48-4E9B-BE4E-236173A9E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B6FA9C-28DB-4865-BC43-C1059BDFE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08C69-218B-4B82-9117-9D22D321A71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779f92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779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779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779f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779f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EF28E-738A-420A-ABE1-9ABE9A12869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ПРОГРАММА </a:t>
            </a:r>
            <a:br>
              <a:rPr sz="3800"/>
            </a:b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ЭЛЕКТИВНОГО КУРСА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547640" y="4653000"/>
            <a:ext cx="601992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33cccc"/>
                </a:solidFill>
                <a:latin typeface="Arial"/>
              </a:rPr>
              <a:t>Коммерческая география.</a:t>
            </a:r>
            <a:br>
              <a:rPr sz="3500"/>
            </a:br>
            <a:r>
              <a:rPr b="0" lang="ru-RU" sz="3500" spc="-1" strike="noStrike">
                <a:solidFill>
                  <a:srgbClr val="33cccc"/>
                </a:solidFill>
                <a:latin typeface="Arial"/>
              </a:rPr>
              <a:t>Россия и мировой рынок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PH01046J"/>
          <p:cNvPicPr/>
          <p:nvPr/>
        </p:nvPicPr>
        <p:blipFill>
          <a:blip r:embed="rId1"/>
          <a:stretch/>
        </p:blipFill>
        <p:spPr>
          <a:xfrm>
            <a:off x="7308720" y="4292640"/>
            <a:ext cx="1543320" cy="227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Місце для нижнього колонтитула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91520" cy="17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cccc"/>
                </a:solidFill>
                <a:latin typeface="Arial"/>
              </a:rPr>
              <a:t>ПРОГРАММА </a:t>
            </a:r>
            <a:br>
              <a:rPr sz="2800"/>
            </a:br>
            <a:r>
              <a:rPr b="0" lang="ru-RU" sz="2800" spc="-1" strike="noStrike">
                <a:solidFill>
                  <a:srgbClr val="33cccc"/>
                </a:solidFill>
                <a:latin typeface="Arial"/>
              </a:rPr>
              <a:t>ЭЛЕКТИВНОГО КУРСА</a:t>
            </a:r>
            <a:br>
              <a:rPr sz="2800"/>
            </a:br>
            <a:r>
              <a:rPr b="1" i="1" lang="ru-RU" sz="2800" spc="-1" strike="noStrike">
                <a:solidFill>
                  <a:srgbClr val="33cccc"/>
                </a:solidFill>
                <a:latin typeface="Arial"/>
              </a:rPr>
              <a:t>Коммерческая география. Россия  и  мировой рын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95280" y="2565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лективный курс предпрофильной подготовки для учащихся 9-х клас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 34 час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силение базового кур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работан на основе авторской программы и учебника Е.Л.Плисецкого «Коммерческая география. Россия и мировой рынок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Місце для нижнього колонтитула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cccc"/>
                </a:solidFill>
                <a:latin typeface="Arial"/>
              </a:rPr>
              <a:t>Цел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лавная цель – формирование у учащихся представлений о коммерческой географии как научном направлении, имеющем важное практическое значение в условиях современных рыночных отнош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ирование представлений об особенностях и тенденциях развития рынка в России, ее месте в мировом хозяйств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BS01635_"/>
          <p:cNvPicPr/>
          <p:nvPr/>
        </p:nvPicPr>
        <p:blipFill>
          <a:blip r:embed="rId1"/>
          <a:stretch/>
        </p:blipFill>
        <p:spPr>
          <a:xfrm>
            <a:off x="6804000" y="404640"/>
            <a:ext cx="1981080" cy="19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Місце для нижнього колонтитула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cccc"/>
                </a:solidFill>
                <a:latin typeface="Arial"/>
              </a:rPr>
              <a:t>Задач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8820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учить основы коммерческой географ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ать общее представление об условиях и факторах территориальной организации рынка и развития предпринимательства в Росс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смотреть особенности отраслевых рынков, в том числе финансовой и инвестиционной деятель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основе статистических данных научить строить и анализировать графики и диаграм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Місце для нижнього колонтитула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cccc"/>
                </a:solidFill>
                <a:latin typeface="Arial"/>
              </a:rPr>
              <a:t>Структура курс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оретическая часть – 18 час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актическая часть – 14 час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четные занятия – 2 ча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AG00037_"/>
          <p:cNvPicPr/>
          <p:nvPr/>
        </p:nvPicPr>
        <p:blipFill>
          <a:blip r:embed="rId1"/>
          <a:stretch/>
        </p:blipFill>
        <p:spPr>
          <a:xfrm>
            <a:off x="6372360" y="3213000"/>
            <a:ext cx="277164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Місце для нижнього колонтитула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91520" cy="145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33cccc"/>
                </a:solidFill>
                <a:latin typeface="Arial"/>
              </a:rPr>
              <a:t>ПРОГРАММА </a:t>
            </a:r>
            <a:br>
              <a:rPr sz="2500"/>
            </a:br>
            <a:r>
              <a:rPr b="0" lang="ru-RU" sz="2500" spc="-1" strike="noStrike">
                <a:solidFill>
                  <a:srgbClr val="33cccc"/>
                </a:solidFill>
                <a:latin typeface="Arial"/>
              </a:rPr>
              <a:t>ЭЛЕКТИВНОГО КУРСА</a:t>
            </a:r>
            <a:br>
              <a:rPr sz="2500"/>
            </a:br>
            <a:r>
              <a:rPr b="1" i="1" lang="ru-RU" sz="2500" spc="-1" strike="noStrike">
                <a:solidFill>
                  <a:srgbClr val="33cccc"/>
                </a:solidFill>
                <a:latin typeface="Arial"/>
              </a:rPr>
              <a:t>Коммерческая география. </a:t>
            </a:r>
            <a:br>
              <a:rPr sz="2500"/>
            </a:br>
            <a:r>
              <a:rPr b="1" i="1" lang="ru-RU" sz="2500" spc="-1" strike="noStrike">
                <a:solidFill>
                  <a:srgbClr val="33cccc"/>
                </a:solidFill>
                <a:latin typeface="Arial"/>
              </a:rPr>
              <a:t>Россия  и  мировой рынок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213336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яснительная записк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 элективному курсу в 9 класс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«Коммерческая география. Россия и мировой рынок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Элективный курс разработан на основе авторской программы и учебника Евгения Леонидовича Плисецкого «Коммерческая география. Россия и мировой рынок». Предназначен для изучения в профильных классах общеобразовательной школы социально-гуманитарной направленности, а также в учебных заведениях с углубленным изучением географических и экономических дисциплин – гимназиях, лицеях, колледжах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Главной целью курса является формирование у учащихся представлений о коммерческой географии как научном направлении, имеющим важное практическое значение в условиях современных рыночных отношений, о факторах, особенностях и тенденциях формирования рынка в России, ее месте в мировом хозяйстве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Місце для нижнього колонтитула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33cccc"/>
                </a:solidFill>
                <a:latin typeface="Arial"/>
              </a:rPr>
              <a:t>ПРОГРАММА </a:t>
            </a:r>
            <a:br>
              <a:rPr sz="2500"/>
            </a:br>
            <a:r>
              <a:rPr b="0" lang="ru-RU" sz="2500" spc="-1" strike="noStrike">
                <a:solidFill>
                  <a:srgbClr val="33cccc"/>
                </a:solidFill>
                <a:latin typeface="Arial"/>
              </a:rPr>
              <a:t>ЭЛЕКТИВНОГО КУРСА</a:t>
            </a:r>
            <a:br>
              <a:rPr sz="2500"/>
            </a:br>
            <a:r>
              <a:rPr b="1" i="1" lang="ru-RU" sz="2500" spc="-1" strike="noStrike">
                <a:solidFill>
                  <a:srgbClr val="33cccc"/>
                </a:solidFill>
                <a:latin typeface="Arial"/>
              </a:rPr>
              <a:t>Коммерческая география. </a:t>
            </a:r>
            <a:br>
              <a:rPr sz="2500"/>
            </a:br>
            <a:r>
              <a:rPr b="1" i="1" lang="ru-RU" sz="2500" spc="-1" strike="noStrike">
                <a:solidFill>
                  <a:srgbClr val="33cccc"/>
                </a:solidFill>
                <a:latin typeface="Arial"/>
              </a:rPr>
              <a:t>Россия  и  мировой рынок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 курсе изучаются основы коммерческой географии, дается общее представление об условиях и факторах территориальной организации рынка и развития предпринимательства в России; рассматриваются особенности отраслевых рынков промышленной и сельскохозяйственной продукции, потребительских товаров и услуг, инфраструктуры рынка, в том числе сферы торговли, финансовой и инвестиционной деятельности, транспорт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Курс состоит из лекционного материала, рассчитанного на 18 часов изучения, практической части – 14 часов и двух зачетных занятий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Учебно-методический комплект соответствует требованиям профильного обучения в средней школе и современной концепции географического образования в Росси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4T05:51:57Z</dcterms:created>
  <dc:creator>user</dc:creator>
  <dc:description/>
  <dc:language>en-US</dc:language>
  <cp:lastModifiedBy>LEGION</cp:lastModifiedBy>
  <dcterms:modified xsi:type="dcterms:W3CDTF">2014-12-29T09:02:52Z</dcterms:modified>
  <cp:revision>8</cp:revision>
  <dc:subject/>
  <dc:title>Коммерческая географ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201000000000001024140</vt:lpwstr>
  </property>
</Properties>
</file>