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8B58-8CED-49D0-89A2-3808AF8A4FD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: «Введение»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№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знакомить с новым направлением в мире – глобальная география; формировать глобальное мышление; развивать познавательный интерес к общечеловеческим проблем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FD3C-48A7-4F85-BAE7-8DD64AFDA52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ип занятия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рма работы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лекция, фронтальная (1 ча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669D-B4B6-4767-B14B-BE70192FB7C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изучает глобальная географ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я глобальной географии с другими науками и дисциплин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лобальный» - охватывает весь Земной ш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ланетарный» - относящийся к Земле, как части солнеч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тернациональный» - культурологическое происхо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E0B9-2A15-408D-BD15-7596D5865FC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ъек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- вся Земля (процессы, явления, закономерности, проблем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77E1-6E7D-4E5E-B389-80430B8E0EE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нать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владение системой знаний о глобальных проблемах современности: естественно – научных и общественных. Интегрировать знания по другим предметам, максимально использовать общеобразовательный и культурологический потенциал географии как учебного предм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зывать и показыв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различных картах мира государства, столицы, крупнейшие промышленные и культурные центры мира, транспортные центры, природные ресурсы и районы их размещения, районы нового освоения, сельскохозяйственные районы, основные формы правления и государственного устр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пределя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экономического развития стран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зисные явления, угрожающие отдельным культурам и территор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ающие формы и сферы жизн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арактеризов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ьные проблемы соврем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родные, природно – антропогенные, психологические, аутэкологические проблемы современности, которые либо создают угрозу современности, либо служат лимитирующими факторами её разви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ъясня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ние природных, экологических, социальных, экономических на особенности и размещение населения Земли; экологические ситуации отдельных территорий и стран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новение и обострение глобальных проблем человечества; особенности рационального и нерационального природопольз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гнозиров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пы роста населения Земли в цел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направления антропогенного воздействия на природную среду в современном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A7C3-F539-48AC-BF77-24E4E024AD0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истик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ая геога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учебна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сследует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бучает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1987-470B-4E07-9682-AB9899D3AD0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курса «Глобальная географ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5A93-0CED-4F29-9B69-9AB9D2B16A8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887C-1390-448C-A2FC-5F6B5A0A6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8303-4394-4B4C-A6E3-87AE8052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4C3F-A90D-44BB-AF19-246BB8309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A3D1-299F-4F96-B881-954643A4A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0002A-8AF8-4A5E-9EAD-7C8332F2A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F2E9B-3348-49D0-B780-FC5EA46E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3479C-3901-4A6B-A911-5FD47F65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0736E-BC3F-455D-AA97-73B472D5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5F1F0-AE83-4CFD-BEA9-A12D3216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91962-AAE7-458E-883C-2BE2A7CD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26B9A-5860-4BDA-AF64-73448D1F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D77F-8110-4D04-AD80-CD6DAA5C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9B724-CF09-4BC4-83CE-5405CF2C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E6822-F391-4691-8A97-562D174C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BD084-1678-4F08-A1DE-3FEE0863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D8261-62C3-473B-B37C-55335CF08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DD8D3-F656-49B8-A160-2B7BFD7A0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593A-4174-41FA-A35D-A6E6D56A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C12C-4770-4FAB-A766-1E156421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7C16-E321-4A6A-BB6D-22315DFC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CF0D-A7CA-4774-87F6-8BCC3B5E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74E3-30EA-47D7-AC9D-D0430D6B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5C92-3410-4E2B-9EC3-06B02AAB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779B-156F-4EA5-83C5-B4D02F32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2492-C746-4141-B2C0-805A4C86762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7EB6-E479-461B-9A03-115C13264CD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3e3ff"/>
                </a:solidFill>
                <a:latin typeface="Arial"/>
              </a:rPr>
              <a:t>Тема: «Введение»  </a:t>
            </a:r>
            <a:br>
              <a:rPr sz="5400"/>
            </a:b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урок №1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ль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знакомить с новым направлением в мире – глобальная география; формировать глобальное мышление; развивать познавательный интерес к общечеловеческим проблем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ип занятия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лек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хнология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И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а работы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лекция, фронтальная (1 час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лан ле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изучает глобальная географ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теграция глобальной географии с другими науками и дисциплин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ня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глобальный» - охватывает весь Земной ш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планетарный» - относящийся к Земле, как части солнечной систе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интернациональный» - культурологическое происхожд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ъек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- вся Земля (процессы, явления, закономерности, проблем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Знать: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владение системой знаний о глобальных проблемах современности: естественно – научных и общественных. Интегрировать знания по другим предметам, максимально использовать общеобразовательный и культурологический потенциал географии как учебного предме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азывать и показывать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 различных картах мира государства, столицы, крупнейшие промышленные и культурные центры мира, транспортные центры, природные ресурсы и районы их размещения, районы нового освоения, сельскохозяйственные районы, основные формы правления и государственного устрой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Определять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ровень экономического развития стран мир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ризисные явления, угрожающие отдельным культурам и территория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ешающие формы и сферы жизни человек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Характеризовать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лобальные проблемы современност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иродные, природно – антропогенные, психологические, аутэкологические проблемы современности, которые либо создают угрозу современности, либо служат лимитирующими факторами её развит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Объяснять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лияние природных, экологических, социальных, экономических на особенности и размещение населения Земли; экологические ситуации отдельных территорий и стран мир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озникновение и обострение глобальных проблем человечества; особенности рационального и нерационального природопользова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рогнозировать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емпы роста населения Земли в цело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сновные направления антропогенного воздействия на природную среду в современном мир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лобалистик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лобальная геогаф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к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учебна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исципл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исследует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обучает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зучение курса «Глобальная географи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95280" y="2997360"/>
          <a:ext cx="7834320" cy="2614320"/>
        </p:xfrm>
        <a:graphic>
          <a:graphicData uri="http://schemas.openxmlformats.org/drawingml/2006/table">
            <a:tbl>
              <a:tblPr/>
              <a:tblGrid>
                <a:gridCol w="2089080"/>
                <a:gridCol w="5745240"/>
              </a:tblGrid>
              <a:tr h="541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ждисциплинарны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ографически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фференцированны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лобальны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блемны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15:55:24Z</dcterms:created>
  <dc:creator>Your User Name</dc:creator>
  <dc:description/>
  <dc:language>en-US</dc:language>
  <cp:lastModifiedBy>LEGION</cp:lastModifiedBy>
  <dcterms:modified xsi:type="dcterms:W3CDTF">2014-12-29T08:38:52Z</dcterms:modified>
  <cp:revision>5</cp:revision>
  <dc:subject/>
  <dc:title>Тема: «Введение»   урок №1</dc:title>
</cp:coreProperties>
</file>