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1FE9-33D3-40DA-9A2A-01DADC6F175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: «Введение»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№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знакомить с новым направлением в мире – глобальная география; формировать глобальное мышление; развивать познавательный интерес к общечеловеческим проблем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445F-995D-4148-B641-80855A08F24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ип заняти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рма работы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лекция, фронтальная (1 ча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F370-C753-409E-95C2-2848ED0E86C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изучает глобальная географ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я глобальной географии с другими науками и дисциплин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лобальный» - охватывает весь Земной ш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ланетарный» - относящийся к Земле, как части солнеч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тернациональный» - культурологическое происхо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FBDE-F8E0-4E57-9FA7-495757DBE10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ъек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- вся Земля (процессы, явления, закономерности, проблем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ACD9-2B09-46CA-8662-ED3AA87E39C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нать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владение системой знаний о глобальных проблемах современности: естественно – научных и общественных. Интегрировать знания по другим предметам, максимально использовать общеобразовательный и культурологический потенциал географии как учебного предм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зывать и показыв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различных картах мира государства, столицы, крупнейшие промышленные и культурные центры мира, транспортные центры, природные ресурсы и районы их размещения, районы нового освоения, сельскохозяйственные районы, основные формы правления и государственного устр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пределя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экономического развития стран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зисные явления, угрожающие отдельным культурам и территор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ающие формы и сферы жизн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арактеризов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ьные проблемы соврем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родные, природно – антропогенные, психологические, аутэкологические проблемы современности, которые либо создают угрозу современности, либо служат лимитирующими факторами её разви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ъясня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природных, экологических, социальных, экономических на особенности и размещение населения Земли; экологические ситуации отдельных территорий и стран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новение и обострение глобальных проблем человечества; особенности рационального и нерационального природопольз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гнозиров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пы роста населения Земли в цел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направления антропогенного воздействия на природную среду в современном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E485-AA2D-48BF-B667-AECC9454D6D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истик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ая геога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учебна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сследует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бучает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D4D9-4041-47F8-B23F-15C4D5B6C18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курса «Глобальная географ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436B-A682-47FA-A89A-D5A13B4413D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84E8-374B-42CD-97BF-04D4269FE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A57D-E2D2-4188-8CC4-F9891EDA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7E60-03F3-4D07-AAA8-5E9246A4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0167-DD73-41BB-9203-150ED9AD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0C5AC-F729-4A2C-8D98-C733190B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823D9-4AAE-417C-BE89-C4DB7817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5DBB1-64DA-4DC2-A198-195D0A7D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3042D-084C-4EDE-84D4-37075C53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5721F-2788-4777-B285-19244DF1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231CE-48D1-4397-9D97-2F324246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8EFBD-0283-4FCA-BDE6-2145AC44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93C9-6B5D-4AA2-8BEA-201BAF51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FCF18-B724-4925-8A3F-733C22D3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B6B98-88A9-49C9-B1E5-FA4A264D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79934-409F-4E68-80F5-DC3D841B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62C26-A784-45A2-81B0-DC4552AE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6F564-7695-4ABF-9CF1-0D34594E3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4E5F-78BA-425D-AC78-31269433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9923-0FD0-40DE-B378-4654D909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63A5-A0D9-4293-8C7E-789117E0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9B68-E702-4D3C-8C20-DEABFCBE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A444-AC6D-4D1D-ADB0-0F296910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E5B8-02C9-4040-86E7-FE06CB8F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EDB2-53B6-40A9-9559-8585D5D7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82E0-EED7-488D-9166-8341CF8751D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ECD4-690C-4001-9FA6-29E8E324FCB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3e3ff"/>
                </a:solidFill>
                <a:latin typeface="Arial"/>
              </a:rPr>
              <a:t>Тема: «Введение»  </a:t>
            </a:r>
            <a:br>
              <a:rPr sz="5400"/>
            </a:b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урок №1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знакомить с новым направлением в мире – глобальная география; формировать глобальное мышление; развивать познавательный интерес к общечеловеческим проблем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ип занятия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лек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хнология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И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а работы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лекция, фронтальная (1 час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лан ле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изучает глобальная географ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теграция глобальной географии с другими науками и дисциплин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ня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глобальный» - охватывает весь Земной ш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планетарный» - относящийся к Земле, как части солнечной систе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интернациональный» - культурологическое происхожд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ъек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- вся Земля (процессы, явления, закономерности, проблем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Знать: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владение системой знаний о глобальных проблемах современности: естественно – научных и общественных. Интегрировать знания по другим предметам, максимально использовать общеобразовательный и культурологический потенциал географии как учебного предме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азывать и показыва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 различных картах мира государства, столицы, крупнейшие промышленные и культурные центры мира, транспортные центры, природные ресурсы и районы их размещения, районы нового освоения, сельскохозяйственные районы, основные формы правления и государственного устрой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Определя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ровень экономического развития стран мир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ризисные явления, угрожающие отдельным культурам и территория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ешающие формы и сферы жизни человек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Характеризова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лобальные проблемы современност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иродные, природно – антропогенные, психологические, аутэкологические проблемы современности, которые либо создают угрозу современности, либо служат лимитирующими факторами её развит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Объясня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лияние природных, экологических, социальных, экономических на особенности и размещение населения Земли; экологические ситуации отдельных территорий и стран мир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озникновение и обострение глобальных проблем человечества; особенности рационального и нерационального природопользова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рогнозирова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емпы роста населения Земли в цело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сновные направления антропогенного воздействия на природную среду в современном мир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обалистик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обальная геогаф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к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учебна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сципл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исследует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обучает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зучение курса «Глобальная географи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95280" y="2997360"/>
          <a:ext cx="7834320" cy="2614320"/>
        </p:xfrm>
        <a:graphic>
          <a:graphicData uri="http://schemas.openxmlformats.org/drawingml/2006/table">
            <a:tbl>
              <a:tblPr/>
              <a:tblGrid>
                <a:gridCol w="2089080"/>
                <a:gridCol w="5745240"/>
              </a:tblGrid>
              <a:tr h="541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ждисциплинарн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ографически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фференцированн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обальн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блемн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15:55:24Z</dcterms:created>
  <dc:creator>Your User Name</dc:creator>
  <dc:description/>
  <dc:language>en-US</dc:language>
  <cp:lastModifiedBy>LEGION</cp:lastModifiedBy>
  <dcterms:modified xsi:type="dcterms:W3CDTF">2014-12-29T08:38:52Z</dcterms:modified>
  <cp:revision>5</cp:revision>
  <dc:subject/>
  <dc:title>Тема: «Введение»   урок №1</dc:title>
</cp:coreProperties>
</file>