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C3B90-A95B-471E-B10F-82AABC36F6D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ма: «Введение»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№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ь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знакомить с новым направлением в мире – глобальная география; формировать глобальное мышление; развивать познавательный интерес к общечеловеческим проблем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AAD29-A5E6-4CE0-AF67-4B76BE79DCE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ип занятия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л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я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орма работы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лекция, фронтальная (1 ча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B711-E5E3-4C38-BC42-E94D27AC707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лан л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изучает глобальная географ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грация глобальной географии с другими науками и дисциплин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глобальный» - охватывает весь Земной ш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ланетарный» - относящийся к Земле, как части солнечн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нтернациональный» - культурологическое происхож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07649-DE2B-4426-B2FB-79BCBC6D74D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ъек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- вся Земля (процессы, явления, закономерности, проблем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41C90-2AE2-4565-B279-C50D5C78064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нать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владение системой знаний о глобальных проблемах современности: естественно – научных и общественных. Интегрировать знания по другим предметам, максимально использовать общеобразовательный и культурологический потенциал географии как учебного предм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зывать и показыва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различных картах мира государства, столицы, крупнейшие промышленные и культурные центры мира, транспортные центры, природные ресурсы и районы их размещения, районы нового освоения, сельскохозяйственные районы, основные формы правления и государственного устро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пределя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ень экономического развития стран ми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изисные явления, угрожающие отдельным культурам и территори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шающие формы и сферы жизни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Характеризова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обальные проблемы современ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родные, природно – антропогенные, психологические, аутэкологические проблемы современности, которые либо создают угрозу современности, либо служат лимитирующими факторами её разви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ъясня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лияние природных, экологических, социальных, экономических на особенности и размещение населения Земли; экологические ситуации отдельных территорий и стран ми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никновение и обострение глобальных проблем человечества; особенности рационального и нерационального природопольз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гнозирова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мпы роста населения Земли в цел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направления антропогенного воздействия на природную среду в современном ми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075B7-E65A-48C4-AA75-441FD8C0ADB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истик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ьная геогаф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учебна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ципл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сследует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бучает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91B92-F5DE-4140-92A0-E0B6BF4B8B9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учение курса «Глобальная географ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BAA73-A08C-47E1-AEA7-E841637B9B1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B9B8-7710-478A-88AB-262E0961B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6DF3-DA8B-4AB6-9E9C-678FBF87C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2B47-57AE-486A-9BE2-3D093B9BF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A092-0ECE-4D98-A0A6-844B4FB4C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8CAE07-75BA-4ACC-980A-07D9F4A6D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ECCEBF-F218-44C9-893E-EAE7D6332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AAC416-3EAF-4609-A4BD-6F3ACCAA7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F7253C-66DB-48AB-8544-8AB0E7297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7A1398-6FED-498F-8071-59864E3C7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703E4B-330B-4FE9-9DA8-958DAE9F9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ACEEEF-CFDB-486E-A550-CF7E4F37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6278-DA89-4378-AC2B-1B93E0C46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4AAEC3-C950-4D2B-8C78-1A1FD42A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81C036-6EF3-4E2F-865F-5C92390C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C0F4E8-7D1B-4559-847C-57CF2E3C3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3094A6-BB01-454F-8BE9-B757A4370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538EF8-9CAE-4DD8-894A-1E265A7CC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FF5D-8C56-4730-B048-5150F9CCD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0F3C-EB92-4B53-ACF0-D0220A9E8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E26B-CADB-4EA4-902C-589A54787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45E7-9BA4-4875-975E-E6BD73EA7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0E39-9F9E-4EAC-99A7-4E5DB105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CDB2-AD1B-42E9-A12A-8DAEE1FF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5A45-D411-4F75-899C-F289E92A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560DF-B278-4903-B92B-2C9BBF1C31C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E612A-3757-4B7A-828F-A686EAE4B28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3e3ff"/>
                </a:solidFill>
                <a:latin typeface="Arial"/>
              </a:rPr>
              <a:t>Тема: «Введение»  </a:t>
            </a:r>
            <a:br>
              <a:rPr sz="5400"/>
            </a:b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урок №1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Цель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ознакомить с новым направлением в мире – глобальная география; формировать глобальное мышление; развивать познавательный интерес к общечеловеческим проблем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ип занятия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лекц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хнология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И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орма работы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лекция, фронтальная (1 час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лан лек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 изучает глобальная географ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теграция глобальной географии с другими науками и дисциплин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онят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глобальный» - охватывает весь Земной ша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планетарный» - относящийся к Земле, как части солнечной систем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интернациональный» - культурологическое происхожд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бъект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- вся Земля (процессы, явления, закономерности, проблемы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95280" y="836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Знать: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владение системой знаний о глобальных проблемах современности: естественно – научных и общественных. Интегрировать знания по другим предметам, максимально использовать общеобразовательный и культурологический потенциал географии как учебного предмет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Называть и показывать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 различных картах мира государства, столицы, крупнейшие промышленные и культурные центры мира, транспортные центры, природные ресурсы и районы их размещения, районы нового освоения, сельскохозяйственные районы, основные формы правления и государственного устройств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Определять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уровень экономического развития стран мира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ризисные явления, угрожающие отдельным культурам и территориям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решающие формы и сферы жизни человека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Характеризовать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глобальные проблемы современност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риродные, природно – антропогенные, психологические, аутэкологические проблемы современности, которые либо создают угрозу современности, либо служат лимитирующими факторами её развити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Объяснять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лияние природных, экологических, социальных, экономических на особенности и размещение населения Земли; экологические ситуации отдельных территорий и стран мира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озникновение и обострение глобальных проблем человечества; особенности рационального и нерационального природопользовани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Прогнозировать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темпы роста населения Земли в целом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сновные направления антропогенного воздействия на природную среду в современном мир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лобалистика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лобальная геогаф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ук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учебная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исципл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исследует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обучает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зучение курса «Глобальная география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395280" y="2997360"/>
          <a:ext cx="7834320" cy="2614320"/>
        </p:xfrm>
        <a:graphic>
          <a:graphicData uri="http://schemas.openxmlformats.org/drawingml/2006/table">
            <a:tbl>
              <a:tblPr/>
              <a:tblGrid>
                <a:gridCol w="2089080"/>
                <a:gridCol w="5745240"/>
              </a:tblGrid>
              <a:tr h="541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ход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ждисциплинарный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еографический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ифференцированный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лобальный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блемный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15:55:24Z</dcterms:created>
  <dc:creator>Your User Name</dc:creator>
  <dc:description/>
  <dc:language>en-US</dc:language>
  <cp:lastModifiedBy>LEGION</cp:lastModifiedBy>
  <dcterms:modified xsi:type="dcterms:W3CDTF">2014-12-29T08:38:52Z</dcterms:modified>
  <cp:revision>5</cp:revision>
  <dc:subject/>
  <dc:title>Тема: «Введение»   урок №1</dc:title>
</cp:coreProperties>
</file>