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gif" ContentType="image/gif"/>
  <Override PartName="/ppt/media/image8.gif" ContentType="image/gif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90883-4B86-4448-ADD0-167345BBC6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eeece1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91AF-4F8A-41F4-B330-AA8493534B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1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A857-1CB7-49B8-8D41-22EAF816E19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51BA3-0F6E-43AC-9496-25E36A22CE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E37B-F8F0-4E14-A5F7-43F0682C0E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12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263F9-30B5-4064-861F-C9E55D1367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EEF76-E3BE-4C3D-8ED9-B91A31C2ED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5989-7D02-42D2-BD06-E9D941DD222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C666D-4D6D-4308-B227-4ECE2EB089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7C0A-6FD8-40F8-B3A4-0179F9786C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63DA-B1A6-465C-90E0-302443ADA3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67A16-CD9A-4B3B-B75C-FB437F9A64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Лист оценки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8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7897-FEDA-487E-AC50-E585C18FAC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4F6-D9AA-4F14-95E7-5C60E47AED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E21-FD3C-466C-8492-299BF1C1DB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1F33-22F5-4863-8CA6-E3EBD12B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384E-4BEB-4615-8A0A-EE119747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6B49-57C4-4B5C-9944-8B6E970B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4CF-67A5-45FF-8BEB-94D62A5DF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CB935-C277-4E66-9767-1ABAD796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79A-249C-4FE7-B27A-A28C3909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C5ED-1973-4D7D-B84F-94B10EE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817-B9FB-45DF-ACB8-EDB4A6A6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D56FF-93B0-4C4B-AFC7-F7F39262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46A55-EB6F-4B24-BAA6-9A9F2553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3BCDD-10D4-4B92-8D82-2CE7EC0EA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B5F-49C3-4F18-B5EB-6E8B8B1A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85AD0-48A6-4DEB-9274-45A21C8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9DD3-611E-4419-967A-7DEF4B01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6E2C-3E4F-4445-ACC3-3C51A83E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FC76-D73E-4511-96A4-90C371ED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9108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87240" y="28191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29492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9108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87240" y="4570560"/>
            <a:ext cx="228168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171F-FC9C-4E41-A01F-D50FB523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1572-7A5F-47F8-87FF-DAAAE5C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DF59-9EEA-4928-B2B5-75020AB4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BF5-51CE-426E-9E09-3EBDBABA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294920" y="12189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7D90-401E-4D81-A3DF-4B24314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073A-AD8C-455F-90D2-C72A9E780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926240" y="45705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CD45-9DF0-4579-AB20-FE86F5DD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492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926240" y="2819160"/>
            <a:ext cx="3458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94920" y="4570560"/>
            <a:ext cx="7086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B3B8-9189-4949-9D54-A90078F6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2286000"/>
            <a:ext cx="53352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33520" y="2819520"/>
            <a:ext cx="533160" cy="533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1981080" y="533520"/>
            <a:ext cx="38124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762120" y="10666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1143000" y="685800"/>
            <a:ext cx="380880" cy="3808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2362320" y="152280"/>
            <a:ext cx="380880" cy="381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755640"/>
            <a:ext cx="5867280" cy="763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5715000" y="609480"/>
            <a:ext cx="304920" cy="30492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5562720" y="457200"/>
            <a:ext cx="304560" cy="30492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8458200" y="3962520"/>
            <a:ext cx="380880" cy="3808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8686800" y="3657600"/>
            <a:ext cx="380880" cy="380880"/>
          </a:xfrm>
          <a:prstGeom prst="rect">
            <a:avLst/>
          </a:prstGeom>
          <a:solidFill>
            <a:srgbClr val="cc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Group 14"/>
          <p:cNvGrpSpPr/>
          <p:nvPr/>
        </p:nvGrpSpPr>
        <p:grpSpPr>
          <a:xfrm>
            <a:off x="0" y="2286000"/>
            <a:ext cx="1066680" cy="1066680"/>
            <a:chOff x="0" y="2286000"/>
            <a:chExt cx="1066680" cy="1066680"/>
          </a:xfrm>
        </p:grpSpPr>
        <p:sp>
          <p:nvSpPr>
            <p:cNvPr id="13" name="Rectangle 15"/>
            <p:cNvSpPr/>
            <p:nvPr/>
          </p:nvSpPr>
          <p:spPr>
            <a:xfrm>
              <a:off x="0" y="2286000"/>
              <a:ext cx="533520" cy="53316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33520" y="281916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B0D8-7521-43EE-A6A1-BEEE49AF0DA4}" type="slidenum">
              <a:rPr b="1" lang="ru-RU" sz="28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" name="Group 21"/>
          <p:cNvGrpSpPr/>
          <p:nvPr/>
        </p:nvGrpSpPr>
        <p:grpSpPr>
          <a:xfrm>
            <a:off x="762120" y="152280"/>
            <a:ext cx="1981080" cy="1295640"/>
            <a:chOff x="762120" y="152280"/>
            <a:chExt cx="1981080" cy="1295640"/>
          </a:xfrm>
        </p:grpSpPr>
        <p:sp>
          <p:nvSpPr>
            <p:cNvPr id="20" name="Rectangle 22"/>
            <p:cNvSpPr/>
            <p:nvPr/>
          </p:nvSpPr>
          <p:spPr>
            <a:xfrm>
              <a:off x="1981440" y="533520"/>
              <a:ext cx="380880" cy="38088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762120" y="1066680"/>
              <a:ext cx="380880" cy="38124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1143000" y="685800"/>
              <a:ext cx="381240" cy="38088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362320" y="152280"/>
              <a:ext cx="380880" cy="38124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Line 2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6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63" name="Rectangle 7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8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9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10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11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3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70" name="Rectangle 14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3333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15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16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17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8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0099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9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cc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Rectangle 20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1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2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1294920" y="2819160"/>
            <a:ext cx="7086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51560" indent="-210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72040" indent="-210240">
              <a:spcBef>
                <a:spcPts val="700"/>
              </a:spcBef>
              <a:buClr>
                <a:srgbClr val="00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892520" indent="-21024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892520" indent="-2102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1294920" y="12189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6553080" y="6504840"/>
            <a:ext cx="1828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1295280" y="6504840"/>
            <a:ext cx="28958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4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3200" spc="-1" strike="noStrike">
                <a:solidFill>
                  <a:srgbClr val="fff3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77EF-FD45-4929-89EC-D818952FB685}" type="slidenum">
              <a:rPr b="1" lang="ru-RU" sz="3200" spc="-1" strike="noStrike">
                <a:solidFill>
                  <a:srgbClr val="fff3ff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&#1083;&#1080;&#1089;&#1090;%20&#1086;&#1094;&#1077;&#1085;&#1082;&#1080;%20&#1087;&#1088;&#1086;&#1077;&#1082;&#1090;&#1072;.doc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6" descr="Сибирский Федеральный округ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8" name="WordArt 7"/>
          <p:cNvSpPr txBox="1"/>
          <p:nvPr/>
        </p:nvSpPr>
        <p:spPr>
          <a:xfrm>
            <a:off x="539640" y="1557360"/>
            <a:ext cx="820908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Georgia"/>
              </a:rPr>
              <a:t>Рекреационная география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29" name="WordArt 8"/>
          <p:cNvSpPr txBox="1"/>
          <p:nvPr/>
        </p:nvSpPr>
        <p:spPr>
          <a:xfrm>
            <a:off x="1835280" y="2492280"/>
            <a:ext cx="5976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Georgia"/>
              </a:rPr>
              <a:t>Сибирского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0" name="WordArt 9"/>
          <p:cNvSpPr txBox="1"/>
          <p:nvPr/>
        </p:nvSpPr>
        <p:spPr>
          <a:xfrm>
            <a:off x="468360" y="4005360"/>
            <a:ext cx="82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584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Georgia"/>
              </a:rPr>
              <a:t>Федерального округа</a:t>
            </a:r>
            <a:endParaRPr b="1" i="1" lang="en-US" sz="1800" spc="1" strike="noStrike">
              <a:ln w="1584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Georgia"/>
              <a:ea typeface="Georgia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Элективный кур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858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620280"/>
            <a:ext cx="7669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язательные результаты обуче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086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Называть основные объекты отдыха, лечения, туризма на территории округа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писывать по картам географические особенности рекреационных объектов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бъяснять причины того или иного уровня развития рекреационного объекта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" name="Picture 8" descr="j0295178"/>
          <p:cNvPicPr/>
          <p:nvPr/>
        </p:nvPicPr>
        <p:blipFill>
          <a:blip r:embed="rId1"/>
          <a:stretch/>
        </p:blipFill>
        <p:spPr>
          <a:xfrm>
            <a:off x="6948360" y="5300640"/>
            <a:ext cx="2017800" cy="14349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57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19280" y="764640"/>
            <a:ext cx="6726240" cy="7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ип урока: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практическая рабо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31640" y="1268280"/>
            <a:ext cx="7086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Оборудование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ы атласа, статьи из журналов, фотографии различных объектов рекреации Сибирского Ф.О. (Телецкое озеро, озеро Яровое, озеро Байкал, Горная Шория), видеофильм «Байкал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Литератур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тлас. География России. Часть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 I,I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Омск, 2005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Алтай. Знакомое и неизвестное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российского географического журнала «Живописная Россия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Обзор журналов «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идактический материал: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карточка с планом описания объекта описания рекреационного объек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dedef7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4920" y="333000"/>
            <a:ext cx="708660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Ход уро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94920" y="1484280"/>
            <a:ext cx="7086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ступительное слово учителя о целях и задачах занят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10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Выполнение практической работы после четкого инструктажа учителя. Учащиеся разбиваются на группы по 3-4 человека, выбирают (по желанию) объект рекреации, для составления его характеристики. Характеристика объекта выполняются по плану.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План характеристики рекреационного объект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Географическое положение (ГП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тепень освоенности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бл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ерспектив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262d8"/>
            </a:gs>
            <a:gs pos="50000">
              <a:srgbClr val="c5c5f1"/>
            </a:gs>
            <a:gs pos="100000">
              <a:srgbClr val="6262d8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115640" y="1197000"/>
            <a:ext cx="7265880" cy="49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чащиеся озвучивают результаты работ и заполняют таблиц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.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Домашнее зад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а основе таблицы составить карту: «Рекреационные ресурсы Сибирского Ф.О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10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Разработать программу перспективного использования одного рекреационного ресурса (по выбору). Результаты представить  в творческой форме (форма выполнения выбирается с помощью учите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565360"/>
          <a:ext cx="7201080" cy="1225440"/>
        </p:xfrm>
        <a:graphic>
          <a:graphicData uri="http://schemas.openxmlformats.org/drawingml/2006/table">
            <a:tbl>
              <a:tblPr/>
              <a:tblGrid>
                <a:gridCol w="1800360"/>
                <a:gridCol w="1513080"/>
                <a:gridCol w="1871640"/>
                <a:gridCol w="2016000"/>
              </a:tblGrid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бъект рекреац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Г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епень освоен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роблемы и перспект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58560" y="692280"/>
            <a:ext cx="7086600" cy="13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Georgia"/>
              </a:rPr>
              <a:t>Список литературы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488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Соломин В.П., Финаров Д.П., Всемирное культурное и природное наследие//География в школе. – 1999. - №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олеванов В. Потому что они существуют//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GEO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. – 2007. - №3. – с.160-1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етров Н.Н. Методика преподавания географии в дифференцированной школе. – М., 2000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Кравцов В.М., Донукалова Р.П. География Новосибирской области. – Новосибирск., 199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Новосибирская область: природа, население, хозяйство. – Новосибирск, 2006г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Уфимцев Г., Сизов А. Были и явь степного Алтая//Живописная Россия. – 2006. - №3. – с. 15-17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География международного туризма // География в школе. – 2007. - №6. – с.70-7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Абдульмянов С.Н. Знакомтесь: Кош-Агач//География и экология в школе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XXI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 век. – 2006. - №4. – с. 21-25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5"/>
          <p:cNvSpPr/>
          <p:nvPr/>
        </p:nvSpPr>
        <p:spPr>
          <a:xfrm>
            <a:off x="1116000" y="1628640"/>
            <a:ext cx="7272360" cy="4608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009900">
                  <a:alpha val="51372"/>
                </a:srgbClr>
              </a:gs>
              <a:gs pos="50000">
                <a:srgbClr val="ffffff"/>
              </a:gs>
              <a:gs pos="100000">
                <a:srgbClr val="009900">
                  <a:alpha val="51372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94920" y="836280"/>
            <a:ext cx="7086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Приложение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63640" y="2276280"/>
            <a:ext cx="6618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Санатории Алта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Байкал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санаторий «Сибиряк»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Коллекция фотографий «Телецкое озеро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WordArt 5"/>
          <p:cNvSpPr txBox="1"/>
          <p:nvPr/>
        </p:nvSpPr>
        <p:spPr>
          <a:xfrm rot="640200">
            <a:off x="684000" y="1773360"/>
            <a:ext cx="7416720" cy="20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cap="rnd" w="1584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4791ff"/>
                    </a:gs>
                    <a:gs pos="100000">
                      <a:srgbClr val="0000cc"/>
                    </a:gs>
                  </a:gsLst>
                  <a:lin ang="4758000"/>
                </a:gradFill>
                <a:latin typeface="GothicG"/>
              </a:rPr>
              <a:t>Спасибо за внимание!</a:t>
            </a:r>
            <a:endParaRPr b="1" i="1" lang="en-US" sz="1800" spc="1" strike="noStrike">
              <a:ln cap="rnd" w="1584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4791ff"/>
                  </a:gs>
                  <a:gs pos="100000">
                    <a:srgbClr val="0000cc"/>
                  </a:gs>
                </a:gsLst>
                <a:lin ang="4758000"/>
              </a:gradFill>
              <a:latin typeface="GothicG"/>
              <a:ea typeface="GothicG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76000" y="907560"/>
            <a:ext cx="7086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Объяснительная записк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94920" y="1628280"/>
            <a:ext cx="7086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лективный курс «Рекреационная география Сибирского ФО» рассчитана на 18 часов и предназначен для изучения в социально-экономическом профиле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XI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ласс) профильной школ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е содержания курса лежат знания, уже усвоенные учащимися при изучении географии, экономики, истор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ль курса – создание у учащихся представления о туризме в Сибирском ФО, о его проблемах и перспективах; формирование знаний о рекреационной деятельности; воспитание патриотического отношения к родному краю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анный элективный курс является междисциплинарным и способствует решению следующих задач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е системой знаний о физико-географических и экономико-географических аспектах формирования рекреации в Сибирском ФО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владению учащимися знаниями, умениями и навыками, позволяющими им самостоятельно давать оценку о развитии туризма в рекреационных зонах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AutoShape 5"/>
          <p:cNvSpPr/>
          <p:nvPr/>
        </p:nvSpPr>
        <p:spPr>
          <a:xfrm rot="5400000">
            <a:off x="4011120" y="5502240"/>
            <a:ext cx="976320" cy="1439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3399ff"/>
              </a:gs>
              <a:gs pos="100000">
                <a:srgbClr val="000099"/>
              </a:gs>
            </a:gsLst>
            <a:lin ang="0"/>
          </a:gra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186920" y="1125360"/>
            <a:ext cx="72313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рс базируется на природно-географических, экономико-географических и др. составляющих и предполагает приобретение и развитие знаний у старшеклассников о рекреации в Сибирском ФО, проблемах и перспективах развития. А также курс позволяет применить полеченные знания в ходе подготовки индивидуальных проек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аботанный курс включает в себя сведения о природных ресурсах и природных условиях Сибирского ФО; экономический обзор туристической деятельности; географию рекреационных районов на территории Сибирского Ф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истема практических работ позволяет учащимся закрепить приобретённые знания, умения и навыки работы с картографическими, статистическими, экономико-географическими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ходе изучения данного курса возможно применение следующих форм обучения: урок, лекция, семинар, практикум, самостоятельная работа учащихся, экскурсии, представление и защита творческих рабо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d0f7d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63280" y="691920"/>
            <a:ext cx="7086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Содержание программ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2313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редмет и понятия рекреационная география. Место в системе наук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я – это определённые виды избирательной жизнедеятельности людей в свободное время и пространство, в котором они функционируют. Рекреационная география находится на стыке наук: географии, экономики, истории, экологии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ЛОК «Предмет и понятия рекреационная география. Место в системе наук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Физико-географические и экологические предпосылки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родные условия и природные ресурсы Сибирского ФО. Климат, рельеф и природные зоны данного региона. Экологическая обстановка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логического состояния территории Сибирского ФО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Экономико-географический фактор развития рекреации в Сибирском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кономический потенциал данной территории. Общий уровень развития, структура хозяйства, качество жизни, степень урбанизированности и мобильности насел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дать оценку экономико-географического положения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AutoShape 5"/>
          <p:cNvSpPr/>
          <p:nvPr/>
        </p:nvSpPr>
        <p:spPr>
          <a:xfrm rot="5400000">
            <a:off x="3986280" y="5958000"/>
            <a:ext cx="606240" cy="876240"/>
          </a:xfrm>
          <a:custGeom>
            <a:avLst/>
            <a:gdLst>
              <a:gd name="textAreaLeft" fmla="*/ 75600 w 606240"/>
              <a:gd name="textAreaRight" fmla="*/ 530640 w 606240"/>
              <a:gd name="textAreaTop" fmla="*/ 218880 h 876240"/>
              <a:gd name="textAreaBottom" fmla="*/ 657360 h 876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d200"/>
              </a:gs>
              <a:gs pos="100000">
                <a:srgbClr val="ffffff"/>
              </a:gs>
            </a:gsLst>
            <a:lin ang="0"/>
          </a:gra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d200"/>
            </a:gs>
            <a:gs pos="100000">
              <a:srgbClr val="bff4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560" y="1125360"/>
            <a:ext cx="7086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4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лассы туристической деятельности. Виды туризма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лассификация туристической деятельности. Виды туризма. Особенности туристической деятельности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туристический маршрут.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5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Туристический рынок на территории Сибирского ФО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сто туризма на Мировом рынке и на внутреннем рынке. Особенности туристического бизне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я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 туристическим фирмам г. Новосибирс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9900"/>
              </a:buClr>
              <a:buSzPct val="11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Тема 6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екреационные ресурсы Сибирского ФО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екреационно-ресурсный потенциал территории, выражающийся в количестве и качестве природных и культурно-исторических ресурсов. Проблемы и перспективы развит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составить таблицу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Самостоятельная работа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основе таблицы составить карту : «Рекреационные ресурсы Сибирского ФО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ворческое задание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разработать программу одного рекреационного ресурса по выбору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Экскурсии: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на святой источник г. Ложок; по санаториям и лагерям г. Бердска (санатории: «Рассвет», «Сибиряк» и др.; ДОЛ  «Юбилейный»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18920" y="836280"/>
            <a:ext cx="6265800" cy="62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Тематическое планирова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71640" y="1413000"/>
          <a:ext cx="7905600" cy="5364000"/>
        </p:xfrm>
        <a:graphic>
          <a:graphicData uri="http://schemas.openxmlformats.org/drawingml/2006/table">
            <a:tbl>
              <a:tblPr/>
              <a:tblGrid>
                <a:gridCol w="701640"/>
                <a:gridCol w="2836800"/>
                <a:gridCol w="968400"/>
                <a:gridCol w="1036800"/>
                <a:gridCol w="1234800"/>
                <a:gridCol w="1127160"/>
              </a:tblGrid>
              <a:tr h="647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ча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к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минары, прак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скурс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мет и понятие рекреационная география. Место в системе наук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ко-географические и экологические предпосылки развития рекреации в Сибирском Ф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кономико-географический фактор развития рекреации в Сибирском Ф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ы туристической деятельности. Виды туризм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ристический рынок на территории Сибирского Ф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креационная география Сибирского ФО. Проблемы и перспективы развит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58560" y="83664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Georgia"/>
              </a:rPr>
              <a:t>Контрольно-измерительные материал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41672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  <a:hlinkClick r:id="rId2"/>
              </a:rPr>
              <a:t>Лист оценки проект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4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Индивидуальная карта взаимооценки участника проектировани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74"/>
          <p:cNvSpPr/>
          <p:nvPr/>
        </p:nvSpPr>
        <p:spPr>
          <a:xfrm>
            <a:off x="-9216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7"/>
          <p:cNvSpPr/>
          <p:nvPr/>
        </p:nvSpPr>
        <p:spPr>
          <a:xfrm>
            <a:off x="1116000" y="4221000"/>
            <a:ext cx="705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80"/>
          <p:cNvGrpSpPr/>
          <p:nvPr/>
        </p:nvGrpSpPr>
        <p:grpSpPr>
          <a:xfrm>
            <a:off x="611280" y="3716280"/>
            <a:ext cx="7705800" cy="2881440"/>
            <a:chOff x="611280" y="3716280"/>
            <a:chExt cx="7705800" cy="2881440"/>
          </a:xfrm>
        </p:grpSpPr>
        <p:sp>
          <p:nvSpPr>
            <p:cNvPr id="153" name="AutoShape 76"/>
            <p:cNvSpPr/>
            <p:nvPr/>
          </p:nvSpPr>
          <p:spPr>
            <a:xfrm>
              <a:off x="611280" y="3716280"/>
              <a:ext cx="7705800" cy="2881440"/>
            </a:xfrm>
            <a:prstGeom prst="horizontalScroll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19080">
              <a:solidFill>
                <a:srgbClr val="6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78"/>
            <p:cNvSpPr/>
            <p:nvPr/>
          </p:nvSpPr>
          <p:spPr>
            <a:xfrm>
              <a:off x="1403280" y="4221000"/>
              <a:ext cx="6769080" cy="21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Все пункты оцениваются по единой бальной системе: 0, 5, 10, 15, 20 баллов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Самооценка и оценка класса выставляются по критериям подготовки и защиты проекта, оценки учителя выставляются только по критериям защиты проекта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WordArt 79"/>
            <p:cNvSpPr txBox="1"/>
            <p:nvPr/>
          </p:nvSpPr>
          <p:spPr>
            <a:xfrm>
              <a:off x="1042920" y="4221000"/>
              <a:ext cx="488880" cy="62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5840">
                    <a:solidFill>
                      <a:srgbClr val="c4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latin typeface="Goudy Stout"/>
                </a:rPr>
                <a:t>!</a:t>
              </a:r>
              <a:endParaRPr b="1" i="1" lang="en-US" sz="1800" spc="1" strike="noStrike">
                <a:ln w="15840">
                  <a:solidFill>
                    <a:srgbClr val="c4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Goudy Stout"/>
                <a:ea typeface="Goudy Stout"/>
              </a:endParaRPr>
            </a:p>
          </p:txBody>
        </p:sp>
      </p:grpSp>
      <p:sp>
        <p:nvSpPr>
          <p:cNvPr id="156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4920" y="2133360"/>
            <a:ext cx="8497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Georgia"/>
              </a:rPr>
              <a:t>Тема: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Рекреационные ресурсы Сибирского Федерального округа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Проблемы и перспектив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572000" y="105264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имер ур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ffc7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294920" y="1125000"/>
            <a:ext cx="7086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одолжить формирование представлений о рекреационных ресурсах Сибирского Ф.О., проблемах и перспективах развития отдыха, туризма, леч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звивать мышление и речь учащихся, в процессе работы с печатными изданиями и последующем представлении результатов работ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содействовать экологическому воспитанию, при рассмотрении проблем стоящих перед объектами рекреации Сибирского Ф.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Picture 5" descr="j0297003"/>
          <p:cNvPicPr/>
          <p:nvPr/>
        </p:nvPicPr>
        <p:blipFill>
          <a:blip r:embed="rId1"/>
          <a:stretch/>
        </p:blipFill>
        <p:spPr>
          <a:xfrm>
            <a:off x="6588000" y="115920"/>
            <a:ext cx="2376720" cy="16952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1295280" y="6505200"/>
            <a:ext cx="28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4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3:56:03Z</dcterms:created>
  <dc:creator>Шаманаев С.Н.</dc:creator>
  <dc:description/>
  <dc:language>en-US</dc:language>
  <cp:lastModifiedBy>LEGION</cp:lastModifiedBy>
  <dcterms:modified xsi:type="dcterms:W3CDTF">2014-12-29T09:12:55Z</dcterms:modified>
  <cp:revision>51</cp:revision>
  <dc:subject/>
  <dc:title>Тема: Рекреационные ресурсы Сибирского Федерального округа. Проблемы и перспективы</dc:title>
</cp:coreProperties>
</file>