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B0D8-D143-4316-8552-09EA308152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болевания внутренних органов у беременных. Беременность и п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Кафедра внутренних болезней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№2 и курс нефр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5260-1341-4194-B47C-354F1F6D85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ак строить взаимоотношения с беременны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основные правовые вопросы охраны здоровья матери 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1E6-25E8-46BC-82F5-EC6D734666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сбора анамнеза у беременной с патологией внутренних орг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пальпации, перкуссии, аускультации,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измерения АД и пульса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B076-917A-4D86-8732-0CB0039323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ой формулировки диагноза заболевания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E08F-8568-4C97-9EA6-7E0013671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9E1C-DB23-482F-8946-06B0549185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ПРИОБРЕТЕТЕ НАВЫ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клиническ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анализа и критического осмысления научной информации и доказа-те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ых взаимо-отношений с пациента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работы в коман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897D-37FD-4B51-9A21-F9303C705F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Ы ЗА ДЕВИЗ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ОРОВАЯ МАТЬ – ЗДОРОВЫЕ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0339-3A5F-40C9-B361-9A3A929D17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МЫ ПРЕДЛАГАЕМ И КО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1200" spc="-1" strike="noStrike">
                <a:solidFill>
                  <a:srgbClr val="244583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курса по специальности «Общая медицина» - 051301 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сего 13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, из них «Заболевания внутренних органов у беременных» -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90 часов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(практ. зан. – 60 час, СРС – 30 час)  и «Беременность и почки» -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(практ. зан. – 30 час, СРС – 15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Направления подготовки: «Врач общей практики», «Терап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4B46-2459-4327-AE85-B6E4351DB7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чему их важно изуча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1AB0-3956-4A89-901B-8C31AA9F25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ша 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000D-DED2-4C43-8D4A-0B142DEFF5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У БЕРЕМЕННЫХ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вичная и вторичная артериальная гипертен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рожденные и приобретенные порок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Аритмии и нарушения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ипартальная кардиомиопа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Хронический геп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Ревматоидный артрит и ДБ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0140-F04A-4AD7-95C8-A8AF138EBE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У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БЕРЕМЕННЫХ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фекция моче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ломерулонефриты и другие хронические болезни п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трая и хроническая почечная недостато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иабетическая нефропат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3D93-5EB0-4FF0-BD60-AB7429C296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Я ОБУЧЕНИЕ НА НАШЕМ МОДУЛЕ 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E029-EC66-41AD-868C-509632A230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1200" spc="-1" strike="noStrike">
                <a:solidFill>
                  <a:srgbClr val="000066"/>
                </a:solidFill>
                <a:latin typeface="Calibri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иски для матери и плода при наличии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AC0-EE36-4130-B616-84D75ACF9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8EE6-BF9E-43CB-8034-082A2D41D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412-F1A0-4CFA-AA20-56CA4AF4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A6E-7D40-4057-A609-66811377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5E9-1236-4AE7-9296-21CCDD7F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367-D324-4D7E-B612-CA310192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6FB1-3340-4392-841F-99DB3A88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31D9-3E32-4306-B7E8-E494BB70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A08A-CC29-434B-8C13-2C780DCA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E9EE-7DA4-4D13-A5C3-83E93827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C1E-BD9C-4B35-999B-12A6CBA1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98CF-04B9-4AA9-BD0D-8CCE84E9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DF57-84EA-435D-A1F4-DF32387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F9F-8686-4562-8C4C-582FBCD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4031-69DD-4F99-AB60-8FB1D59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F4C-335F-4E0A-B7F2-3E5D9875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83B6-9D61-40D4-B425-6B3D318D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811D-B99B-4157-B1BE-5A7444D4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75EB-4466-4ABC-95AF-B1B2DEE1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49CC2-10D9-4798-BDDD-500CA362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24D3B-0839-4584-BBB2-7359047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DF65A-CF76-4366-AC36-1A29054F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ABC75-4945-4C1C-BD45-0C8A13FF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1BE70-A0D6-4DA4-B709-DC25523B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0A3-8670-40C5-85EA-67AA5F4F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3CBE3-0972-46A6-B67E-41C070AF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312A5-E3D9-42D5-92E9-CBFE8408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55E05-C73C-45E5-AB7F-5F19048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26AEB-047A-45C9-8EF3-7CF7F34E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9A754-284E-4318-9DEB-A58A14DF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E2E18-C0D6-4900-98C0-EA1E9760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78B8C-9F7A-4780-8397-D662EEE6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6CB5-16C7-40B0-A0F2-1BB0FB6D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A924-FA2D-4908-96BF-08323852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D223-E90F-45A7-84B8-5E338E82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E95-8429-4798-BAF3-2C3B709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A9555-9C7C-403B-AF57-0A8906F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088BC-6850-4D9F-B996-60B9C408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E2E8-9296-4971-9F42-186B966B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3AC8-48E1-4977-9762-07023F86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BF77-564C-452F-A5AC-9BD9055C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280F-DA0C-4633-9E21-4CB125A1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7FD6-C30A-4024-BEC8-6CC873F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E768F-F297-456F-B345-B4819135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A25F-5A97-4E06-A429-8BD32279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64917-92B0-4491-9D74-80488ED7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4C5-0478-483A-9AB8-9D8680A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A4B36-36BE-4380-BD6A-5538337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7AEAD-1C91-4653-9FCC-32A64D67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D01B3-A3E4-4944-A199-29BED91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99AE0-0486-49E1-88D8-D741647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04F3C-A667-4B35-AE5F-F1BB5DBA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0102E-6F4B-455B-9000-6975774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45392-F8F8-4B36-9793-8B979F0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FEAD9-58C5-4915-8675-5FB622F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1CCCE-1A98-4F27-90E6-B2A3CEFC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F7839-4FFE-484C-B776-0FCB30CA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0B1-E22B-4E06-A75C-D34289DD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D80B3-E7EC-4B72-ABE6-DF65E5F4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F9171-BFD9-40CE-8C7B-037162D4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692E5-2DA2-4A84-BA9D-09CCCDD8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7DB8C-09AB-4785-BC73-18B7BFFA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2D689-8337-433F-8BDA-0BF78773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D88A1-ED58-4180-9C1B-A1931717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ECCC1-12EA-4A70-9D10-C6D3D060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18648-F0DA-4B97-9D9D-C82286E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EDDBA-2F79-4BC3-AEEC-015D4F3E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1DF8E-BF42-4DCA-A361-9F131FE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774-672B-47BE-8CE0-3BCE887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E40FD-7FAA-4E4B-9282-92F1989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97DA4-B69A-4F36-A0D5-BFD67262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8BF0A-7666-4D5F-BBE2-152634AE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A179D-DADC-4CA1-A8DB-140A0239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869D3-B88C-42CE-B019-B7099B75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1E22B-1754-4E46-8C42-3F1A9061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96064-82EF-406F-BD17-F9412A18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4DE7D-C352-44B8-BEFA-DB1288E4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2CBF3-1B0D-412B-9250-7BEF6B2D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8B017-28FB-424C-8426-DEA3877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64E-E549-4D7A-885D-EFAE65C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F3BD8-0AD2-4E13-B6DF-882FD98B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8D950-B8CA-4B1B-9402-B3ADD91D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128FC-FC67-49FE-9AF8-E0DB395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9F837-A308-41ED-97E6-DD3EABA9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F4DC0-627D-421A-B061-45FB1D32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50A-041D-47C1-BAA4-2CA206BB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ECFD-69C4-4AB5-BB35-3DBE447EAC4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E4A1-C812-4BCF-B5BE-0B711317DC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11DC-D2FE-4B46-A99B-C70E7E859D9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CE4E-C2A0-40DB-A445-7177EEEDDA3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77D3-3DB3-4145-9C1A-8CC9A3D16F91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1A8-7D1F-4EE7-BD9A-4118AE9D383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F63A-66E1-4713-9B44-F75F95B24DB9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9810-EE60-46D6-9961-B1CA491559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3CF4-7E46-40F5-AAFC-32E171CF244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5626-4487-4396-9C4F-907A66673F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025-6AE4-46D9-8E6E-D333D9FD65ED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D25-C31B-4247-A554-00F2C3499AF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C68-50C9-4C1F-B2BA-56989089FA8F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010-A274-46A3-9417-FB521A5D441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500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entury Schoolbook"/>
              </a:rPr>
              <a:t>ЗАБОЛЕВАНИЯ ВНУТРЕННИХ ОРГАНОВ У БЕРЕМЕННЫХ. БЕРЕМЕННОСТЬ И ПОЧ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28920" y="4857480"/>
            <a:ext cx="6143760" cy="15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Кафедра внутренних болезней</a:t>
            </a:r>
            <a:r>
              <a:rPr b="1" lang="en-US" sz="32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№2 и курс нефрологи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6000840" y="642960"/>
            <a:ext cx="2619360" cy="4048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0040" y="1500120"/>
            <a:ext cx="440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ак строить взаимоотношения с беременны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сновные правовые вопросы охраны здоровья матери и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214960" y="4143240"/>
            <a:ext cx="2571840" cy="20718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257184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5429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13840" y="1357200"/>
            <a:ext cx="5357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бора анамнеза у беременной с патологией внутренних органов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альпации, перкуссии, аускультации, измерения АД и пульса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857320" cy="25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857920" y="2928960"/>
            <a:ext cx="2857320" cy="22147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2786040" y="4357800"/>
            <a:ext cx="2857680" cy="221436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6329160" cy="66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3840" y="1285560"/>
            <a:ext cx="5643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ой формулировки диагноза заболевания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929200" y="3786120"/>
            <a:ext cx="2786040" cy="278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6072120" y="1357200"/>
            <a:ext cx="2614680" cy="21430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485748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13880" y="1857240"/>
            <a:ext cx="4929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5786280" y="571680"/>
            <a:ext cx="278640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5857920" y="4357800"/>
            <a:ext cx="2786040" cy="2214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ПРИОБРЕТЕТЕ НАВЫК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6760" y="1714320"/>
            <a:ext cx="5643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линического мышл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нализа и критического осмысления научной информации и доказа-тельных исследова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ых взаимо-отношений с пациента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аботы в коман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000840" y="2357280"/>
            <a:ext cx="2714400" cy="2857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МЫ ЗА ДЕВИЗ: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ДОРОВАЯ МАТЬ – ЗДОРОВЫЕ ДЕТ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6143760" y="1714680"/>
            <a:ext cx="2214360" cy="166680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2076480" cy="1543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6143760" y="4000680"/>
            <a:ext cx="21430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3" name="Picture 5" descr=""/>
          <p:cNvPicPr/>
          <p:nvPr/>
        </p:nvPicPr>
        <p:blipFill>
          <a:blip r:embed="rId4"/>
          <a:stretch/>
        </p:blipFill>
        <p:spPr>
          <a:xfrm>
            <a:off x="571680" y="3929040"/>
            <a:ext cx="2071440" cy="18241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4" name="Picture 6" descr=""/>
          <p:cNvPicPr/>
          <p:nvPr/>
        </p:nvPicPr>
        <p:blipFill>
          <a:blip r:embed="rId5"/>
          <a:stretch/>
        </p:blipFill>
        <p:spPr>
          <a:xfrm>
            <a:off x="3429000" y="4000680"/>
            <a:ext cx="2019240" cy="1723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5" name="Picture 7" descr=""/>
          <p:cNvPicPr/>
          <p:nvPr/>
        </p:nvPicPr>
        <p:blipFill>
          <a:blip r:embed="rId6"/>
          <a:stretch/>
        </p:blipFill>
        <p:spPr>
          <a:xfrm>
            <a:off x="3429000" y="1785960"/>
            <a:ext cx="19288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2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9293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ЧТО МЫ ПРЕДЛАГАЕМ И КОМУ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99720"/>
            <a:ext cx="82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2800" spc="-1" strike="noStrike">
                <a:solidFill>
                  <a:srgbClr val="244583"/>
                </a:solidFill>
                <a:latin typeface="Century Schoolbook"/>
              </a:rPr>
              <a:t>V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курса по специальности «Общая медицина» - 051301 (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всего 13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, из них «Заболевания внутренних органов у беременных» - 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90 часов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(практ. зан. – 60 час, СРС – 30 час)  и «Беременность и почки» -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4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(практ. зан. – 30 час, СРС – 15 ча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Направления подготовки: «Врач общей практики», «Терапия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ОЧЕМУ ИХ ВАЖНО ИЗУЧАТЬ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071440"/>
            <a:ext cx="7472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20968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НАША ЦЕЛЬ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13840" y="1356840"/>
            <a:ext cx="40006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C:\Users\Назипа\Pictures\Кафедра 23.01.10\Кафедра 23.01.10 043 - копия.jpg"/>
          <p:cNvPicPr/>
          <p:nvPr/>
        </p:nvPicPr>
        <p:blipFill>
          <a:blip r:embed="rId2"/>
          <a:stretch/>
        </p:blipFill>
        <p:spPr>
          <a:xfrm>
            <a:off x="4214880" y="3857760"/>
            <a:ext cx="4286160" cy="267012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152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</a:t>
            </a:r>
            <a:r>
              <a:rPr b="1" lang="ru-RU" sz="2500" spc="-1" strike="noStrike" u="sng">
                <a:solidFill>
                  <a:srgbClr val="c00000"/>
                </a:solidFill>
                <a:uFillTx/>
                <a:latin typeface="Century Schoolbook"/>
              </a:rPr>
              <a:t>У БЕРЕМЕННЫХ 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БУДЕТЕ ИЗУЧАТЬ? 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99680" y="17146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вичная и вторичная артериальная гипертенз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рожденные и приобретенные пороки сердц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ритмии и нарушения проводим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ипартальная кардиомиопа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невмо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ронхиальная аст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Хронический гепат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евматоидный артрит и ДБС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У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БЕРЕМЕННЫХ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ВЫ БУДЕТЕ ИЗУЧАТЬ?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760" y="2214360"/>
            <a:ext cx="8215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Инфекция мочевой систем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Гломерулонефриты и другие хронические болезни поч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Острая и хроническая почечная недостаточ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Диабетическая нефропатия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ПРОЙДЯ ОБУЧЕНИЕ НА НАШЕМ МОДУЛЕ ВЫ БУДЕТЕ ЗНАТЬ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85480" y="1428840"/>
            <a:ext cx="5500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5715000" y="1500120"/>
            <a:ext cx="3000240" cy="3500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8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85560"/>
            <a:ext cx="46148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000066"/>
                </a:solidFill>
                <a:latin typeface="Century Schoolbook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риски для матери и плода при наличии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3429000" cy="2357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5072040" y="3929040"/>
            <a:ext cx="3643200" cy="244800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040" y="114300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5715000" y="1000080"/>
            <a:ext cx="2928960" cy="26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857920" y="3857760"/>
            <a:ext cx="2857320" cy="250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5:36:21Z</dcterms:created>
  <dc:creator>Назипа</dc:creator>
  <dc:description/>
  <dc:language>en-US</dc:language>
  <cp:lastModifiedBy>LEGION</cp:lastModifiedBy>
  <dcterms:modified xsi:type="dcterms:W3CDTF">2014-11-06T13:56:47Z</dcterms:modified>
  <cp:revision>128</cp:revision>
  <dc:subject/>
  <dc:title>Слайд 1</dc:title>
</cp:coreProperties>
</file>