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E510-0A08-4292-99BB-8327B7C991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болевания внутренних органов у беременных. Беременность и п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Кафедра внутренних болезней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№2 и курс нефр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2EF-113A-4066-AE3F-7A9F544D61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ак строить взаимоотношения с беременны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основные правовые вопросы охраны здоровья матери 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CB2B-B509-46AF-8088-DBE5EFA6E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сбора анамнеза у беременной с патологией внутренних орг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пальпации, перкуссии, аускультации,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измерения АД и пульса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5C80-ABCF-4668-9A5C-B48FFF822A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ой формулировки диагноза заболевания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0BA0-A026-4072-8106-EA3EA7572F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244-A54C-4D53-8E89-1C358DA67D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ПРИОБРЕТЕТЕ НАВЫ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клиническ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анализа и критического осмысления научной информации и доказа-те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ых взаимо-отношений с пациента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работы в коман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18B-05B5-49C0-9363-8D36C87A3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Ы ЗА ДЕВИЗ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ОРОВАЯ МАТЬ – ЗДОРОВЫЕ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E89E-F0D3-413F-9D65-DEAB02B68D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МЫ ПРЕДЛАГАЕМ И КО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1200" spc="-1" strike="noStrike">
                <a:solidFill>
                  <a:srgbClr val="244583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курса по специальности «Общая медицина» - 051301 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сего 13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, из них «Заболевания внутренних органов у беременных» -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90 часов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(практ. зан. – 60 час, СРС – 30 час)  и «Беременность и почки» -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(практ. зан. – 30 час, СРС – 15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Направления подготовки: «Врач общей практики», «Терап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7A3-F269-480B-9290-C4560C2EF1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чему их важно изуч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8663-5B2F-4E6A-A4DC-EA8097FE6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ша 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A4C-7010-4263-A442-04EEC2FD76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У БЕРЕМЕННЫХ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вичная и вторичная артериальная гипертен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рожденные и приобретенные порок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Аритмии и нарушения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ипартальная кардиомиопа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Хронический геп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Ревматоидный артрит и ДБ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67B5-4D42-430F-99AC-4CAF6BDEB5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У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БЕРЕМЕННЫХ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фекция моче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ломерулонефриты и другие хронические болезни п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трая и хроническая почечная недостато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иабетическая нефропат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D66-D0F5-430F-9C0E-2D4AEA58B4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Я ОБУЧЕНИЕ НА НАШЕМ МОДУЛЕ 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948-50A8-443A-95A8-19B00E5C4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1200" spc="-1" strike="noStrike">
                <a:solidFill>
                  <a:srgbClr val="000066"/>
                </a:solidFill>
                <a:latin typeface="Calibri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иски для матери и плода при наличии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3D9-5871-4560-A912-946CCAA884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FA0-9A34-4F76-85B9-F81159BB5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68D-7882-42EE-8E64-FC9A9FC2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F06-1451-4FCE-A383-13B40478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BFB-EEE2-4DA4-BA5C-1547EF93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6FF-F84E-4CF6-968C-7794318A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A01-35CF-4FAF-91E2-CB7F421F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4E2-2B65-41BB-B2EE-C8D54F26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0A44-6E02-40B2-A877-A93F3E0F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37D2-424A-4FDB-A8EF-DD4F4FD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E413-D7C4-4EE7-92C9-CB042E9D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196-3116-49B1-9515-D74F01C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1CE2-7F99-4A63-BBFB-ABEB7BA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15B-468F-4F79-9986-7C9B9D4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55B-43C2-4273-A4EE-3770D540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B6B-19DE-4A41-BCD6-3BC39016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102-748D-4592-81FE-209EC55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F806-2D7D-411D-9CC9-D9DB66A5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95D-D9E6-4B2D-895E-F775E057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D7A58-12CB-4286-A34E-3D10A9BB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E1F34-12C6-4A18-8A9C-20E73D4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EDFBB-D7EA-46B3-80C7-A738907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F96D8-A730-453E-BE20-F9A927E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22A2B-2C4F-4CBE-8DC4-7C043BE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BAD-E472-4157-9D89-B5B0770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485FC-42E2-41B7-B99E-6D3B8176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484C1-FE98-4BE1-97FA-78C1092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94B8C-F811-47AA-A404-00F5587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BF4A5-5FC0-403E-8B9B-E209DAA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EE0FF-A0F7-45D4-BFBD-1647BD38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5628F-314F-4626-82E4-F3EA8799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4332C-6E82-44B7-A2D2-F552E9E0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3EC3-3041-4F93-88E1-54AFE734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3162A-43A4-4188-A0E3-67649D1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1361-4EBC-4B20-9CE8-16E165E0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04A-7C48-40EC-BB4F-5CB994EA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CB9F-9807-41CA-A0D6-40E0BE1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78BB-E98A-4236-84AF-C1D31B78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D0C1-14C9-47BF-9CBA-7D7977F1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288D-4DC1-4EB9-9C0F-F92EED4F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E281-389A-418A-A76C-0DF8B25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1564-2181-4294-AA43-B28CCB4A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AB77-AC7C-48FC-8E76-F97ACFA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1940-3848-4217-A171-77409E71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845E-2733-4857-B163-798919FD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08ADA-99BF-49BA-83BD-AFF248C5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AEC-FAF6-4842-B026-D0015419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5240A-75B4-48C8-AE96-92C8F17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7FB11-0CBB-491F-BAE5-31F8C58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7B697-465A-4593-AC1C-B6B37EF4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D5004-8F19-4075-ABF4-9457B7E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ADFAC-1515-4EFD-A7AA-C055F43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AD564-7B90-4E48-9891-6A7884A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977E2-E238-4B00-82D0-5EE67691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4E79D-7ED8-49CD-8868-D4274B1A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97038-B23B-4FBB-9A87-C03F8466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16BF0-72D0-44E1-9E65-06C751A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0B7-FB62-44CE-AF7B-B688D125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39619-C44C-4633-BE42-B10C3118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111BB-7E00-4940-B7E8-76C34CD0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77BCC-54E9-42D1-8483-D95A3657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BE590-B0A7-4339-AE6E-543EC2F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CD245-4286-406E-9C7C-37B9BFE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5F7DA-2C61-48CC-8D5F-2EFBC47E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5940F-FE9E-4CBB-B134-46ACA3E0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C0F50-E4BF-4ED5-BD52-371CF5D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6B049-BDEC-49C2-81DB-729DFF7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9D741-55BB-4CCF-8C26-61C53202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01B-9CDC-45E1-8BEF-961A604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A6748-6C8B-49C0-A5A4-449A1E9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9EC52-B670-4E6B-9442-B29D61BB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B2226-16D3-4B7F-AF55-59CF6355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DA621-CF98-49D5-A5FF-8A0E9F00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E59FF-E8D4-4321-878D-07460DDF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05B26-CE24-41E1-8DF7-9F0A8B2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3EAB5-A45B-4AE0-902E-339E69B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E30EE-CE79-4935-B7F1-B693E327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7BF7A-60BF-4C3C-A2FD-F40BF78C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41679-1A3C-4B13-9775-4D9775D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18A-27CC-419D-B55C-546E2B2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1EB84-4734-4D5A-A494-AEBFBC0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D138E-963D-4DC1-8484-6319EB2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2AD6A-75AA-4F4D-A276-A173AD4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48401-0F64-4A02-96A9-73499721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4CE97-0E70-47B6-B277-BE9BF35C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93C-C700-41F1-9E48-9C89303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03D-3A35-44FE-B574-3565173F506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4B5C-F5A1-4E9C-BDDA-730ACE6241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42F7-0A1F-4A02-831F-83980984030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97E-BB91-4C00-8BFB-67DAA9733C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78B-F533-4DB4-96A0-EED43F231672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9B6E-A177-4188-BFAF-3DB77F0C6E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540-59F1-4346-AB19-0117CAC3050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2CF-36D9-4948-9374-17E610FC21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B2F3-8A1B-4874-8B00-2258F5CE486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755-0299-4B7A-9E5C-484213A887C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45A-575F-4CF3-BE40-484C7B425A6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5A0-FBC3-48A6-BF0D-EE9785F292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D16-4D3D-4883-87D9-57AA9A25672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DC82-CDF7-4EB4-91D9-E2270A1DC1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50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entury Schoolbook"/>
              </a:rPr>
              <a:t>ЗАБОЛЕВАНИЯ ВНУТРЕННИХ ОРГАНОВ У БЕРЕМЕННЫХ. БЕРЕМЕННОСТЬ И ПОЧ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28920" y="4857480"/>
            <a:ext cx="614376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Кафедра внутренних болезней</a:t>
            </a:r>
            <a:r>
              <a:rPr b="1" lang="en-US" sz="32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№2 и курс нефролог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000840" y="642960"/>
            <a:ext cx="2619360" cy="4048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500120"/>
            <a:ext cx="440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ак строить взаимоотношения с беременны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сновные правовые вопросы охраны здоровья матери и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214960" y="4143240"/>
            <a:ext cx="2571840" cy="2071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5718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3840" y="1357200"/>
            <a:ext cx="5357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бора анамнеза у беременной с патологией внутренних органо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альпации, перкуссии, аускультации, измерения АД и пульса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5732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857920" y="2928960"/>
            <a:ext cx="2857320" cy="22147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2857680" cy="221436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29160" cy="66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3840" y="1285560"/>
            <a:ext cx="5643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ой формулировки диагноза заболевания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786040" cy="27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6072120" y="1357200"/>
            <a:ext cx="2614680" cy="21430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4857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3880" y="1857240"/>
            <a:ext cx="4929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5786280" y="571680"/>
            <a:ext cx="27864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786040" cy="2214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ПРИОБРЕТЕТЕ НАВЫК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6760" y="1714320"/>
            <a:ext cx="56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линического мышл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нализа и критического осмысления научной информации и доказа-тельных исследова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ых взаимо-отношений с пациента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аботы в коман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2714400" cy="2857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МЫ ЗА ДЕВИЗ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ДОРОВАЯ МАТЬ – ЗДОРОВЫЕ ДЕТ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143760" y="1714680"/>
            <a:ext cx="2214360" cy="166680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2076480" cy="1543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6143760" y="4000680"/>
            <a:ext cx="21430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3" name="Picture 5" descr=""/>
          <p:cNvPicPr/>
          <p:nvPr/>
        </p:nvPicPr>
        <p:blipFill>
          <a:blip r:embed="rId4"/>
          <a:stretch/>
        </p:blipFill>
        <p:spPr>
          <a:xfrm>
            <a:off x="571680" y="3929040"/>
            <a:ext cx="2071440" cy="18241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5"/>
          <a:stretch/>
        </p:blipFill>
        <p:spPr>
          <a:xfrm>
            <a:off x="3429000" y="4000680"/>
            <a:ext cx="2019240" cy="1723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5" name="Picture 7" descr=""/>
          <p:cNvPicPr/>
          <p:nvPr/>
        </p:nvPicPr>
        <p:blipFill>
          <a:blip r:embed="rId6"/>
          <a:stretch/>
        </p:blipFill>
        <p:spPr>
          <a:xfrm>
            <a:off x="3429000" y="1785960"/>
            <a:ext cx="19288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2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929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ТО МЫ ПРЕДЛАГАЕМ И КОМУ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99720"/>
            <a:ext cx="82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2800" spc="-1" strike="noStrike">
                <a:solidFill>
                  <a:srgbClr val="244583"/>
                </a:solidFill>
                <a:latin typeface="Century Schoolbook"/>
              </a:rPr>
              <a:t>V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курса по специальности «Общая медицина» - 051301 (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сего 13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, из них «Заболевания внутренних органов у беременных» -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90 часов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(практ. зан. – 60 час, СРС – 30 час)  и «Беременность и почки» -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4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(практ. зан. – 30 час, СРС – 15 ча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Направления подготовки: «Врач общей практики», «Терапия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ОЧЕМУ ИХ ВАЖНО ИЗУЧАТЬ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440"/>
            <a:ext cx="7472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20968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НАША ЦЕЛЬ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3840" y="135684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Users\Назипа\Pictures\Кафедра 23.01.10\Кафедра 23.01.10 043 - копия.jpg"/>
          <p:cNvPicPr/>
          <p:nvPr/>
        </p:nvPicPr>
        <p:blipFill>
          <a:blip r:embed="rId2"/>
          <a:stretch/>
        </p:blipFill>
        <p:spPr>
          <a:xfrm>
            <a:off x="4214880" y="3857760"/>
            <a:ext cx="4286160" cy="267012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15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Century Schoolbook"/>
              </a:rPr>
              <a:t>У БЕРЕМЕННЫХ 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БУДЕТЕ ИЗУЧАТЬ?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9680" y="17146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вичная и вторичная артериальная гипертенз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рожденные и приобретенные пороки сердц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ритмии и нарушения проводим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ипартальная кардиомиопа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невмо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ронхиальная аст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Хронический гепат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евматоидный артрит и ДБС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У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БЕРЕМЕННЫХ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ВЫ БУДЕТЕ ИЗУЧАТЬ?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760" y="221436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Инфекция мочевой сис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Гломерулонефриты и другие хронические болезни поч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Острая и хроническая почечная недостаточ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Диабетическая нефропатия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ПРОЙДЯ ОБУЧЕНИЕ НА НАШЕМ МОДУЛЕ ВЫ БУДЕТЕ ЗНАТЬ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85480" y="1428840"/>
            <a:ext cx="5500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000240" cy="3500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8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85560"/>
            <a:ext cx="4614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000066"/>
                </a:solidFill>
                <a:latin typeface="Century Schoolbook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риски для матери и плода при наличии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429000" cy="235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5072040" y="3929040"/>
            <a:ext cx="3643200" cy="244800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1430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715000" y="1000080"/>
            <a:ext cx="292896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857920" y="3857760"/>
            <a:ext cx="2857320" cy="25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5:36:21Z</dcterms:created>
  <dc:creator>Назипа</dc:creator>
  <dc:description/>
  <dc:language>en-US</dc:language>
  <cp:lastModifiedBy>LEGION</cp:lastModifiedBy>
  <dcterms:modified xsi:type="dcterms:W3CDTF">2014-11-06T13:56:47Z</dcterms:modified>
  <cp:revision>128</cp:revision>
  <dc:subject/>
  <dc:title>Слайд 1</dc:title>
</cp:coreProperties>
</file>