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972F-1FE2-4C7D-A8B1-36D06B79C2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file:///../../&#1055;&#1088;&#1080;&#1084;&#1077;&#1088;&#1085;&#1099;&#1077;%20&#1079;&#1072;&#1076;&#1072;&#1085;&#1080;&#1103;%20&#1076;&#1083;&#1103;%20&#1091;&#1095;&#1072;&#1097;&#1080;&#1093;&#1089;&#1103;%20&#1088;&#1072;&#1079;&#1085;&#1086;&#1081;%20&#1089;&#1090;&#1077;&#1087;&#1077;&#1085;&#1080;%20&#1091;&#1089;&#1087;&#1077;&#1074;&#1072;&#1077;&#1084;&#1086;&#1089;&#1090;&#1080;.pptx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овая работа учителя г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презентация была создана на основе курсовой работы для обеспечения наглядности выступления учителя географии в рамках прохождения учителями естественнонаучных предметов курсовой переподготовки с марта по ноябрь 2008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фии МОУ лицея № 10 города Советска Калининградской области Ширшонковой Елены Нколаев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C8B3-20D4-46E1-A10A-D308BF05F8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азвитие познавательной деятельности можно определить как личностное свойство, которое приобретается, закрепляется и развивается в организованном процессе познания с учетом индивидуальных и 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оказателям познавательной активности можно отне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еж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знанность 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ие проя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в нестандартных учебных ситуациях; самостоятельность в принятии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F9E7-E38B-4574-ACFE-64E24E1D87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н А.А. приемы педагогической техники: Свобода выбора. Открытость. Деятельность. Обратная связь. Идеальность: Пособие для учителя – М.: Вита – Пресс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е технологии: Учебное пособие /Авт.-сост. Т.П. Сальникова. – М.: ТЦ Сфера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ротин В.И. Система географических заданий и упражнений как необходимое условие реализации деятельностного подхода при обучении географии. – М.: «География в школе» № 2/200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урок географии: Методическое разработки уроков / Сост. И.И. Баринова. – М.: Школа – Пресс, 2000 («География в школе». Библиотека журнала. Вып.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festival.1september/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6EA5-344F-4844-847B-675A23011D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ЛИЧНОСТНО – ОРИЕНТИРОВАННО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первое полугодие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второе полугодие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Ы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АД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ЛЯ УЧАЩИХСЯ РАЗНОЙ СТЕПЕНИ СЛ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 ИНДИВИДУАЛЬНОЙ РАБОТЫ ПО ГЕОГРАФИИ С 2005 ГОДА 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8A21-3819-494A-AA0E-1CEEC65CEA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информационное общество ставит перед школой задачу подготовки социально ориентирова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ускников, которые должны уме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оваться в меняющихся жизненных ситуациях, самостоятельно приобретая знания, применяя их на практ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 мыслить и находить пути решения возникающи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работать с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й интеллектуальный и культур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ь, что развивать познавательный интерес учащихся возможно не только на уроках географии, но и во внеурочное время через индивидуальные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259F-3523-4EDB-84B2-7FB541C4AD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К ГЕОГРАФИИ ЧЕРЕЗ ИСПОЛЬЗОВАНИЕ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СОВРЕМЕННЫХ ПЕДАГОГИЧЕСКИХ ТЕХНОЛОГ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к предмету возможно через использование современных педагогических технологий, в том числе через личностно-ориентированное обучение, инновационные и игров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 ставят в центр всей образовательной системы личность обучаемого, обеспечение комфортных, бесконфликтных условий ее развития, реализацию ее природных потенциалов. Ученик при этом – цель образовательной системы, а не средство достижения чего-либо отвле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D155-6538-4574-9B87-0555404B1D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в повышении качества географического образования играет умение учителя географии организовать учебную деятельность учащихся по практическому применению имеющихся у них теоретических знаний и самостоятельному получению из различных источников знаний, необходимых им для решения поставленных учебных зада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деятельностного подхода в процессе преподавания географии позволяет добиться высокого качества географического образования и подготовить учащихся к использованию своих географических знаний в реальной жизни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2D6D-9031-4644-AFF1-40A59D18F6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ЧЕРЕЗ ИНДИВИДУАЛЬНУЮ РАБОТУ  ПО  ГЕОГРАФИ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ВО ВНЕУРОЧНОЕ ВРЕМ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стеме современной школы география – единственный предмет, формирующий у школьника комплексное и социально-ориентированное представление о Земле как о планет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географии – не только общая культура, но и практические умения, необходимые для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я особенности современного этапа образования, необходимо целенаправленно активизировать познавательную и мыслительную деятельность учащихся. Этому способствуют универсальные методические приемы и инновационные технологии, которые можно с успехом использовать, как на уроке, так и во внеуроч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4DEB-7028-4DA3-9E4A-EEF505617F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дополнительные занятия, часы для которых выделяются Администрацией лицея, имеют своей целью не только развить интерес к предмету у учащихся разного уровня подготовленности, но и подготовку учащихся МОУ лицея № 10 к городским и областным олимпиадам и к городской научно – практической конференции.             Рациональное тематическое планирование позволяет определить основные вопросы каждой темы, наметить наиболее приемлемые для данной темы типы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73D0-0987-437A-B1F2-F475CCD3CD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ирая дидактический материал для каждого занятия, я стараюсь учитывать множество факторов, но в первую очередь индивидуальность каждого учащегося. Часы дополнительного индивидуального обучения способствуют установлению доброжелательного межличностного взаимодействия между учителем и учеником. На этих занятиях учащиеся активно высказываются по обсуждаемой теме, предлагают свои варианты, даже если они отличны от мнения учителя. Обсуждая, все вместе коллективно приходим к общему выводу или решению какой-либо проблемы. При использовании современных технологий, учитель, должен обязательно владеть и смежной профессией – профессией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6C19-232F-41D5-8DFE-3D5DB2A830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индивидуальных занятий учитывается не только количество материала, который может преподнести учитель, но и необходимость развивать у учащихся вкус к исследовательской деятельности, склонность к выполнению задания повышенной трудности, способность мыслить творчески, логически, и укреплять уверенность учащихся в своих силах. Важным аспектом является научить школьников работать самостоятельно, не бояться делать собствен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D41E-E49F-42AE-B6E4-CD59399914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активных методов обучения приводит к изменению привычных форм общения между учителем и учеником. Современные педагогические технологии позволяют каждому ученику принять участие в подготовке и проведении занятия, выступить на каком-то этапе в роли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ная и обоснованная система уроков и дополнительных индивидуальных занятий по географии – важный фактор развития познавательного интереса к предмету, усвоения географической картины мира и развития личност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FF0F-CE5B-4BBD-B28F-32C2A1C232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22A-7445-47A5-8171-746D0192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44F-2F22-4681-A21A-B1717C73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F48-CB10-4537-A661-D56BCB4F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3B3-EB8B-46CB-AF2C-B8D40A4E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798-B196-40AE-8DD6-CA594CF7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F2F-D694-4446-B75B-6BAD3ACD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4CB-E24B-42AE-B43E-B61C5F46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4E8-0F7B-4C7F-8D47-4D99198A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7E2-773B-491A-BB26-27B1657A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F6C-F7B0-4F05-BBA8-580041E8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38F-2ADD-46B0-8F04-731D7E87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B28-2C57-4106-8A16-32C50E25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62C2-0989-470A-8BD7-F8E90AF7C38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427A-99D7-45EE-967C-073B9B988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&#1055;&#1088;&#1080;&#1084;&#1077;&#1088;&#1085;&#1099;&#1077;%20&#1079;&#1072;&#1076;&#1072;&#1085;&#1080;&#1103;%20&#1076;&#1083;&#1103;%20&#1091;&#1095;&#1072;&#1097;&#1080;&#1093;&#1089;&#1103;%20&#1088;&#1072;&#1079;&#1085;&#1086;&#1081;%20&#1089;&#1090;&#1077;&#1087;&#1077;&#1085;&#1080;%20&#1091;&#1089;&#1087;&#1077;&#1074;&#1072;&#1077;&#1084;&#1086;&#1089;&#1090;&#1080;.ppt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Курсовая работа учителя географии МОУ лицея № 10 города Советска Калининградской области Ширшонковой Елены Нколае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Данная презентация была создана на основе курсовой работы для обеспечения наглядности выступления учителя географии в рамках прохождения учителями естественнонаучных предметов курсовой переподготовки с марта по ноябрь 2008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м образом, развитие познавательной деятельности можно определить как личностное свойство, которое приобретается, закрепляется и развивается в организованном процессе познания с учетом индивидуальных и возрастных особенностей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основным показателям познавательной активности можно отне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би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леж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нность 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орческие прояв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в нестандартных учебных ситуациях; самостоятельность в принятии ре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н А.А. приемы педагогической техники: Свобода выбора. Открытость. Деятельность. Обратная связь. Идеальность: Пособие для учителя – М.: Вита – Пресс, 200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агогические технологии: Учебное пособие /Авт.-сост. Т.П. Сальникова. – М.: ТЦ Сфера, 200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ротин В.И. Система географических заданий и упражнений как необходимое условие реализации деятельностного подхода при обучении географии. – М.: «География в школе» № 2/2003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урок географии: Методическое разработки уроков / Сост. И.И. Баринова. – М.: Школа – Пресс, 2000 («География в школе». Библиотека журнала. Вып. 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festival.1september/r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лож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ОБЕННОСТИ ЛИЧНОСТНО – ОРИЕНТИРОВАННОГО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первое полугодие)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второе полугодие)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НЫ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АД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ДЛЯ УЧАЩИХСЯ РАЗНОЙ СТЕПЕНИ СЛОЖ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УЛЬТАТЫ  ИНДИВИДУАЛЬНОЙ РАБОТЫ ПО ГЕОГРАФИИ С 2005 ГОДА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стоящее время информационное общество ставит перед школой задачу подготовки социально ориентированны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пускников, которые должны уме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ироваться в меняющихся жизненных ситуациях, самостоятельно приобретая знания, применяя их на практи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тически мыслить и находить пути решения возникающих пробл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ть работать с информаци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свой интеллектуальный и культурный уров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азать, что развивать познавательный интерес учащихся возможно не только на уроках географии, но и во внеурочное время через индивидуальные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 ГЕОГРАФИИ ЧЕРЕЗ ИСПОЛЬЗ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СОВРЕМЕННЫХ ПЕДАГОГИЧЕСКИХ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к предмету возможно через использование современных педагогических технологий, в том числе через личностно-ориентированное обучение, инновационные и игровые технолог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 ставят в центр всей образовательной системы личность обучаемого, обеспечение комфортных, бесконфликтных условий ее развития, реализацию ее природных потенциалов. Ученик при этом – цель образовательной системы, а не средство достижения чего-либо отвлеченног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ольшое значение в повышении качества географического образования играет умение учителя географии организовать учебную деятельность учащихся по практическому применению имеющихся у них теоретических знаний и самостоятельному получению из различных источников знаний, необходимых им для решения поставленных учебных задач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ализация деятельностного подхода в процессе преподавания географии позволяет добиться высокого качества географического образования и подготовить учащихся к использованию своих географических знаний в реальной жизни и практической деяте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РЕЗ ИНДИВИДУАЛЬНУЮ РАБОТУ  ПО  ГЕ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ВО ВНЕУРОЧНОЕ ВР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истеме современной школы география – единственный предмет, формирующий у школьника комплексное и социально-ориентированное представление о Земле как о планете люд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нание географии – не только общая культура, но и практические умения, необходимые для жизн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итывая особенности современного этапа образования, необходимо целенаправленно активизировать познавательную и мыслительную деятельность учащихся. Этому способствуют универсальные методические приемы и инновационные технологии, которые можно с успехом использовать, как на уроке, так и во внеурочное врем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дивидуальные дополнительные занятия, часы для которых выделяются Администрацией лицея, имеют своей целью не только развить интерес к предмету у учащихся разного уровня подготовленности, но и подготовку учащихся МОУ лицея № 10 к городским и областным олимпиадам и к городской научно – практической конференции.             Рациональное тематическое планирование позволяет определить основные вопросы каждой темы, наметить наиболее приемлемые для данной темы типы зада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бирая дидактический материал для каждого занятия, я стараюсь учитывать множество факторов, но в первую очередь индивидуальность каждого учащегося. Часы дополнительного индивидуального обучения способствуют установлению доброжелательного межличностного взаимодействия между учителем и учеником. На этих занятиях учащиеся активно высказываются по обсуждаемой теме, предлагают свои варианты, даже если они отличны от мнения учителя. Обсуждая, все вместе коллективно приходим к общему выводу или решению какой-либо проблемы. При использовании современных технологий, учитель, должен обязательно владеть и смежной профессией – профессией психолог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подготовке индивидуальных занятий учитывается не только количество материала, который может преподнести учитель, но и необходимость развивать у учащихся вкус к исследовательской деятельности, склонность к выполнению задания повышенной трудности, способность мыслить творчески, логически, и укреплять уверенность учащихся в своих силах. Важным аспектом является научить школьников работать самостоятельно, не бояться делать собственные выво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пользование активных методов обучения приводит к изменению привычных форм общения между учителем и учеником. Современные педагогические технологии позволяют каждому ученику принять участие в подготовке и проведении занятия, выступить на каком-то этапе в роли учител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ованная и обоснованная система уроков и дополнительных индивидуальных занятий по географии – важный фактор развития познавательного интереса к предмету, усвоения географической картины мира и развития личности учащих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5:09:39Z</dcterms:created>
  <dc:creator>user</dc:creator>
  <dc:description/>
  <dc:language>en-US</dc:language>
  <cp:lastModifiedBy>LEGION</cp:lastModifiedBy>
  <dcterms:modified xsi:type="dcterms:W3CDTF">2014-12-29T09:16:36Z</dcterms:modified>
  <cp:revision>11</cp:revision>
  <dc:subject/>
  <dc:title>РАЗВИТИЕ ПОЗНАВАТЕЛЬНОГО ИНТЕРЕСА УЧАЩИХСЯ   ЧЕРЕЗ ИНДИВИДУАЛЬНУЮ РАБОТУ ПО ГЕОГРАФИИ    ВО ВНЕУРОЧНОЕ ВРЕМЯ</dc:title>
</cp:coreProperties>
</file>