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BFEA-05EE-446F-A9A1-1A5C26A287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 учителя г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фии МОУ лицея № 10 города Советска Калининградской области Ширшонковой Елены Нколаев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91BB-7B63-4A5B-9DDA-3364A36043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F07A-A75C-41C4-B1F1-38247A9BBD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AF81-2481-4801-BBF0-EDB4AD19C1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A642-A2B6-4901-BF00-5A0FF07EF1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A510-BAFA-4D71-AF7D-8C93B9CEAD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57E8-810B-465E-8F66-F81B042799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413A-57C4-47D1-A8DB-61C1159E78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8CF9-20B5-4B03-AD60-A790A3508E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AF7F-7F5A-4B52-806B-BFD73EE562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B0B4-A601-4D91-8E28-214CC433FC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4917-8F9E-4FC6-B02F-1D06111349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3FB7-ECE7-4135-82A2-4E219FD1A2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091-8FE3-4703-AD47-D19B4F8C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1A6-5438-4EBA-88F2-2F4CDB08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904-01BA-4ED6-A6AA-D7663056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E4A2-7CDE-495D-96F7-FD2190A4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D0B-EF04-4ACC-AF1E-E4135FD0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575-A330-40C4-AEDF-38570B76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BB8-76DB-44C2-B511-F384A4E8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054-E809-40C6-8206-3F220C6C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BFE-4B73-4522-9AC6-B59455FA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D8F-2419-4DED-8434-9969795B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739-3EED-4C50-8932-660FDDC8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C7D-6C3E-462F-A44D-1C102D05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E20B-4794-4FC0-B2FA-A840DD0A37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5EF5-DDAE-4EAA-9DB3-ECD18E2481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урсовая работа учителя географии МОУ лицея № 10 города Советска Калининградской области Ширшонковой Елены Нколае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5:09:39Z</dcterms:created>
  <dc:creator>user</dc:creator>
  <dc:description/>
  <dc:language>en-US</dc:language>
  <cp:lastModifiedBy>LEGION</cp:lastModifiedBy>
  <dcterms:modified xsi:type="dcterms:W3CDTF">2014-12-29T09:16:36Z</dcterms:modified>
  <cp:revision>11</cp:revision>
  <dc:subject/>
  <dc:title>РАЗВИТИЕ ПОЗНАВАТЕЛЬНОГО ИНТЕРЕСА УЧАЩИХСЯ   ЧЕРЕЗ ИНДИВИДУАЛЬНУЮ РАБОТУ ПО ГЕОГРАФИИ    ВО ВНЕУРОЧНОЕ ВРЕМЯ</dc:title>
</cp:coreProperties>
</file>